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6.png" ContentType="image/png"/>
  <Override PartName="/ppt/media/image29.png" ContentType="image/png"/>
  <Override PartName="/ppt/media/image32.wmf" ContentType="image/x-wmf"/>
  <Override PartName="/ppt/media/image12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30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7C83-E89D-4BBD-B659-719115001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:  Overall flow diagram for the CENTURY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:  Flow diagram for the soil carbon sub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:  Impact of temperature and water on de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 - Impact of DEFAC and AET on de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5: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bserved above ground NPP for various global sites vs. CENTURY modeled abiotic decomposition factor (DEFAC)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6:  Flow diagram for the water flow sub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:  Flow diagram for the nitrogen submod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8:  Impact of mineral N on soil C/N ratios for grasslands and for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9:  Effect of initial litter N content on litter carbon and N miner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0:  Effect of soil texture on litter C and N miner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1:  Flow diagram for the phosphorus sub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2:  Flow diagram for grass/crop sub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3:  Impact of soil water and temperature on plant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:  C/N of live shoots vs. biomass for grass/crop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:  Flow diagram for forest sub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6:  Live forest C/N ratio as a function of ratio of available plant N to potential plant N dem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7:  Allocation of N to trees vs. grass as a function of tree basal area and SITP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8:  Comparison of simulated and observed live biomass for (a) Kenya, (b) Lamto, (c) Mexico, and (d) Thailand si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9:  Comparison of observed and simulated aboveground plant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0:  Comparison of observed and simulated soil C (0-30 cm) and soil N (0-30 c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1:  Comparison of simulated and observed soil (a) C and (b)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2:  Observed vs. simulated soil C for different treat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3:  Flow diagram for DAYC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4:  Nitrification and denitrification N gas flow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5:  DAYCENT soil water flow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6:  Comparison of observed vs. simulated WP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7:  Comparison of observed vs. simulated soil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8 – Comparison of observed and simulated N20 fl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9:  Comparison of observed and simulated Nox fl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0:  Comparison of observed and simulated H2O and NOx flux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1: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mparison of  simulated changes in soil C,  integrated C equivalents of N</a:t>
            </a:r>
            <a:r>
              <a:rPr b="0" lang="en-US" sz="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 emissions and net C for a conventional tillage winter wheat/fallow system (ww), no till winter wheat fallow (wwnt), irrigated corn, and reversion to native grass for 25 year periods following 75 years of conventional till winter wheat/fallow land use. Negative values represent uptake of greenhouse gases by the soil. (From Del Grosso et al. 2001)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2:  </a:t>
            </a:r>
            <a:r>
              <a:rPr b="0" lang="en-US" sz="1200" spc="-1" strike="noStrike">
                <a:solidFill>
                  <a:srgbClr val="000000"/>
                </a:solidFill>
                <a:latin typeface="NewCenturySchlbk"/>
                <a:ea typeface="Times New Roman"/>
              </a:rPr>
              <a:t>The CENTURY model environment showing the relationship between programs and the file structur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2F5B-D965-4B1B-8CC7-85B4A7C0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A249-C39E-4214-A51D-4A488427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B652-B1CE-4FA8-B697-15BC5080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1427-C3A8-4583-A82B-30562456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6C8D-D366-4667-BFB9-A1A5C980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5F38-EB25-4717-BC24-573BD9E1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8169-85A6-4FBA-AFAB-BC09D4DD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DF3D-7ED3-458A-98E5-1FC08559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71BE-942B-4D77-A2FB-D9A0F552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0199-48EF-4B6A-AA13-3695869F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00E6-E7CC-4B06-B191-DCF17874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27F5-68C2-44D1-97A3-E5086CBF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821E-9758-48B5-BE4F-5B395375B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34080" y="358920"/>
            <a:ext cx="6707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NTURY ECOSYSTE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3623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5720" y="2819520"/>
            <a:ext cx="57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Introduction to CENTU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ent_flows" descr=""/>
          <p:cNvPicPr/>
          <p:nvPr/>
        </p:nvPicPr>
        <p:blipFill>
          <a:blip r:embed="rId1"/>
          <a:stretch/>
        </p:blipFill>
        <p:spPr>
          <a:xfrm>
            <a:off x="471600" y="695160"/>
            <a:ext cx="8199360" cy="5467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6248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verall flow diagram for the CENTURY model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arbon_flows" descr=""/>
          <p:cNvPicPr/>
          <p:nvPr/>
        </p:nvPicPr>
        <p:blipFill>
          <a:blip r:embed="rId1"/>
          <a:stretch/>
        </p:blipFill>
        <p:spPr>
          <a:xfrm>
            <a:off x="577800" y="233280"/>
            <a:ext cx="7586640" cy="6069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324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low diagram for the soil carbon submodel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defac" descr=""/>
          <p:cNvPicPr/>
          <p:nvPr/>
        </p:nvPicPr>
        <p:blipFill>
          <a:blip r:embed="rId1"/>
          <a:stretch/>
        </p:blipFill>
        <p:spPr>
          <a:xfrm>
            <a:off x="2262240" y="542880"/>
            <a:ext cx="4619520" cy="5772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of temperature and water on decomposi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of DEFAC and AET on decomposi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oot_litter" descr=""/>
          <p:cNvPicPr/>
          <p:nvPr/>
        </p:nvPicPr>
        <p:blipFill>
          <a:blip r:embed="rId1"/>
          <a:stretch/>
        </p:blipFill>
        <p:spPr>
          <a:xfrm>
            <a:off x="2057400" y="206280"/>
            <a:ext cx="485460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5943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ed above ground NPP for various global sites vs. CENTURY modeled abiotic decomposition factor (DEFAC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NPPvsDEFAC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99616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oilwater_flows" descr=""/>
          <p:cNvPicPr/>
          <p:nvPr/>
        </p:nvPicPr>
        <p:blipFill>
          <a:blip r:embed="rId1"/>
          <a:stretch/>
        </p:blipFill>
        <p:spPr>
          <a:xfrm>
            <a:off x="2044800" y="128520"/>
            <a:ext cx="4552920" cy="5943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6095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the water flow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N_flows" descr=""/>
          <p:cNvPicPr/>
          <p:nvPr/>
        </p:nvPicPr>
        <p:blipFill>
          <a:blip r:embed="rId1"/>
          <a:stretch/>
        </p:blipFill>
        <p:spPr>
          <a:xfrm>
            <a:off x="3240" y="123840"/>
            <a:ext cx="8226360" cy="5950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095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the nitrogen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of mineral N on soil C/N ratios for grasslands and fores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soil_C_N" descr=""/>
          <p:cNvPicPr/>
          <p:nvPr/>
        </p:nvPicPr>
        <p:blipFill>
          <a:blip r:embed="rId1"/>
          <a:stretch/>
        </p:blipFill>
        <p:spPr>
          <a:xfrm>
            <a:off x="1905120" y="111240"/>
            <a:ext cx="5182920" cy="61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 of initial litter N content on litter carbon and N mineraliz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nitrogen" descr=""/>
          <p:cNvPicPr/>
          <p:nvPr/>
        </p:nvPicPr>
        <p:blipFill>
          <a:blip r:embed="rId1"/>
          <a:stretch/>
        </p:blipFill>
        <p:spPr>
          <a:xfrm>
            <a:off x="2128680" y="0"/>
            <a:ext cx="48816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6172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 of soil texture on litter C and N mineraliz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soil_texture" descr=""/>
          <p:cNvPicPr/>
          <p:nvPr/>
        </p:nvPicPr>
        <p:blipFill>
          <a:blip r:embed="rId1"/>
          <a:stretch/>
        </p:blipFill>
        <p:spPr>
          <a:xfrm>
            <a:off x="2416320" y="25560"/>
            <a:ext cx="444168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418840" y="609480"/>
            <a:ext cx="434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3623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819520"/>
            <a:ext cx="708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Evaluate Effects of Environmental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Evaluate Changes in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_flows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7120" cy="5911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172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the phosphorus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rop_flows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88200" cy="5772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6248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the grass/crop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rop_production" descr=""/>
          <p:cNvPicPr/>
          <p:nvPr/>
        </p:nvPicPr>
        <p:blipFill>
          <a:blip r:embed="rId1"/>
          <a:stretch/>
        </p:blipFill>
        <p:spPr>
          <a:xfrm>
            <a:off x="1871640" y="523800"/>
            <a:ext cx="5400720" cy="5810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of soil water and temperature on plant produ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_n_shoots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09160" cy="6076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/N of live shoots vs. biomass for grass/crop syst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forest_flows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123040" cy="5686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6248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forest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 forest C/N ratio as a function of ratio of available plant N to potential plant N dem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forestC_N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19000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sitpot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82080" cy="58118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6172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ocation of N to trees vs. grass as a function of tree basal area and SITPO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0574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742840" y="2362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742840" y="2666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2514240" y="3352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19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simulated and observed live biomass for (a) Kenya, (b) Lamto, (c) Mexico, and (d) Thailand si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live_biomass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755964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324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and simulated aboveground plant produ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lant_prod" descr=""/>
          <p:cNvPicPr/>
          <p:nvPr/>
        </p:nvPicPr>
        <p:blipFill>
          <a:blip r:embed="rId1"/>
          <a:stretch/>
        </p:blipFill>
        <p:spPr>
          <a:xfrm>
            <a:off x="237960" y="600120"/>
            <a:ext cx="866628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and simulated soil C (0-30 cm) and soil N (0-30 cm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soilC_soilN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6929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81440" y="685800"/>
            <a:ext cx="53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CENTU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3623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2971800"/>
            <a:ext cx="5055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Simple Ecosystem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Soil Organic M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Plant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Hydrolog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Nutrient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6248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simulated and observed soil (a) C and (b) 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soilC_N" descr=""/>
          <p:cNvPicPr/>
          <p:nvPr/>
        </p:nvPicPr>
        <p:blipFill>
          <a:blip r:embed="rId1"/>
          <a:stretch/>
        </p:blipFill>
        <p:spPr>
          <a:xfrm>
            <a:off x="2486160" y="0"/>
            <a:ext cx="40669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6400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ed vs. simulated soil C for different treat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soilC" descr=""/>
          <p:cNvPicPr/>
          <p:nvPr/>
        </p:nvPicPr>
        <p:blipFill>
          <a:blip r:embed="rId1"/>
          <a:stretch/>
        </p:blipFill>
        <p:spPr>
          <a:xfrm>
            <a:off x="1538280" y="138240"/>
            <a:ext cx="600552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5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DAYC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daycent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78628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trification and denitrification N gas flow diagram.  (Del Grosso et al. 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219320" y="304920"/>
          <a:ext cx="6791040" cy="58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04920"/>
                    <a:ext cx="679104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day_h2o_flow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350120" cy="6016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CENT soil water flow dia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6095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vs. simulated WF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soil_moisture" descr=""/>
          <p:cNvPicPr/>
          <p:nvPr/>
        </p:nvPicPr>
        <p:blipFill>
          <a:blip r:embed="rId1"/>
          <a:stretch/>
        </p:blipFill>
        <p:spPr>
          <a:xfrm>
            <a:off x="1035000" y="268200"/>
            <a:ext cx="71946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vs. simulated soil temperatu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soil_temp" descr=""/>
          <p:cNvPicPr/>
          <p:nvPr/>
        </p:nvPicPr>
        <p:blipFill>
          <a:blip r:embed="rId1"/>
          <a:stretch/>
        </p:blipFill>
        <p:spPr>
          <a:xfrm>
            <a:off x="689040" y="76320"/>
            <a:ext cx="7769160" cy="63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vs. simulated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flu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ngas_validation" descr=""/>
          <p:cNvPicPr/>
          <p:nvPr/>
        </p:nvPicPr>
        <p:blipFill>
          <a:blip r:embed="rId1"/>
          <a:stretch/>
        </p:blipFill>
        <p:spPr>
          <a:xfrm>
            <a:off x="1652760" y="590400"/>
            <a:ext cx="583848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and simulated N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lu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nox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71832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and simulated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and N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lux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ngas_fluxes" descr=""/>
          <p:cNvPicPr/>
          <p:nvPr/>
        </p:nvPicPr>
        <p:blipFill>
          <a:blip r:embed="rId1"/>
          <a:stretch/>
        </p:blipFill>
        <p:spPr>
          <a:xfrm>
            <a:off x="2387520" y="181080"/>
            <a:ext cx="447048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1960" y="762120"/>
            <a:ext cx="83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CENTURY was develop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3623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666880"/>
            <a:ext cx="8110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From early experience (1970’s) of attempting to model everything (e.g. IBP) an understanding of the inherent problems of scaling processes and components within appropriate time and spatial scales for a specific set of questions or 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095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 simulated changes in soil C,  integrated C equivalents of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emissions and net C for a conventional tillage winter wheat/fallow system (ww), no till winter wheat fallow (wwnt), irrigated corn, and reversion to native grass for 25 year periods following 75 years of conventional till winter wheat/fallow land use. Negative values represent uptake of greenhouse gases by the soil. (From Del Grosso et al. 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600200" y="0"/>
          <a:ext cx="5353200" cy="187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0"/>
                    <a:ext cx="535320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600200" y="1828800"/>
            <a:ext cx="540072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1523880" y="3581280"/>
          <a:ext cx="5486400" cy="2105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3581280"/>
                    <a:ext cx="5486400" cy="21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3581280" y="37339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800600" y="373392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3733920"/>
            <a:ext cx="0" cy="1522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3733920"/>
            <a:ext cx="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267080" y="373392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038480" y="7632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3611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19810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91120" y="3611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3611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9880" y="19810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36115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302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file_structure" descr=""/>
          <p:cNvPicPr/>
          <p:nvPr/>
        </p:nvPicPr>
        <p:blipFill>
          <a:blip r:embed="rId1"/>
          <a:stretch/>
        </p:blipFill>
        <p:spPr>
          <a:xfrm>
            <a:off x="671400" y="843120"/>
            <a:ext cx="7799400" cy="5171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19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ENTURY model environment showing the relationship between programs and the file structu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94560" y="380880"/>
            <a:ext cx="661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37160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600200"/>
            <a:ext cx="84582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ccff"/>
                </a:solidFill>
                <a:latin typeface="Arial"/>
              </a:rPr>
              <a:t>Development of CENTURY of biogeochemical cycles of C, N, P, and S for various ecosystem found globally was undertaken in order to provide adequate process-level representation of key transfers of material from critical ecosystem component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ccff"/>
                </a:solidFill>
                <a:latin typeface="Arial"/>
              </a:rPr>
              <a:t>Soil Organic Matter (SOM) was the focus of the model development because of the integration of ecosystem processes and environmental changes which is represented in SO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ccff"/>
                </a:solidFill>
                <a:latin typeface="Arial"/>
              </a:rPr>
              <a:t>Environmental and land management factors can be easily incorporated into the simulations of SOM developmen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ccff"/>
                </a:solidFill>
                <a:latin typeface="Arial"/>
              </a:rPr>
              <a:t>Input parameters be meaningful in ecological terms and easily acquired from existing  data bases or experimentally determined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99480" y="380880"/>
            <a:ext cx="580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4479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7652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Structure based on turnover rates of SO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THREE TYPES OF SO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ACTIVE:   Live microbes and their by-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produ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(2 to 5 year turno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SLOW:      Physically and chemically prot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(20 to 50 years turnov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PASSIVE: Physically protected or chemically resistant 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       S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(800 to 1200 year turno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57880" y="380880"/>
            <a:ext cx="549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 CONTR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4479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76520"/>
            <a:ext cx="838188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Monthly inputs of temperature and rainfa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Soil properties easily defin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Plant system controlled by T, H</a:t>
            </a:r>
            <a:r>
              <a:rPr b="1" lang="en-US" sz="26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O, and nutrient availab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Land management practices modifies ecosystem proces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Hydrological input-output processes represen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91280" y="358920"/>
            <a:ext cx="400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37160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87632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Provides a conceptual framework from which to pose 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Provides a mechanism to test a set of complex 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Provides insight into methods of field/lab testing model 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53520" y="35892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37160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76520"/>
            <a:ext cx="8305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CENTURY IS A TOOL FOR ANALYSIS OF CONTROLS ON SOIL ORGANIC MATTER AND PRODU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SIMULATION RESULTS DEMONSTRATE HOW INPROVED MANAGEMENT PRACTICES CAN ARREST ORGANCI MATTER LOSSES AND IMPROVE DEGRADED SOILS THROUG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ccff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Higher yielding varie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ccff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Reduced soil disturb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ccff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Maintenance of crop resid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ccff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Replacement of nutrient l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2T22:46:39Z</dcterms:created>
  <dc:creator>Cindy Keough</dc:creator>
  <dc:description/>
  <dc:language>en-US</dc:language>
  <cp:lastModifiedBy>Cindy Keough</cp:lastModifiedBy>
  <dcterms:modified xsi:type="dcterms:W3CDTF">2001-04-17T21:26:40Z</dcterms:modified>
  <cp:revision>45</cp:revision>
  <dc:subject/>
  <dc:title>PowerPoint Presentation</dc:title>
</cp:coreProperties>
</file>