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3F67-BA1B-4FEF-A9F7-10F1E3F19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:  Overall flow diagram for the CENTURY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:  Flow diagram for the soil carbon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:  Impact of temperature and water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 - Impact of DEFAC and AET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:  Flow diagram for the water flow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:  Flow diagram for the nitrogen sub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8:  Impact of mineral N on soil C/N ratios for grasslands and 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9:  Effect of initial litter N content on litter carbon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0:  Effect of soil texture on litter C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1:  Flow diagram for the phosphorus sub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2:  Flow diagram for grass/crop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3:  Impact of soil water and temperature on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:  C/N of live shoots vs. biomass for grass/crop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:  Flow diagram for forest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:  Live forest C/N ratio as a function of ratio of available plant N to potential plant N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7:  Allocation of N to trees vs. grass as a function of tree basal area and SIT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:  Comparison of simulated and observed live biomass for (a) Kenya, (b) Lamto, (c) Mexico, and (d) Thailand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9:  Comparison of observed and simulated aboveground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:  Comparison of observed and simulated soil C (0-30 cm) and soil N (0-30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1:  Comparison of simulated and observed soil (a) C and (b)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2:  Observed vs. simulated soil C for different treat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:  Flow diagram for DAYC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4:  Nitrification and denitrification N gas flow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5:  DAYCENT soil water flo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:  Comparison of observed vs. simulated WP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7:  Comparison of observed vs. simulated soil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8 – Comparison of observed and simulated N20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9:  Comparison of observed and simulated Nox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0:  Comparison of observed and simulated H2O and NOx flu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1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2:  </a:t>
            </a:r>
            <a:r>
              <a:rPr b="0" lang="en-US" sz="12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The CENTURY model environment showing the relationship between programs and the file structur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E1DC-4355-4E75-B656-A1EAB59A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3B1-1657-4893-A5E5-29365DD7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9CB-66C1-48B5-A517-8049DA7F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4BB-8F95-43F8-A9A3-BB640CC8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DF6-7C7B-4DE9-A3CB-3B757E9D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D86-E4DC-4C9D-8FAF-58B1A313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8B8-FE6D-4FA8-B034-45BE3DB3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BC8-1377-4DA2-882C-8D54F881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1F1F-BBAD-43C8-BB66-0094D767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BD9-FDD5-4EAE-BFB8-DBE4680F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972-29D2-4EF5-A0D9-C93B945D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E557-5D09-42C7-A770-84E47197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D3FB-7290-4CCF-8F1A-FB98F595D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34080" y="358920"/>
            <a:ext cx="670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NTURY ECO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5720" y="28195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Introduction to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ent_flows" descr=""/>
          <p:cNvPicPr/>
          <p:nvPr/>
        </p:nvPicPr>
        <p:blipFill>
          <a:blip r:embed="rId1"/>
          <a:stretch/>
        </p:blipFill>
        <p:spPr>
          <a:xfrm>
            <a:off x="471600" y="695160"/>
            <a:ext cx="8199360" cy="5467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flow diagram for the CENTURY 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rbon_flows" descr=""/>
          <p:cNvPicPr/>
          <p:nvPr/>
        </p:nvPicPr>
        <p:blipFill>
          <a:blip r:embed="rId1"/>
          <a:stretch/>
        </p:blipFill>
        <p:spPr>
          <a:xfrm>
            <a:off x="577800" y="233280"/>
            <a:ext cx="7586640" cy="6069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ow diagram for the soil carbon sub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efac" descr=""/>
          <p:cNvPicPr/>
          <p:nvPr/>
        </p:nvPicPr>
        <p:blipFill>
          <a:blip r:embed="rId1"/>
          <a:stretch/>
        </p:blipFill>
        <p:spPr>
          <a:xfrm>
            <a:off x="2262240" y="542880"/>
            <a:ext cx="4619520" cy="577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temperature and water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DEFAC and AET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oot_litter" descr=""/>
          <p:cNvPicPr/>
          <p:nvPr/>
        </p:nvPicPr>
        <p:blipFill>
          <a:blip r:embed="rId1"/>
          <a:stretch/>
        </p:blipFill>
        <p:spPr>
          <a:xfrm>
            <a:off x="2057400" y="206280"/>
            <a:ext cx="48546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NPPvsDEFAC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96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oilwater_flows" descr=""/>
          <p:cNvPicPr/>
          <p:nvPr/>
        </p:nvPicPr>
        <p:blipFill>
          <a:blip r:embed="rId1"/>
          <a:stretch/>
        </p:blipFill>
        <p:spPr>
          <a:xfrm>
            <a:off x="2044800" y="128520"/>
            <a:ext cx="455292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water flow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N_flows" descr=""/>
          <p:cNvPicPr/>
          <p:nvPr/>
        </p:nvPicPr>
        <p:blipFill>
          <a:blip r:embed="rId1"/>
          <a:stretch/>
        </p:blipFill>
        <p:spPr>
          <a:xfrm>
            <a:off x="3240" y="123840"/>
            <a:ext cx="8226360" cy="5950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nitrogen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mineral N on soil C/N ratios for grasslands and fores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oil_C_N" descr=""/>
          <p:cNvPicPr/>
          <p:nvPr/>
        </p:nvPicPr>
        <p:blipFill>
          <a:blip r:embed="rId1"/>
          <a:stretch/>
        </p:blipFill>
        <p:spPr>
          <a:xfrm>
            <a:off x="1905120" y="111240"/>
            <a:ext cx="518292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initial litter N content on litter carbon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itrogen" descr=""/>
          <p:cNvPicPr/>
          <p:nvPr/>
        </p:nvPicPr>
        <p:blipFill>
          <a:blip r:embed="rId1"/>
          <a:stretch/>
        </p:blipFill>
        <p:spPr>
          <a:xfrm>
            <a:off x="2128680" y="0"/>
            <a:ext cx="48816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soil texture on litter C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oil_texture" descr=""/>
          <p:cNvPicPr/>
          <p:nvPr/>
        </p:nvPicPr>
        <p:blipFill>
          <a:blip r:embed="rId1"/>
          <a:stretch/>
        </p:blipFill>
        <p:spPr>
          <a:xfrm>
            <a:off x="2416320" y="25560"/>
            <a:ext cx="44416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8840" y="60948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81952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Effects of Environment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Changes i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_flow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7120" cy="5911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phosphorus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rop_flows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88200" cy="5772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grass/crop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rop_production" descr=""/>
          <p:cNvPicPr/>
          <p:nvPr/>
        </p:nvPicPr>
        <p:blipFill>
          <a:blip r:embed="rId1"/>
          <a:stretch/>
        </p:blipFill>
        <p:spPr>
          <a:xfrm>
            <a:off x="1871640" y="523800"/>
            <a:ext cx="5400720" cy="581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soil water and temperature on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_n_shoots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9160" cy="6076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/N of live shoots vs. biomass for grass/crop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orest_flows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23040" cy="5686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forest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forest C/N ratio as a function of ratio of available plant N to potential plant N de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orestC_N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90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itpot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82080" cy="5811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ation of N to trees vs. grass as a function of tree basal area and SITP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057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2362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742840" y="2666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1424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live biomass for (a) Kenya, (b) Lamto, (c) Mexico, and (d) Thailand si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live_biomass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5596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aboveground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lant_prod" descr=""/>
          <p:cNvPicPr/>
          <p:nvPr/>
        </p:nvPicPr>
        <p:blipFill>
          <a:blip r:embed="rId1"/>
          <a:stretch/>
        </p:blipFill>
        <p:spPr>
          <a:xfrm>
            <a:off x="237960" y="600120"/>
            <a:ext cx="86662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soil C (0-30 cm) and soil N (0-30 c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oilC_soilN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6929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81440" y="685800"/>
            <a:ext cx="53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CENTU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971800"/>
            <a:ext cx="505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imple Ecosystem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oil Organic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lant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Hydr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utrient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soil (a) C and (b) 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oilC_N" descr=""/>
          <p:cNvPicPr/>
          <p:nvPr/>
        </p:nvPicPr>
        <p:blipFill>
          <a:blip r:embed="rId1"/>
          <a:stretch/>
        </p:blipFill>
        <p:spPr>
          <a:xfrm>
            <a:off x="2486160" y="0"/>
            <a:ext cx="4066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vs. simulated soil C for different treat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oilC" descr=""/>
          <p:cNvPicPr/>
          <p:nvPr/>
        </p:nvPicPr>
        <p:blipFill>
          <a:blip r:embed="rId1"/>
          <a:stretch/>
        </p:blipFill>
        <p:spPr>
          <a:xfrm>
            <a:off x="1538280" y="138240"/>
            <a:ext cx="600552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DAYC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daycent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86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trification and denitrification N gas flow diagram.  (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19320" y="304920"/>
          <a:ext cx="67910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67910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ay_h2o_flow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350120" cy="601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CENT soil water flow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WF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oil_moisture" descr=""/>
          <p:cNvPicPr/>
          <p:nvPr/>
        </p:nvPicPr>
        <p:blipFill>
          <a:blip r:embed="rId1"/>
          <a:stretch/>
        </p:blipFill>
        <p:spPr>
          <a:xfrm>
            <a:off x="1035000" y="268200"/>
            <a:ext cx="7194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soil tempera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oil_temp" descr=""/>
          <p:cNvPicPr/>
          <p:nvPr/>
        </p:nvPicPr>
        <p:blipFill>
          <a:blip r:embed="rId1"/>
          <a:stretch/>
        </p:blipFill>
        <p:spPr>
          <a:xfrm>
            <a:off x="689040" y="76320"/>
            <a:ext cx="776916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ngas_validation" descr=""/>
          <p:cNvPicPr/>
          <p:nvPr/>
        </p:nvPicPr>
        <p:blipFill>
          <a:blip r:embed="rId1"/>
          <a:stretch/>
        </p:blipFill>
        <p:spPr>
          <a:xfrm>
            <a:off x="1652760" y="590400"/>
            <a:ext cx="58384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ox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183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an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ngas_fluxes" descr=""/>
          <p:cNvPicPr/>
          <p:nvPr/>
        </p:nvPicPr>
        <p:blipFill>
          <a:blip r:embed="rId1"/>
          <a:stretch/>
        </p:blipFill>
        <p:spPr>
          <a:xfrm>
            <a:off x="2387520" y="181080"/>
            <a:ext cx="44704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1960" y="762120"/>
            <a:ext cx="83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 was develo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666880"/>
            <a:ext cx="8110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From early experience (1970’s) of attempting to model everything (e.g. IBP) an understanding of the inherent problems of scaling processes and components within appropriate time and spatial scales for a specific set of questions or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00200" y="0"/>
          <a:ext cx="5353200" cy="18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53532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540072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523880" y="3581280"/>
          <a:ext cx="5486400" cy="2105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581280"/>
                    <a:ext cx="54864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0060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6708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763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11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302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ile_structure" descr=""/>
          <p:cNvPicPr/>
          <p:nvPr/>
        </p:nvPicPr>
        <p:blipFill>
          <a:blip r:embed="rId1"/>
          <a:stretch/>
        </p:blipFill>
        <p:spPr>
          <a:xfrm>
            <a:off x="671400" y="843120"/>
            <a:ext cx="7799400" cy="5171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ENTURY model environment showing the relationship between programs and the file struc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4560" y="380880"/>
            <a:ext cx="661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Development of CENTURY of biogeochemical cycles of C, N, P, and S for various ecosystem found globally was undertaken in order to provide adequate process-level representation of key transfers of material from critical ecosystem componen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Soil Organic Matter (SOM) was the focus of the model development because of the integration of ecosystem processes and environmental changes which is represented in SO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Environmental and land management factors can be easily incorporated into the simulations of SOM develop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Input parameters be meaningful in ecological terms and easily acquired from existing  data bases or experimentally determine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99480" y="38088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tructure based on turnover rat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THREE TYP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CTIVE:   Live microbes and their by-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 to 5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LOW:      Physically and chemically prot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0 to 50 years turno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ASSIVE: Physically protected or chemically resistant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      S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800 to 1200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7880" y="380880"/>
            <a:ext cx="549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76520"/>
            <a:ext cx="838188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Monthly inputs of temperature and rainf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Soil properties easily def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Plant system controlled by T, H</a:t>
            </a:r>
            <a:r>
              <a:rPr b="1" lang="en-US" sz="26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O, and nutrient avail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Land management practices modifies ecosystem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Hydrological input-output processes re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91280" y="358920"/>
            <a:ext cx="40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conceptual framework from which to pose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mechanism to test a set of complex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insight into methods of field/lab testing model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3520" y="3589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ENTURY IS A TOOL FOR ANALYSIS OF CONTROLS ON SOIL ORGANIC MATTER AND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IMULATION RESULTS DEMONSTRATE HOW INPROVED MANAGEMENT PRACTICES CAN ARREST ORGANCI MATTER LOSSES AND IMPROVE DEGRADED SOILS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Higher yielding vari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duced soil disturb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Maintenance of crop resid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placement of nutrien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46:39Z</dcterms:created>
  <dc:creator>Cindy Keough</dc:creator>
  <dc:description/>
  <dc:language>en-US</dc:language>
  <cp:lastModifiedBy>Cindy Keough</cp:lastModifiedBy>
  <dcterms:modified xsi:type="dcterms:W3CDTF">2001-04-17T21:26:40Z</dcterms:modified>
  <cp:revision>45</cp:revision>
  <dc:subject/>
  <dc:title>PowerPoint Presentation</dc:title>
</cp:coreProperties>
</file>