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C17179-3004-4F10-942B-280A957513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ADC54-672D-47AC-9E62-4DED0EE5E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9705C0-BA2D-4F70-B2E2-9F3BCCB01B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764D05-8F90-47A9-BF14-D77223C038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EE32D-3B60-420D-9A91-FB96766B1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EA2DF-C437-49C3-9DEB-4B0DD1CE0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E2284-DC84-4762-BDFA-573ED9D8A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C0D4C-E205-4EE3-89A4-FD2CE72E6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CAD79-F5B3-4D0E-A880-865C9CF45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65D25-3278-4427-86E9-A5DA74452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5A4FD-232F-47FE-AFCB-0B8A0E496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7B68F-D40C-4EBA-BF7C-0229360EE0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95FED-8C6B-4BAB-AA88-EAA8EF985B1F}"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Box 1"/>
          <p:cNvSpPr/>
          <p:nvPr/>
        </p:nvSpPr>
        <p:spPr>
          <a:xfrm>
            <a:off x="228600" y="1143000"/>
            <a:ext cx="11734920" cy="411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000000"/>
                </a:solidFill>
                <a:latin typeface="Calibri"/>
              </a:rPr>
              <a:t>Examples of how to specify `MeshBoundaryCoordinates' to generate various types of FE meshes</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1"/>
          <p:cNvSpPr/>
          <p:nvPr/>
        </p:nvSpPr>
        <p:spPr>
          <a:xfrm>
            <a:off x="228600" y="228600"/>
            <a:ext cx="8686800" cy="750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Ua2D_DefaultParameter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20e3 ; H=1e3;</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MeshSizeMax=H/1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MeshSizeMin=CtrlVar.MeshSizeMax/1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eshBoundaryCoordinates=[0 0 ; 0 H ; L H ; L 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these lines are added to the gmsh .geo input file each time such a file is created</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GeoFileAdditionalInputLines{1}='Physical Line(1) = {1};';</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GeoFileAdditionalInputLines{2}='Physical Line(2) = {2};';</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GeoFileAdditionalInputLines{3}='Physical Line(3) = {3};';</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GeoFileAdditionalInputLines{4}='Physical Line(4) = {4};';</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GeoFileAdditionalInputLines{5}='Physical Surface(1) = {1};';</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GeoFileAdditionalInputLines{6}='Periodic Line {1,2} = {3,4};';</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now everything needed for mesh generation has been defined</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UA,FEmeshTriRep]=genmesh2d(CtrlVar,MeshBoundaryCoordinat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igure ;  PlotFEmesh(MUA.coordinates,MUA.connectivit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drawnow</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str=input('Next example? y/n [y] ? ','s');  if strcmpi(str,'n') ; return ; en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Box 1"/>
          <p:cNvSpPr/>
          <p:nvPr/>
        </p:nvSpPr>
        <p:spPr>
          <a:xfrm>
            <a:off x="228600" y="228600"/>
            <a:ext cx="117349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r>
              <a:rPr b="0" i="1" lang="en-GB" sz="1800" spc="-1" strike="noStrike">
                <a:solidFill>
                  <a:srgbClr val="000000"/>
                </a:solidFill>
                <a:latin typeface="Lucida Console"/>
              </a:rPr>
              <a:t>Creating an input file for gmesh : GmeshFile.geo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Calling gmesh with GmeshFile.geo as a geo input file, and creating GmeshFile.msh output fil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The gmesh call is:  C:\cygwin64\home\Hilmar\ghg\Ua\gmsh-2.11.0-Windows\gmsh.exe GmeshFile.geo -2 -v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Loading GmeshFile.msh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r>
              <a:rPr b="0" i="1" lang="en-GB" sz="1800" spc="-1" strike="noStrike">
                <a:solidFill>
                  <a:srgbClr val="000000"/>
                </a:solidFill>
                <a:latin typeface="Lucida Console"/>
              </a:rPr>
              <a:t>Reading GmeshFile.msh.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Mesh Type : 2.2 0 8 Reading nodes done.  Reading elements do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r>
              <a:rPr b="0" i="1" lang="en-GB" sz="1800" spc="-1" strike="noStrike">
                <a:solidFill>
                  <a:srgbClr val="000000"/>
                </a:solidFill>
                <a:latin typeface="Lucida Console"/>
              </a:rPr>
              <a:t>No inside-out elements.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1"/>
          <p:cNvSpPr/>
          <p:nvPr/>
        </p:nvSpPr>
        <p:spPr>
          <a:xfrm>
            <a:off x="228600" y="1143000"/>
            <a:ext cx="11734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xample: sinusoidal b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tretch/>
        </p:blipFill>
        <p:spPr>
          <a:xfrm>
            <a:off x="7518240" y="228600"/>
            <a:ext cx="4445280" cy="333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Box 1"/>
          <p:cNvSpPr/>
          <p:nvPr/>
        </p:nvSpPr>
        <p:spPr>
          <a:xfrm>
            <a:off x="228600" y="228600"/>
            <a:ext cx="8686800" cy="1024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Ua2D_DefaultParameter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xL=-20e3 ; xR=20e3 ; yB=0 ; yT=2e3;</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ambda=(xR-xL)/2; Ampl=1e3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MeshSize=0.5e3;</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MeshSizeMin=CtrlVar.MeshSize/5;</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MeshSizeMax=5*CtrlVar.MeshSiz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eshCharacteristicLengthExtendFromBoundary=1;</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eshCharacteristicLengthFromCurvature =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xbed=xL:CtrlVar.MeshSize:x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ybed=Ampl*sin(2*pi*xbed/lambda)+  y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xbed=xbed(:) ; ybed=ybed(:);</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eshBoundaryCoordinates=[xR yB ; xR yT ; xL yT ; xL yB ; xbed(2:end-1) ybed(2:end-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N=length(xbed)+2;</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these lines are added to the gmsh .geo input file each time such a file is created</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GeoFileAdditionalInputLines{1}='Periodic Line {1} = {3};';</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GeoFileAdditionalInputLines{2}='Physical Line(0) = {1};';</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GeoFileAdditionalInputLines{3}='Physical Line(1) = {2};';</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GeoFileAdditionalInputLines{4}='Physical Line(2) = {3};';</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GeoFileAdditionalInputLines{5}=['Physical Line(3) = {4:',num2str(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GeoFileAdditionalInputLines{6}='Physical Surface(1) = {1};';</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UA,FEmeshTriRep]=genmesh2d(CtrlVar,MeshBoundaryCoordinat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igure ;  PlotFEmesh(MUA.coordinates,MUA.connectivit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drawnow</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str=input('Next example? y/n [y] ? ','s'); if strcmpi(str,'n') ; return ; en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1"/>
          <p:cNvSpPr/>
          <p:nvPr/>
        </p:nvSpPr>
        <p:spPr>
          <a:xfrm>
            <a:off x="228600" y="228600"/>
            <a:ext cx="117349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r>
              <a:rPr b="0" i="1" lang="en-GB" sz="1800" spc="-1" strike="noStrike">
                <a:solidFill>
                  <a:srgbClr val="000000"/>
                </a:solidFill>
                <a:latin typeface="Lucida Console"/>
              </a:rPr>
              <a:t>Creating an input file for gmesh : GmeshFile.geo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Calling gmesh with GmeshFile.geo as a geo input file, and creating GmeshFile.msh output fil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The gmesh call is:  C:\cygwin64\home\Hilmar\ghg\Ua\gmsh-2.11.0-Windows\gmsh.exe GmeshFile.geo -2 -v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Loading GmeshFile.msh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r>
              <a:rPr b="0" i="1" lang="en-GB" sz="1800" spc="-1" strike="noStrike">
                <a:solidFill>
                  <a:srgbClr val="000000"/>
                </a:solidFill>
                <a:latin typeface="Lucida Console"/>
              </a:rPr>
              <a:t>Reading GmeshFile.msh.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Mesh Type : 2.2 0 8 Reading nodes done.  Reading elements do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Warning: Negative determinant in all element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r>
              <a:rPr b="0" i="1" lang="en-GB" sz="1800" spc="-1" strike="noStrike">
                <a:solidFill>
                  <a:srgbClr val="000000"/>
                </a:solidFill>
                <a:latin typeface="Lucida Console"/>
              </a:rPr>
              <a:t>All elements are inside out. All elements therefore flippe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r>
              <a:rPr b="0" i="1" lang="en-GB" sz="1800" spc="-1" strike="noStrike">
                <a:solidFill>
                  <a:srgbClr val="000000"/>
                </a:solidFill>
                <a:latin typeface="Lucida Console"/>
              </a:rPr>
              <a:t>No longer all elements inside o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r>
              <a:rPr b="0" i="1" lang="en-GB" sz="1800" spc="-1" strike="noStrike">
                <a:solidFill>
                  <a:srgbClr val="000000"/>
                </a:solidFill>
                <a:latin typeface="Lucida Console"/>
              </a:rPr>
              <a:t>No inside-out elements.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Box 1"/>
          <p:cNvSpPr/>
          <p:nvPr/>
        </p:nvSpPr>
        <p:spPr>
          <a:xfrm>
            <a:off x="228600" y="1143000"/>
            <a:ext cx="11734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xample: ice dom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1" descr=""/>
          <p:cNvPicPr/>
          <p:nvPr/>
        </p:nvPicPr>
        <p:blipFill>
          <a:blip r:embed="rId1"/>
          <a:stretch/>
        </p:blipFill>
        <p:spPr>
          <a:xfrm>
            <a:off x="7518240" y="228600"/>
            <a:ext cx="4445280" cy="3333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Box 1"/>
          <p:cNvSpPr/>
          <p:nvPr/>
        </p:nvSpPr>
        <p:spPr>
          <a:xfrm>
            <a:off x="228600" y="228600"/>
            <a:ext cx="8686800" cy="750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Ua2D_DefaultParameter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20e3; h0=25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xL=-L ; xR=L ; yB=0 ;  s0=3e3;</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gamm=-s0/L^2;</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MeshSize=1e3;</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MeshSizeMin=0.1e3;</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MeshSizeMax=1e3;</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xSurf=xL:CtrlVar.MeshSize:x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ySurf=s0+gamm*(abs(xSurf)).^2;</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N=numel(xSur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eshBoundaryCoordinates=[L 0 ; -L 0 ; xSurf(:) ySurf(:)+10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eshBoundaryCoordinates=[xSurf(:) ySur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these lines are added to the gmsh .geo input file each time such a file is created</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GeoFileAdditionalInputLines{1}=['Physical Line(1) = {',num2str(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GeoFileAdditionalInputLines{2}='Physical Surface(1) = {1};';</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UA,FEmeshTriRep]=genmesh2d(CtrlVar,MeshBoundaryCoordinat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igure ;  PlotFEmesh(MUA.coordinates,MUA.connectivit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drawnow</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str=input('Next example? y/n [y] ? ','s'); if strcmpi(str,'n') ; return ; en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Box 1"/>
          <p:cNvSpPr/>
          <p:nvPr/>
        </p:nvSpPr>
        <p:spPr>
          <a:xfrm>
            <a:off x="228600" y="228600"/>
            <a:ext cx="117349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r>
              <a:rPr b="0" i="1" lang="en-GB" sz="1800" spc="-1" strike="noStrike">
                <a:solidFill>
                  <a:srgbClr val="000000"/>
                </a:solidFill>
                <a:latin typeface="Lucida Console"/>
              </a:rPr>
              <a:t>Creating an input file for gmesh : GmeshFile.geo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Calling gmesh with GmeshFile.geo as a geo input file, and creating GmeshFile.msh output fil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The gmesh call is:  C:\cygwin64\home\Hilmar\ghg\Ua\gmsh-2.11.0-Windows\gmsh.exe GmeshFile.geo -2 -v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Loading GmeshFile.msh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r>
              <a:rPr b="0" i="1" lang="en-GB" sz="1800" spc="-1" strike="noStrike">
                <a:solidFill>
                  <a:srgbClr val="000000"/>
                </a:solidFill>
                <a:latin typeface="Lucida Console"/>
              </a:rPr>
              <a:t>Reading GmeshFile.msh.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Mesh Type : 2.2 0 8 Reading nodes done.  Reading elements do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r>
              <a:rPr b="0" i="1" lang="en-GB" sz="1800" spc="-1" strike="noStrike">
                <a:solidFill>
                  <a:srgbClr val="000000"/>
                </a:solidFill>
                <a:latin typeface="Lucida Console"/>
              </a:rPr>
              <a:t>No inside-out elements.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Box 1"/>
          <p:cNvSpPr/>
          <p:nvPr/>
        </p:nvSpPr>
        <p:spPr>
          <a:xfrm>
            <a:off x="228600" y="228600"/>
            <a:ext cx="11734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e that when using Úa, the call to genmesh2d is not needed as this call is done from within Úa But you can define the `MeshBoundaryCoordinates' in exactly the same way within the input file `Ua2D_InitiaUserInput.m'</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run individual examples you can use the matlab option of running code sections from within editor. See: 'doc run code sections' Just click on some part of the code using the mouse, the text will be highligted in yellow, then press ctrl re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1"/>
          <p:cNvSpPr/>
          <p:nvPr/>
        </p:nvSpPr>
        <p:spPr>
          <a:xfrm>
            <a:off x="228600" y="1143000"/>
            <a:ext cx="11734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xample:  house withouth a windo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1" descr=""/>
          <p:cNvPicPr/>
          <p:nvPr/>
        </p:nvPicPr>
        <p:blipFill>
          <a:blip r:embed="rId1"/>
          <a:stretch/>
        </p:blipFill>
        <p:spPr>
          <a:xfrm>
            <a:off x="7518240" y="228600"/>
            <a:ext cx="4445280" cy="3333600"/>
          </a:xfrm>
          <a:prstGeom prst="rect">
            <a:avLst/>
          </a:prstGeom>
          <a:ln w="0">
            <a:noFill/>
          </a:ln>
        </p:spPr>
      </p:pic>
      <p:sp>
        <p:nvSpPr>
          <p:cNvPr id="63" name="TextBox 2"/>
          <p:cNvSpPr/>
          <p:nvPr/>
        </p:nvSpPr>
        <p:spPr>
          <a:xfrm>
            <a:off x="228600" y="3562200"/>
            <a:ext cx="86868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Ua2D_DefaultParameters(); CtrlVar.MeshSizeMax=0.1; CtrlVar.MeshSizeMin=0.1;</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eshBoundaryCoordinates=[-1 -1 ; -1 0 ; 0 1 ; 1 0 ; 1 -1 ; 0 -1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UA,FEmeshTriRep]=genmesh2d(CtrlVar,MeshBoundaryCoordinates); figure ;  PlotFEmesh(MUA.coordinates,MUA.connectivit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drawnow</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str=input('Next example? y/n [y] ? ','s'); if strcmpi(str,'n') ; return ; en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1"/>
          <p:cNvSpPr/>
          <p:nvPr/>
        </p:nvSpPr>
        <p:spPr>
          <a:xfrm>
            <a:off x="228600" y="228600"/>
            <a:ext cx="117349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r>
              <a:rPr b="0" i="1" lang="en-GB" sz="1800" spc="-1" strike="noStrike">
                <a:solidFill>
                  <a:srgbClr val="000000"/>
                </a:solidFill>
                <a:latin typeface="Lucida Console"/>
              </a:rPr>
              <a:t>Creating an input file for gmesh : GmeshFile.geo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Calling gmesh with GmeshFile.geo as a geo input file, and creating GmeshFile.msh output fil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The gmesh call is:  C:\cygwin64\home\Hilmar\ghg\Ua\gmsh-2.11.0-Windows\gmsh.exe GmeshFile.geo -2 -v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Loading GmeshFile.msh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r>
              <a:rPr b="0" i="1" lang="en-GB" sz="1800" spc="-1" strike="noStrike">
                <a:solidFill>
                  <a:srgbClr val="000000"/>
                </a:solidFill>
                <a:latin typeface="Lucida Console"/>
              </a:rPr>
              <a:t>Reading GmeshFile.msh.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Mesh Type : 2.2 0 8 Reading nodes done.  Reading elements do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r>
              <a:rPr b="0" i="1" lang="en-GB" sz="1800" spc="-1" strike="noStrike">
                <a:solidFill>
                  <a:srgbClr val="000000"/>
                </a:solidFill>
                <a:latin typeface="Lucida Console"/>
              </a:rPr>
              <a:t>No inside-out elements.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1"/>
          <p:cNvSpPr/>
          <p:nvPr/>
        </p:nvSpPr>
        <p:spPr>
          <a:xfrm>
            <a:off x="228600" y="1143000"/>
            <a:ext cx="11734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xample: a house with a window!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1" descr=""/>
          <p:cNvPicPr/>
          <p:nvPr/>
        </p:nvPicPr>
        <p:blipFill>
          <a:blip r:embed="rId1"/>
          <a:stretch/>
        </p:blipFill>
        <p:spPr>
          <a:xfrm>
            <a:off x="7518240" y="228600"/>
            <a:ext cx="4445280" cy="3333600"/>
          </a:xfrm>
          <a:prstGeom prst="rect">
            <a:avLst/>
          </a:prstGeom>
          <a:ln w="0">
            <a:noFill/>
          </a:ln>
        </p:spPr>
      </p:pic>
      <p:sp>
        <p:nvSpPr>
          <p:cNvPr id="67" name="TextBox 2"/>
          <p:cNvSpPr/>
          <p:nvPr/>
        </p:nvSpPr>
        <p:spPr>
          <a:xfrm>
            <a:off x="228600" y="228600"/>
            <a:ext cx="7061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n creating holes within a mesh, separate boundaries by NaN Na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Box 1"/>
          <p:cNvSpPr/>
          <p:nvPr/>
        </p:nvSpPr>
        <p:spPr>
          <a:xfrm>
            <a:off x="228600" y="228600"/>
            <a:ext cx="8686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Ua2D_DefaultParameters(); CtrlVar.MeshSizeMax=0.1; CtrlVar.MeshSizeMin=0.1;</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eshBoundaryCoordinates=[-1 -1 ; -1 0 ; 0 1 ; 1 0 ; 1 -1 ; 0 -1 ; ...       % Outer boundary (clockwise orientatio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NaN NaN ;  0.5 -0.5 ; 0.5 0 ; 0.1 0 ; 0.1 -0.5 ; ...         % inner boundary (anticlockwise orientatio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NaN NaN ; -0.1 -0.5 ; -0.1 0 ; -0.8 0 ; -0.8 -0.5 ];         % another innner boundary (anticlockwise orientatio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UA,FEmeshTriRep]=genmesh2d(CtrlVar,MeshBoundaryCoordinates); figure ;  PlotFEmesh(MUA.coordinates,MUA.connectivit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drawnow</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str=input('Next example? y/n [y] ? ','s'); if strcmpi(str,'n') ; return ; en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Box 1"/>
          <p:cNvSpPr/>
          <p:nvPr/>
        </p:nvSpPr>
        <p:spPr>
          <a:xfrm>
            <a:off x="228600" y="228600"/>
            <a:ext cx="117349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r>
              <a:rPr b="0" i="1" lang="en-GB" sz="1800" spc="-1" strike="noStrike">
                <a:solidFill>
                  <a:srgbClr val="000000"/>
                </a:solidFill>
                <a:latin typeface="Lucida Console"/>
              </a:rPr>
              <a:t>Creating an input file for gmesh : GmeshFile.geo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Calling gmesh with GmeshFile.geo as a geo input file, and creating GmeshFile.msh output fil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The gmesh call is:  C:\cygwin64\home\Hilmar\ghg\Ua\gmsh-2.11.0-Windows\gmsh.exe GmeshFile.geo -2 -v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Loading GmeshFile.msh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r>
              <a:rPr b="0" i="1" lang="en-GB" sz="1800" spc="-1" strike="noStrike">
                <a:solidFill>
                  <a:srgbClr val="000000"/>
                </a:solidFill>
                <a:latin typeface="Lucida Console"/>
              </a:rPr>
              <a:t>Reading GmeshFile.msh.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Mesh Type : 2.2 0 8 Reading nodes done.  Reading elements do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r>
              <a:rPr b="0" i="1" lang="en-GB" sz="1800" spc="-1" strike="noStrike">
                <a:solidFill>
                  <a:srgbClr val="000000"/>
                </a:solidFill>
                <a:latin typeface="Lucida Console"/>
              </a:rPr>
              <a:t>No inside-out elements.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Box 1"/>
          <p:cNvSpPr/>
          <p:nvPr/>
        </p:nvSpPr>
        <p:spPr>
          <a:xfrm>
            <a:off x="228600" y="1143000"/>
            <a:ext cx="11734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xample: A house with a tre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1" descr=""/>
          <p:cNvPicPr/>
          <p:nvPr/>
        </p:nvPicPr>
        <p:blipFill>
          <a:blip r:embed="rId1"/>
          <a:stretch/>
        </p:blipFill>
        <p:spPr>
          <a:xfrm>
            <a:off x="7518240" y="228600"/>
            <a:ext cx="4445280" cy="3333600"/>
          </a:xfrm>
          <a:prstGeom prst="rect">
            <a:avLst/>
          </a:prstGeom>
          <a:ln w="0">
            <a:noFill/>
          </a:ln>
        </p:spPr>
      </p:pic>
      <p:sp>
        <p:nvSpPr>
          <p:cNvPr id="72" name="TextBox 2"/>
          <p:cNvSpPr/>
          <p:nvPr/>
        </p:nvSpPr>
        <p:spPr>
          <a:xfrm>
            <a:off x="228600" y="228600"/>
            <a:ext cx="70610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n generating separate meshed domains, label each domain with a number. The label is the specified by putting `Label NaN' ahead of the corresponding boundar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Box 1"/>
          <p:cNvSpPr/>
          <p:nvPr/>
        </p:nvSpPr>
        <p:spPr>
          <a:xfrm>
            <a:off x="228600" y="228600"/>
            <a:ext cx="8686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Ua2D_DefaultParameters(); CtrlVar.MeshSizeMax=0.1; CtrlVar.MeshSizeMin=0.1;</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eshBoundaryCoordinates=[1 NaN ; -1 -1 ; -1 0 ; 0 1 ; 1 0 ; 1 -1 ; 0 -1 ; ...                                                     % boundary of mesh 1</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2 NaN ; -2.0 -0.5 ; -2.0 0.5 ; -1.5 0.5 ; -1.5 -0.5 ; -1.7 -0.5 ; -1.7 -1 ; -1.8 -1 ; -1.8 -0.5 ];       % boundary of mesh 2</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UA,FEmeshTriRep]=genmesh2d(CtrlVar,MeshBoundaryCoordinates); figure ;  PlotFEmesh(MUA.coordinates,MUA.connectivit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drawnow</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str=input('Next example? y/n [y] ? ','s'); if strcmpi(str,'n') ; return ; en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Box 1"/>
          <p:cNvSpPr/>
          <p:nvPr/>
        </p:nvSpPr>
        <p:spPr>
          <a:xfrm>
            <a:off x="228600" y="228600"/>
            <a:ext cx="11734920" cy="1081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Overview</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xample: simple polygon</a:t>
            </a:r>
            <a:endParaRPr b="0" lang="en-US" sz="3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xample: periodic boundary conditions</a:t>
            </a:r>
            <a:endParaRPr b="0" lang="en-US" sz="3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xample: sinusoidal bed</a:t>
            </a:r>
            <a:endParaRPr b="0" lang="en-US" sz="3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xample: ice dome</a:t>
            </a:r>
            <a:endParaRPr b="0" lang="en-US" sz="3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xample:  house withouth a window</a:t>
            </a:r>
            <a:endParaRPr b="0" lang="en-US" sz="3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xample: a house with a window! :-)</a:t>
            </a:r>
            <a:endParaRPr b="0" lang="en-US" sz="3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xample: A house with a tree</a:t>
            </a:r>
            <a:endParaRPr b="0" lang="en-US" sz="3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xample: A house with windows and a tree :-)</a:t>
            </a:r>
            <a:endParaRPr b="0" lang="en-US" sz="3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xample: Mesh with several holes and islands</a:t>
            </a:r>
            <a:endParaRPr b="0" lang="en-US" sz="3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xample: Constrainted meshing with two joined meshes sharing the same boundary</a:t>
            </a:r>
            <a:endParaRPr b="0" lang="en-US" sz="3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xample: two separate meshes in contact</a:t>
            </a:r>
            <a:endParaRPr b="0" lang="en-US" sz="3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xample: Internal boundaries</a:t>
            </a:r>
            <a:endParaRPr b="0" lang="en-US" sz="3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xample: Two subdomains sharing a common boundary.</a:t>
            </a:r>
            <a:endParaRPr b="0" lang="en-US" sz="3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xample: Several different subdomains</a:t>
            </a:r>
            <a:endParaRPr b="0" lang="en-US" sz="3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xample: Meshing the Brunt Ice Shelf</a:t>
            </a:r>
            <a:endParaRPr b="0" lang="en-US" sz="3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xample: Meshing the Brunt Ice Shelf with an internal boundary and a `fill-in'</a:t>
            </a:r>
            <a:endParaRPr b="0" lang="en-US" sz="3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xample of running gmsh directly for a given input file</a:t>
            </a:r>
            <a:endParaRPr b="0" lang="en-US" sz="3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Box 1"/>
          <p:cNvSpPr/>
          <p:nvPr/>
        </p:nvSpPr>
        <p:spPr>
          <a:xfrm>
            <a:off x="228600" y="228600"/>
            <a:ext cx="117349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r>
              <a:rPr b="0" i="1" lang="en-GB" sz="1800" spc="-1" strike="noStrike">
                <a:solidFill>
                  <a:srgbClr val="000000"/>
                </a:solidFill>
                <a:latin typeface="Lucida Console"/>
              </a:rPr>
              <a:t>Creating an input file for gmesh : GmeshFile.geo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Calling gmesh with GmeshFile.geo as a geo input file, and creating GmeshFile.msh output fil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The gmesh call is:  C:\cygwin64\home\Hilmar\ghg\Ua\gmsh-2.11.0-Windows\gmsh.exe GmeshFile.geo -2 -v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Loading GmeshFile.msh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r>
              <a:rPr b="0" i="1" lang="en-GB" sz="1800" spc="-1" strike="noStrike">
                <a:solidFill>
                  <a:srgbClr val="000000"/>
                </a:solidFill>
                <a:latin typeface="Lucida Console"/>
              </a:rPr>
              <a:t>Reading GmeshFile.msh.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Mesh Type : 2.2 0 8 Reading nodes done.  Reading elements do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r>
              <a:rPr b="0" i="1" lang="en-GB" sz="1800" spc="-1" strike="noStrike">
                <a:solidFill>
                  <a:srgbClr val="000000"/>
                </a:solidFill>
                <a:latin typeface="Lucida Console"/>
              </a:rPr>
              <a:t>No inside-out elements.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Box 1"/>
          <p:cNvSpPr/>
          <p:nvPr/>
        </p:nvSpPr>
        <p:spPr>
          <a:xfrm>
            <a:off x="228600" y="1143000"/>
            <a:ext cx="11734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xample: A house with windows and a tre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 descr=""/>
          <p:cNvPicPr/>
          <p:nvPr/>
        </p:nvPicPr>
        <p:blipFill>
          <a:blip r:embed="rId1"/>
          <a:stretch/>
        </p:blipFill>
        <p:spPr>
          <a:xfrm>
            <a:off x="7518240" y="228600"/>
            <a:ext cx="4445280" cy="3333600"/>
          </a:xfrm>
          <a:prstGeom prst="rect">
            <a:avLst/>
          </a:prstGeom>
          <a:ln w="0">
            <a:noFill/>
          </a:ln>
        </p:spPr>
      </p:pic>
      <p:sp>
        <p:nvSpPr>
          <p:cNvPr id="77" name="TextBox 2"/>
          <p:cNvSpPr/>
          <p:nvPr/>
        </p:nvSpPr>
        <p:spPr>
          <a:xfrm>
            <a:off x="228600" y="228600"/>
            <a:ext cx="70610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n generating several separate meshed domains with holes, make sure to specify the outer boundary first, then the holes, and indicate to which mesh a given boundary belong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Box 1"/>
          <p:cNvSpPr/>
          <p:nvPr/>
        </p:nvSpPr>
        <p:spPr>
          <a:xfrm>
            <a:off x="228600" y="228600"/>
            <a:ext cx="86868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Ua2D_DefaultParameters(); CtrlVar.MeshSizeMax=0.1; CtrlVar.MeshSizeMin=0.1;</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eshBoundaryCoordinates=[1 NaN ; -1 -1 ; -1 0 ; 0 1 ; 1 0 ; 1 -1 ; 0 -1 ; ...      % outer boundary of mesh 1 (clockwis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1 NaN ; 0.5 -0.5 ; 0.5 0 ; 0.1 0 ; 0.1 -0.5 ; ...                              % a hole within mesh 1     (anticlockwis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1 NaN ; -0.1 -0.5 ; -0.1 0 ; -0.8 0 ; -0.8 -0.5 ; ...                          % a further hole within mesh 1 (anticlockwis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3 NaN ; -2.0 -0.5 ; -2.0 0.5 ; -1.5 0.5 ; -1.5 -0.5 ; -1.7 -0.5 ; -1.7 -1 ; -1.8 -1 ; -1.8 -0.5 ];   % another mesh (clockwise). mesh labels do not need to be in sequential orde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UA,FEmeshTriRep]=genmesh2d(CtrlVar,MeshBoundaryCoordinates); figure ;  PlotFEmesh(MUA.coordinates,MUA.connectivit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drawnow</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str=input('Next example? y/n [y] ? ','s'); if strcmpi(str,'n') ; return ; en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Box 1"/>
          <p:cNvSpPr/>
          <p:nvPr/>
        </p:nvSpPr>
        <p:spPr>
          <a:xfrm>
            <a:off x="228600" y="228600"/>
            <a:ext cx="117349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r>
              <a:rPr b="0" i="1" lang="en-GB" sz="1800" spc="-1" strike="noStrike">
                <a:solidFill>
                  <a:srgbClr val="000000"/>
                </a:solidFill>
                <a:latin typeface="Lucida Console"/>
              </a:rPr>
              <a:t>Creating an input file for gmesh : GmeshFile.geo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Calling gmesh with GmeshFile.geo as a geo input file, and creating GmeshFile.msh output fil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The gmesh call is:  C:\cygwin64\home\Hilmar\ghg\Ua\gmsh-2.11.0-Windows\gmsh.exe GmeshFile.geo -2 -v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Loading GmeshFile.msh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r>
              <a:rPr b="0" i="1" lang="en-GB" sz="1800" spc="-1" strike="noStrike">
                <a:solidFill>
                  <a:srgbClr val="000000"/>
                </a:solidFill>
                <a:latin typeface="Lucida Console"/>
              </a:rPr>
              <a:t>Reading GmeshFile.msh.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Mesh Type : 2.2 0 8 Reading nodes done.  Reading elements do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r>
              <a:rPr b="0" i="1" lang="en-GB" sz="1800" spc="-1" strike="noStrike">
                <a:solidFill>
                  <a:srgbClr val="000000"/>
                </a:solidFill>
                <a:latin typeface="Lucida Console"/>
              </a:rPr>
              <a:t>No inside-out elements.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1"/>
          <p:cNvSpPr/>
          <p:nvPr/>
        </p:nvSpPr>
        <p:spPr>
          <a:xfrm>
            <a:off x="228600" y="1143000"/>
            <a:ext cx="11734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xample: Mesh with several holes and islan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1" descr=""/>
          <p:cNvPicPr/>
          <p:nvPr/>
        </p:nvPicPr>
        <p:blipFill>
          <a:blip r:embed="rId1"/>
          <a:stretch/>
        </p:blipFill>
        <p:spPr>
          <a:xfrm>
            <a:off x="7518240" y="228600"/>
            <a:ext cx="4445280" cy="3333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1"/>
          <p:cNvSpPr/>
          <p:nvPr/>
        </p:nvSpPr>
        <p:spPr>
          <a:xfrm>
            <a:off x="228600" y="228600"/>
            <a:ext cx="8686800" cy="1024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Ua2D_DefaultParameters(); CtrlVar.MeshSizeMax=0.1; CtrlVar.MeshSizeMin=0.1; CtrlVar.TriNodes=1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eshBoundaryCoordinat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1 NaN ; -1 -1 ; -1 0 ; 0 1 ; 1 0 ; 1 -1 ; 0 -1 ; ...     % outer boundary of mesh 1</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1 NaN ; 0.5 -0.5 ; 0.5 0 ; 0.1 0 ; 0.1 -0.5 ; ...         % inner boundary of mesh 1</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1 NaN ; -0.1 -0.5 ; -0.1 0 ; -0.8 0 ; -0.8 -0.5 ; ...     % another inner boundary of mesh 1</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2 NaN ; -0.7 -0.4 ; -0.7 -0.1 ; -0.2 -0.1 ; -0.2 -0.4 ; ...   % outer boundary of mesh 2</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40 NaN ; -3.0 -1.0 ; -3.0  0.5 ; -1.5 0.5 ; -1.5 -1.0 ;...    % outer boundary of mesh 4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40 NaN ; -2.8 -0.8 ; -1.8 -0.8 ; -1.8 0.4 ; -2.8  0.4 ; ...   % inner boundary of mesh 4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50 NaN ; -2.6 -0.6 ; -2.6 0.3 ; -2.0 0.3 ; -2.0 -0.6  ; ...   % outer boundary of mesh 5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50 NaN ; -2.5 -0.5 ; -2.1 -0.5 ; -2.1 0.1 ; -2.5 0.1 ];       % inner boundary of mesh 5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eshMeshingAlgorithm=8;    % see gmsh manua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UA,FEmeshTriRep]=genmesh2d(CtrlVar,MeshBoundaryCoordinates); figure ;  PlotFEmesh(MUA.coordinates,MUA.connectivit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so calculate and plot normal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nx,ny,xn,yn,Nx,Ny] = CalcEdgeAndNodalNormals(MUA.connectivity,MUA.coordinates,MUA.Boundary.Edg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QuiverColorGHG(MUA.coordinates(MUA.Boundary.Nodes,1),MUA.coordinates(MUA.Boundary.Nodes,2),...</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Nx(MUA.Boundary.Nodes),Ny(MUA.Boundary.Nod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drawnow</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put('Next example? y/n [y] ? ','s'); if strcmpi(str,'n') ; return ; en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Box 1"/>
          <p:cNvSpPr/>
          <p:nvPr/>
        </p:nvSpPr>
        <p:spPr>
          <a:xfrm>
            <a:off x="228600" y="228600"/>
            <a:ext cx="117349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r>
              <a:rPr b="0" i="1" lang="en-GB" sz="1800" spc="-1" strike="noStrike">
                <a:solidFill>
                  <a:srgbClr val="000000"/>
                </a:solidFill>
                <a:latin typeface="Lucida Console"/>
              </a:rPr>
              <a:t>Creating an input file for gmesh : GmeshFile.geo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Calling gmesh with GmeshFile.geo as a geo input file, and creating GmeshFile.msh output fil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The gmesh call is:  C:\cygwin64\home\Hilmar\ghg\Ua\gmsh-2.11.0-Windows\gmsh.exe GmeshFile.geo -2 -v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Loading GmeshFile.msh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r>
              <a:rPr b="0" i="1" lang="en-GB" sz="1800" spc="-1" strike="noStrike">
                <a:solidFill>
                  <a:srgbClr val="000000"/>
                </a:solidFill>
                <a:latin typeface="Lucida Console"/>
              </a:rPr>
              <a:t>Reading GmeshFile.msh.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Mesh Type : 2.2 0 8 Reading nodes done.  Reading elements do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r>
              <a:rPr b="0" i="1" lang="en-GB" sz="1800" spc="-1" strike="noStrike">
                <a:solidFill>
                  <a:srgbClr val="000000"/>
                </a:solidFill>
                <a:latin typeface="Lucida Console"/>
              </a:rPr>
              <a:t>No inside-out elements.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r>
              <a:rPr b="0" i="1" lang="en-GB" sz="1800" spc="-1" strike="noStrike">
                <a:solidFill>
                  <a:srgbClr val="000000"/>
                </a:solidFill>
                <a:latin typeface="Lucida Console"/>
              </a:rPr>
              <a:t>QuiverColorGHG: uvPlotScale=15.0000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1"/>
          <p:cNvSpPr/>
          <p:nvPr/>
        </p:nvSpPr>
        <p:spPr>
          <a:xfrm>
            <a:off x="228600" y="1143000"/>
            <a:ext cx="117349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xample: Constrainted meshing with two joined meshes sharing the same bounda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Box 1"/>
          <p:cNvSpPr/>
          <p:nvPr/>
        </p:nvSpPr>
        <p:spPr>
          <a:xfrm>
            <a:off x="228600" y="1143000"/>
            <a:ext cx="11734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xample: simple polyg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1" descr=""/>
          <p:cNvPicPr/>
          <p:nvPr/>
        </p:nvPicPr>
        <p:blipFill>
          <a:blip r:embed="rId1"/>
          <a:stretch/>
        </p:blipFill>
        <p:spPr>
          <a:xfrm>
            <a:off x="7518240" y="228600"/>
            <a:ext cx="4445280" cy="3333600"/>
          </a:xfrm>
          <a:prstGeom prst="rect">
            <a:avLst/>
          </a:prstGeom>
          <a:ln w="0">
            <a:noFill/>
          </a:ln>
        </p:spPr>
      </p:pic>
      <p:sp>
        <p:nvSpPr>
          <p:cNvPr id="86" name="TextBox 2"/>
          <p:cNvSpPr/>
          <p:nvPr/>
        </p:nvSpPr>
        <p:spPr>
          <a:xfrm>
            <a:off x="228600" y="228600"/>
            <a:ext cx="70610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nce here the same line belongs to more then one mesh we need to specify the 'plane surface' (gmsh terminology) separatly. This is done in CtrlVar.GmshPlaneSurfac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Box 1"/>
          <p:cNvSpPr/>
          <p:nvPr/>
        </p:nvSpPr>
        <p:spPr>
          <a:xfrm>
            <a:off x="228600" y="228600"/>
            <a:ext cx="8686800" cy="777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Ua2D_DefaultParameters(); CtrlVar.MeshSizeMax=0.1; CtrlVar.MeshSizeMin=0.1;</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eshBoundaryCoordinates=[1 NaN ;-1 -1 ; -1 0 ; 0 1 ; 1 0 ; 1 -1 ; 0 -1 ; ...       % Outer boundary (clockwise orientatio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1 NaN ;  0.5 -0.5 ; 0.5 0 ; 0.1 0 ; 0.1 -0.5 ; ...         % inner boundary (anticlockwise orientatio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1 NaN ; -0.1 -0.5 ; 0 0.3 ; -0.95 0 ; -0.8 -0.9 ];         % another innner boundary (anticlockwise orientatio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PlaneSurface{1}=[1 2 3]; % mesh 1 is defined by boundaries 1, 2 and 3</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PlaneSurface{2}=[-2];  % mesh 2 is defined by boundary 2, make sure to use a negative sign to indicate a reverse ordering</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PlaneSurface{3}=[-3];  % mesh 2 is defined by boundary 2, make sure to use a negative sign to indicate a reverse ordering</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UA,FEmeshTriRep]=genmesh2d(CtrlVar,MeshBoundaryCoordinates); figure ;  PlotFEmesh(MUA.coordinates,MUA.connectivit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lot(MeshBoundaryCoordinates(:,1),MeshBoundaryCoordinates(:,2),'-or','LineWidth',2)</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drawnow</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str=input('Next example? y/n [y] ? ','s'); if strcmpi(str,'n') ; return ; en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Box 1"/>
          <p:cNvSpPr/>
          <p:nvPr/>
        </p:nvSpPr>
        <p:spPr>
          <a:xfrm>
            <a:off x="228600" y="228600"/>
            <a:ext cx="117349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r>
              <a:rPr b="0" i="1" lang="en-GB" sz="1800" spc="-1" strike="noStrike">
                <a:solidFill>
                  <a:srgbClr val="000000"/>
                </a:solidFill>
                <a:latin typeface="Lucida Console"/>
              </a:rPr>
              <a:t>Creating an input file for gmesh : GmeshFile.geo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Calling gmesh with GmeshFile.geo as a geo input file, and creating GmeshFile.msh output fil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The gmesh call is:  C:\cygwin64\home\Hilmar\ghg\Ua\gmsh-2.11.0-Windows\gmsh.exe GmeshFile.geo -2 -v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Loading GmeshFile.msh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r>
              <a:rPr b="0" i="1" lang="en-GB" sz="1800" spc="-1" strike="noStrike">
                <a:solidFill>
                  <a:srgbClr val="000000"/>
                </a:solidFill>
                <a:latin typeface="Lucida Console"/>
              </a:rPr>
              <a:t>Reading GmeshFile.msh.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Mesh Type : 2.2 0 8 Reading nodes done.  Reading elements do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r>
              <a:rPr b="0" i="1" lang="en-GB" sz="1800" spc="-1" strike="noStrike">
                <a:solidFill>
                  <a:srgbClr val="000000"/>
                </a:solidFill>
                <a:latin typeface="Lucida Console"/>
              </a:rPr>
              <a:t>No inside-out elements.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Box 1"/>
          <p:cNvSpPr/>
          <p:nvPr/>
        </p:nvSpPr>
        <p:spPr>
          <a:xfrm>
            <a:off x="228600" y="1143000"/>
            <a:ext cx="11734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xample: two separate meshes in conta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1" descr=""/>
          <p:cNvPicPr/>
          <p:nvPr/>
        </p:nvPicPr>
        <p:blipFill>
          <a:blip r:embed="rId1"/>
          <a:stretch/>
        </p:blipFill>
        <p:spPr>
          <a:xfrm>
            <a:off x="7518240" y="228600"/>
            <a:ext cx="4445280" cy="3333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1"/>
          <p:cNvSpPr/>
          <p:nvPr/>
        </p:nvSpPr>
        <p:spPr>
          <a:xfrm>
            <a:off x="228600" y="228600"/>
            <a:ext cx="8686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Ua2D_DefaultParameters(); CtrlVar.MeshSizeMax=0.1; CtrlVar.MeshSizeMin=0.1;</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eshBoundaryCoordinates=[1 NaN ;  0 0  ; 0 1 ; 1 1 ; 1 0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2 NaN ; -1 0  ; -1 1.001 ; 0 1.001 ; 0 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UA,FEmeshTriRep]=genmesh2d(CtrlVar,MeshBoundaryCoordinates); figure ;  PlotFEmesh(MUA.coordinates,MUA.connectivit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lot(MeshBoundaryCoordinates(:,1),MeshBoundaryCoordinates(:,2),'-or','LineWidth',2)</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drawnow</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str=input('Next example? y/n [y] ? ','s'); if strcmpi(str,'n') ; return ; en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1"/>
          <p:cNvSpPr/>
          <p:nvPr/>
        </p:nvSpPr>
        <p:spPr>
          <a:xfrm>
            <a:off x="228600" y="228600"/>
            <a:ext cx="117349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r>
              <a:rPr b="0" i="1" lang="en-GB" sz="1800" spc="-1" strike="noStrike">
                <a:solidFill>
                  <a:srgbClr val="000000"/>
                </a:solidFill>
                <a:latin typeface="Lucida Console"/>
              </a:rPr>
              <a:t>Creating an input file for gmesh : GmeshFile.geo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Calling gmesh with GmeshFile.geo as a geo input file, and creating GmeshFile.msh output fil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The gmesh call is:  C:\cygwin64\home\Hilmar\ghg\Ua\gmsh-2.11.0-Windows\gmsh.exe GmeshFile.geo -2 -v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Loading GmeshFile.msh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r>
              <a:rPr b="0" i="1" lang="en-GB" sz="1800" spc="-1" strike="noStrike">
                <a:solidFill>
                  <a:srgbClr val="000000"/>
                </a:solidFill>
                <a:latin typeface="Lucida Console"/>
              </a:rPr>
              <a:t>Reading GmeshFile.msh.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Mesh Type : 2.2 0 8 Reading nodes done.  Reading elements do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r>
              <a:rPr b="0" i="1" lang="en-GB" sz="1800" spc="-1" strike="noStrike">
                <a:solidFill>
                  <a:srgbClr val="000000"/>
                </a:solidFill>
                <a:latin typeface="Lucida Console"/>
              </a:rPr>
              <a:t>No inside-out elements.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Box 1"/>
          <p:cNvSpPr/>
          <p:nvPr/>
        </p:nvSpPr>
        <p:spPr>
          <a:xfrm>
            <a:off x="228600" y="1143000"/>
            <a:ext cx="11734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xample: Internal boundar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1" descr=""/>
          <p:cNvPicPr/>
          <p:nvPr/>
        </p:nvPicPr>
        <p:blipFill>
          <a:blip r:embed="rId1"/>
          <a:stretch/>
        </p:blipFill>
        <p:spPr>
          <a:xfrm>
            <a:off x="7518240" y="228600"/>
            <a:ext cx="4445280" cy="33336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Box 1"/>
          <p:cNvSpPr/>
          <p:nvPr/>
        </p:nvSpPr>
        <p:spPr>
          <a:xfrm>
            <a:off x="228600" y="228600"/>
            <a:ext cx="86868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Ua2D_DefaultParameters(); CtrlVar.MeshSizeMax=0.1; CtrlVar.MeshSizeMin=0.1; CtrlVar.GmshInputFormat=1;</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eshBoundaryCoordinates=[1 NaN ;  0 0  ; 0 0.25 ; 0.25 0.25 ; 0.25 0.75 ; 0 0.75 ; 0 1 ; 1 1 ; 1 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2 NaN ;  0 0.25 ; 0. 0.75 ; 0.25 0.75 ; 0.25 0.25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UA,FEmeshTriRep]=genmesh2d(CtrlVar,MeshBoundaryCoordinat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igure ;  PlotFEmesh(MUA.coordinates,MUA.connectivit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lot(MeshBoundaryCoordinates(:,1),MeshBoundaryCoordinates(:,2),'-or','LineWidth',2)</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drawnow</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str=input('Next example? y/n [y] ? ','s');  if strcmpi(str,'n') ; return ; en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1" descr=""/>
          <p:cNvPicPr/>
          <p:nvPr/>
        </p:nvPicPr>
        <p:blipFill>
          <a:blip r:embed="rId1"/>
          <a:stretch/>
        </p:blipFill>
        <p:spPr>
          <a:xfrm>
            <a:off x="7518240" y="228600"/>
            <a:ext cx="4445280" cy="3333600"/>
          </a:xfrm>
          <a:prstGeom prst="rect">
            <a:avLst/>
          </a:prstGeom>
          <a:ln w="0">
            <a:noFill/>
          </a:ln>
        </p:spPr>
      </p:pic>
      <p:sp>
        <p:nvSpPr>
          <p:cNvPr id="46" name="TextBox 2"/>
          <p:cNvSpPr/>
          <p:nvPr/>
        </p:nvSpPr>
        <p:spPr>
          <a:xfrm>
            <a:off x="228600" y="228600"/>
            <a:ext cx="70610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sh boundary coordinates should go clockwise around the domain (although if this is done incorrectly, Úa will automatically correct for this anyhow.)</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Box 1"/>
          <p:cNvSpPr/>
          <p:nvPr/>
        </p:nvSpPr>
        <p:spPr>
          <a:xfrm>
            <a:off x="228600" y="228600"/>
            <a:ext cx="117349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r>
              <a:rPr b="0" i="1" lang="en-GB" sz="1800" spc="-1" strike="noStrike">
                <a:solidFill>
                  <a:srgbClr val="000000"/>
                </a:solidFill>
                <a:latin typeface="Lucida Console"/>
              </a:rPr>
              <a:t>Creating an input file for gmesh : GmeshFile.geo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Calling gmesh with GmeshFile.geo as a geo input file, and creating GmeshFile.msh output fil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The gmesh call is:  C:\cygwin64\home\Hilmar\ghg\Ua\gmsh-2.11.0-Windows\gmsh.exe GmeshFile.geo -2 -v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Loading GmeshFile.msh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r>
              <a:rPr b="0" i="1" lang="en-GB" sz="1800" spc="-1" strike="noStrike">
                <a:solidFill>
                  <a:srgbClr val="000000"/>
                </a:solidFill>
                <a:latin typeface="Lucida Console"/>
              </a:rPr>
              <a:t>Reading GmeshFile.msh.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Mesh Type : 2.2 0 8 Reading nodes done.  Reading elements do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r>
              <a:rPr b="0" i="1" lang="en-GB" sz="1800" spc="-1" strike="noStrike">
                <a:solidFill>
                  <a:srgbClr val="000000"/>
                </a:solidFill>
                <a:latin typeface="Lucida Console"/>
              </a:rPr>
              <a:t>No inside-out elements.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Box 1"/>
          <p:cNvSpPr/>
          <p:nvPr/>
        </p:nvSpPr>
        <p:spPr>
          <a:xfrm>
            <a:off x="228600" y="1143000"/>
            <a:ext cx="11734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xample: Two subdomains sharing a common bounda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1" descr=""/>
          <p:cNvPicPr/>
          <p:nvPr/>
        </p:nvPicPr>
        <p:blipFill>
          <a:blip r:embed="rId1"/>
          <a:stretch/>
        </p:blipFill>
        <p:spPr>
          <a:xfrm>
            <a:off x="7518240" y="228600"/>
            <a:ext cx="4445280" cy="3333600"/>
          </a:xfrm>
          <a:prstGeom prst="rect">
            <a:avLst/>
          </a:prstGeom>
          <a:ln w="0">
            <a:noFill/>
          </a:ln>
        </p:spPr>
      </p:pic>
      <p:sp>
        <p:nvSpPr>
          <p:cNvPr id="99" name="TextBox 2"/>
          <p:cNvSpPr/>
          <p:nvPr/>
        </p:nvSpPr>
        <p:spPr>
          <a:xfrm>
            <a:off x="228600" y="228600"/>
            <a:ext cx="706104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example uses GmshInputFormat 2.</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msh input format 2 is quite close to the gmsh input format itself and more flexible than the default input format 1, but also more difficult to us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gmsh input format 2 does not use `MeshBoundaryCoordinates' at al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gmsh input format 2 allows constraint meshing. The computational domain can be split up into several subdomains. each with their own boundaries. One can create internal boundaries within a domain, and subdomains sharing some common boundari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 inputs are defined as fields to the CtrlV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basic idea is to define points, then to specify lines in terms of those points, loops in terms of those lines, and finally plane surfaces in terms of the loop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1"/>
          <p:cNvSpPr/>
          <p:nvPr/>
        </p:nvSpPr>
        <p:spPr>
          <a:xfrm>
            <a:off x="228600" y="228600"/>
            <a:ext cx="8686800" cy="1106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Ua2D_DefaultParameter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InputFormat=2; % using input format 2</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MeshSizeMax=0.1;</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MeshSizeMin=0.1;</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MeshSize=0.1;</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Points=[0 0 ;...    % now define a few gmsh point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0 0.5 ; ... % although not directly labeled</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0 1 ;   ... % the first point in point 1, etc.</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1 1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1 0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1 0 ; ...   % this is point nr 5</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1 0.5];     % and this point nr 7</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Lines{1}=[1 , 2];  % define gmsh lines using the point label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Lines{2}=[2 , 3];</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Lines{3}=[ 3 ; 4 ; 5 ;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Lines{4}=[ 1 ;  6 ; 7 ;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Loops{1}=[1 ; 2 ; 3 ]; % now define loop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Loops{2}=[4 ; -1];     % all loops must be closed!</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PlaneSurfaces{1} = [1]; % finally define the surfac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PlaneSurfaces{2} = [2];</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eshBoundaryCoordinates=[]; % When CtrlVar.GmshInputFormat=2, 'MeshBoundaryCoordinates' are not used</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UA,FEmeshTriRep]=genmesh2d(CtrlVar,MeshBoundaryCoordinat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igure ;  PlotFEmesh(MUA.coordinates,MUA.connectivit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hold on ; PlotGmshGeometryDefinition(CtrlV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drawnow</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str=input('Next example? y/n [y] ? ','s');  if strcmpi(str,'n') ; return ; en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Box 1"/>
          <p:cNvSpPr/>
          <p:nvPr/>
        </p:nvSpPr>
        <p:spPr>
          <a:xfrm>
            <a:off x="228600" y="228600"/>
            <a:ext cx="117349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r>
              <a:rPr b="0" i="1" lang="en-GB" sz="1800" spc="-1" strike="noStrike">
                <a:solidFill>
                  <a:srgbClr val="000000"/>
                </a:solidFill>
                <a:latin typeface="Lucida Console"/>
              </a:rPr>
              <a:t>Creating an input file for gmesh : GmeshFile.geo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Calling gmesh with GmeshFile.geo as a geo input file, and creating GmeshFile.msh output fil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The gmesh call is:  C:\cygwin64\home\Hilmar\ghg\Ua\gmsh-2.11.0-Windows\gmsh.exe GmeshFile.geo -2 -v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Loading GmeshFile.msh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r>
              <a:rPr b="0" i="1" lang="en-GB" sz="1800" spc="-1" strike="noStrike">
                <a:solidFill>
                  <a:srgbClr val="000000"/>
                </a:solidFill>
                <a:latin typeface="Lucida Console"/>
              </a:rPr>
              <a:t>Reading GmeshFile.msh.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Mesh Type : 2.2 0 8 Reading nodes done.  Reading elements do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r>
              <a:rPr b="0" i="1" lang="en-GB" sz="1800" spc="-1" strike="noStrike">
                <a:solidFill>
                  <a:srgbClr val="000000"/>
                </a:solidFill>
                <a:latin typeface="Lucida Console"/>
              </a:rPr>
              <a:t>No inside-out elements.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Box 1"/>
          <p:cNvSpPr/>
          <p:nvPr/>
        </p:nvSpPr>
        <p:spPr>
          <a:xfrm>
            <a:off x="228600" y="1143000"/>
            <a:ext cx="11734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xample: Several different subdomai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 descr=""/>
          <p:cNvPicPr/>
          <p:nvPr/>
        </p:nvPicPr>
        <p:blipFill>
          <a:blip r:embed="rId1"/>
          <a:stretch/>
        </p:blipFill>
        <p:spPr>
          <a:xfrm>
            <a:off x="7518240" y="228600"/>
            <a:ext cx="4445280" cy="3333600"/>
          </a:xfrm>
          <a:prstGeom prst="rect">
            <a:avLst/>
          </a:prstGeom>
          <a:ln w="0">
            <a:noFill/>
          </a:ln>
        </p:spPr>
      </p:pic>
      <p:sp>
        <p:nvSpPr>
          <p:cNvPr id="104" name="TextBox 2"/>
          <p:cNvSpPr/>
          <p:nvPr/>
        </p:nvSpPr>
        <p:spPr>
          <a:xfrm>
            <a:off x="228600" y="228600"/>
            <a:ext cx="7061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example uses gmsh input format 2</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Box 1"/>
          <p:cNvSpPr/>
          <p:nvPr/>
        </p:nvSpPr>
        <p:spPr>
          <a:xfrm>
            <a:off x="228600" y="228600"/>
            <a:ext cx="8686800" cy="1435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Ua2D_DefaultParameter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eshBoundaryCoordinat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InputFormat=2;</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MeshSizeMax=0.1; CtrlVar.MeshSizeMin=0.1; CtrlVar.TriNodes=3;</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Points=[0 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0 0.5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0 1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1 1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1 0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1 0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1 0.5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0.25 0.25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0.35 0.75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0.65 0.75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0.80 0.25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0.5 1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1 2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1 2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Lines{1}=[1 ; 2];</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Lines{2}=[2 ; 3];</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Lines{3}=[ 3 ; 4 ; 5 ;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Lines{4}=[ 1 ;  6 ; 7 ;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Lines{5}=[ 8 ; 9 ; 10 ; 11 ; 8];</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Lines{6}=[ 12 ; 13 ; 14 ; 12];</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Loops{1}=[1 ; 2 ; 3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Loops{2}=[4 ; -1];</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Loops{3}=[-5]; % reverse orientatio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Loops{4}=[6];</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Loops{5}=[5];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PlaneSurfaces{1} = [1 ; 3 ]; % this surface has a hol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PlaneSurfaces{2} = [2];</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PlaneSurfaces{3} = [4];</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PlaneSurfaces{4} = [5];</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UA=genmesh2d(CtrlVar,MeshBoundaryCoordinat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plotting mesh</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igure ;  PlotFEmesh(MUA.coordinates,MUA.connectivit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hold o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lotGmshGeometryDefinition(CtrlV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drawnow</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str=input('Next example? y/n [y] ? ','s');  if strcmpi(str,'n') ; return ; en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Box 1"/>
          <p:cNvSpPr/>
          <p:nvPr/>
        </p:nvSpPr>
        <p:spPr>
          <a:xfrm>
            <a:off x="228600" y="228600"/>
            <a:ext cx="117349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r>
              <a:rPr b="0" i="1" lang="en-GB" sz="1800" spc="-1" strike="noStrike">
                <a:solidFill>
                  <a:srgbClr val="000000"/>
                </a:solidFill>
                <a:latin typeface="Lucida Console"/>
              </a:rPr>
              <a:t>Creating an input file for gmesh : GmeshFile.geo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Calling gmesh with GmeshFile.geo as a geo input file, and creating GmeshFile.msh output fil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The gmesh call is:  C:\cygwin64\home\Hilmar\ghg\Ua\gmsh-2.11.0-Windows\gmsh.exe GmeshFile.geo -2 -v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Loading GmeshFile.msh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r>
              <a:rPr b="0" i="1" lang="en-GB" sz="1800" spc="-1" strike="noStrike">
                <a:solidFill>
                  <a:srgbClr val="000000"/>
                </a:solidFill>
                <a:latin typeface="Lucida Console"/>
              </a:rPr>
              <a:t>Reading GmeshFile.msh.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Mesh Type : 2.2 0 8 Reading nodes done.  Reading elements do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r>
              <a:rPr b="0" i="1" lang="en-GB" sz="1800" spc="-1" strike="noStrike">
                <a:solidFill>
                  <a:srgbClr val="000000"/>
                </a:solidFill>
                <a:latin typeface="Lucida Console"/>
              </a:rPr>
              <a:t>No inside-out elements.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Box 1"/>
          <p:cNvSpPr/>
          <p:nvPr/>
        </p:nvSpPr>
        <p:spPr>
          <a:xfrm>
            <a:off x="228600" y="1143000"/>
            <a:ext cx="11734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xample: Meshing the Brunt Ice Shelf</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Box 1"/>
          <p:cNvSpPr/>
          <p:nvPr/>
        </p:nvSpPr>
        <p:spPr>
          <a:xfrm>
            <a:off x="228600" y="228600"/>
            <a:ext cx="8686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Ua2D_DefaultParameters();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Note; When creating this mesh using Úa, only the following</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three lines are required in the Ua2D_InitialUserInput.m</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MeshSizeMax=0.1;</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MeshSizeMin=0.1;</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eshBoundaryCoordinates=[-1 -1 ; -1 0 ; 0 1 ; 1 0 ; 1 -1 ; 0 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UA,FEmeshTriRep]=genmesh2d(CtrlVar,MeshBoundaryCoordinat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igure ;  PlotFEmesh(MUA.coordinates,MUA.connectivit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drawnow</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str=input('Next example? y/n [y] ? ','s');  if strcmpi(str,'n') ; return ; en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1" descr=""/>
          <p:cNvPicPr/>
          <p:nvPr/>
        </p:nvPicPr>
        <p:blipFill>
          <a:blip r:embed="rId1"/>
          <a:stretch/>
        </p:blipFill>
        <p:spPr>
          <a:xfrm>
            <a:off x="7518240" y="228600"/>
            <a:ext cx="4445280" cy="3333600"/>
          </a:xfrm>
          <a:prstGeom prst="rect">
            <a:avLst/>
          </a:prstGeom>
          <a:ln w="0">
            <a:noFill/>
          </a:ln>
        </p:spPr>
      </p:pic>
      <p:sp>
        <p:nvSpPr>
          <p:cNvPr id="109" name="TextBox 2"/>
          <p:cNvSpPr/>
          <p:nvPr/>
        </p:nvSpPr>
        <p:spPr>
          <a:xfrm>
            <a:off x="228600" y="228600"/>
            <a:ext cx="706104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Box 1"/>
          <p:cNvSpPr/>
          <p:nvPr/>
        </p:nvSpPr>
        <p:spPr>
          <a:xfrm>
            <a:off x="228600" y="228600"/>
            <a:ext cx="8686800" cy="80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oad BruntMeshBoundaryCoordinates.m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ind(isnan(MeshBoundaryCoordinates(:,1)) | isnan(MeshBoundaryCoordinates(:,2)));</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1a=I(1)+1 ; i1b=I(2)-1;</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2a=I(2)+1 ; i2b=size(MeshBoundaryCoordinates,1);</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Ua2D_DefaultParameter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InputFormat=2;</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MeshSizeMax=5e3;</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MeshSizeMin=1e3;</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TriNodes=3;</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Points=MeshBoundaryCoordinates(i1a:i1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Loops{1}=[1];</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PlaneSurfaces{1} = [1];</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Lines{1}=[(1:i1b-i1a+1)';1];</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UA=genmesh2d(CtrlVar,MeshBoundaryCoordinat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plotting mesh</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igure ;  PlotFEmesh(MUA.coordinates,MUA.connectivit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drawnow</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str=input('Next example? y/n [y] ? ','s');  if strcmpi(str,'n') ; return ; en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Box 1"/>
          <p:cNvSpPr/>
          <p:nvPr/>
        </p:nvSpPr>
        <p:spPr>
          <a:xfrm>
            <a:off x="228600" y="228600"/>
            <a:ext cx="117349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r>
              <a:rPr b="0" i="1" lang="en-GB" sz="1800" spc="-1" strike="noStrike">
                <a:solidFill>
                  <a:srgbClr val="000000"/>
                </a:solidFill>
                <a:latin typeface="Lucida Console"/>
              </a:rPr>
              <a:t>Creating an input file for gmesh : GmeshFile.geo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Calling gmesh with GmeshFile.geo as a geo input file, and creating GmeshFile.msh output fil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The gmesh call is:  C:\cygwin64\home\Hilmar\ghg\Ua\gmsh-2.11.0-Windows\gmsh.exe GmeshFile.geo -2 -v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Loading GmeshFile.msh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r>
              <a:rPr b="0" i="1" lang="en-GB" sz="1800" spc="-1" strike="noStrike">
                <a:solidFill>
                  <a:srgbClr val="000000"/>
                </a:solidFill>
                <a:latin typeface="Lucida Console"/>
              </a:rPr>
              <a:t>Reading GmeshFile.msh.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Mesh Type : 2.2 0 8 Reading nodes done.  Reading elements do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r>
              <a:rPr b="0" i="1" lang="en-GB" sz="1800" spc="-1" strike="noStrike">
                <a:solidFill>
                  <a:srgbClr val="000000"/>
                </a:solidFill>
                <a:latin typeface="Lucida Console"/>
              </a:rPr>
              <a:t>No inside-out elements.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1" descr=""/>
          <p:cNvPicPr/>
          <p:nvPr/>
        </p:nvPicPr>
        <p:blipFill>
          <a:blip r:embed="rId1"/>
          <a:stretch/>
        </p:blipFill>
        <p:spPr>
          <a:xfrm>
            <a:off x="7518240" y="228600"/>
            <a:ext cx="4445280" cy="3333600"/>
          </a:xfrm>
          <a:prstGeom prst="rect">
            <a:avLst/>
          </a:prstGeom>
          <a:ln w="0">
            <a:noFill/>
          </a:ln>
        </p:spPr>
      </p:pic>
      <p:sp>
        <p:nvSpPr>
          <p:cNvPr id="113" name="TextBox 2"/>
          <p:cNvSpPr/>
          <p:nvPr/>
        </p:nvSpPr>
        <p:spPr>
          <a:xfrm>
            <a:off x="228600" y="228600"/>
            <a:ext cx="7061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ample: Meshing the Brunt Ice Shelf with an internal boundar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Box 1"/>
          <p:cNvSpPr/>
          <p:nvPr/>
        </p:nvSpPr>
        <p:spPr>
          <a:xfrm>
            <a:off x="228600" y="228600"/>
            <a:ext cx="868680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oad BruntMeshBoundaryCoordinates.m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Points=[MeshBoundaryCoordinates(i1a:i1b,:); MeshBoundaryCoordinates(i2a:i2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1a=1 ; l1b=l1a+i1b-i1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2a=l1b+1 ; l2b=l2a+i2b-i2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Lines{1}=[(l1a:l1b)';l1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Lines{2}=[(l2a:l2b)';l2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Loops{1}=[1];</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Loops{2}=[2];</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PlaneSurfaces{1} = [1,-2];</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PlaneSurfaces{2} = [2];</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UA=genmesh2d(CtrlVar,MeshBoundaryCoordinat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Lines{1}=[(1:i1b-i1a+1)';1];</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plotting mesh</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igure ;  PlotFEmesh(MUA.coordinates,MUA.connectivit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hold on ; PlotGmshGeometryDefinition(CtrlV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drawnow</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str=input('Next example? y/n [y] ? ','s');  if strcmpi(str,'n') ; return ; en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Box 1"/>
          <p:cNvSpPr/>
          <p:nvPr/>
        </p:nvSpPr>
        <p:spPr>
          <a:xfrm>
            <a:off x="228600" y="228600"/>
            <a:ext cx="117349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r>
              <a:rPr b="0" i="1" lang="en-GB" sz="1800" spc="-1" strike="noStrike">
                <a:solidFill>
                  <a:srgbClr val="000000"/>
                </a:solidFill>
                <a:latin typeface="Lucida Console"/>
              </a:rPr>
              <a:t>Creating an input file for gmesh : GmeshFile.geo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Calling gmesh with GmeshFile.geo as a geo input file, and creating GmeshFile.msh output fil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The gmesh call is:  C:\cygwin64\home\Hilmar\ghg\Ua\gmsh-2.11.0-Windows\gmsh.exe GmeshFile.geo -2 -v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Loading GmeshFile.msh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r>
              <a:rPr b="0" i="1" lang="en-GB" sz="1800" spc="-1" strike="noStrike">
                <a:solidFill>
                  <a:srgbClr val="000000"/>
                </a:solidFill>
                <a:latin typeface="Lucida Console"/>
              </a:rPr>
              <a:t>Reading GmeshFile.msh.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Mesh Type : 2.2 0 8 Reading nodes done.  Reading elements do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r>
              <a:rPr b="0" i="1" lang="en-GB" sz="1800" spc="-1" strike="noStrike">
                <a:solidFill>
                  <a:srgbClr val="000000"/>
                </a:solidFill>
                <a:latin typeface="Lucida Console"/>
              </a:rPr>
              <a:t>No inside-out elements.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Box 1"/>
          <p:cNvSpPr/>
          <p:nvPr/>
        </p:nvSpPr>
        <p:spPr>
          <a:xfrm>
            <a:off x="228600" y="1143000"/>
            <a:ext cx="117349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xample: Meshing the Brunt Ice Shelf with an internal boundary and a `fill-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1" descr=""/>
          <p:cNvPicPr/>
          <p:nvPr/>
        </p:nvPicPr>
        <p:blipFill>
          <a:blip r:embed="rId1"/>
          <a:stretch/>
        </p:blipFill>
        <p:spPr>
          <a:xfrm>
            <a:off x="7518240" y="228600"/>
            <a:ext cx="4445280" cy="3333600"/>
          </a:xfrm>
          <a:prstGeom prst="rect">
            <a:avLst/>
          </a:prstGeom>
          <a:ln w="0">
            <a:noFill/>
          </a:ln>
        </p:spPr>
      </p:pic>
      <p:pic>
        <p:nvPicPr>
          <p:cNvPr id="118" name="Picture 2" descr=""/>
          <p:cNvPicPr/>
          <p:nvPr/>
        </p:nvPicPr>
        <p:blipFill>
          <a:blip r:embed="rId2"/>
          <a:stretch/>
        </p:blipFill>
        <p:spPr>
          <a:xfrm>
            <a:off x="7645320" y="355680"/>
            <a:ext cx="4444920" cy="33336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Box 1"/>
          <p:cNvSpPr/>
          <p:nvPr/>
        </p:nvSpPr>
        <p:spPr>
          <a:xfrm>
            <a:off x="228600" y="228600"/>
            <a:ext cx="8686800" cy="2341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oad BruntMeshBoundaryCoordinates.m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ind(isnan(MeshBoundaryCoordinates(:,1)) | isnan(MeshBoundaryCoordinates(:,2)));</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1a=I(1)+1 ; i1b=I(2)-1;</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2a=I(2)+1 ; i2b=size(MeshBoundaryCoordinates,1);</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Ua2D_DefaultParameter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InputFormat=2;</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MeshSizeMax=5e3;</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MeshSizeMin=1e3;</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TriNodes=3;</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Points=[MeshBoundaryCoordinates(i1a:i1b,:); MeshBoundaryCoordinates(i2a:i2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1a=1 ; l1b=l1a+i1b-i1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2a=l1b+1 ; l2b=l2a+i2b-i2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Lines{1}=[(l1a:l1b)';l1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Lines{2}=[(l2a:l2b)';l2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Box=[-7.02e+05  -6.4314e+05   1.4651e+06   1.505e+06];</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CtrlVar.Gmsh.Points(:,1) &gt; Box(1) &amp; CtrlVar.Gmsh.Points(:,1) &lt; Box(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mp; CtrlVar.Gmsh.Points(:,2) &gt; Box(3) &amp; CtrlVar.Gmsh.Points(:,2) &lt; Box(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now must line 1 into two lines, with one convering the BIS-SW chasm outlines onl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x=CtrlVar.Gmsh.Points(CtrlVar.Gmsh.Lines{1},1);</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y=CtrlVar.Gmsh.Points(CtrlVar.Gmsh.Lines{1},2);</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K=x &gt; Box(1) &amp; x &lt; Box(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mp; y &gt; Box(3) &amp; y &lt; Box(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temp=CtrlVar.Gmsh.Lines{1};</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temp(K)=NaN; temp(end)=[];</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J=find(isnan(temp));</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tt=[temp(J(end)+1:end,end);temp(1:J(1)-1)];</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Lines{3}=t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Lines{4}=find(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Lines{4}=[CtrlVar.Gmsh.Lines{3}(end); CtrlVar.Gmsh.Lines{4};CtrlVar.Gmsh.Lines{3}(1)];</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Lines{5}=[CtrlVar.Gmsh.Lines{3}(end);CtrlVar.Gmsh.Lines{3}(1)];</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Lines{6}=[CtrlVar.Gmsh.Lines{4}(end);CtrlVar.Gmsh.Lines{4}(1)];</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igur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lot(CtrlVar.Gmsh.Points(CtrlVar.Gmsh.Lines{1},1),CtrlVar.Gmsh.Points(CtrlVar.Gmsh.Lines{1},2),'.-')</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hold o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lot(CtrlVar.Gmsh.Points(CtrlVar.Gmsh.Lines{2},1),CtrlVar.Gmsh.Points(CtrlVar.Gmsh.Lines{2},2),'^-')</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lot(CtrlVar.Gmsh.Points(CtrlVar.Gmsh.Lines{3},1),CtrlVar.Gmsh.Points(CtrlVar.Gmsh.Lines{3},2),'+-')</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hold o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lot(CtrlVar.Gmsh.Points(CtrlVar.Gmsh.Lines{4},1),CtrlVar.Gmsh.Points(CtrlVar.Gmsh.Lines{4},2),'O-')</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lot(CtrlVar.Gmsh.Points(CtrlVar.Gmsh.Lines{5},1),CtrlVar.Gmsh.Points(CtrlVar.Gmsh.Lines{5},2),'*-')</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egend('1','2','3','4','5')</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Loops{1}=[3,4];</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Loops{2}=[2];</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Loops{3}=[-4,5];</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PlaneSurfaces{1} = [1,-2];</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PlaneSurfaces{2} = [2];</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PlaneSurfaces{3} = [3];</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UA=genmesh2d(CtrlVar,MeshBoundaryCoordinat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trlVar.Gmsh.Lines{1}=[(1:i1b-i1a+1)';1];</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plotting mesh</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igure ;  PlotFEmesh(MUA.coordinates,MUA.connectivit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hold on ; PlotGmshGeometryDefinition(CtrlV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drawnow</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str=input('Next example? y/n [y] ? ','s');  if strcmpi(str,'n') ; return ; en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228600" y="228600"/>
            <a:ext cx="117349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r>
              <a:rPr b="0" i="1" lang="en-GB" sz="1800" spc="-1" strike="noStrike">
                <a:solidFill>
                  <a:srgbClr val="000000"/>
                </a:solidFill>
                <a:latin typeface="Lucida Console"/>
              </a:rPr>
              <a:t>Creating an input file for gmesh : GmeshFile.geo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Calling gmesh with GmeshFile.geo as a geo input file, and creating GmeshFile.msh output fil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The gmesh call is:  C:\cygwin64\home\Hilmar\ghg\Ua\gmsh-2.11.0-Windows\gmsh.exe GmeshFile.geo -2 -v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Loading GmeshFile.msh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r>
              <a:rPr b="0" i="1" lang="en-GB" sz="1800" spc="-1" strike="noStrike">
                <a:solidFill>
                  <a:srgbClr val="000000"/>
                </a:solidFill>
                <a:latin typeface="Lucida Console"/>
              </a:rPr>
              <a:t>Reading GmeshFile.msh.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Mesh Type : 2.2 0 8 Reading nodes done.  Reading elements do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r>
              <a:rPr b="0" i="1" lang="en-GB" sz="1800" spc="-1" strike="noStrike">
                <a:solidFill>
                  <a:srgbClr val="000000"/>
                </a:solidFill>
                <a:latin typeface="Lucida Console"/>
              </a:rPr>
              <a:t>No inside-out elements.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1"/>
          <p:cNvSpPr/>
          <p:nvPr/>
        </p:nvSpPr>
        <p:spPr>
          <a:xfrm>
            <a:off x="228600" y="228600"/>
            <a:ext cx="117349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r>
              <a:rPr b="0" i="1" lang="en-GB" sz="1800" spc="-1" strike="noStrike">
                <a:solidFill>
                  <a:srgbClr val="000000"/>
                </a:solidFill>
                <a:latin typeface="Lucida Console"/>
              </a:rPr>
              <a:t>Creating an input file for gmesh : GmeshFile.geo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Calling gmesh with GmeshFile.geo as a geo input file, and creating GmeshFile.msh output fil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The gmesh call is:  C:\cygwin64\home\Hilmar\ghg\Ua\gmsh-2.11.0-Windows\gmsh.exe GmeshFile.geo -2 -v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Loading GmeshFile.msh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r>
              <a:rPr b="0" i="1" lang="en-GB" sz="1800" spc="-1" strike="noStrike">
                <a:solidFill>
                  <a:srgbClr val="000000"/>
                </a:solidFill>
                <a:latin typeface="Lucida Console"/>
              </a:rPr>
              <a:t>Reading GmeshFile.msh.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Mesh Type : 2.2 0 8 Reading nodes done.  Reading elements do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r>
              <a:rPr b="0" i="1" lang="en-GB" sz="1800" spc="-1" strike="noStrike">
                <a:solidFill>
                  <a:srgbClr val="000000"/>
                </a:solidFill>
                <a:latin typeface="Lucida Console"/>
              </a:rPr>
              <a:t>No inside-out elements.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Box 1"/>
          <p:cNvSpPr/>
          <p:nvPr/>
        </p:nvSpPr>
        <p:spPr>
          <a:xfrm>
            <a:off x="228600" y="1143000"/>
            <a:ext cx="11734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xample of running gmsh directly for a given input fi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1" descr=""/>
          <p:cNvPicPr/>
          <p:nvPr/>
        </p:nvPicPr>
        <p:blipFill>
          <a:blip r:embed="rId1"/>
          <a:stretch/>
        </p:blipFill>
        <p:spPr>
          <a:xfrm>
            <a:off x="7518240" y="228600"/>
            <a:ext cx="4445280" cy="33336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Box 1"/>
          <p:cNvSpPr/>
          <p:nvPr/>
        </p:nvSpPr>
        <p:spPr>
          <a:xfrm>
            <a:off x="228600" y="228600"/>
            <a:ext cx="8686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status=system([getenv('GmeshHomeDirectory'),'\gmsh.exe GmeshFile.geo -2 -v 5']);</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Gmesh=load_gmshGHG('GmeshFile.msh'); % the .msh is a gmsh output file. This file must have be generated previousl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TRI=Gmesh.TRIANGLES(1:Gmesh.nbTriangles,1:3);</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xy=Gmesh.POS(1:Gmesh.nbNod,1:2);</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igur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triplot(TRI,xy(:,1),xy(:,2)) ; axis equa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drawnow</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hold o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lot(MeshBoundaryCoordinates(:,1),MeshBoundaryCoordinates(:,2),'-or','LineWidth',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Box 1"/>
          <p:cNvSpPr/>
          <p:nvPr/>
        </p:nvSpPr>
        <p:spPr>
          <a:xfrm>
            <a:off x="228600" y="228600"/>
            <a:ext cx="11734920" cy="3609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Running 'C:\cygwin64\home\Hilmar\ghg\Ua\gmsh-2.11.0-Windows\gmsh.exe GmeshFile.geo -2 -v 5' [Gmsh 2.11.0, 1 node, max. 1 thread]</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Started on Sat Apr 09 18:25:19 2016</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Reading 'GmeshFile.geo'...</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Done reading 'GmeshFile.geo'</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1D...</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0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0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0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0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0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0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0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0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0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0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1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1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1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1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1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1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1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1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1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1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2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2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2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2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2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2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2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2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2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2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3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3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3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3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3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3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3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3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3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3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4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4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4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4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4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4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4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4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4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4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5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5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5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5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5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5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5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5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5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5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6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6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6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6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6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6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6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6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6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6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7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7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7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7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7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7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7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7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7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7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8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8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8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8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8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8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8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8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8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8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9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9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9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9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9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9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9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9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9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19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0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0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0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0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0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0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0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0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0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0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1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1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1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1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1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1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1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1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1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1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2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2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2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2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2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2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2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2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2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2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3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3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3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3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3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3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3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3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3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3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4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4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4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4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4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4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4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4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4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4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5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5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5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5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5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5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5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5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5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5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6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6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6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6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6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6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6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6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6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6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7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7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7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7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7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7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7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7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7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7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8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8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8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8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8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8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8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8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8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8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9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9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9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9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9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9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9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9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9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29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0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0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0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0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0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0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0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0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0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0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1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1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1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1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1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1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1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1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1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1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2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2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2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2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2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2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2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2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2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2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3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3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3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3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3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3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3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3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3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3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4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4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4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4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4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4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4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4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4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4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5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5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5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5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5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5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5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5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5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5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6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6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6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6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6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6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6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6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6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6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7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7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7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7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7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7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7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7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7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7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8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8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8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8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8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8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8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8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8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8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9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9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9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9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9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9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9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9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9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39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0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0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0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0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0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0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0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0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0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0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1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1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1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1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1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1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1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1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1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1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2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2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2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2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2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2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2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2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2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2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3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3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3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3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3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3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3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3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3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3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4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4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4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4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4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4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4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4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4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4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5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5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5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5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5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5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5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5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5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5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6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6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6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6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6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6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6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6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6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6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7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7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7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7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7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7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7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7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7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7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8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8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8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8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8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8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8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8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8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8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9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9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9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9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9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9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9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9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9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49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0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0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0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0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0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0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0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0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0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0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1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1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1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1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1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1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1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1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1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1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2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2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2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2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2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2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2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2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2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2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3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3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3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3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3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3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3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3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3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3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4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4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4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4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4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4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4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4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4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4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5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5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5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5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5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5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5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5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5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5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6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6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6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6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6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6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6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6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6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6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7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7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7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7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7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7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7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7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7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7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8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8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8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8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8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8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8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8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8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8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9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9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9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9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9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9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9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9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9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59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0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0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0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0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0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0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0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0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0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0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1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1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1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1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1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1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1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1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1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1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2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2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2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2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2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2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2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2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2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2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3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3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3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3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3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3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3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3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3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3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4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4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4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4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4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4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4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4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4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4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5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5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5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5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5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5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5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5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5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5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6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6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6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6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6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6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6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6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6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6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7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7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7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7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7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7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7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7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7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7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8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8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8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8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8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8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8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8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8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8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9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9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9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9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9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9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9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9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9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69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0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0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0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0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0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0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0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0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0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0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1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1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1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1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1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1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1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1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1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1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2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2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2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2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2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2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2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2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2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2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3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3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3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3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3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3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3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3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3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3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4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4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4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4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4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4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4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4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4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4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5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5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5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5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5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5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5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5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5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5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6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6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6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6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6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6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6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6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6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6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7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7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7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7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7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7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7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7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7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7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8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8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8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8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8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8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8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8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8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8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9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9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9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9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9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9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9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9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9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79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0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0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0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0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0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0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0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0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0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0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1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1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1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1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1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1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1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1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1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1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2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2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2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2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2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2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2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2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2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2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3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3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3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3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3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3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3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3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3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3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4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4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4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4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4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4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4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4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4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4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5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5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5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5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5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5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5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5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5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5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6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6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6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6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6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6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6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6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6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6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7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7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7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7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7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7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7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7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7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7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8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8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8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8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8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8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8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8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8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8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9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9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9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9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9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9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9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9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9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89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0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0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0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0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0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0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0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0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0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0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1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1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1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1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1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1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1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1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1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1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2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2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2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2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2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2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2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2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2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2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3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3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3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3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3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3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3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3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3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3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4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4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4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4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4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4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4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4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4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4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5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5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5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5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5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5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5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5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5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5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6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6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6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6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6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6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6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6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6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6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7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7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7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7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7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7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7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7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7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7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8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8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8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83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84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85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86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87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88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89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90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91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curve 992 (Li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Done meshing 1D (0.078125 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2D...</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surface 1 (Plane, MeshAdap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surface 2 (Plane, MeshAdap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Meshing surface 3 (Plane, MeshAdap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Done meshing 2D (1.65573 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6642 vertices 14261 element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Writing 'GmeshFile.msh'...</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Done writing 'GmeshFile.msh'</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Info    : Stopped on Sat Apr 09 18:25:25 2016</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 </a:t>
            </a:r>
            <a:r>
              <a:rPr b="0" i="1" lang="en-GB" sz="1800" spc="-1" strike="noStrike">
                <a:solidFill>
                  <a:srgbClr val="000000"/>
                </a:solidFill>
                <a:latin typeface="Lucida Console"/>
              </a:rPr>
              <a:t>Reading GmeshFile.msh.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Lucida Console"/>
              </a:rPr>
              <a:t>Mesh Type : 2.2 0 8 Reading nodes done.  Reading elements do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Box 1"/>
          <p:cNvSpPr/>
          <p:nvPr/>
        </p:nvSpPr>
        <p:spPr>
          <a:xfrm>
            <a:off x="228600" y="1143000"/>
            <a:ext cx="11734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xample: periodic boundary condi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1" descr=""/>
          <p:cNvPicPr/>
          <p:nvPr/>
        </p:nvPicPr>
        <p:blipFill>
          <a:blip r:embed="rId1"/>
          <a:stretch/>
        </p:blipFill>
        <p:spPr>
          <a:xfrm>
            <a:off x="7518240" y="228600"/>
            <a:ext cx="4445280" cy="3333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4-09T17:25:42Z</dcterms:created>
  <dc:creator>Hilmar Gudmundsson</dc:creator>
  <dc:description/>
  <dc:language>en-US</dc:language>
  <cp:lastModifiedBy>Hilmar Gudmundsson</cp:lastModifiedBy>
  <dcterms:modified xsi:type="dcterms:W3CDTF">2016-04-09T17:25:43Z</dcterms:modified>
  <cp:revision>1</cp:revision>
  <dc:subject/>
  <dc:title>PowerPoint Presentation</dc:title>
</cp:coreProperties>
</file>