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wmf" ContentType="image/x-wmf"/>
  <Override PartName="/ppt/media/image26.jpeg" ContentType="image/jpeg"/>
  <Override PartName="/ppt/media/image9.wmf" ContentType="image/x-wmf"/>
  <Override PartName="/ppt/media/image29.wmf" ContentType="image/x-wmf"/>
  <Override PartName="/ppt/media/image6.wmf" ContentType="image/x-wmf"/>
  <Override PartName="/ppt/media/image5.jpeg" ContentType="image/jpeg"/>
  <Override PartName="/ppt/media/image11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png" ContentType="image/png"/>
  <Override PartName="/ppt/media/image17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7.wmf" ContentType="image/x-wmf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5CD-6A6A-4DB0-832A-19CFBCC4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424-55F3-4925-B222-D546496B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AFA-6644-414F-8719-208A28F6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34B-225F-43DF-8D67-A4D36167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0361-DF7A-4C4E-8D56-58DAA880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8D0E-DA6F-4E79-AE8A-9343B695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ACAE-C4B6-4174-85AD-DB8ACD26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3138-4748-4CA0-BE67-5198DB67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6082-1BB0-4C3D-9D98-5A084D3F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E672-92DB-464E-ACBC-932A93A7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EEEF-CC62-4E3E-B1EE-6FD0F91D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15D-FD7C-4B30-B396-3BE61BEC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3ABA-058D-4F43-82D6-69917E72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CB82-8D93-4244-8272-94EA1CED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805A-E06D-4AD7-A1CB-B5F66631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5811-8E55-40AB-992F-66D47005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9296-B75E-4AA7-848E-B8CA66CE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F2C-B812-429A-A6EC-20AFC8FA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38C-0F5C-47BF-9ED1-30F4C1AF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453-BE22-42F7-980E-9182F121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ABC-8D1C-4784-8B08-3F7E9B70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285-E91F-415B-87FE-FDC52FFD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F66-E335-4850-B102-A96ABB79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90A-CBF7-462A-B7E3-7C4D0650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7D73-522E-4684-89CF-E8E8AE86F793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B2CE-D9EF-4C8E-8B7D-BFB556F4529F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slide" Target="slide4.xml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模式的简单介绍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蔺洪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497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各种水凝物碰并的结果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963960" cy="4033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38750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4392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微物理过程控制参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粒子尺度分布函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4680000" cy="3130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46800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24000" y="3573360"/>
          <a:ext cx="3743280" cy="82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3573360"/>
                    <a:ext cx="374328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四、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的运行流程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700280"/>
            <a:ext cx="1584360" cy="64764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NCEP/NCAR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1700280"/>
            <a:ext cx="1439640" cy="6490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2421000"/>
            <a:ext cx="792360" cy="863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71280" y="2421000"/>
            <a:ext cx="792360" cy="863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2565360"/>
            <a:ext cx="86544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fdgri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3357720"/>
            <a:ext cx="187200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id fiel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357720"/>
            <a:ext cx="129708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rface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3357720"/>
            <a:ext cx="129708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per air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076640"/>
            <a:ext cx="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149720"/>
            <a:ext cx="1224000" cy="431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71640" y="4076640"/>
            <a:ext cx="1224000" cy="504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4653000"/>
            <a:ext cx="280836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RAMS/ISA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Isentropic ANalysi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5300640"/>
            <a:ext cx="1081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0000" y="4724280"/>
            <a:ext cx="331308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Gridded analysis field for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Initial and boundary condi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4DD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164360" y="4220640"/>
            <a:ext cx="0" cy="360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3429000"/>
            <a:ext cx="1944720" cy="647640"/>
          </a:xfrm>
          <a:prstGeom prst="rect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674"/>
                </a:solidFill>
                <a:latin typeface="Arial"/>
              </a:rPr>
              <a:t>RAM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020000" y="2637000"/>
            <a:ext cx="0" cy="576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2997360"/>
            <a:ext cx="1008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revu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2205000"/>
            <a:ext cx="936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CARG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227640" y="2636640"/>
            <a:ext cx="72072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423280" y="2205000"/>
            <a:ext cx="720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V5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308720" y="2636640"/>
            <a:ext cx="648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51640" y="2205000"/>
            <a:ext cx="936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AD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596360" y="2707920"/>
            <a:ext cx="100620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205000"/>
            <a:ext cx="57636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I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435280" y="2637000"/>
            <a:ext cx="1368360" cy="720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205000"/>
            <a:ext cx="64764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A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419640" y="2708280"/>
            <a:ext cx="223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611280" y="476280"/>
          <a:ext cx="7777080" cy="250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476280"/>
                    <a:ext cx="77770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4360" y="3141720"/>
          <a:ext cx="7561080" cy="101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3141720"/>
                    <a:ext cx="7561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84360" y="4221000"/>
          <a:ext cx="6624360" cy="1100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4221000"/>
                    <a:ext cx="66243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4360" y="5445000"/>
          <a:ext cx="4392360" cy="114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5445000"/>
                    <a:ext cx="439236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885080" y="6093000"/>
            <a:ext cx="100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10" action="ppaction://hlinksldjump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18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格点结构：标准的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交错格点（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rakawa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），所有的热力学变量和湿度变量定义在网格的中心，而速度分量则交错定义在        ，     ，     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3097440" cy="23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4067280" y="1916280"/>
          <a:ext cx="5428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916280"/>
                    <a:ext cx="542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932360" y="1916280"/>
          <a:ext cx="6048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1916280"/>
                    <a:ext cx="6048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724360" y="1916280"/>
          <a:ext cx="5922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1916280"/>
                    <a:ext cx="592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003640" y="2997360"/>
            <a:ext cx="3240360" cy="2369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885080" y="609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3640" y="76500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采用旋转极射赤面投影，可以使投影的中心旋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靠近模拟区域的中心，这样可以使最感兴趣区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变形达到最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地形追随坐标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3492360" cy="29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1476360" y="3716280"/>
          <a:ext cx="2089080" cy="99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716280"/>
                    <a:ext cx="20890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956720" y="609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46800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没有嵌套网格数目的限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自由指定时间空间嵌套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分别进行水平和垂直嵌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嵌套移动网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双向嵌套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               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453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11280" y="3573360"/>
            <a:ext cx="3889440" cy="244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81200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2852640"/>
            <a:ext cx="100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340000" y="2924280"/>
            <a:ext cx="100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2924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Arial"/>
              </a:rPr>
              <a:t>averaged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2565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Arial"/>
              </a:rPr>
              <a:t>interpolated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侧边界条件：对于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交错网格，最常用的边条件是辐射边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而对于相速度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不同处理，辐射侧边界又可以分为：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Orlanski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和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Klemp and Lilly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其他的侧边界方案还包括：零梯度，常入流或出流，周期性和海绵边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上边界条件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刚壁条件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w=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重力波辐射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yleigh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摩擦吸收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00360" y="1413000"/>
          <a:ext cx="2303280" cy="78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413000"/>
                    <a:ext cx="23032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81200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三种辐射参数化方案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Mahrer-Pielke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最简单的一种方案，忽略了大气中的液相和冰相，只考虑水汽的作用，所以当云对辐射的衰减较重要时，不能采用这种方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hen-Cotto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考虑了大气中的凝结过程，但是不区分凝结物是云水、雨水还是冰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Harringto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最复杂的一种方案，考虑了水凝物的各种形式（云水，雨水，冰晶，雪，聚合物，霰，雹），甚至考虑了冰晶不同特性对辐射的影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85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一、发展历史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626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RAMS =Regional Atmospheric Modeling Syste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Cotton                                Pielke                               Tremback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cloud/mesoscale                 the sea breeze             hydrostatic version  of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model                                model                            the cloud mod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1984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102564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122400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1334400">
            <a:off x="1547280" y="5013360"/>
            <a:ext cx="1800360" cy="272880"/>
          </a:xfrm>
          <a:prstGeom prst="rightArrow">
            <a:avLst>
              <a:gd name="adj1" fmla="val 50000"/>
              <a:gd name="adj2" fmla="val 16494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4581360"/>
            <a:ext cx="289080" cy="976320"/>
          </a:xfrm>
          <a:prstGeom prst="downArrow">
            <a:avLst>
              <a:gd name="adj1" fmla="val 50000"/>
              <a:gd name="adj2" fmla="val 8443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068200">
            <a:off x="5363640" y="4868640"/>
            <a:ext cx="1911600" cy="288720"/>
          </a:xfrm>
          <a:prstGeom prst="leftArrow">
            <a:avLst>
              <a:gd name="adj1" fmla="val 50000"/>
              <a:gd name="adj2" fmla="val 16552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732720" y="2205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50920" y="620640"/>
          <a:ext cx="8540640" cy="5689800"/>
        </p:xfrm>
        <a:graphic>
          <a:graphicData uri="http://schemas.openxmlformats.org/drawingml/2006/table">
            <a:tbl>
              <a:tblPr/>
              <a:tblGrid>
                <a:gridCol w="3168720"/>
                <a:gridCol w="5371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早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维非静力平衡云模式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tton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二维海风模式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Pielke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中后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三维非静力平衡云模式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Cotton, Tripoli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8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早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静力平衡版本的云模式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Tremback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RAMS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模式产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源代码的重新编写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8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新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RAMS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第一版产生 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0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并行运算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PVM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, Version2c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采用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MPI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处理的并行计算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4.1/4.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4.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6.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二、技术描述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0920" y="1052640"/>
          <a:ext cx="8540640" cy="5373720"/>
        </p:xfrm>
        <a:graphic>
          <a:graphicData uri="http://schemas.openxmlformats.org/drawingml/2006/table">
            <a:tbl>
              <a:tblPr/>
              <a:tblGrid>
                <a:gridCol w="1800000"/>
                <a:gridCol w="674064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基本方程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u="sng">
                          <a:solidFill>
                            <a:srgbClr val="dc590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三维、非静力、完全可压方程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坐标系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平：旋转极射赤面投影  垂直：地形追随坐标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格点结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标准的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交错网格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rakaw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网格嵌套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双向守恒嵌套，可以指定空间和时间嵌套比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时间差分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混合差分方案（速度项采用蛙跃格式，其他项采用前向差分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边界条件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侧边界、上边界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湍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湍流动能参数化方案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Deardorff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、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Yamad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等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平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速度项采用二阶蛙跃格式，其他项采用二阶前向差分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Kuo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参数化方案   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Kain-Fritsch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参数化方案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微物理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云水、雨水和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中冰相物质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辐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三种长波和短波参数化方案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地表参数化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土壤温度、湿度和植被进行预报，而对雪进行参数化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LEAF)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数据同化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维数据同化技术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三、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的微物理方案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中所考虑的微物理过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云滴的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冰晶的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水汽的扩散增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蒸发、升华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热扩散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冻结、融化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凝华沉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碰并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次生冰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7561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微物理方案中水凝物的种类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56167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冰晶的特性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中冰晶和雪有五种不同的特性（形状）：柱状，针状、枝状、六角盘状以及玫瑰花状结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对于不同特性的冰晶，其质量和末速度对直径的依赖关系也各不相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冰晶的核化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凝华核化和凝结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冻结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接触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均质核化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40</a:t>
            </a:r>
            <a:r>
              <a:rPr b="0" lang="zh-CN" sz="2400" spc="-1" strike="noStrike" baseline="30000">
                <a:solidFill>
                  <a:srgbClr val="007a77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以下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5616360" cy="220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55450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碰并过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727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1:35:02Z</dcterms:created>
  <dc:creator>mandrake</dc:creator>
  <dc:description/>
  <dc:language>en-US</dc:language>
  <cp:lastModifiedBy>mandrake</cp:lastModifiedBy>
  <dcterms:modified xsi:type="dcterms:W3CDTF">2007-11-28T03:46:12Z</dcterms:modified>
  <cp:revision>13</cp:revision>
  <dc:subject/>
  <dc:title>RAMS模式的简单介绍</dc:title>
</cp:coreProperties>
</file>