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0.wmf" ContentType="image/x-wmf"/>
  <Override PartName="/ppt/media/image26.jpeg" ContentType="image/jpeg"/>
  <Override PartName="/ppt/media/image9.wmf" ContentType="image/x-wmf"/>
  <Override PartName="/ppt/media/image29.wmf" ContentType="image/x-wmf"/>
  <Override PartName="/ppt/media/image6.wmf" ContentType="image/x-wmf"/>
  <Override PartName="/ppt/media/image5.jpeg" ContentType="image/jpeg"/>
  <Override PartName="/ppt/media/image11.wmf" ContentType="image/x-wmf"/>
  <Override PartName="/ppt/media/image7.wmf" ContentType="image/x-wmf"/>
  <Override PartName="/ppt/media/image12.wmf" ContentType="image/x-wmf"/>
  <Override PartName="/ppt/media/image10.wmf" ContentType="image/x-wmf"/>
  <Override PartName="/ppt/media/image4.jpeg" ContentType="image/jpeg"/>
  <Override PartName="/ppt/media/image8.wmf" ContentType="image/x-wmf"/>
  <Override PartName="/ppt/media/image13.wmf" ContentType="image/x-wmf"/>
  <Override PartName="/ppt/media/image30.wmf" ContentType="image/x-wmf"/>
  <Override PartName="/ppt/media/image18.wmf" ContentType="image/x-wmf"/>
  <Override PartName="/ppt/media/image2.jpeg" ContentType="image/jpeg"/>
  <Override PartName="/ppt/media/image25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png" ContentType="image/png"/>
  <Override PartName="/ppt/media/image17.wmf" ContentType="image/x-wmf"/>
  <Override PartName="/ppt/media/image19.wmf" ContentType="image/x-wmf"/>
  <Override PartName="/ppt/media/image21.png" ContentType="image/png"/>
  <Override PartName="/ppt/media/image22.wmf" ContentType="image/x-wmf"/>
  <Override PartName="/ppt/media/image23.wmf" ContentType="image/x-wmf"/>
  <Override PartName="/ppt/media/image24.wmf" ContentType="image/x-wmf"/>
  <Override PartName="/ppt/media/image27.wmf" ContentType="image/x-wmf"/>
  <Override PartName="/ppt/media/image28.wmf" ContentType="image/x-wmf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2AAB-EE7F-4F0E-9198-70971C085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D09E-1665-40A9-8AB0-AAC760280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B39B-989D-48E2-89E0-4A4EAD052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02D0-412A-4C93-A2B4-553816B03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60BDE-C59E-4AC6-85D4-9071AEE6C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20CF8-5211-4039-99B5-E611C6E2D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3762D-F133-40D9-9C58-3135D65B4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FB12E-A77D-4E15-A8BB-154634D41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E78EB-5FA6-4E34-A026-F8D3552EF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F5E0C-B35C-46EE-8EBA-A42F83D57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5641B-1DA8-47A2-8B8E-87FA96AE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4905-FF3A-4AA5-8E63-70ADEDAFC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1268D-77BC-4996-A54D-F50ABBA4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BF755-5B25-4A05-AFA8-065F4F5D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6FE13-E5A6-42D7-A52A-B757FB3AF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8B629-7E1D-4A68-9ED4-B476AFE38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02CAC-44E7-4590-B5E6-87D9473E6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6D99-BFA2-40CD-92F6-AFF113F4F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1866-C577-44F5-9199-F8AE3FB1B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FDC7-F888-4450-B9C0-BD3AA732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200B-F9C9-4820-B7BB-6E0804126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0AE7-FF58-449E-8F03-6F8F737B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0293-9CC3-4682-AC51-2FD0199B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CC08-5F74-419A-BC03-7B8D2EC6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2D4A3-8819-4F4E-90F7-53A738A26B6B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246C8-914F-43E2-A834-152D157965FC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0.wmf"/><Relationship Id="rId10" Type="http://schemas.openxmlformats.org/officeDocument/2006/relationships/slide" Target="slide4.xml"/><Relationship Id="rId1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4.wmf"/><Relationship Id="rId9" Type="http://schemas.openxmlformats.org/officeDocument/2006/relationships/image" Target="../media/image25.wmf"/><Relationship Id="rId10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RAMS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模式的简单介绍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蔺洪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50560" y="764640"/>
            <a:ext cx="84978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各种水凝物碰并的结果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68360" y="1700280"/>
            <a:ext cx="3963960" cy="40338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788000" y="1700280"/>
            <a:ext cx="387504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79280" y="692280"/>
            <a:ext cx="43927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微物理过程控制参数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粒子尺度分布函数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284720" y="549360"/>
            <a:ext cx="4680000" cy="3130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284720" y="3357720"/>
            <a:ext cx="4680000" cy="302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324000" y="3573360"/>
          <a:ext cx="3743280" cy="822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4000" y="3573360"/>
                    <a:ext cx="3743280" cy="8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四、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RAMS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的运行流程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1280" y="1700280"/>
            <a:ext cx="1584360" cy="64764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NCEP/NCAR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56000" y="1700280"/>
            <a:ext cx="1439640" cy="64908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ECMWF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87280" y="2421000"/>
            <a:ext cx="792360" cy="8636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771280" y="2421000"/>
            <a:ext cx="792360" cy="8636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08000" y="2565360"/>
            <a:ext cx="865440" cy="358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fdgrib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47640" y="3357720"/>
            <a:ext cx="1872000" cy="57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rid field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9280" y="3357720"/>
            <a:ext cx="1297080" cy="57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urface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bservation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564000" y="3357720"/>
            <a:ext cx="1297080" cy="57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pper air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bservation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40000" y="4076640"/>
            <a:ext cx="0" cy="57636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26920" y="4149720"/>
            <a:ext cx="1224000" cy="4316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771640" y="4076640"/>
            <a:ext cx="1224000" cy="50472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042920" y="4653000"/>
            <a:ext cx="2808360" cy="1081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RAMS/ISAN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Isentropic ANalysis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67280" y="5300640"/>
            <a:ext cx="108108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80000" y="4724280"/>
            <a:ext cx="3313080" cy="1079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30674"/>
                </a:solidFill>
                <a:latin typeface="Arial"/>
              </a:rPr>
              <a:t>Gridded analysis field for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30674"/>
                </a:solidFill>
                <a:latin typeface="Arial"/>
              </a:rPr>
              <a:t>Initial and boundary condition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30674"/>
                </a:solidFill>
                <a:latin typeface="Arial"/>
              </a:rPr>
              <a:t>4DDA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164360" y="4220640"/>
            <a:ext cx="0" cy="36036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56360" y="3429000"/>
            <a:ext cx="1944720" cy="647640"/>
          </a:xfrm>
          <a:prstGeom prst="rect">
            <a:avLst/>
          </a:prstGeom>
          <a:solidFill>
            <a:srgbClr val="007a77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0674"/>
                </a:solidFill>
                <a:latin typeface="Arial"/>
              </a:rPr>
              <a:t>RAMS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020000" y="2637000"/>
            <a:ext cx="0" cy="57600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659640" y="2997360"/>
            <a:ext cx="1008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revu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43640" y="2205000"/>
            <a:ext cx="936720" cy="36036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NCARG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6227640" y="2636640"/>
            <a:ext cx="720720" cy="6476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423280" y="2205000"/>
            <a:ext cx="720720" cy="36036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V5D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7308720" y="2636640"/>
            <a:ext cx="648000" cy="6476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451640" y="2205000"/>
            <a:ext cx="936720" cy="36036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GRADS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7596360" y="2707920"/>
            <a:ext cx="1006200" cy="57636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24360" y="2205000"/>
            <a:ext cx="576360" cy="36036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GRIB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5435280" y="2637000"/>
            <a:ext cx="1368360" cy="72072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932360" y="2205000"/>
            <a:ext cx="647640" cy="36036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GRAB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250920" y="148392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419640" y="2708280"/>
            <a:ext cx="2232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谢谢！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611280" y="476280"/>
          <a:ext cx="7777080" cy="250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476280"/>
                    <a:ext cx="77770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684360" y="3141720"/>
          <a:ext cx="7561080" cy="1019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4360" y="3141720"/>
                    <a:ext cx="756108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684360" y="4221000"/>
          <a:ext cx="6624360" cy="1100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84360" y="4221000"/>
                    <a:ext cx="6624360" cy="11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684360" y="5445000"/>
          <a:ext cx="4392360" cy="1149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84360" y="5445000"/>
                    <a:ext cx="4392360" cy="11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7885080" y="6093000"/>
            <a:ext cx="100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dc5900"/>
                </a:solidFill>
                <a:uFillTx/>
                <a:latin typeface="Arial"/>
                <a:hlinkClick r:id="rId10" action="ppaction://hlinksldjump"/>
              </a:rPr>
              <a:t>返回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250920" y="1052640"/>
            <a:ext cx="85183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格点结构：标准的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交错格点（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Arakawa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），所有的热力学变量和湿度变量定义在网格的中心，而速度分量则交错定义在        ，     ，     处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1187280" y="2997360"/>
            <a:ext cx="3097440" cy="235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6" name=""/>
          <p:cNvGraphicFramePr/>
          <p:nvPr/>
        </p:nvGraphicFramePr>
        <p:xfrm>
          <a:off x="4067280" y="1916280"/>
          <a:ext cx="54288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7280" y="1916280"/>
                    <a:ext cx="54288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4932360" y="1916280"/>
          <a:ext cx="604800" cy="72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32360" y="1916280"/>
                    <a:ext cx="60480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5724360" y="1916280"/>
          <a:ext cx="592200" cy="647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24360" y="1916280"/>
                    <a:ext cx="59220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2" name="" descr=""/>
          <p:cNvPicPr/>
          <p:nvPr/>
        </p:nvPicPr>
        <p:blipFill>
          <a:blip r:embed="rId9"/>
          <a:stretch/>
        </p:blipFill>
        <p:spPr>
          <a:xfrm>
            <a:off x="5003640" y="2997360"/>
            <a:ext cx="3240360" cy="2369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7885080" y="60930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返回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23640" y="765000"/>
            <a:ext cx="79930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采用旋转极射赤面投影，可以使投影的中心旋转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靠近模拟区域的中心，这样可以使最感兴趣区域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的变形达到最小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地形追随坐标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292720" y="1773360"/>
            <a:ext cx="3492360" cy="296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6" name=""/>
          <p:cNvGraphicFramePr/>
          <p:nvPr/>
        </p:nvGraphicFramePr>
        <p:xfrm>
          <a:off x="1476360" y="3716280"/>
          <a:ext cx="2089080" cy="99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76360" y="3716280"/>
                    <a:ext cx="208908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7956720" y="609300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返回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907560"/>
            <a:ext cx="46800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没有嵌套网格数目的限制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可以自由指定时间空间嵌套比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可以分别进行水平和垂直嵌套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可以嵌套移动网格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双向嵌套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C               N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716360" y="1484280"/>
            <a:ext cx="4176720" cy="45356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11280" y="3573360"/>
            <a:ext cx="3889440" cy="2448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7812000" y="6093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返回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340000" y="2852640"/>
            <a:ext cx="100800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2340000" y="2924280"/>
            <a:ext cx="100800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411280" y="2924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a77"/>
                </a:solidFill>
                <a:latin typeface="Arial"/>
              </a:rPr>
              <a:t>averaged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411280" y="2565360"/>
            <a:ext cx="11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a77"/>
                </a:solidFill>
                <a:latin typeface="Arial"/>
              </a:rPr>
              <a:t>interpolated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250920" y="907560"/>
            <a:ext cx="85406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侧边界条件：对于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RAMS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的交错网格，最常用的边条件是辐射边条件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而对于相速度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的不同处理，辐射侧边界又可以分为： 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     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Orlanski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方案和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Klemp and Lilly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方案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其他的侧边界方案还包括：零梯度，常入流或出流，周期性和海绵边条件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上边界条件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刚壁条件（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w=0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重力波辐射条件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Rayleigh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摩擦吸收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2700360" y="1413000"/>
          <a:ext cx="2303280" cy="782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1413000"/>
                    <a:ext cx="230328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7812000" y="6093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返回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250920" y="83664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三种辐射参数化方案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Mahrer-Pielke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方案，最简单的一种方案，忽略了大气中的液相和冰相，只考虑水汽的作用，所以当云对辐射的衰减较重要时，不能采用这种方案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Chen-Cotton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方案，考虑了大气中的凝结过程，但是不区分凝结物是云水、雨水还是冰晶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Harrington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方案，最复杂的一种方案，考虑了水凝物的各种形式（云水，雨水，冰晶，雪，聚合物，霰，雹），甚至考虑了冰晶不同特性对辐射的影响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885080" y="6093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返回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一、发展历史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6626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RAMS =Regional Atmospheric Modeling System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Cotton                                Pielke                               Tremback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cloud/mesoscale                 the sea breeze             hydrostatic version  of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model                                model                            the cloud mod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                                 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RAMS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1984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826920" y="2133720"/>
            <a:ext cx="1025640" cy="12952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635280" y="2133720"/>
            <a:ext cx="1224000" cy="1295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 rot="1334400">
            <a:off x="1547280" y="5013360"/>
            <a:ext cx="1800360" cy="272880"/>
          </a:xfrm>
          <a:prstGeom prst="rightArrow">
            <a:avLst>
              <a:gd name="adj1" fmla="val 50000"/>
              <a:gd name="adj2" fmla="val 164941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211640" y="4581360"/>
            <a:ext cx="289080" cy="976320"/>
          </a:xfrm>
          <a:prstGeom prst="downArrow">
            <a:avLst>
              <a:gd name="adj1" fmla="val 50000"/>
              <a:gd name="adj2" fmla="val 84433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20068200">
            <a:off x="5363640" y="4868640"/>
            <a:ext cx="1911600" cy="288720"/>
          </a:xfrm>
          <a:prstGeom prst="leftArrow">
            <a:avLst>
              <a:gd name="adj1" fmla="val 50000"/>
              <a:gd name="adj2" fmla="val 165524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6732720" y="2205000"/>
            <a:ext cx="1224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250920" y="620640"/>
          <a:ext cx="8540640" cy="5689800"/>
        </p:xfrm>
        <a:graphic>
          <a:graphicData uri="http://schemas.openxmlformats.org/drawingml/2006/table">
            <a:tbl>
              <a:tblPr/>
              <a:tblGrid>
                <a:gridCol w="3168720"/>
                <a:gridCol w="537192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70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年代早期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一维非静力平衡云模式（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Cotton)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二维海风模式（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Pielke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）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70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年代中后期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三维非静力平衡云模式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(Cotton, Tripoli)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80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年代早期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静力平衡版本的云模式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(Tremback)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984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RAMS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模式产生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986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源代码的重新编写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988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新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RAMS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第一版产生 （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version 0a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）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991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并行运算（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PVM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）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, Version2c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995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采用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MPI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处理的并行计算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997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Version 4.1/4.2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Version 4.3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Version 6.0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540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二、技术描述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50920" y="1052640"/>
          <a:ext cx="8540640" cy="5373720"/>
        </p:xfrm>
        <a:graphic>
          <a:graphicData uri="http://schemas.openxmlformats.org/drawingml/2006/table">
            <a:tbl>
              <a:tblPr/>
              <a:tblGrid>
                <a:gridCol w="1800000"/>
                <a:gridCol w="6740640"/>
              </a:tblGrid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基本方程组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 u="sng">
                          <a:solidFill>
                            <a:srgbClr val="dc5900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三维、非静力、完全可压方程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1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坐标系统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水平：旋转极射赤面投影  垂直：地形追随坐标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格点结构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标准的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C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交错网格（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Arakawa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）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0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网格嵌套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双向守恒嵌套，可以指定空间和时间嵌套比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时间差分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混合差分方案（速度项采用蛙跃格式，其他项采用前向差分）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0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边界条件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侧边界、上边界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0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湍流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湍流动能参数化方案（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Deardorff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、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Yamada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等）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平流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速度项采用二阶蛙跃格式，其他项采用二阶前向差分）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0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对流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Kuo 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参数化方案    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Kain-Fritsch 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参数化方案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0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微物理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云水、雨水和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5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中冰相物质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0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辐射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三种长波和短波参数化方案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0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地表参数化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对土壤温度、湿度和植被进行预报，而对雪进行参数化</a:t>
                      </a:r>
                      <a:r>
                        <a:rPr b="0" lang="zh-CN" sz="1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(LEAF)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数据同化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4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维数据同化技术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三、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RAMS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的微物理方案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540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RAMS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中所考虑的微物理过程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云滴的核化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冰晶的核化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水汽的扩散增长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蒸发、升华过程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热扩散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冻结、融化过程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凝华沉降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碰并过程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次生冰晶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79280" y="691920"/>
            <a:ext cx="75614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微物理方案中水凝物的种类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116000" y="1341360"/>
            <a:ext cx="5616720" cy="47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50920" y="105264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冰晶的特性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在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RAMS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中冰晶和雪有五种不同的特性（形状）：柱状，针状、枝状、六角盘状以及玫瑰花状结构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对于不同特性的冰晶，其质量和末速度对直径的依赖关系也各不相同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50920" y="692280"/>
            <a:ext cx="864216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冰晶的核化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凝华核化和凝结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-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冻结核化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接触核化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均质核化（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-40</a:t>
            </a:r>
            <a:r>
              <a:rPr b="0" lang="zh-CN" sz="2400" spc="-1" strike="noStrike" baseline="30000">
                <a:solidFill>
                  <a:srgbClr val="007a77"/>
                </a:solidFill>
                <a:latin typeface="Arial"/>
              </a:rPr>
              <a:t>o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以下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84360" y="1557360"/>
            <a:ext cx="5616360" cy="22017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755640" y="4365720"/>
            <a:ext cx="5545080" cy="14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50560" y="692280"/>
            <a:ext cx="87138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碰并过程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826920" y="1989000"/>
            <a:ext cx="72723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01:35:02Z</dcterms:created>
  <dc:creator>mandrake</dc:creator>
  <dc:description/>
  <dc:language>en-US</dc:language>
  <cp:lastModifiedBy>mandrake</cp:lastModifiedBy>
  <dcterms:modified xsi:type="dcterms:W3CDTF">2007-11-28T03:46:12Z</dcterms:modified>
  <cp:revision>13</cp:revision>
  <dc:subject/>
  <dc:title>RAMS模式的简单介绍</dc:title>
</cp:coreProperties>
</file>