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7.wmf" ContentType="image/x-wmf"/>
  <Override PartName="/ppt/media/image16.wmf" ContentType="image/x-wmf"/>
  <Override PartName="/ppt/media/image14.png" ContentType="image/png"/>
  <Override PartName="/ppt/media/image1.jpeg" ContentType="image/jpeg"/>
  <Override PartName="/ppt/media/image4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0.png" ContentType="image/png"/>
  <Override PartName="/ppt/media/image5.wmf" ContentType="image/x-wmf"/>
  <Override PartName="/ppt/media/image6.jpeg" ContentType="image/jpeg"/>
  <Override PartName="/ppt/media/image11.jpeg" ContentType="image/jpeg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8028-F697-4EAE-9703-A30DA46C7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BF12-AEA3-40E8-B525-96A8F4FF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9DB5-D607-413C-A39E-36DD2C19B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3B6B-4BDF-4561-83F8-17EA18320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06A2-5A76-4594-8FD1-4353318D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9AC4-2720-418D-8B33-A0D8187C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4003-2B8C-439A-BA1B-F76976FD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82BD-29E0-4B51-A4E8-AFD644C4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ED86-DCE1-46BD-8F84-539475A1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3BA0-507E-4D71-B71A-2FDE65AE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07C4-9C6A-4325-BCDF-F5BF9B8A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25A1-188D-462B-8515-B60FF3F9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6777-B744-44C1-A8E1-55499238DE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oil-Vegetation-Atmosphere Transfer (SVAT)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. Mathew Willi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tomatal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图片 25602" descr="C:\Documents and Settings\mwilliam\My Documents\My Pictures\labelled leaf section.jpg"/>
          <p:cNvPicPr/>
          <p:nvPr/>
        </p:nvPicPr>
        <p:blipFill>
          <a:blip r:embed="rId1"/>
          <a:stretch/>
        </p:blipFill>
        <p:spPr>
          <a:xfrm>
            <a:off x="533520" y="2057400"/>
            <a:ext cx="5105160" cy="340344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 25603"/>
          <p:cNvSpPr/>
          <p:nvPr/>
        </p:nvSpPr>
        <p:spPr>
          <a:xfrm>
            <a:off x="1978920" y="6095880"/>
            <a:ext cx="4795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irical vs. mechanistic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文本框 25604"/>
          <p:cNvSpPr/>
          <p:nvPr/>
        </p:nvSpPr>
        <p:spPr>
          <a:xfrm>
            <a:off x="3200400" y="137160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文本框 25605"/>
          <p:cNvSpPr/>
          <p:nvPr/>
        </p:nvSpPr>
        <p:spPr>
          <a:xfrm>
            <a:off x="6176160" y="1905120"/>
            <a:ext cx="24638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responsiv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f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id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Penman-Monteith Eq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矩形 27651"/>
          <p:cNvSpPr/>
          <p:nvPr/>
        </p:nvSpPr>
        <p:spPr>
          <a:xfrm>
            <a:off x="0" y="793800"/>
            <a:ext cx="91440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矩形 27652"/>
          <p:cNvSpPr/>
          <p:nvPr/>
        </p:nvSpPr>
        <p:spPr>
          <a:xfrm>
            <a:off x="114480" y="18604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对象 27650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534200" cy="1379520"/>
          </a:xfrm>
          <a:prstGeom prst="rect">
            <a:avLst/>
          </a:prstGeom>
          <a:ln w="0">
            <a:noFill/>
          </a:ln>
        </p:spPr>
      </p:pic>
      <p:sp>
        <p:nvSpPr>
          <p:cNvPr id="116" name="矩形 27653"/>
          <p:cNvSpPr/>
          <p:nvPr/>
        </p:nvSpPr>
        <p:spPr>
          <a:xfrm>
            <a:off x="0" y="18604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矩形 27654"/>
          <p:cNvSpPr/>
          <p:nvPr/>
        </p:nvSpPr>
        <p:spPr>
          <a:xfrm>
            <a:off x="5334120" y="3352680"/>
            <a:ext cx="357480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psychrometer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volumetric heat capacity of dry 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= slope of saturation vapour pressure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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nt heat of vapour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矩形 27656"/>
          <p:cNvSpPr/>
          <p:nvPr/>
        </p:nvSpPr>
        <p:spPr>
          <a:xfrm>
            <a:off x="228600" y="3429000"/>
            <a:ext cx="480060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net radi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 = vapour pressure defic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leaf boundary layer conduc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leaf stomatal conduc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heat conductanc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Photosynthesis and Respi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矩形 28674"/>
          <p:cNvSpPr/>
          <p:nvPr/>
        </p:nvSpPr>
        <p:spPr>
          <a:xfrm>
            <a:off x="762120" y="1676520"/>
            <a:ext cx="784836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  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CO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 4H + O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(C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) + 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 + O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LIGHT REACTIONS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DARK REA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矩形 28675"/>
          <p:cNvSpPr/>
          <p:nvPr/>
        </p:nvSpPr>
        <p:spPr>
          <a:xfrm>
            <a:off x="1676520" y="3581280"/>
            <a:ext cx="5715000" cy="11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bolic model = Diffus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/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–R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g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Liquid Phase Water 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组合 29698"/>
          <p:cNvGrpSpPr/>
          <p:nvPr/>
        </p:nvGrpSpPr>
        <p:grpSpPr>
          <a:xfrm>
            <a:off x="609480" y="1371600"/>
            <a:ext cx="4419360" cy="4678200"/>
            <a:chOff x="609480" y="1371600"/>
            <a:chExt cx="4419360" cy="4678200"/>
          </a:xfrm>
        </p:grpSpPr>
        <p:sp>
          <p:nvSpPr>
            <p:cNvPr id="124" name="直接连接符 29699"/>
            <p:cNvSpPr/>
            <p:nvPr/>
          </p:nvSpPr>
          <p:spPr>
            <a:xfrm>
              <a:off x="609480" y="3362400"/>
              <a:ext cx="4303440" cy="0"/>
            </a:xfrm>
            <a:prstGeom prst="line">
              <a:avLst/>
            </a:prstGeom>
            <a:ln w="126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直接连接符 29700"/>
            <p:cNvSpPr/>
            <p:nvPr/>
          </p:nvSpPr>
          <p:spPr>
            <a:xfrm flipV="1">
              <a:off x="1290240" y="3351240"/>
              <a:ext cx="2520" cy="1174320"/>
            </a:xfrm>
            <a:prstGeom prst="line">
              <a:avLst/>
            </a:prstGeom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组合 29701"/>
            <p:cNvGrpSpPr/>
            <p:nvPr/>
          </p:nvGrpSpPr>
          <p:grpSpPr>
            <a:xfrm>
              <a:off x="3235320" y="2130480"/>
              <a:ext cx="728640" cy="2317680"/>
              <a:chOff x="3235320" y="2130480"/>
              <a:chExt cx="728640" cy="2317680"/>
            </a:xfrm>
          </p:grpSpPr>
          <p:sp>
            <p:nvSpPr>
              <p:cNvPr id="127" name="椭圆 29702"/>
              <p:cNvSpPr/>
              <p:nvPr/>
            </p:nvSpPr>
            <p:spPr>
              <a:xfrm>
                <a:off x="3245400" y="2130480"/>
                <a:ext cx="138600" cy="145080"/>
              </a:xfrm>
              <a:prstGeom prst="ellipse">
                <a:avLst/>
              </a:prstGeom>
              <a:noFill/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直接连接符 29703"/>
              <p:cNvSpPr/>
              <p:nvPr/>
            </p:nvSpPr>
            <p:spPr>
              <a:xfrm>
                <a:off x="3318120" y="2150640"/>
                <a:ext cx="720" cy="10044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直接连接符 29704"/>
              <p:cNvSpPr/>
              <p:nvPr/>
            </p:nvSpPr>
            <p:spPr>
              <a:xfrm>
                <a:off x="3864960" y="2926080"/>
                <a:ext cx="99000" cy="36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任意多边形 29705"/>
              <p:cNvSpPr/>
              <p:nvPr/>
            </p:nvSpPr>
            <p:spPr>
              <a:xfrm>
                <a:off x="3235320" y="2578680"/>
                <a:ext cx="149040" cy="625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0683" y="0"/>
                    </a:moveTo>
                    <a:lnTo>
                      <a:pt x="19876" y="710"/>
                    </a:lnTo>
                    <a:lnTo>
                      <a:pt x="0" y="3233"/>
                    </a:lnTo>
                    <a:lnTo>
                      <a:pt x="19876" y="5364"/>
                    </a:lnTo>
                    <a:lnTo>
                      <a:pt x="1366" y="7460"/>
                    </a:lnTo>
                    <a:lnTo>
                      <a:pt x="19876" y="9272"/>
                    </a:lnTo>
                    <a:lnTo>
                      <a:pt x="1366" y="11758"/>
                    </a:lnTo>
                    <a:lnTo>
                      <a:pt x="19876" y="13925"/>
                    </a:lnTo>
                    <a:lnTo>
                      <a:pt x="1366" y="15702"/>
                    </a:lnTo>
                    <a:lnTo>
                      <a:pt x="16025" y="17478"/>
                    </a:lnTo>
                    <a:lnTo>
                      <a:pt x="16025" y="19964"/>
                    </a:lnTo>
                  </a:path>
                </a:pathLst>
              </a:custGeom>
              <a:noFill/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直接连接符 29706"/>
              <p:cNvSpPr/>
              <p:nvPr/>
            </p:nvSpPr>
            <p:spPr>
              <a:xfrm flipH="1">
                <a:off x="3354480" y="3170880"/>
                <a:ext cx="360" cy="127728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直接连接符 29707"/>
              <p:cNvSpPr/>
              <p:nvPr/>
            </p:nvSpPr>
            <p:spPr>
              <a:xfrm flipV="1">
                <a:off x="3316680" y="2273760"/>
                <a:ext cx="0" cy="29880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直接连接符 29708"/>
              <p:cNvSpPr/>
              <p:nvPr/>
            </p:nvSpPr>
            <p:spPr>
              <a:xfrm>
                <a:off x="3318840" y="2528280"/>
                <a:ext cx="595800" cy="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直接连接符 29709"/>
              <p:cNvSpPr/>
              <p:nvPr/>
            </p:nvSpPr>
            <p:spPr>
              <a:xfrm>
                <a:off x="3355920" y="3291120"/>
                <a:ext cx="562320" cy="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直接连接符 29710"/>
              <p:cNvSpPr/>
              <p:nvPr/>
            </p:nvSpPr>
            <p:spPr>
              <a:xfrm>
                <a:off x="3914640" y="2531880"/>
                <a:ext cx="0" cy="34488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直接连接符 29711"/>
              <p:cNvSpPr/>
              <p:nvPr/>
            </p:nvSpPr>
            <p:spPr>
              <a:xfrm>
                <a:off x="3917880" y="2930760"/>
                <a:ext cx="0" cy="35244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直接连接符 29712"/>
              <p:cNvSpPr/>
              <p:nvPr/>
            </p:nvSpPr>
            <p:spPr>
              <a:xfrm>
                <a:off x="3861720" y="2880000"/>
                <a:ext cx="98640" cy="36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文本框 29713"/>
            <p:cNvSpPr/>
            <p:nvPr/>
          </p:nvSpPr>
          <p:spPr>
            <a:xfrm>
              <a:off x="2068920" y="4424760"/>
              <a:ext cx="34560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文本框 29714"/>
            <p:cNvSpPr/>
            <p:nvPr/>
          </p:nvSpPr>
          <p:spPr>
            <a:xfrm>
              <a:off x="3017160" y="2708280"/>
              <a:ext cx="34560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文本框 29715"/>
            <p:cNvSpPr/>
            <p:nvPr/>
          </p:nvSpPr>
          <p:spPr>
            <a:xfrm>
              <a:off x="2068920" y="5234040"/>
              <a:ext cx="51768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文本框 29716"/>
            <p:cNvSpPr/>
            <p:nvPr/>
          </p:nvSpPr>
          <p:spPr>
            <a:xfrm>
              <a:off x="2068920" y="3614760"/>
              <a:ext cx="5176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文本框 29717"/>
            <p:cNvSpPr/>
            <p:nvPr/>
          </p:nvSpPr>
          <p:spPr>
            <a:xfrm>
              <a:off x="3664080" y="2762280"/>
              <a:ext cx="34560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直接连接符 29718"/>
            <p:cNvSpPr/>
            <p:nvPr/>
          </p:nvSpPr>
          <p:spPr>
            <a:xfrm>
              <a:off x="3354840" y="4473720"/>
              <a:ext cx="0" cy="313560"/>
            </a:xfrm>
            <a:prstGeom prst="line">
              <a:avLst/>
            </a:prstGeom>
            <a:ln w="19080">
              <a:solidFill>
                <a:srgbClr val="3399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直接连接符 29719"/>
            <p:cNvSpPr/>
            <p:nvPr/>
          </p:nvSpPr>
          <p:spPr>
            <a:xfrm flipH="1">
              <a:off x="1289880" y="4547160"/>
              <a:ext cx="2520" cy="315000"/>
            </a:xfrm>
            <a:prstGeom prst="line">
              <a:avLst/>
            </a:prstGeom>
            <a:ln w="19080">
              <a:solidFill>
                <a:srgbClr val="8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直接连接符 29720"/>
            <p:cNvSpPr/>
            <p:nvPr/>
          </p:nvSpPr>
          <p:spPr>
            <a:xfrm flipV="1">
              <a:off x="3354840" y="4771080"/>
              <a:ext cx="720" cy="341280"/>
            </a:xfrm>
            <a:prstGeom prst="line">
              <a:avLst/>
            </a:prstGeom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直接连接符 29721"/>
            <p:cNvSpPr/>
            <p:nvPr/>
          </p:nvSpPr>
          <p:spPr>
            <a:xfrm flipV="1">
              <a:off x="1290240" y="4871520"/>
              <a:ext cx="0" cy="333000"/>
            </a:xfrm>
            <a:prstGeom prst="line">
              <a:avLst/>
            </a:prstGeom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文本框 29722"/>
            <p:cNvSpPr/>
            <p:nvPr/>
          </p:nvSpPr>
          <p:spPr>
            <a:xfrm>
              <a:off x="1577160" y="3789360"/>
              <a:ext cx="54432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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文本框 29723"/>
            <p:cNvSpPr/>
            <p:nvPr/>
          </p:nvSpPr>
          <p:spPr>
            <a:xfrm>
              <a:off x="1598760" y="5415120"/>
              <a:ext cx="522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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文本框 29724"/>
            <p:cNvSpPr/>
            <p:nvPr/>
          </p:nvSpPr>
          <p:spPr>
            <a:xfrm>
              <a:off x="1584360" y="4602240"/>
              <a:ext cx="536760" cy="4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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文本框 29725"/>
            <p:cNvSpPr/>
            <p:nvPr/>
          </p:nvSpPr>
          <p:spPr>
            <a:xfrm>
              <a:off x="3056040" y="2102760"/>
              <a:ext cx="34488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任意多边形 29726"/>
            <p:cNvSpPr/>
            <p:nvPr/>
          </p:nvSpPr>
          <p:spPr>
            <a:xfrm>
              <a:off x="1907280" y="3443760"/>
              <a:ext cx="553320" cy="169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10658"/>
                  </a:moveTo>
                  <a:lnTo>
                    <a:pt x="19264" y="19868"/>
                  </a:lnTo>
                  <a:lnTo>
                    <a:pt x="16789" y="0"/>
                  </a:lnTo>
                  <a:lnTo>
                    <a:pt x="14615" y="19868"/>
                  </a:lnTo>
                  <a:lnTo>
                    <a:pt x="12475" y="1316"/>
                  </a:lnTo>
                  <a:lnTo>
                    <a:pt x="10702" y="19868"/>
                  </a:lnTo>
                  <a:lnTo>
                    <a:pt x="8194" y="1316"/>
                  </a:lnTo>
                  <a:lnTo>
                    <a:pt x="6054" y="19868"/>
                  </a:lnTo>
                  <a:lnTo>
                    <a:pt x="4281" y="1316"/>
                  </a:lnTo>
                  <a:lnTo>
                    <a:pt x="2475" y="15921"/>
                  </a:lnTo>
                  <a:lnTo>
                    <a:pt x="0" y="15921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组合 29727"/>
            <p:cNvGrpSpPr/>
            <p:nvPr/>
          </p:nvGrpSpPr>
          <p:grpSpPr>
            <a:xfrm>
              <a:off x="1302480" y="3575160"/>
              <a:ext cx="645120" cy="525600"/>
              <a:chOff x="1302480" y="3575160"/>
              <a:chExt cx="645120" cy="525600"/>
            </a:xfrm>
          </p:grpSpPr>
          <p:sp>
            <p:nvSpPr>
              <p:cNvPr id="153" name="直接连接符 29728"/>
              <p:cNvSpPr/>
              <p:nvPr/>
            </p:nvSpPr>
            <p:spPr>
              <a:xfrm>
                <a:off x="1302480" y="3575160"/>
                <a:ext cx="645120" cy="144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直接连接符 29729"/>
              <p:cNvSpPr/>
              <p:nvPr/>
            </p:nvSpPr>
            <p:spPr>
              <a:xfrm>
                <a:off x="1553040" y="3764520"/>
                <a:ext cx="9936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直接连接符 29730"/>
              <p:cNvSpPr/>
              <p:nvPr/>
            </p:nvSpPr>
            <p:spPr>
              <a:xfrm flipV="1">
                <a:off x="1474200" y="3809160"/>
                <a:ext cx="257040" cy="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直接连接符 29731"/>
              <p:cNvSpPr/>
              <p:nvPr/>
            </p:nvSpPr>
            <p:spPr>
              <a:xfrm flipH="1">
                <a:off x="1602360" y="3813480"/>
                <a:ext cx="720" cy="17964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直接连接符 29732"/>
              <p:cNvSpPr/>
              <p:nvPr/>
            </p:nvSpPr>
            <p:spPr>
              <a:xfrm>
                <a:off x="1502280" y="4033080"/>
                <a:ext cx="19836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直接连接符 29733"/>
              <p:cNvSpPr/>
              <p:nvPr/>
            </p:nvSpPr>
            <p:spPr>
              <a:xfrm flipV="1">
                <a:off x="1533600" y="4066200"/>
                <a:ext cx="138240" cy="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直接连接符 29734"/>
              <p:cNvSpPr/>
              <p:nvPr/>
            </p:nvSpPr>
            <p:spPr>
              <a:xfrm>
                <a:off x="1566360" y="4100040"/>
                <a:ext cx="6948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直接连接符 29735"/>
              <p:cNvSpPr/>
              <p:nvPr/>
            </p:nvSpPr>
            <p:spPr>
              <a:xfrm flipH="1">
                <a:off x="1603800" y="3585240"/>
                <a:ext cx="720" cy="176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直接连接符 29736"/>
            <p:cNvSpPr/>
            <p:nvPr/>
          </p:nvSpPr>
          <p:spPr>
            <a:xfrm>
              <a:off x="2454840" y="3537720"/>
              <a:ext cx="182520" cy="1080"/>
            </a:xfrm>
            <a:prstGeom prst="line">
              <a:avLst/>
            </a:prstGeom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任意多边形 29737"/>
            <p:cNvSpPr/>
            <p:nvPr/>
          </p:nvSpPr>
          <p:spPr>
            <a:xfrm>
              <a:off x="2624400" y="3405240"/>
              <a:ext cx="553320" cy="169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10658"/>
                  </a:moveTo>
                  <a:lnTo>
                    <a:pt x="19264" y="19868"/>
                  </a:lnTo>
                  <a:lnTo>
                    <a:pt x="16789" y="0"/>
                  </a:lnTo>
                  <a:lnTo>
                    <a:pt x="14615" y="19868"/>
                  </a:lnTo>
                  <a:lnTo>
                    <a:pt x="12475" y="1316"/>
                  </a:lnTo>
                  <a:lnTo>
                    <a:pt x="10702" y="19868"/>
                  </a:lnTo>
                  <a:lnTo>
                    <a:pt x="8194" y="1316"/>
                  </a:lnTo>
                  <a:lnTo>
                    <a:pt x="6054" y="19868"/>
                  </a:lnTo>
                  <a:lnTo>
                    <a:pt x="4281" y="1316"/>
                  </a:lnTo>
                  <a:lnTo>
                    <a:pt x="2475" y="15921"/>
                  </a:lnTo>
                  <a:lnTo>
                    <a:pt x="0" y="15921"/>
                  </a:lnTo>
                </a:path>
              </a:pathLst>
            </a:custGeom>
            <a:noFill/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直接连接符 29738"/>
            <p:cNvSpPr/>
            <p:nvPr/>
          </p:nvSpPr>
          <p:spPr>
            <a:xfrm>
              <a:off x="3173040" y="3494880"/>
              <a:ext cx="181800" cy="1800"/>
            </a:xfrm>
            <a:prstGeom prst="line">
              <a:avLst/>
            </a:prstGeom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任意多边形 29739"/>
            <p:cNvSpPr/>
            <p:nvPr/>
          </p:nvSpPr>
          <p:spPr>
            <a:xfrm>
              <a:off x="1907280" y="4255920"/>
              <a:ext cx="553320" cy="169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10658"/>
                  </a:moveTo>
                  <a:lnTo>
                    <a:pt x="19264" y="19868"/>
                  </a:lnTo>
                  <a:lnTo>
                    <a:pt x="16789" y="0"/>
                  </a:lnTo>
                  <a:lnTo>
                    <a:pt x="14615" y="19868"/>
                  </a:lnTo>
                  <a:lnTo>
                    <a:pt x="12475" y="1316"/>
                  </a:lnTo>
                  <a:lnTo>
                    <a:pt x="10702" y="19868"/>
                  </a:lnTo>
                  <a:lnTo>
                    <a:pt x="8194" y="1316"/>
                  </a:lnTo>
                  <a:lnTo>
                    <a:pt x="6054" y="19868"/>
                  </a:lnTo>
                  <a:lnTo>
                    <a:pt x="4281" y="1316"/>
                  </a:lnTo>
                  <a:lnTo>
                    <a:pt x="2475" y="15921"/>
                  </a:lnTo>
                  <a:lnTo>
                    <a:pt x="0" y="15921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组合 29740"/>
            <p:cNvGrpSpPr/>
            <p:nvPr/>
          </p:nvGrpSpPr>
          <p:grpSpPr>
            <a:xfrm>
              <a:off x="1298160" y="4388760"/>
              <a:ext cx="645480" cy="525240"/>
              <a:chOff x="1298160" y="4388760"/>
              <a:chExt cx="645480" cy="525240"/>
            </a:xfrm>
          </p:grpSpPr>
          <p:sp>
            <p:nvSpPr>
              <p:cNvPr id="166" name="直接连接符 29741"/>
              <p:cNvSpPr/>
              <p:nvPr/>
            </p:nvSpPr>
            <p:spPr>
              <a:xfrm>
                <a:off x="1298160" y="4388760"/>
                <a:ext cx="645480" cy="144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直接连接符 29742"/>
              <p:cNvSpPr/>
              <p:nvPr/>
            </p:nvSpPr>
            <p:spPr>
              <a:xfrm>
                <a:off x="1549080" y="4578120"/>
                <a:ext cx="9936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直接连接符 29743"/>
              <p:cNvSpPr/>
              <p:nvPr/>
            </p:nvSpPr>
            <p:spPr>
              <a:xfrm flipV="1">
                <a:off x="1470240" y="4622400"/>
                <a:ext cx="257040" cy="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直接连接符 29744"/>
              <p:cNvSpPr/>
              <p:nvPr/>
            </p:nvSpPr>
            <p:spPr>
              <a:xfrm flipH="1">
                <a:off x="1598040" y="4627080"/>
                <a:ext cx="720" cy="17964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直接连接符 29745"/>
              <p:cNvSpPr/>
              <p:nvPr/>
            </p:nvSpPr>
            <p:spPr>
              <a:xfrm>
                <a:off x="1497960" y="4846320"/>
                <a:ext cx="19836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直接连接符 29746"/>
              <p:cNvSpPr/>
              <p:nvPr/>
            </p:nvSpPr>
            <p:spPr>
              <a:xfrm flipV="1">
                <a:off x="1529280" y="4879440"/>
                <a:ext cx="138600" cy="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直接连接符 29747"/>
              <p:cNvSpPr/>
              <p:nvPr/>
            </p:nvSpPr>
            <p:spPr>
              <a:xfrm>
                <a:off x="1562400" y="4913280"/>
                <a:ext cx="6948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直接连接符 29748"/>
              <p:cNvSpPr/>
              <p:nvPr/>
            </p:nvSpPr>
            <p:spPr>
              <a:xfrm flipH="1">
                <a:off x="1599480" y="4398840"/>
                <a:ext cx="720" cy="17640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直接连接符 29749"/>
            <p:cNvSpPr/>
            <p:nvPr/>
          </p:nvSpPr>
          <p:spPr>
            <a:xfrm>
              <a:off x="2454840" y="4350240"/>
              <a:ext cx="182520" cy="1800"/>
            </a:xfrm>
            <a:prstGeom prst="line">
              <a:avLst/>
            </a:prstGeom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任意多边形 29750"/>
            <p:cNvSpPr/>
            <p:nvPr/>
          </p:nvSpPr>
          <p:spPr>
            <a:xfrm>
              <a:off x="2620440" y="4218120"/>
              <a:ext cx="553320" cy="169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10658"/>
                  </a:moveTo>
                  <a:lnTo>
                    <a:pt x="19264" y="19868"/>
                  </a:lnTo>
                  <a:lnTo>
                    <a:pt x="16789" y="0"/>
                  </a:lnTo>
                  <a:lnTo>
                    <a:pt x="14615" y="19868"/>
                  </a:lnTo>
                  <a:lnTo>
                    <a:pt x="12475" y="1316"/>
                  </a:lnTo>
                  <a:lnTo>
                    <a:pt x="10702" y="19868"/>
                  </a:lnTo>
                  <a:lnTo>
                    <a:pt x="8194" y="1316"/>
                  </a:lnTo>
                  <a:lnTo>
                    <a:pt x="6054" y="19868"/>
                  </a:lnTo>
                  <a:lnTo>
                    <a:pt x="4281" y="1316"/>
                  </a:lnTo>
                  <a:lnTo>
                    <a:pt x="2475" y="15921"/>
                  </a:lnTo>
                  <a:lnTo>
                    <a:pt x="0" y="15921"/>
                  </a:lnTo>
                </a:path>
              </a:pathLst>
            </a:custGeom>
            <a:noFill/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直接连接符 29751"/>
            <p:cNvSpPr/>
            <p:nvPr/>
          </p:nvSpPr>
          <p:spPr>
            <a:xfrm>
              <a:off x="3164760" y="4308120"/>
              <a:ext cx="182520" cy="1080"/>
            </a:xfrm>
            <a:prstGeom prst="line">
              <a:avLst/>
            </a:prstGeom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任意多边形 29752"/>
            <p:cNvSpPr/>
            <p:nvPr/>
          </p:nvSpPr>
          <p:spPr>
            <a:xfrm>
              <a:off x="1907280" y="5061240"/>
              <a:ext cx="553320" cy="169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10658"/>
                  </a:moveTo>
                  <a:lnTo>
                    <a:pt x="19264" y="19868"/>
                  </a:lnTo>
                  <a:lnTo>
                    <a:pt x="16789" y="0"/>
                  </a:lnTo>
                  <a:lnTo>
                    <a:pt x="14615" y="19868"/>
                  </a:lnTo>
                  <a:lnTo>
                    <a:pt x="12475" y="1316"/>
                  </a:lnTo>
                  <a:lnTo>
                    <a:pt x="10702" y="19868"/>
                  </a:lnTo>
                  <a:lnTo>
                    <a:pt x="8194" y="1316"/>
                  </a:lnTo>
                  <a:lnTo>
                    <a:pt x="6054" y="19868"/>
                  </a:lnTo>
                  <a:lnTo>
                    <a:pt x="4281" y="1316"/>
                  </a:lnTo>
                  <a:lnTo>
                    <a:pt x="2475" y="15921"/>
                  </a:lnTo>
                  <a:lnTo>
                    <a:pt x="0" y="15921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组合 29753"/>
            <p:cNvGrpSpPr/>
            <p:nvPr/>
          </p:nvGrpSpPr>
          <p:grpSpPr>
            <a:xfrm>
              <a:off x="1292760" y="5194080"/>
              <a:ext cx="645120" cy="526320"/>
              <a:chOff x="1292760" y="5194080"/>
              <a:chExt cx="645120" cy="526320"/>
            </a:xfrm>
          </p:grpSpPr>
          <p:sp>
            <p:nvSpPr>
              <p:cNvPr id="179" name="直接连接符 29754"/>
              <p:cNvSpPr/>
              <p:nvPr/>
            </p:nvSpPr>
            <p:spPr>
              <a:xfrm>
                <a:off x="1292760" y="5194080"/>
                <a:ext cx="645120" cy="144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直接连接符 29755"/>
              <p:cNvSpPr/>
              <p:nvPr/>
            </p:nvSpPr>
            <p:spPr>
              <a:xfrm>
                <a:off x="1543320" y="5383800"/>
                <a:ext cx="9936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直接连接符 29756"/>
              <p:cNvSpPr/>
              <p:nvPr/>
            </p:nvSpPr>
            <p:spPr>
              <a:xfrm flipV="1">
                <a:off x="1464480" y="5428440"/>
                <a:ext cx="257040" cy="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直接连接符 29757"/>
              <p:cNvSpPr/>
              <p:nvPr/>
            </p:nvSpPr>
            <p:spPr>
              <a:xfrm flipH="1">
                <a:off x="1592640" y="5432760"/>
                <a:ext cx="720" cy="18000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直接连接符 29758"/>
              <p:cNvSpPr/>
              <p:nvPr/>
            </p:nvSpPr>
            <p:spPr>
              <a:xfrm>
                <a:off x="1492560" y="5652720"/>
                <a:ext cx="19836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直接连接符 29759"/>
              <p:cNvSpPr/>
              <p:nvPr/>
            </p:nvSpPr>
            <p:spPr>
              <a:xfrm flipV="1">
                <a:off x="1523880" y="5685840"/>
                <a:ext cx="138240" cy="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直接连接符 29760"/>
              <p:cNvSpPr/>
              <p:nvPr/>
            </p:nvSpPr>
            <p:spPr>
              <a:xfrm>
                <a:off x="1556640" y="5719680"/>
                <a:ext cx="6948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直接连接符 29761"/>
              <p:cNvSpPr/>
              <p:nvPr/>
            </p:nvSpPr>
            <p:spPr>
              <a:xfrm flipH="1">
                <a:off x="1594080" y="5204160"/>
                <a:ext cx="720" cy="176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直接连接符 29762"/>
            <p:cNvSpPr/>
            <p:nvPr/>
          </p:nvSpPr>
          <p:spPr>
            <a:xfrm>
              <a:off x="2454840" y="5155200"/>
              <a:ext cx="182520" cy="1080"/>
            </a:xfrm>
            <a:prstGeom prst="line">
              <a:avLst/>
            </a:prstGeom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任意多边形 29763"/>
            <p:cNvSpPr/>
            <p:nvPr/>
          </p:nvSpPr>
          <p:spPr>
            <a:xfrm>
              <a:off x="2633400" y="5022720"/>
              <a:ext cx="552960" cy="169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10658"/>
                  </a:moveTo>
                  <a:lnTo>
                    <a:pt x="19264" y="19868"/>
                  </a:lnTo>
                  <a:lnTo>
                    <a:pt x="16789" y="0"/>
                  </a:lnTo>
                  <a:lnTo>
                    <a:pt x="14615" y="19868"/>
                  </a:lnTo>
                  <a:lnTo>
                    <a:pt x="12475" y="1316"/>
                  </a:lnTo>
                  <a:lnTo>
                    <a:pt x="10702" y="19868"/>
                  </a:lnTo>
                  <a:lnTo>
                    <a:pt x="8194" y="1316"/>
                  </a:lnTo>
                  <a:lnTo>
                    <a:pt x="6054" y="19868"/>
                  </a:lnTo>
                  <a:lnTo>
                    <a:pt x="4281" y="1316"/>
                  </a:lnTo>
                  <a:lnTo>
                    <a:pt x="2475" y="15921"/>
                  </a:lnTo>
                  <a:lnTo>
                    <a:pt x="0" y="15921"/>
                  </a:lnTo>
                </a:path>
              </a:pathLst>
            </a:custGeom>
            <a:noFill/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直接连接符 29764"/>
            <p:cNvSpPr/>
            <p:nvPr/>
          </p:nvSpPr>
          <p:spPr>
            <a:xfrm>
              <a:off x="3180240" y="5113080"/>
              <a:ext cx="182520" cy="1080"/>
            </a:xfrm>
            <a:prstGeom prst="line">
              <a:avLst/>
            </a:prstGeom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文本框 29765"/>
            <p:cNvSpPr/>
            <p:nvPr/>
          </p:nvSpPr>
          <p:spPr>
            <a:xfrm>
              <a:off x="2704680" y="3614760"/>
              <a:ext cx="57960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r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文本框 29766"/>
            <p:cNvSpPr/>
            <p:nvPr/>
          </p:nvSpPr>
          <p:spPr>
            <a:xfrm>
              <a:off x="2774880" y="4424760"/>
              <a:ext cx="50976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r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文本框 29767"/>
            <p:cNvSpPr/>
            <p:nvPr/>
          </p:nvSpPr>
          <p:spPr>
            <a:xfrm>
              <a:off x="2774880" y="5234040"/>
              <a:ext cx="50976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矩形 29768"/>
            <p:cNvSpPr/>
            <p:nvPr/>
          </p:nvSpPr>
          <p:spPr>
            <a:xfrm>
              <a:off x="2547000" y="2057400"/>
              <a:ext cx="1455120" cy="39862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文本框 29769"/>
            <p:cNvSpPr/>
            <p:nvPr/>
          </p:nvSpPr>
          <p:spPr>
            <a:xfrm>
              <a:off x="2702880" y="5758920"/>
              <a:ext cx="124776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l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矩形 29770"/>
            <p:cNvSpPr/>
            <p:nvPr/>
          </p:nvSpPr>
          <p:spPr>
            <a:xfrm>
              <a:off x="1091520" y="3146040"/>
              <a:ext cx="1455120" cy="2897640"/>
            </a:xfrm>
            <a:prstGeom prst="rect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文本框 29771"/>
            <p:cNvSpPr/>
            <p:nvPr/>
          </p:nvSpPr>
          <p:spPr>
            <a:xfrm>
              <a:off x="1772280" y="5749200"/>
              <a:ext cx="76716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So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文本框 29772"/>
            <p:cNvSpPr/>
            <p:nvPr/>
          </p:nvSpPr>
          <p:spPr>
            <a:xfrm>
              <a:off x="1292760" y="1489680"/>
              <a:ext cx="164268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Times New Roman"/>
                </a:rPr>
                <a:t>Atmospher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任意多边形 29773"/>
            <p:cNvSpPr/>
            <p:nvPr/>
          </p:nvSpPr>
          <p:spPr>
            <a:xfrm>
              <a:off x="1292760" y="1857240"/>
              <a:ext cx="2026440" cy="1506600"/>
            </a:xfrm>
            <a:custGeom>
              <a:avLst/>
              <a:gdLst/>
              <a:ahLst/>
              <a:rect l="l" t="t" r="r" b="b"/>
              <a:pathLst>
                <a:path w="4176" h="2951">
                  <a:moveTo>
                    <a:pt x="4176" y="576"/>
                  </a:moveTo>
                  <a:lnTo>
                    <a:pt x="4176" y="0"/>
                  </a:lnTo>
                  <a:lnTo>
                    <a:pt x="0" y="0"/>
                  </a:lnTo>
                  <a:lnTo>
                    <a:pt x="2" y="295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直接连接符 29774"/>
            <p:cNvSpPr/>
            <p:nvPr/>
          </p:nvSpPr>
          <p:spPr>
            <a:xfrm>
              <a:off x="3633480" y="1670040"/>
              <a:ext cx="0" cy="41184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文本框 29775"/>
            <p:cNvSpPr/>
            <p:nvPr/>
          </p:nvSpPr>
          <p:spPr>
            <a:xfrm>
              <a:off x="3284640" y="1371600"/>
              <a:ext cx="804960" cy="4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文本框 29776"/>
            <p:cNvSpPr/>
            <p:nvPr/>
          </p:nvSpPr>
          <p:spPr>
            <a:xfrm>
              <a:off x="3352320" y="2101320"/>
              <a:ext cx="34560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文本框 29777"/>
            <p:cNvSpPr/>
            <p:nvPr/>
          </p:nvSpPr>
          <p:spPr>
            <a:xfrm>
              <a:off x="4185720" y="2152080"/>
              <a:ext cx="8431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ea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文本框 29778"/>
            <p:cNvSpPr/>
            <p:nvPr/>
          </p:nvSpPr>
          <p:spPr>
            <a:xfrm>
              <a:off x="4185720" y="2740680"/>
              <a:ext cx="84312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文本框 29779"/>
            <p:cNvSpPr/>
            <p:nvPr/>
          </p:nvSpPr>
          <p:spPr>
            <a:xfrm>
              <a:off x="4185720" y="3624120"/>
              <a:ext cx="8431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oo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文本框 29780"/>
            <p:cNvSpPr/>
            <p:nvPr/>
          </p:nvSpPr>
          <p:spPr>
            <a:xfrm>
              <a:off x="2993760" y="2446200"/>
              <a:ext cx="34560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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矩形 29781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矩形 29782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矩形 29783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文本框 29784"/>
          <p:cNvSpPr/>
          <p:nvPr/>
        </p:nvSpPr>
        <p:spPr>
          <a:xfrm>
            <a:off x="6308640" y="304812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对象 29785" descr=""/>
          <p:cNvPicPr/>
          <p:nvPr/>
        </p:nvPicPr>
        <p:blipFill>
          <a:blip r:embed="rId1"/>
          <a:stretch/>
        </p:blipFill>
        <p:spPr>
          <a:xfrm>
            <a:off x="5013360" y="4367160"/>
            <a:ext cx="3611520" cy="674640"/>
          </a:xfrm>
          <a:prstGeom prst="rect">
            <a:avLst/>
          </a:prstGeom>
          <a:ln w="0">
            <a:noFill/>
          </a:ln>
        </p:spPr>
      </p:pic>
      <p:sp>
        <p:nvSpPr>
          <p:cNvPr id="211" name="文本框 29786"/>
          <p:cNvSpPr/>
          <p:nvPr/>
        </p:nvSpPr>
        <p:spPr>
          <a:xfrm>
            <a:off x="5181840" y="1523880"/>
            <a:ext cx="3280320" cy="25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etermi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resistanc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t resistanc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il resistanc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il water potential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oil-Plant-Atmospher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layer canopy and so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 minute time-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y coupled liquid and vapour phase water flu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chemical model of photo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对象 16385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534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矩形 15362"/>
          <p:cNvSpPr/>
          <p:nvPr/>
        </p:nvSpPr>
        <p:spPr>
          <a:xfrm>
            <a:off x="1262160" y="8571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对象 15361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8482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6145" descr="C:\Documents and Settings\mwilliam\My Documents\My Pictures\harvard.jpg"/>
          <p:cNvPicPr/>
          <p:nvPr/>
        </p:nvPicPr>
        <p:blipFill>
          <a:blip r:embed="rId1"/>
          <a:stretch/>
        </p:blipFill>
        <p:spPr>
          <a:xfrm>
            <a:off x="685800" y="879480"/>
            <a:ext cx="7620120" cy="5202360"/>
          </a:xfrm>
          <a:prstGeom prst="rect">
            <a:avLst/>
          </a:prstGeom>
          <a:ln w="0">
            <a:noFill/>
          </a:ln>
        </p:spPr>
      </p:pic>
      <p:sp>
        <p:nvSpPr>
          <p:cNvPr id="218" name="文本框 6146"/>
          <p:cNvSpPr/>
          <p:nvPr/>
        </p:nvSpPr>
        <p:spPr>
          <a:xfrm>
            <a:off x="3276720" y="3049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arvard Fo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图片 7169" descr="C:\Documents and Settings\mwilliam\My Documents\Harvard\1994.WMF"/>
          <p:cNvPicPr/>
          <p:nvPr/>
        </p:nvPicPr>
        <p:blipFill>
          <a:blip r:embed="rId1"/>
          <a:stretch/>
        </p:blipFill>
        <p:spPr>
          <a:xfrm>
            <a:off x="838080" y="317520"/>
            <a:ext cx="762012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图片 3073" descr="C:\Documents and Settings\mwilliam\My Documents\Harvard\drivers.WMF"/>
          <p:cNvPicPr/>
          <p:nvPr/>
        </p:nvPicPr>
        <p:blipFill>
          <a:blip r:embed="rId1"/>
          <a:stretch/>
        </p:blipFill>
        <p:spPr>
          <a:xfrm>
            <a:off x="609480" y="52560"/>
            <a:ext cx="7772400" cy="66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hat are SVAT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ators of energy and matter exchange between land surface and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mechanistic understanding of the component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by meteorologists, climatologists, ecologists and biogeochemi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图片 4098" descr="C:\Documents and Settings\mwilliam\My Documents\Harvard\LE1example.TIF"/>
          <p:cNvPicPr/>
          <p:nvPr/>
        </p:nvPicPr>
        <p:blipFill>
          <a:blip r:embed="rId1"/>
          <a:stretch/>
        </p:blipFill>
        <p:spPr>
          <a:xfrm>
            <a:off x="0" y="0"/>
            <a:ext cx="883908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图片 5121" descr="C:\Documents and Settings\mwilliam\My Documents\Harvard\NEE1example.TIF"/>
          <p:cNvPicPr/>
          <p:nvPr/>
        </p:nvPicPr>
        <p:blipFill>
          <a:blip r:embed="rId1"/>
          <a:stretch/>
        </p:blipFill>
        <p:spPr>
          <a:xfrm>
            <a:off x="0" y="0"/>
            <a:ext cx="883908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文本框 8193"/>
          <p:cNvSpPr/>
          <p:nvPr/>
        </p:nvSpPr>
        <p:spPr>
          <a:xfrm>
            <a:off x="2666520" y="228600"/>
            <a:ext cx="35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ropical rain fo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图片 8194" descr="C:\Documents and Settings\mwilliam.MW\My Documents\My Pictures\Albums\Brazil 2001\104-0468_IMG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图片 11265" descr="C:\Documents and Settings\mwilliam\My Documents\Amazon\sens.TIF"/>
          <p:cNvPicPr/>
          <p:nvPr/>
        </p:nvPicPr>
        <p:blipFill>
          <a:blip r:embed="rId1"/>
          <a:stretch/>
        </p:blipFill>
        <p:spPr>
          <a:xfrm>
            <a:off x="0" y="0"/>
            <a:ext cx="88390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图片 9218" descr="C:\Documents and Settings\mwilliam\My Documents\Amazon\Manaus\compLE.TIF"/>
          <p:cNvPicPr/>
          <p:nvPr/>
        </p:nvPicPr>
        <p:blipFill>
          <a:blip r:embed="rId1"/>
          <a:stretch/>
        </p:blipFill>
        <p:spPr>
          <a:xfrm>
            <a:off x="0" y="0"/>
            <a:ext cx="8710560" cy="67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图片 10241" descr="C:\Documents and Settings\mwilliam\My Documents\Amazon\Manaus\compNEP.TIF"/>
          <p:cNvPicPr/>
          <p:nvPr/>
        </p:nvPicPr>
        <p:blipFill>
          <a:blip r:embed="rId1"/>
          <a:stretch/>
        </p:blipFill>
        <p:spPr>
          <a:xfrm>
            <a:off x="-152280" y="0"/>
            <a:ext cx="876276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13313" descr="C:\Documents and Settings\mwilliam\My Documents\My Pictures\tundra_lakes_1_oechel.jpg"/>
          <p:cNvPicPr/>
          <p:nvPr/>
        </p:nvPicPr>
        <p:blipFill>
          <a:blip r:embed="rId1"/>
          <a:stretch/>
        </p:blipFill>
        <p:spPr>
          <a:xfrm>
            <a:off x="1143000" y="685800"/>
            <a:ext cx="7010280" cy="5608800"/>
          </a:xfrm>
          <a:prstGeom prst="rect">
            <a:avLst/>
          </a:prstGeom>
          <a:ln w="0">
            <a:noFill/>
          </a:ln>
        </p:spPr>
      </p:pic>
      <p:sp>
        <p:nvSpPr>
          <p:cNvPr id="229" name="文本框 13314"/>
          <p:cNvSpPr/>
          <p:nvPr/>
        </p:nvSpPr>
        <p:spPr>
          <a:xfrm>
            <a:off x="2647800" y="193680"/>
            <a:ext cx="40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tic tundra – northern Alas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 14337" descr="C:\Documents and Settings\mwilliam\My Documents\SIMS\Berkeley\tussock.WMF"/>
          <p:cNvPicPr/>
          <p:nvPr/>
        </p:nvPicPr>
        <p:blipFill>
          <a:blip r:embed="rId1"/>
          <a:stretch/>
        </p:blipFill>
        <p:spPr>
          <a:xfrm>
            <a:off x="457200" y="228600"/>
            <a:ext cx="830592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对象 31745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hat you should have lear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 of typical SVAT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gnostic uses (working with eddy flux da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nostic uses (scaling u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research areas in developing SVAT models (applicability to global change resear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hy do we need SVAT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ssist understanding of observ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llow hypothesis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tend understanding across space and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rovide a basis for pred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odel Jar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iving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oboration/validation/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itivity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hat is the structure of a typical SVAT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ative trans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ergy bal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bulent and diffusive trans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matal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synthesis and respi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quid phase water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mall Group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SVAT component, define the sub-model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driving variables, the parameters and state variab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key connections to other SVAT sub-mode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would you calibrate your sub-mod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Radiative Transf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矩形 23554"/>
          <p:cNvSpPr/>
          <p:nvPr/>
        </p:nvSpPr>
        <p:spPr>
          <a:xfrm rot="1779600">
            <a:off x="1294920" y="3200400"/>
            <a:ext cx="19814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矩形 23555"/>
          <p:cNvSpPr/>
          <p:nvPr/>
        </p:nvSpPr>
        <p:spPr>
          <a:xfrm rot="1779600">
            <a:off x="4038120" y="3352680"/>
            <a:ext cx="19814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直接连接符 23556"/>
          <p:cNvSpPr/>
          <p:nvPr/>
        </p:nvSpPr>
        <p:spPr>
          <a:xfrm flipH="1">
            <a:off x="2743200" y="1905120"/>
            <a:ext cx="457200" cy="15238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直接连接符 23558"/>
          <p:cNvSpPr/>
          <p:nvPr/>
        </p:nvSpPr>
        <p:spPr>
          <a:xfrm flipH="1">
            <a:off x="2314080" y="3733920"/>
            <a:ext cx="352440" cy="1209600"/>
          </a:xfrm>
          <a:prstGeom prst="line">
            <a:avLst/>
          </a:prstGeom>
          <a:ln w="64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直接连接符 23559"/>
          <p:cNvSpPr/>
          <p:nvPr/>
        </p:nvSpPr>
        <p:spPr>
          <a:xfrm flipH="1">
            <a:off x="3200400" y="2133720"/>
            <a:ext cx="990720" cy="33526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直接连接符 23560"/>
          <p:cNvSpPr/>
          <p:nvPr/>
        </p:nvSpPr>
        <p:spPr>
          <a:xfrm flipH="1" flipV="1">
            <a:off x="2133360" y="1981080"/>
            <a:ext cx="533160" cy="1371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矩形 23561"/>
          <p:cNvSpPr/>
          <p:nvPr/>
        </p:nvSpPr>
        <p:spPr>
          <a:xfrm rot="1779600">
            <a:off x="837720" y="4724280"/>
            <a:ext cx="19814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直接连接符 23562"/>
          <p:cNvSpPr/>
          <p:nvPr/>
        </p:nvSpPr>
        <p:spPr>
          <a:xfrm flipH="1" flipV="1">
            <a:off x="1676160" y="3123720"/>
            <a:ext cx="609480" cy="1676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直接连接符 23563"/>
          <p:cNvSpPr/>
          <p:nvPr/>
        </p:nvSpPr>
        <p:spPr>
          <a:xfrm flipH="1">
            <a:off x="1952640" y="5257800"/>
            <a:ext cx="257040" cy="80028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文本框 23564"/>
          <p:cNvSpPr/>
          <p:nvPr/>
        </p:nvSpPr>
        <p:spPr>
          <a:xfrm>
            <a:off x="1279440" y="16113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lec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文本框 23565"/>
          <p:cNvSpPr/>
          <p:nvPr/>
        </p:nvSpPr>
        <p:spPr>
          <a:xfrm>
            <a:off x="2055600" y="3886200"/>
            <a:ext cx="114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mit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文本框 23567"/>
          <p:cNvSpPr/>
          <p:nvPr/>
        </p:nvSpPr>
        <p:spPr>
          <a:xfrm>
            <a:off x="2133000" y="342900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sorp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文本框 23568"/>
          <p:cNvSpPr/>
          <p:nvPr/>
        </p:nvSpPr>
        <p:spPr>
          <a:xfrm>
            <a:off x="6171840" y="1981080"/>
            <a:ext cx="2533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and 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R vs P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iar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lit and sha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文本框 23569"/>
          <p:cNvSpPr/>
          <p:nvPr/>
        </p:nvSpPr>
        <p:spPr>
          <a:xfrm>
            <a:off x="4413240" y="5070600"/>
            <a:ext cx="338292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er’s Law: I=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(-k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nergy Ba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文本框 24578"/>
          <p:cNvSpPr/>
          <p:nvPr/>
        </p:nvSpPr>
        <p:spPr>
          <a:xfrm>
            <a:off x="891360" y="1641600"/>
            <a:ext cx="72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law of thermodynamics: Energy is always con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直接连接符 24579"/>
          <p:cNvSpPr/>
          <p:nvPr/>
        </p:nvSpPr>
        <p:spPr>
          <a:xfrm>
            <a:off x="1219320" y="4114800"/>
            <a:ext cx="4419360" cy="0"/>
          </a:xfrm>
          <a:prstGeom prst="line">
            <a:avLst/>
          </a:prstGeom>
          <a:ln w="3168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直接连接符 24580"/>
          <p:cNvSpPr/>
          <p:nvPr/>
        </p:nvSpPr>
        <p:spPr>
          <a:xfrm>
            <a:off x="1219320" y="2666880"/>
            <a:ext cx="1295280" cy="1447920"/>
          </a:xfrm>
          <a:prstGeom prst="line">
            <a:avLst/>
          </a:prstGeom>
          <a:ln w="255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直接连接符 24581"/>
          <p:cNvSpPr/>
          <p:nvPr/>
        </p:nvSpPr>
        <p:spPr>
          <a:xfrm>
            <a:off x="3429000" y="4114800"/>
            <a:ext cx="0" cy="1219320"/>
          </a:xfrm>
          <a:prstGeom prst="line">
            <a:avLst/>
          </a:prstGeom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直接连接符 24582"/>
          <p:cNvSpPr/>
          <p:nvPr/>
        </p:nvSpPr>
        <p:spPr>
          <a:xfrm flipV="1">
            <a:off x="2971800" y="2666880"/>
            <a:ext cx="0" cy="1447920"/>
          </a:xfrm>
          <a:prstGeom prst="line">
            <a:avLst/>
          </a:prstGeom>
          <a:ln w="19080">
            <a:solidFill>
              <a:srgbClr val="33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直接连接符 24583"/>
          <p:cNvSpPr/>
          <p:nvPr/>
        </p:nvSpPr>
        <p:spPr>
          <a:xfrm flipV="1">
            <a:off x="4038480" y="2666880"/>
            <a:ext cx="0" cy="1447920"/>
          </a:xfrm>
          <a:prstGeom prst="line">
            <a:avLst/>
          </a:prstGeom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文本框 24584"/>
          <p:cNvSpPr/>
          <p:nvPr/>
        </p:nvSpPr>
        <p:spPr>
          <a:xfrm>
            <a:off x="4183920" y="2174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文本框 24586"/>
          <p:cNvSpPr/>
          <p:nvPr/>
        </p:nvSpPr>
        <p:spPr>
          <a:xfrm>
            <a:off x="2751840" y="2209680"/>
            <a:ext cx="47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文本框 24587"/>
          <p:cNvSpPr/>
          <p:nvPr/>
        </p:nvSpPr>
        <p:spPr>
          <a:xfrm>
            <a:off x="3589920" y="5105520"/>
            <a:ext cx="47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文本框 24588"/>
          <p:cNvSpPr/>
          <p:nvPr/>
        </p:nvSpPr>
        <p:spPr>
          <a:xfrm>
            <a:off x="1684080" y="2743200"/>
            <a:ext cx="46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直接连接符 24589"/>
          <p:cNvSpPr/>
          <p:nvPr/>
        </p:nvSpPr>
        <p:spPr>
          <a:xfrm flipV="1">
            <a:off x="5181480" y="2590560"/>
            <a:ext cx="609840" cy="1523880"/>
          </a:xfrm>
          <a:prstGeom prst="line">
            <a:avLst/>
          </a:prstGeom>
          <a:ln w="255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文本框 24590"/>
          <p:cNvSpPr/>
          <p:nvPr/>
        </p:nvSpPr>
        <p:spPr>
          <a:xfrm>
            <a:off x="5891040" y="236232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文本框 24591"/>
          <p:cNvSpPr/>
          <p:nvPr/>
        </p:nvSpPr>
        <p:spPr>
          <a:xfrm>
            <a:off x="4191120" y="4267080"/>
            <a:ext cx="4173480" cy="87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直接连接符 24592"/>
          <p:cNvSpPr/>
          <p:nvPr/>
        </p:nvSpPr>
        <p:spPr>
          <a:xfrm>
            <a:off x="457200" y="2666880"/>
            <a:ext cx="1295280" cy="1447920"/>
          </a:xfrm>
          <a:prstGeom prst="line">
            <a:avLst/>
          </a:prstGeom>
          <a:ln w="255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文本框 24593"/>
          <p:cNvSpPr/>
          <p:nvPr/>
        </p:nvSpPr>
        <p:spPr>
          <a:xfrm>
            <a:off x="474480" y="2133720"/>
            <a:ext cx="5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直接连接符 26641"/>
          <p:cNvSpPr/>
          <p:nvPr/>
        </p:nvSpPr>
        <p:spPr>
          <a:xfrm>
            <a:off x="5943600" y="4648320"/>
            <a:ext cx="0" cy="609480"/>
          </a:xfrm>
          <a:prstGeom prst="line">
            <a:avLst/>
          </a:prstGeom>
          <a:ln w="63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Turbulent and Diffusive Transf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矩形 26627"/>
          <p:cNvSpPr/>
          <p:nvPr/>
        </p:nvSpPr>
        <p:spPr>
          <a:xfrm rot="1779600">
            <a:off x="456840" y="3580920"/>
            <a:ext cx="19810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直接连接符 26629"/>
          <p:cNvSpPr/>
          <p:nvPr/>
        </p:nvSpPr>
        <p:spPr>
          <a:xfrm flipH="1" flipV="1">
            <a:off x="838080" y="2819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文本框 26630"/>
          <p:cNvSpPr/>
          <p:nvPr/>
        </p:nvSpPr>
        <p:spPr>
          <a:xfrm>
            <a:off x="684000" y="4495680"/>
            <a:ext cx="328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undary layer thic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eaf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ind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任意多边形 26631"/>
          <p:cNvSpPr/>
          <p:nvPr/>
        </p:nvSpPr>
        <p:spPr>
          <a:xfrm>
            <a:off x="990720" y="1828800"/>
            <a:ext cx="718920" cy="846000"/>
          </a:xfrm>
          <a:custGeom>
            <a:avLst/>
            <a:gdLst/>
            <a:ahLst/>
            <a:rect l="l" t="t" r="r" b="b"/>
            <a:pathLst>
              <a:path w="453" h="533">
                <a:moveTo>
                  <a:pt x="190" y="372"/>
                </a:moveTo>
                <a:cubicBezTo>
                  <a:pt x="162" y="342"/>
                  <a:pt x="44" y="246"/>
                  <a:pt x="22" y="192"/>
                </a:cubicBezTo>
                <a:cubicBezTo>
                  <a:pt x="0" y="138"/>
                  <a:pt x="14" y="70"/>
                  <a:pt x="59" y="47"/>
                </a:cubicBezTo>
                <a:cubicBezTo>
                  <a:pt x="104" y="24"/>
                  <a:pt x="234" y="0"/>
                  <a:pt x="293" y="53"/>
                </a:cubicBezTo>
                <a:cubicBezTo>
                  <a:pt x="352" y="106"/>
                  <a:pt x="453" y="285"/>
                  <a:pt x="413" y="365"/>
                </a:cubicBezTo>
                <a:cubicBezTo>
                  <a:pt x="373" y="445"/>
                  <a:pt x="128" y="498"/>
                  <a:pt x="53" y="5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任意多边形 26632"/>
          <p:cNvSpPr/>
          <p:nvPr/>
        </p:nvSpPr>
        <p:spPr>
          <a:xfrm>
            <a:off x="1752480" y="2209680"/>
            <a:ext cx="719280" cy="846360"/>
          </a:xfrm>
          <a:custGeom>
            <a:avLst/>
            <a:gdLst/>
            <a:ahLst/>
            <a:rect l="l" t="t" r="r" b="b"/>
            <a:pathLst>
              <a:path w="453" h="533">
                <a:moveTo>
                  <a:pt x="190" y="372"/>
                </a:moveTo>
                <a:cubicBezTo>
                  <a:pt x="162" y="342"/>
                  <a:pt x="44" y="246"/>
                  <a:pt x="22" y="192"/>
                </a:cubicBezTo>
                <a:cubicBezTo>
                  <a:pt x="0" y="138"/>
                  <a:pt x="14" y="70"/>
                  <a:pt x="59" y="47"/>
                </a:cubicBezTo>
                <a:cubicBezTo>
                  <a:pt x="104" y="24"/>
                  <a:pt x="234" y="0"/>
                  <a:pt x="293" y="53"/>
                </a:cubicBezTo>
                <a:cubicBezTo>
                  <a:pt x="352" y="106"/>
                  <a:pt x="453" y="285"/>
                  <a:pt x="413" y="365"/>
                </a:cubicBezTo>
                <a:cubicBezTo>
                  <a:pt x="373" y="445"/>
                  <a:pt x="128" y="498"/>
                  <a:pt x="53" y="5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任意多边形 26634"/>
          <p:cNvSpPr/>
          <p:nvPr/>
        </p:nvSpPr>
        <p:spPr>
          <a:xfrm>
            <a:off x="2590920" y="2590920"/>
            <a:ext cx="718920" cy="846000"/>
          </a:xfrm>
          <a:custGeom>
            <a:avLst/>
            <a:gdLst/>
            <a:ahLst/>
            <a:rect l="l" t="t" r="r" b="b"/>
            <a:pathLst>
              <a:path w="453" h="533">
                <a:moveTo>
                  <a:pt x="190" y="372"/>
                </a:moveTo>
                <a:cubicBezTo>
                  <a:pt x="162" y="342"/>
                  <a:pt x="44" y="246"/>
                  <a:pt x="22" y="192"/>
                </a:cubicBezTo>
                <a:cubicBezTo>
                  <a:pt x="0" y="138"/>
                  <a:pt x="14" y="70"/>
                  <a:pt x="59" y="47"/>
                </a:cubicBezTo>
                <a:cubicBezTo>
                  <a:pt x="104" y="24"/>
                  <a:pt x="234" y="0"/>
                  <a:pt x="293" y="53"/>
                </a:cubicBezTo>
                <a:cubicBezTo>
                  <a:pt x="352" y="106"/>
                  <a:pt x="453" y="285"/>
                  <a:pt x="413" y="365"/>
                </a:cubicBezTo>
                <a:cubicBezTo>
                  <a:pt x="373" y="445"/>
                  <a:pt x="128" y="498"/>
                  <a:pt x="53" y="5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等腰三角形 26636"/>
          <p:cNvSpPr/>
          <p:nvPr/>
        </p:nvSpPr>
        <p:spPr>
          <a:xfrm>
            <a:off x="5486400" y="37339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等腰三角形 26638"/>
          <p:cNvSpPr/>
          <p:nvPr/>
        </p:nvSpPr>
        <p:spPr>
          <a:xfrm>
            <a:off x="5867280" y="39625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等腰三角形 26639"/>
          <p:cNvSpPr/>
          <p:nvPr/>
        </p:nvSpPr>
        <p:spPr>
          <a:xfrm>
            <a:off x="6477120" y="38098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等腰三角形 26640"/>
          <p:cNvSpPr/>
          <p:nvPr/>
        </p:nvSpPr>
        <p:spPr>
          <a:xfrm>
            <a:off x="7086600" y="36576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直接连接符 26642"/>
          <p:cNvSpPr/>
          <p:nvPr/>
        </p:nvSpPr>
        <p:spPr>
          <a:xfrm>
            <a:off x="6400800" y="4876920"/>
            <a:ext cx="0" cy="609480"/>
          </a:xfrm>
          <a:prstGeom prst="line">
            <a:avLst/>
          </a:prstGeom>
          <a:ln w="63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直接连接符 26643"/>
          <p:cNvSpPr/>
          <p:nvPr/>
        </p:nvSpPr>
        <p:spPr>
          <a:xfrm>
            <a:off x="7010280" y="4724280"/>
            <a:ext cx="0" cy="609840"/>
          </a:xfrm>
          <a:prstGeom prst="line">
            <a:avLst/>
          </a:prstGeom>
          <a:ln w="63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直接连接符 26644"/>
          <p:cNvSpPr/>
          <p:nvPr/>
        </p:nvSpPr>
        <p:spPr>
          <a:xfrm>
            <a:off x="7620120" y="4572000"/>
            <a:ext cx="0" cy="609480"/>
          </a:xfrm>
          <a:prstGeom prst="line">
            <a:avLst/>
          </a:prstGeom>
          <a:ln w="63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文本框 26645"/>
          <p:cNvSpPr/>
          <p:nvPr/>
        </p:nvSpPr>
        <p:spPr>
          <a:xfrm>
            <a:off x="3336120" y="255600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bulent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文本框 26646"/>
          <p:cNvSpPr/>
          <p:nvPr/>
        </p:nvSpPr>
        <p:spPr>
          <a:xfrm>
            <a:off x="3123000" y="350532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inar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直接连接符 26647"/>
          <p:cNvSpPr/>
          <p:nvPr/>
        </p:nvSpPr>
        <p:spPr>
          <a:xfrm flipH="1" flipV="1">
            <a:off x="685800" y="297144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文本框 26648"/>
          <p:cNvSpPr/>
          <p:nvPr/>
        </p:nvSpPr>
        <p:spPr>
          <a:xfrm>
            <a:off x="3433680" y="1752480"/>
            <a:ext cx="1511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 = 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文本框 26650"/>
          <p:cNvSpPr/>
          <p:nvPr/>
        </p:nvSpPr>
        <p:spPr>
          <a:xfrm>
            <a:off x="5791320" y="1981080"/>
            <a:ext cx="231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 wit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ps and for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任意多边形 26651"/>
          <p:cNvSpPr/>
          <p:nvPr/>
        </p:nvSpPr>
        <p:spPr>
          <a:xfrm>
            <a:off x="5867280" y="2971800"/>
            <a:ext cx="1828800" cy="2438280"/>
          </a:xfrm>
          <a:custGeom>
            <a:avLst/>
            <a:gdLst/>
            <a:ahLst/>
            <a:rect l="l" t="t" r="r" b="b"/>
            <a:pathLst>
              <a:path w="1152" h="1536">
                <a:moveTo>
                  <a:pt x="1152" y="0"/>
                </a:moveTo>
                <a:cubicBezTo>
                  <a:pt x="1052" y="148"/>
                  <a:pt x="952" y="296"/>
                  <a:pt x="864" y="384"/>
                </a:cubicBezTo>
                <a:cubicBezTo>
                  <a:pt x="776" y="472"/>
                  <a:pt x="704" y="472"/>
                  <a:pt x="624" y="528"/>
                </a:cubicBezTo>
                <a:cubicBezTo>
                  <a:pt x="544" y="584"/>
                  <a:pt x="464" y="632"/>
                  <a:pt x="384" y="720"/>
                </a:cubicBezTo>
                <a:cubicBezTo>
                  <a:pt x="304" y="808"/>
                  <a:pt x="208" y="920"/>
                  <a:pt x="144" y="1056"/>
                </a:cubicBezTo>
                <a:cubicBezTo>
                  <a:pt x="80" y="1192"/>
                  <a:pt x="40" y="1364"/>
                  <a:pt x="0" y="153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直接连接符 26652"/>
          <p:cNvSpPr/>
          <p:nvPr/>
        </p:nvSpPr>
        <p:spPr>
          <a:xfrm>
            <a:off x="5638680" y="57913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文本框 26653"/>
          <p:cNvSpPr/>
          <p:nvPr/>
        </p:nvSpPr>
        <p:spPr>
          <a:xfrm>
            <a:off x="6689880" y="568008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6T15:49:13Z</dcterms:created>
  <dc:creator>Mathew Williams</dc:creator>
  <dc:description/>
  <dc:language>en-US</dc:language>
  <cp:lastModifiedBy>ninic</cp:lastModifiedBy>
  <dcterms:modified xsi:type="dcterms:W3CDTF">2018-06-12T02:41:25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00</vt:lpwstr>
  </property>
</Properties>
</file>