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6.png" ContentType="image/png"/>
  <Override PartName="/ppt/media/image2.png" ContentType="image/png"/>
  <Override PartName="/ppt/media/image4.jpeg" ContentType="image/jpeg"/>
  <Override PartName="/ppt/media/image10.wmf" ContentType="image/x-wmf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0800" y="698400"/>
            <a:ext cx="464652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2600"/>
            <a:ext cx="303696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3320" y="8832600"/>
            <a:ext cx="303660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94350D0-732A-40A2-B5B8-FB85544B7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0.wmf"/><Relationship Id="rId7" Type="http://schemas.openxmlformats.org/officeDocument/2006/relationships/slide" Target="../slides/slide20.xml"/><Relationship Id="rId8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6981290-10ED-422D-BA58-3984D7BE5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CE63412-F8A0-4C53-918B-19034DF89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Exercise T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ACE_MASTER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    SurfOH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ACE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OH = SurfOH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0.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OH  + H+ = SurfOH2+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7.29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OH = SurfO- + H+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-8.9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OH + AsO4-3 + 3H+ = SurfH2AsO4 + 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29.3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OH + AsO4-3 + 2H+ = SurfHAsO4- + 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23.5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OH + AsO4-3 = SurfOHAsO4-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10.5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MASTER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       H3AsO4        -1.0     74.9216         74.921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H3AsO4 primary master 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3AsO4 = H3AsO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        0.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H2AsO4-             48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3AsO4 = AsO4-3 + 3H+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-20.7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HAsO4-2                483    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+ + AsO4-3 = HAsO4-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11.5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AsO4-3              48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H+ + AsO4-3 = H2AsO4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        18.4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  Define brin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SPREA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units mol/kgw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scriptio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Numb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emp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p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p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C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Mg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N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C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C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A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2(g) -0.7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charg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uMol/kgw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rin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5.713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465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1609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5.402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6.642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0039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00472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0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Define equilibrium_phases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olomite        0.0     1.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lcite         0.0     0.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Equilibrate brine with calcite and dolomit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Save solutions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equilibrium_phases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AVE solution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  Define initial exchange and surface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ITLE Initial exchange and surfac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XCHANGE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    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equilibrate with 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ACE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equilibrate with 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   0.07   600    3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  Define 20xRainwater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SPREA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units mmol/kgw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scriptio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Numb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emp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p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p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C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Mg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N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C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C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2(g) -0.7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charg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0xRainwa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.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192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03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123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134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01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23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Equilibrate rainwater with calcite, dolomite, CO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Save as solution 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olomite        0.0     1.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lcite         0.0     0.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2(g)          -1.5    10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AVE solution 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  Advect reacted rainwater through column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  5 shift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LECTED_OUTPU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reset fal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file t1.se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solution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pH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alkalinity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mol   NaX CaX2 MgX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tot   Cl Na Ca Mg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R_PUNCH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headings As(ug/L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star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0 PUNCH TOT("As")*1e6*74.9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DVECTION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cells 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shifts 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print_frequency 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punch_frequency 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warnings tru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1E6D489-9090-40B3-9D4A-389B91494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Exercise T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ACE_MASTER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    SurfOH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ACE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OH = SurfOH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0.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OH  + H+ = SurfOH2+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7.29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OH = SurfO- + H+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-8.9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OH + AsO4-3 + 3H+ = SurfH2AsO4 + 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29.3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OH + AsO4-3 + 2H+ = SurfHAsO4- + 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23.5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OH + AsO4-3 = SurfOHAsO4-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10.5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MASTER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       H3AsO4        -1.0     74.9216         74.921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H3AsO4 primary master 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3AsO4 = H3AsO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        0.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H2AsO4-             48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3AsO4 = AsO4-3 + 3H+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-20.7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HAsO4-2                483    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+ + AsO4-3 = HAsO4-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11.5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AsO4-3              48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H+ + AsO4-3 = H2AsO4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        18.4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  Define brin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SPREA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units mol/kgw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scriptio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Numb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emp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p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p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C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Mg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N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C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C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A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2(g) -0.7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charg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uMol/kgw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rin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5.713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465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1609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5.402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6.642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0039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00472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0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Define equilibrium_phases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olomite        0.0     1.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lcite         0.0     0.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Equilibrate brine with calcite and dolomit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Save solutions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equilibrium_phases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AVE solution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  Define initial exchange and surface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ITLE Initial exchange and surfac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XCHANGE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    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equilibrate with 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ACE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equilibrate with 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   0.07   600    3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  Define 20xRainwater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SPREA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units mmol/kgw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scriptio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Numb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emp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p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p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C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Mg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N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C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C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2(g) -0.7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charg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0xRainwa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.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192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03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123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134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01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23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Equilibrate rainwater with calcite, dolomite, CO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Save as solution 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olomite        0.0     1.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lcite         0.0     0.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2(g)          -1.5    10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AVE solution 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  Advect reacted rainwater through column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  5 shift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LECTED_OUTPU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reset fal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file t1.se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solution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pH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alkalinity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mol   NaX CaX2 MgX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tot   Cl Na Ca Mg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R_PUNCH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headings As(ug/L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star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0 PUNCH TOT("As")*1e6*74.9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DVECTION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cells 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shifts 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print_frequency 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punch_frequency 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warnings tru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6336FAF-A5CC-4645-B28D-5CE1D02F0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2. Question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. Cl is a square wave, low concentrations in first 75 cells, high concentrations in last 25 cells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. pH ~7.5 in first cell, pH is &gt; 9 for 50 cells, decreases to &lt; 5.5 by cell 70, up to constant 5.6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3. Arsenic &gt; 10 ug/L when pH is above 8.5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horide is a square-wave front because only advection is simulated. The front has moved 5 cells because there have been 5 shifts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 decreases from pH 9 to pH 6 from cell 2 to cell 6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ell 3 has pH 8.5, but little arsenic. Cell 2 has pH 9 and 100 ug/L As. So greater than pH 8.5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318" name="Object 4"/>
          <p:cNvGraphicFramePr/>
          <p:nvPr/>
        </p:nvGraphicFramePr>
        <p:xfrm>
          <a:off x="3743280" y="4425840"/>
          <a:ext cx="2827440" cy="154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3280" y="4425840"/>
                    <a:ext cx="2827440" cy="15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Object 5"/>
          <p:cNvGraphicFramePr/>
          <p:nvPr/>
        </p:nvGraphicFramePr>
        <p:xfrm>
          <a:off x="917640" y="4425840"/>
          <a:ext cx="2833560" cy="1546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2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7640" y="4425840"/>
                    <a:ext cx="2833560" cy="15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Object 6"/>
          <p:cNvGraphicFramePr/>
          <p:nvPr/>
        </p:nvGraphicFramePr>
        <p:xfrm>
          <a:off x="917640" y="6029280"/>
          <a:ext cx="2833560" cy="1544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2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7640" y="6029280"/>
                    <a:ext cx="283356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1358360-E1C2-4E25-A625-E3490187D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967B76C-9E86-4D48-9A78-CE8B576A8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64AE-3A18-461D-9D69-648303505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33A0-46E8-401F-9281-473AE985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5F48-0040-4B2A-ACE0-ACF2D59D5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1238-BA80-4481-AF50-363AC073C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973D2-4E4E-4290-864E-650DB07BE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2882-2C9B-425C-B893-F8BD0CA8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E7E1-F19F-4840-9AC1-168817C2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D142-141E-4B08-8C87-17269EB8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89BA-FE7F-4ECE-B5AC-45427A7A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0535-F120-4CA4-B3AE-EA6A4233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F562F-10C1-4815-904B-B756C986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0D9A-2D67-4E37-8A67-1703D0B1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D7240-3E9A-4577-9A5A-DE57EA03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4448-FF59-4CC2-890B-5ACD0B94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8905-588B-4996-995F-5A1A05F2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BDE1-20AF-42C0-9747-C2837F20F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C34A-D323-419C-93DF-C49B5026F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10D72-363A-41E8-8EBC-04C728DD9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97CA3-5DE9-4D2C-B09C-AF7B3B9F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4FB91-B425-43A4-8C30-DC4A3744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F3A0A-1A3A-47CC-BA36-3B389584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B069F-184C-4485-903F-83F01891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A95F-D454-4BFC-A681-43D1BF5A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41584-FB21-4C0A-8D76-A200F720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2C183-75FB-4139-A1CF-BD15B6D8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78090-A93A-4727-96C0-5D8D9E0D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21FC6-6E9E-4952-9395-4F0E575C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8FCB3-0CFF-4318-91CD-020DF5C6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0554E-3740-496A-8BC8-6A76953BE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89E5D-F006-4654-BD31-666E84745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D9EA-EBE5-46B0-B368-4085786A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0B99-8A91-4E7C-A7A4-EB6A91CF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6F75-9492-4540-A809-39E979D4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78C7-14BB-4BEA-8486-8E606C81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7B14-50CA-477D-B7A4-510FF5C1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268B-A9E5-4190-A0CB-367135E9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D913-6A76-4F2D-BFE3-7575A3962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3" descr="Image of small USGS Identifier"/>
          <p:cNvPicPr/>
          <p:nvPr/>
        </p:nvPicPr>
        <p:blipFill>
          <a:blip r:embed="rId2"/>
          <a:stretch/>
        </p:blipFill>
        <p:spPr>
          <a:xfrm>
            <a:off x="152280" y="6284880"/>
            <a:ext cx="1143000" cy="4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3" descr="Image of small USGS Identifier"/>
          <p:cNvPicPr/>
          <p:nvPr/>
        </p:nvPicPr>
        <p:blipFill>
          <a:blip r:embed="rId2"/>
          <a:stretch/>
        </p:blipFill>
        <p:spPr>
          <a:xfrm>
            <a:off x="152280" y="6284880"/>
            <a:ext cx="1143000" cy="420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3" descr="Image of small USGS Identifier"/>
          <p:cNvPicPr/>
          <p:nvPr/>
        </p:nvPicPr>
        <p:blipFill>
          <a:blip r:embed="rId3"/>
          <a:stretch/>
        </p:blipFill>
        <p:spPr>
          <a:xfrm>
            <a:off x="152280" y="6284880"/>
            <a:ext cx="1143000" cy="4208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1DD1-ED6F-469B-8075-97064AC49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3" descr="Image of small USGS Identifier"/>
          <p:cNvPicPr/>
          <p:nvPr/>
        </p:nvPicPr>
        <p:blipFill>
          <a:blip r:embed="rId2"/>
          <a:stretch/>
        </p:blipFill>
        <p:spPr>
          <a:xfrm>
            <a:off x="152280" y="6284880"/>
            <a:ext cx="1143000" cy="420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3" descr="Image of small USGS Identifier"/>
          <p:cNvPicPr/>
          <p:nvPr/>
        </p:nvPicPr>
        <p:blipFill>
          <a:blip r:embed="rId3"/>
          <a:stretch/>
        </p:blipFill>
        <p:spPr>
          <a:xfrm>
            <a:off x="152280" y="6284880"/>
            <a:ext cx="1143000" cy="4208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6AA9-16DB-4AB9-8D86-154B09D81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hursday Afterno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D reactive transport with PHEEQ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MOD—Watershed modeling with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DVEC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288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shif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kinetics—time 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4496040" cy="5019840"/>
          </a:xfrm>
          <a:prstGeom prst="rect">
            <a:avLst/>
          </a:prstGeom>
          <a:ln w="0">
            <a:noFill/>
          </a:ln>
        </p:spPr>
      </p:pic>
      <p:sp>
        <p:nvSpPr>
          <p:cNvPr id="237" name="Oval 5"/>
          <p:cNvSpPr/>
          <p:nvPr/>
        </p:nvSpPr>
        <p:spPr>
          <a:xfrm>
            <a:off x="304920" y="1523880"/>
            <a:ext cx="838080" cy="38124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DVEC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288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s to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to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ed-output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s to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to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4495680" cy="5019840"/>
          </a:xfrm>
          <a:prstGeom prst="rect">
            <a:avLst/>
          </a:prstGeom>
          <a:ln w="0">
            <a:noFill/>
          </a:ln>
        </p:spPr>
      </p:pic>
      <p:sp>
        <p:nvSpPr>
          <p:cNvPr id="241" name="Oval 5"/>
          <p:cNvSpPr/>
          <p:nvPr/>
        </p:nvSpPr>
        <p:spPr>
          <a:xfrm>
            <a:off x="838080" y="1600200"/>
            <a:ext cx="838440" cy="38088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9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782040" cy="492444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Use Range of Numb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5"/>
          <p:cNvSpPr/>
          <p:nvPr/>
        </p:nvSpPr>
        <p:spPr>
          <a:xfrm>
            <a:off x="4038480" y="3276720"/>
            <a:ext cx="838440" cy="30456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6"/>
          <p:cNvSpPr/>
          <p:nvPr/>
        </p:nvSpPr>
        <p:spPr>
          <a:xfrm>
            <a:off x="2895480" y="4191120"/>
            <a:ext cx="1524240" cy="30456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7"/>
          <p:cNvSpPr/>
          <p:nvPr/>
        </p:nvSpPr>
        <p:spPr>
          <a:xfrm>
            <a:off x="2895480" y="4648320"/>
            <a:ext cx="1295640" cy="30456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8"/>
          <p:cNvSpPr/>
          <p:nvPr/>
        </p:nvSpPr>
        <p:spPr>
          <a:xfrm>
            <a:off x="2819520" y="5334120"/>
            <a:ext cx="1143000" cy="30456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DVECTION 1. Exercise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Oklahoma transport simula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0" y="16765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be plotting results. You can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reeqcI and Excel (with SELECTED_OUTP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hreeqc for Windows and USER_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. Phreeqcpp in ChartPhreeqc directory also will plot with USER_GRAPH, but is not interactive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DVECTION 1. Exercise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Oklahoma transport simula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aqueous model and sorption model for arsenic from Dzombak and Morel, 1990 (Cut and paste from Power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457200" y="2286000"/>
            <a:ext cx="4419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ACE_MASTER_SPE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    SurfO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ACE_SPE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OH = SurfO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_k   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OH  + H+ = SurfOH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_k   7.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OH = SurfO- + H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_k   -8.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OH + AsO4-3 + 3H+ = SurfH2AsO4 + H2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_k   29.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OH + AsO4-3 + 2H+ = SurfHAsO4- + H2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_k   23.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OH + AsO4-3 = SurfOHAsO4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_k   10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_MASTER_SPE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      H3AsO4        -1.0     74.9216    74.92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5715000" y="2286000"/>
            <a:ext cx="2895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_SPE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H3AsO4 primary master spe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3AsO4 = H3As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_k           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H2AsO4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3AsO4 = AsO4-3 + 3H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_k   -20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HAsO4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+ + AsO4-3 = HAsO4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_k   11.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AsO4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H+ + AsO4-3 = H2AsO4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_k           18.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DVECTION 1. Exercise—Continued 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7848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Initial conditions for cells 1-100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Define SOLUTION 1 with the brine composition. (It is possible to cut and paste into PhreeqcI or Phreeqc for Window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Define EQUILIBRIUM_PHASES 1-100 with 0.1 mol calcite and 1.6 mol dolom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React solution 1 with equilibirum phases 1 (USE) and SAVE resultomg solution in cells 1-1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Define EXCHANGE 1-100 to have 1 mol of exchanger X and to be in equilibrium with solution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 Define SURFACE 1-100 to have 0.07 mol of surface complexation sites (Hfo), 600 m^2/g specific surface area, 30 grams of sorbent, and to be in equilibrium with solution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Object 4"/>
          <p:cNvGraphicFramePr/>
          <p:nvPr/>
        </p:nvGraphicFramePr>
        <p:xfrm>
          <a:off x="609480" y="1066680"/>
          <a:ext cx="8001000" cy="87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800100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DVECTION 1. Exercise—Continued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120" y="2590920"/>
            <a:ext cx="80773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Define infilling solution 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Define the evaporated rainwater as SOLUTION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React solution 0 with EQUILIBRIUM_PHASES 0 that has calcite, dolomite, and pCO2= 10^-1.5. SAVE resulting solution as solution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Object 5"/>
          <p:cNvGraphicFramePr/>
          <p:nvPr/>
        </p:nvGraphicFramePr>
        <p:xfrm>
          <a:off x="685800" y="1447920"/>
          <a:ext cx="7226280" cy="83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72262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DVECTION 1. Exercise—Continued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60948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Define advection cal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Use ADVECTION data bloc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5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_frequency 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nch_frequency 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SELECTED_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, Cl, Na, Ca, NaX, CaX2 (mol/kgw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USER_P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(ug/kgw)  (gram formula mass is 75 g/m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lot Advection Result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 selected output file into 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 input file into Phreeqc for Windows and add USER_GRAPH (next p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USER_GRAPH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0948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_GRAP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headings Cell_number Cl Na Ca NaX CaX2 As(ug/L) p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axis_titles "Cell_number“ "Log Concentration"  "pH"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x-axis, y-axis, sy-ax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chart_title "Oklahoma Advection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connect_simulations tru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true/fa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axis_scale x_axis 0 100 50 1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min, max, major, min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axis_scale y_axis -6 3 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min, max, major, min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axis_scale sy_axis 0 10 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secondary y-ax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plot_concentration_vs x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distance pl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 graph_x d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 graph_y  log10(TOT("Cl")), log10(TOT("Na")), log10(TOT("Ca"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 graph_y  log10(MOL("NaX")), log10(MOL("CaX2")), log10(TOT("As")*1e6*7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 graph_sy -la("H+"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1D Solute Transport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609480" y="28195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on change with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ersion/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ic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ical disp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cil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3"/>
              <p:cNvSpPr txBox="1"/>
              <p:nvPr/>
            </p:nvSpPr>
            <p:spPr>
              <a:xfrm>
                <a:off x="2819520" y="1695600"/>
                <a:ext cx="29304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D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ADVECTION 1. Question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file in the column at the end of the sim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pH profile in the column at the end of the sim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pH at which arsenic appears to become a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DVECTION 1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1907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, Mg exchange for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ite, dolomite disso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&gt;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&gt; 100 ug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Object 8"/>
          <p:cNvGraphicFramePr/>
          <p:nvPr/>
        </p:nvGraphicFramePr>
        <p:xfrm>
          <a:off x="685800" y="3733920"/>
          <a:ext cx="3697200" cy="246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733920"/>
                    <a:ext cx="3697200" cy="24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9"/>
          <p:cNvGraphicFramePr/>
          <p:nvPr/>
        </p:nvGraphicFramePr>
        <p:xfrm>
          <a:off x="5092560" y="1295280"/>
          <a:ext cx="3619800" cy="2414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7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92560" y="1295280"/>
                    <a:ext cx="3619800" cy="24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7" name="Picture 7" descr=""/>
          <p:cNvPicPr/>
          <p:nvPr/>
        </p:nvPicPr>
        <p:blipFill>
          <a:blip r:embed="rId5"/>
          <a:stretch/>
        </p:blipFill>
        <p:spPr>
          <a:xfrm>
            <a:off x="5041800" y="3940200"/>
            <a:ext cx="37134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hreeqc For Window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1600200" y="1465200"/>
            <a:ext cx="681048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HREEQCPP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1486080" y="1371600"/>
            <a:ext cx="6172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DVECTION 1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l is a square wave, low concentrations in first 75 cells, high concentrations in last 25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H ~7.5 in first cell, pH is &gt; 9 for 50 cells, decreases to &lt; 5.5 by cell 70, up to constant 5.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rsenic &gt; 10 ug/L when pH is above 8.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RANSPOR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87656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leng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ty=length/time step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ers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7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4505040" cy="5029200"/>
          </a:xfrm>
          <a:prstGeom prst="rect">
            <a:avLst/>
          </a:prstGeom>
          <a:ln w="0">
            <a:noFill/>
          </a:ln>
        </p:spPr>
      </p:pic>
      <p:sp>
        <p:nvSpPr>
          <p:cNvPr id="291" name="Oval 8"/>
          <p:cNvSpPr/>
          <p:nvPr/>
        </p:nvSpPr>
        <p:spPr>
          <a:xfrm>
            <a:off x="762120" y="1828800"/>
            <a:ext cx="914400" cy="38088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8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RANSPOR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10552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undary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usion co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7"/>
          <p:cNvSpPr/>
          <p:nvPr/>
        </p:nvSpPr>
        <p:spPr>
          <a:xfrm>
            <a:off x="1523880" y="1752480"/>
            <a:ext cx="1447920" cy="53352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8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RANSPOR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10552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nant cells/dual poro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One stagnant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ultiple stagnant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7"/>
          <p:cNvSpPr/>
          <p:nvPr/>
        </p:nvSpPr>
        <p:spPr>
          <a:xfrm>
            <a:off x="2971800" y="1828800"/>
            <a:ext cx="160020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RANSPORT—Charge-Balanced Diffusio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51920" y="2438280"/>
            <a:ext cx="38862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multi_d true 1e-9 0.3 0.05 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UTION_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H+ = H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log_k   0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-gamma  9.0     0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w     9.31e-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4038480" y="1981080"/>
            <a:ext cx="48769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component diffusion—tr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ault tracer diffusion coefficient—1e-9 m2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osity—0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mum porosity—0.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iffusion stops when the porosity reaches the porosity lim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onent of porosity (n) –1.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ffective diffusion coefficient–De = Dw * porosity^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w is tracer diffusion coefficient in SOLUTION_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Field-Scale Examples </a:t>
            </a:r>
            <a:br>
              <a:rPr sz="4000"/>
            </a:b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oncentration Profile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tical and two finite-differenc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1371600" y="2276640"/>
            <a:ext cx="668664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HREEQC Transport Calculation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44" name="Group 108"/>
          <p:cNvGrpSpPr/>
          <p:nvPr/>
        </p:nvGrpSpPr>
        <p:grpSpPr>
          <a:xfrm>
            <a:off x="3048120" y="1523880"/>
            <a:ext cx="4876200" cy="685800"/>
            <a:chOff x="3048120" y="1523880"/>
            <a:chExt cx="4876200" cy="685800"/>
          </a:xfrm>
        </p:grpSpPr>
        <p:sp>
          <p:nvSpPr>
            <p:cNvPr id="145" name="Rectangle 87"/>
            <p:cNvSpPr/>
            <p:nvPr/>
          </p:nvSpPr>
          <p:spPr>
            <a:xfrm>
              <a:off x="3048120" y="1893240"/>
              <a:ext cx="379800" cy="316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88"/>
            <p:cNvSpPr/>
            <p:nvPr/>
          </p:nvSpPr>
          <p:spPr>
            <a:xfrm>
              <a:off x="3681000" y="1893240"/>
              <a:ext cx="379800" cy="316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89"/>
            <p:cNvSpPr/>
            <p:nvPr/>
          </p:nvSpPr>
          <p:spPr>
            <a:xfrm>
              <a:off x="4314600" y="1893240"/>
              <a:ext cx="379800" cy="316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90"/>
            <p:cNvSpPr/>
            <p:nvPr/>
          </p:nvSpPr>
          <p:spPr>
            <a:xfrm>
              <a:off x="4947840" y="1893240"/>
              <a:ext cx="379800" cy="316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91"/>
            <p:cNvSpPr/>
            <p:nvPr/>
          </p:nvSpPr>
          <p:spPr>
            <a:xfrm>
              <a:off x="5581080" y="1893240"/>
              <a:ext cx="379800" cy="316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92"/>
            <p:cNvSpPr/>
            <p:nvPr/>
          </p:nvSpPr>
          <p:spPr>
            <a:xfrm>
              <a:off x="6214680" y="1893240"/>
              <a:ext cx="379800" cy="316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99"/>
            <p:cNvSpPr/>
            <p:nvPr/>
          </p:nvSpPr>
          <p:spPr>
            <a:xfrm>
              <a:off x="7544520" y="1893240"/>
              <a:ext cx="379800" cy="316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100"/>
            <p:cNvSpPr/>
            <p:nvPr/>
          </p:nvSpPr>
          <p:spPr>
            <a:xfrm>
              <a:off x="3301200" y="1523880"/>
              <a:ext cx="506520" cy="349560"/>
            </a:xfrm>
            <a:custGeom>
              <a:avLst/>
              <a:gdLst>
                <a:gd name="textAreaLeft" fmla="*/ 88560 w 506520"/>
                <a:gd name="textAreaRight" fmla="*/ 367200 w 506520"/>
                <a:gd name="textAreaTop" fmla="*/ 46800 h 349560"/>
                <a:gd name="textAreaBottom" fmla="*/ 302760 h 34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103"/>
            <p:cNvSpPr/>
            <p:nvPr/>
          </p:nvSpPr>
          <p:spPr>
            <a:xfrm>
              <a:off x="3934440" y="1523880"/>
              <a:ext cx="506520" cy="349560"/>
            </a:xfrm>
            <a:custGeom>
              <a:avLst/>
              <a:gdLst>
                <a:gd name="textAreaLeft" fmla="*/ 88560 w 506520"/>
                <a:gd name="textAreaRight" fmla="*/ 367200 w 506520"/>
                <a:gd name="textAreaTop" fmla="*/ 46800 h 349560"/>
                <a:gd name="textAreaBottom" fmla="*/ 302760 h 34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104"/>
            <p:cNvSpPr/>
            <p:nvPr/>
          </p:nvSpPr>
          <p:spPr>
            <a:xfrm>
              <a:off x="4568040" y="1523880"/>
              <a:ext cx="506520" cy="349560"/>
            </a:xfrm>
            <a:custGeom>
              <a:avLst/>
              <a:gdLst>
                <a:gd name="textAreaLeft" fmla="*/ 88560 w 506520"/>
                <a:gd name="textAreaRight" fmla="*/ 367200 w 506520"/>
                <a:gd name="textAreaTop" fmla="*/ 46800 h 349560"/>
                <a:gd name="textAreaBottom" fmla="*/ 302760 h 34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105"/>
            <p:cNvSpPr/>
            <p:nvPr/>
          </p:nvSpPr>
          <p:spPr>
            <a:xfrm>
              <a:off x="5200920" y="1523880"/>
              <a:ext cx="506520" cy="349560"/>
            </a:xfrm>
            <a:custGeom>
              <a:avLst/>
              <a:gdLst>
                <a:gd name="textAreaLeft" fmla="*/ 88560 w 506520"/>
                <a:gd name="textAreaRight" fmla="*/ 367200 w 506520"/>
                <a:gd name="textAreaTop" fmla="*/ 46800 h 349560"/>
                <a:gd name="textAreaBottom" fmla="*/ 302760 h 34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106"/>
            <p:cNvSpPr/>
            <p:nvPr/>
          </p:nvSpPr>
          <p:spPr>
            <a:xfrm>
              <a:off x="5834520" y="1523880"/>
              <a:ext cx="506520" cy="349560"/>
            </a:xfrm>
            <a:custGeom>
              <a:avLst/>
              <a:gdLst>
                <a:gd name="textAreaLeft" fmla="*/ 88560 w 506520"/>
                <a:gd name="textAreaRight" fmla="*/ 367200 w 506520"/>
                <a:gd name="textAreaTop" fmla="*/ 46800 h 349560"/>
                <a:gd name="textAreaBottom" fmla="*/ 302760 h 34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107"/>
            <p:cNvSpPr/>
            <p:nvPr/>
          </p:nvSpPr>
          <p:spPr>
            <a:xfrm>
              <a:off x="7164720" y="1523880"/>
              <a:ext cx="506520" cy="349560"/>
            </a:xfrm>
            <a:custGeom>
              <a:avLst/>
              <a:gdLst>
                <a:gd name="textAreaLeft" fmla="*/ 88560 w 506520"/>
                <a:gd name="textAreaRight" fmla="*/ 367200 w 506520"/>
                <a:gd name="textAreaTop" fmla="*/ 46800 h 349560"/>
                <a:gd name="textAreaBottom" fmla="*/ 302760 h 34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 Box 109"/>
          <p:cNvSpPr/>
          <p:nvPr/>
        </p:nvSpPr>
        <p:spPr>
          <a:xfrm>
            <a:off x="762120" y="1752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38"/>
          <p:cNvSpPr/>
          <p:nvPr/>
        </p:nvSpPr>
        <p:spPr>
          <a:xfrm>
            <a:off x="762120" y="3200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149"/>
          <p:cNvGrpSpPr/>
          <p:nvPr/>
        </p:nvGrpSpPr>
        <p:grpSpPr>
          <a:xfrm>
            <a:off x="3048120" y="2971800"/>
            <a:ext cx="4876560" cy="1066680"/>
            <a:chOff x="3048120" y="2971800"/>
            <a:chExt cx="4876560" cy="1066680"/>
          </a:xfrm>
        </p:grpSpPr>
        <p:grpSp>
          <p:nvGrpSpPr>
            <p:cNvPr id="161" name="Group 148"/>
            <p:cNvGrpSpPr/>
            <p:nvPr/>
          </p:nvGrpSpPr>
          <p:grpSpPr>
            <a:xfrm>
              <a:off x="3048120" y="3341520"/>
              <a:ext cx="4876560" cy="316080"/>
              <a:chOff x="3048120" y="3341520"/>
              <a:chExt cx="4876560" cy="316080"/>
            </a:xfrm>
          </p:grpSpPr>
          <p:sp>
            <p:nvSpPr>
              <p:cNvPr id="162" name="Rectangle 125"/>
              <p:cNvSpPr/>
              <p:nvPr/>
            </p:nvSpPr>
            <p:spPr>
              <a:xfrm>
                <a:off x="3048120" y="3341520"/>
                <a:ext cx="379440" cy="316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126"/>
              <p:cNvSpPr/>
              <p:nvPr/>
            </p:nvSpPr>
            <p:spPr>
              <a:xfrm>
                <a:off x="3681360" y="3341520"/>
                <a:ext cx="379440" cy="316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127"/>
              <p:cNvSpPr/>
              <p:nvPr/>
            </p:nvSpPr>
            <p:spPr>
              <a:xfrm>
                <a:off x="4314960" y="3341520"/>
                <a:ext cx="379440" cy="316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128"/>
              <p:cNvSpPr/>
              <p:nvPr/>
            </p:nvSpPr>
            <p:spPr>
              <a:xfrm>
                <a:off x="4948200" y="3341520"/>
                <a:ext cx="379440" cy="316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29"/>
              <p:cNvSpPr/>
              <p:nvPr/>
            </p:nvSpPr>
            <p:spPr>
              <a:xfrm>
                <a:off x="5581800" y="3341520"/>
                <a:ext cx="379440" cy="316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130"/>
              <p:cNvSpPr/>
              <p:nvPr/>
            </p:nvSpPr>
            <p:spPr>
              <a:xfrm>
                <a:off x="6215040" y="3341520"/>
                <a:ext cx="379440" cy="316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131"/>
              <p:cNvSpPr/>
              <p:nvPr/>
            </p:nvSpPr>
            <p:spPr>
              <a:xfrm>
                <a:off x="7545240" y="3341520"/>
                <a:ext cx="379440" cy="316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139"/>
            <p:cNvGrpSpPr/>
            <p:nvPr/>
          </p:nvGrpSpPr>
          <p:grpSpPr>
            <a:xfrm>
              <a:off x="3301920" y="2971800"/>
              <a:ext cx="4368960" cy="349200"/>
              <a:chOff x="3301920" y="2971800"/>
              <a:chExt cx="4368960" cy="349200"/>
            </a:xfrm>
          </p:grpSpPr>
          <p:sp>
            <p:nvSpPr>
              <p:cNvPr id="170" name="AutoShape 132"/>
              <p:cNvSpPr/>
              <p:nvPr/>
            </p:nvSpPr>
            <p:spPr>
              <a:xfrm>
                <a:off x="3301920" y="2971800"/>
                <a:ext cx="506520" cy="349200"/>
              </a:xfrm>
              <a:custGeom>
                <a:avLst/>
                <a:gdLst>
                  <a:gd name="textAreaLeft" fmla="*/ 88560 w 506520"/>
                  <a:gd name="textAreaRight" fmla="*/ 367200 w 506520"/>
                  <a:gd name="textAreaTop" fmla="*/ 46800 h 349200"/>
                  <a:gd name="textAreaBottom" fmla="*/ 302400 h 34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AutoShape 133"/>
              <p:cNvSpPr/>
              <p:nvPr/>
            </p:nvSpPr>
            <p:spPr>
              <a:xfrm>
                <a:off x="3935520" y="2971800"/>
                <a:ext cx="506160" cy="349200"/>
              </a:xfrm>
              <a:custGeom>
                <a:avLst/>
                <a:gdLst>
                  <a:gd name="textAreaLeft" fmla="*/ 88560 w 506160"/>
                  <a:gd name="textAreaRight" fmla="*/ 367200 w 506160"/>
                  <a:gd name="textAreaTop" fmla="*/ 46800 h 349200"/>
                  <a:gd name="textAreaBottom" fmla="*/ 302400 h 34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AutoShape 134"/>
              <p:cNvSpPr/>
              <p:nvPr/>
            </p:nvSpPr>
            <p:spPr>
              <a:xfrm>
                <a:off x="4568760" y="2971800"/>
                <a:ext cx="506520" cy="349200"/>
              </a:xfrm>
              <a:custGeom>
                <a:avLst/>
                <a:gdLst>
                  <a:gd name="textAreaLeft" fmla="*/ 88560 w 506520"/>
                  <a:gd name="textAreaRight" fmla="*/ 367200 w 506520"/>
                  <a:gd name="textAreaTop" fmla="*/ 46800 h 349200"/>
                  <a:gd name="textAreaBottom" fmla="*/ 302400 h 34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AutoShape 135"/>
              <p:cNvSpPr/>
              <p:nvPr/>
            </p:nvSpPr>
            <p:spPr>
              <a:xfrm>
                <a:off x="5200560" y="2971800"/>
                <a:ext cx="507960" cy="349200"/>
              </a:xfrm>
              <a:custGeom>
                <a:avLst/>
                <a:gdLst>
                  <a:gd name="textAreaLeft" fmla="*/ 88920 w 507960"/>
                  <a:gd name="textAreaRight" fmla="*/ 368280 w 507960"/>
                  <a:gd name="textAreaTop" fmla="*/ 46800 h 349200"/>
                  <a:gd name="textAreaBottom" fmla="*/ 302400 h 34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AutoShape 136"/>
              <p:cNvSpPr/>
              <p:nvPr/>
            </p:nvSpPr>
            <p:spPr>
              <a:xfrm>
                <a:off x="5834160" y="2971800"/>
                <a:ext cx="507960" cy="349200"/>
              </a:xfrm>
              <a:custGeom>
                <a:avLst/>
                <a:gdLst>
                  <a:gd name="textAreaLeft" fmla="*/ 88920 w 507960"/>
                  <a:gd name="textAreaRight" fmla="*/ 368280 w 507960"/>
                  <a:gd name="textAreaTop" fmla="*/ 46800 h 349200"/>
                  <a:gd name="textAreaBottom" fmla="*/ 302400 h 34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AutoShape 137"/>
              <p:cNvSpPr/>
              <p:nvPr/>
            </p:nvSpPr>
            <p:spPr>
              <a:xfrm>
                <a:off x="7164360" y="2971800"/>
                <a:ext cx="506520" cy="349200"/>
              </a:xfrm>
              <a:custGeom>
                <a:avLst/>
                <a:gdLst>
                  <a:gd name="textAreaLeft" fmla="*/ 88560 w 506520"/>
                  <a:gd name="textAreaRight" fmla="*/ 367200 w 506520"/>
                  <a:gd name="textAreaTop" fmla="*/ 46800 h 349200"/>
                  <a:gd name="textAreaBottom" fmla="*/ 302400 h 34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147"/>
            <p:cNvGrpSpPr/>
            <p:nvPr/>
          </p:nvGrpSpPr>
          <p:grpSpPr>
            <a:xfrm>
              <a:off x="3309480" y="3689280"/>
              <a:ext cx="4310280" cy="349200"/>
              <a:chOff x="3309480" y="3689280"/>
              <a:chExt cx="4310280" cy="349200"/>
            </a:xfrm>
          </p:grpSpPr>
          <p:sp>
            <p:nvSpPr>
              <p:cNvPr id="177" name="AutoShape 141"/>
              <p:cNvSpPr/>
              <p:nvPr/>
            </p:nvSpPr>
            <p:spPr>
              <a:xfrm flipH="1" flipV="1">
                <a:off x="5842800" y="3689280"/>
                <a:ext cx="506520" cy="349200"/>
              </a:xfrm>
              <a:custGeom>
                <a:avLst/>
                <a:gdLst>
                  <a:gd name="textAreaLeft" fmla="*/ 88200 w 506520"/>
                  <a:gd name="textAreaRight" fmla="*/ 366840 w 506520"/>
                  <a:gd name="textAreaTop" fmla="*/ 46800 h 349200"/>
                  <a:gd name="textAreaBottom" fmla="*/ 302400 h 34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AutoShape 142"/>
              <p:cNvSpPr/>
              <p:nvPr/>
            </p:nvSpPr>
            <p:spPr>
              <a:xfrm flipH="1" flipV="1">
                <a:off x="5210280" y="3689280"/>
                <a:ext cx="506160" cy="349200"/>
              </a:xfrm>
              <a:custGeom>
                <a:avLst/>
                <a:gdLst>
                  <a:gd name="textAreaLeft" fmla="*/ 88560 w 506160"/>
                  <a:gd name="textAreaRight" fmla="*/ 367200 w 506160"/>
                  <a:gd name="textAreaTop" fmla="*/ 46800 h 349200"/>
                  <a:gd name="textAreaBottom" fmla="*/ 302400 h 34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AutoShape 143"/>
              <p:cNvSpPr/>
              <p:nvPr/>
            </p:nvSpPr>
            <p:spPr>
              <a:xfrm flipH="1" flipV="1">
                <a:off x="4575960" y="3689280"/>
                <a:ext cx="506520" cy="349200"/>
              </a:xfrm>
              <a:custGeom>
                <a:avLst/>
                <a:gdLst>
                  <a:gd name="textAreaLeft" fmla="*/ 88200 w 506520"/>
                  <a:gd name="textAreaRight" fmla="*/ 366840 w 506520"/>
                  <a:gd name="textAreaTop" fmla="*/ 46800 h 349200"/>
                  <a:gd name="textAreaBottom" fmla="*/ 302400 h 34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AutoShape 144"/>
              <p:cNvSpPr/>
              <p:nvPr/>
            </p:nvSpPr>
            <p:spPr>
              <a:xfrm flipH="1" flipV="1">
                <a:off x="3942720" y="3689280"/>
                <a:ext cx="507960" cy="349200"/>
              </a:xfrm>
              <a:custGeom>
                <a:avLst/>
                <a:gdLst>
                  <a:gd name="textAreaLeft" fmla="*/ 88560 w 507960"/>
                  <a:gd name="textAreaRight" fmla="*/ 367920 w 507960"/>
                  <a:gd name="textAreaTop" fmla="*/ 46800 h 349200"/>
                  <a:gd name="textAreaBottom" fmla="*/ 302400 h 34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AutoShape 145"/>
              <p:cNvSpPr/>
              <p:nvPr/>
            </p:nvSpPr>
            <p:spPr>
              <a:xfrm flipH="1" flipV="1">
                <a:off x="3309120" y="3689280"/>
                <a:ext cx="507960" cy="349200"/>
              </a:xfrm>
              <a:custGeom>
                <a:avLst/>
                <a:gdLst>
                  <a:gd name="textAreaLeft" fmla="*/ 88560 w 507960"/>
                  <a:gd name="textAreaRight" fmla="*/ 367920 w 507960"/>
                  <a:gd name="textAreaTop" fmla="*/ 46800 h 349200"/>
                  <a:gd name="textAreaBottom" fmla="*/ 302400 h 34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AutoShape 146"/>
              <p:cNvSpPr/>
              <p:nvPr/>
            </p:nvSpPr>
            <p:spPr>
              <a:xfrm flipH="1" flipV="1">
                <a:off x="7112880" y="3689280"/>
                <a:ext cx="506520" cy="349200"/>
              </a:xfrm>
              <a:custGeom>
                <a:avLst/>
                <a:gdLst>
                  <a:gd name="textAreaLeft" fmla="*/ 88200 w 506520"/>
                  <a:gd name="textAreaRight" fmla="*/ 366840 w 506520"/>
                  <a:gd name="textAreaTop" fmla="*/ 46800 h 349200"/>
                  <a:gd name="textAreaBottom" fmla="*/ 302400 h 34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150"/>
          <p:cNvSpPr/>
          <p:nvPr/>
        </p:nvSpPr>
        <p:spPr>
          <a:xfrm>
            <a:off x="762120" y="4952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197"/>
          <p:cNvGrpSpPr/>
          <p:nvPr/>
        </p:nvGrpSpPr>
        <p:grpSpPr>
          <a:xfrm>
            <a:off x="3048120" y="4572000"/>
            <a:ext cx="4876560" cy="837720"/>
            <a:chOff x="3048120" y="4572000"/>
            <a:chExt cx="4876560" cy="837720"/>
          </a:xfrm>
        </p:grpSpPr>
        <p:grpSp>
          <p:nvGrpSpPr>
            <p:cNvPr id="185" name="Group 152"/>
            <p:cNvGrpSpPr/>
            <p:nvPr/>
          </p:nvGrpSpPr>
          <p:grpSpPr>
            <a:xfrm>
              <a:off x="3048120" y="5094000"/>
              <a:ext cx="4876560" cy="315720"/>
              <a:chOff x="3048120" y="5094000"/>
              <a:chExt cx="4876560" cy="315720"/>
            </a:xfrm>
          </p:grpSpPr>
          <p:sp>
            <p:nvSpPr>
              <p:cNvPr id="186" name="Rectangle 153"/>
              <p:cNvSpPr/>
              <p:nvPr/>
            </p:nvSpPr>
            <p:spPr>
              <a:xfrm>
                <a:off x="3048120" y="5094000"/>
                <a:ext cx="379440" cy="315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154"/>
              <p:cNvSpPr/>
              <p:nvPr/>
            </p:nvSpPr>
            <p:spPr>
              <a:xfrm>
                <a:off x="3681360" y="5094000"/>
                <a:ext cx="379440" cy="315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155"/>
              <p:cNvSpPr/>
              <p:nvPr/>
            </p:nvSpPr>
            <p:spPr>
              <a:xfrm>
                <a:off x="4314960" y="5094000"/>
                <a:ext cx="379440" cy="315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156"/>
              <p:cNvSpPr/>
              <p:nvPr/>
            </p:nvSpPr>
            <p:spPr>
              <a:xfrm>
                <a:off x="4948200" y="5094000"/>
                <a:ext cx="379440" cy="315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157"/>
              <p:cNvSpPr/>
              <p:nvPr/>
            </p:nvSpPr>
            <p:spPr>
              <a:xfrm>
                <a:off x="5581800" y="5094000"/>
                <a:ext cx="379440" cy="315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158"/>
              <p:cNvSpPr/>
              <p:nvPr/>
            </p:nvSpPr>
            <p:spPr>
              <a:xfrm>
                <a:off x="6215040" y="5094000"/>
                <a:ext cx="379440" cy="315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159"/>
              <p:cNvSpPr/>
              <p:nvPr/>
            </p:nvSpPr>
            <p:spPr>
              <a:xfrm>
                <a:off x="7545240" y="5094000"/>
                <a:ext cx="379440" cy="315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196"/>
            <p:cNvGrpSpPr/>
            <p:nvPr/>
          </p:nvGrpSpPr>
          <p:grpSpPr>
            <a:xfrm>
              <a:off x="3048120" y="4572000"/>
              <a:ext cx="4799880" cy="380880"/>
              <a:chOff x="3048120" y="4572000"/>
              <a:chExt cx="4799880" cy="380880"/>
            </a:xfrm>
          </p:grpSpPr>
          <p:grpSp>
            <p:nvGrpSpPr>
              <p:cNvPr id="194" name="Group 177"/>
              <p:cNvGrpSpPr/>
              <p:nvPr/>
            </p:nvGrpSpPr>
            <p:grpSpPr>
              <a:xfrm>
                <a:off x="3048120" y="4572000"/>
                <a:ext cx="304560" cy="380880"/>
                <a:chOff x="3048120" y="4572000"/>
                <a:chExt cx="304560" cy="380880"/>
              </a:xfrm>
            </p:grpSpPr>
            <p:sp>
              <p:nvSpPr>
                <p:cNvPr id="195" name="AutoShape 175"/>
                <p:cNvSpPr/>
                <p:nvPr/>
              </p:nvSpPr>
              <p:spPr>
                <a:xfrm>
                  <a:off x="3048120" y="4594320"/>
                  <a:ext cx="142200" cy="358560"/>
                </a:xfrm>
                <a:custGeom>
                  <a:avLst/>
                  <a:gdLst>
                    <a:gd name="textAreaLeft" fmla="*/ 19080 w 142200"/>
                    <a:gd name="textAreaRight" fmla="*/ 123120 w 14220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11880"/>
                      </a:lnTo>
                      <a:arcTo wR="21600" hR="7560" stAng="10800000" swAng="-2682637"/>
                      <a:lnTo>
                        <a:pt x="14400" y="21168"/>
                      </a:lnTo>
                      <a:lnTo>
                        <a:pt x="21600" y="17280"/>
                      </a:lnTo>
                      <a:lnTo>
                        <a:pt x="14400" y="12528"/>
                      </a:lnTo>
                      <a:lnTo>
                        <a:pt x="14400" y="14688"/>
                      </a:lnTo>
                      <a:arcTo wR="21600" hR="7560" stAng="8117363" swAng="2325203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  <a:path fill="darkenLess"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7560"/>
                      </a:lnTo>
                      <a:arcTo wR="21600" hR="7560" stAng="10800000" swAng="-357435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AutoShape 176"/>
                <p:cNvSpPr/>
                <p:nvPr/>
              </p:nvSpPr>
              <p:spPr>
                <a:xfrm flipV="1">
                  <a:off x="3210480" y="4572000"/>
                  <a:ext cx="142200" cy="358560"/>
                </a:xfrm>
                <a:custGeom>
                  <a:avLst/>
                  <a:gdLst>
                    <a:gd name="textAreaLeft" fmla="*/ 19080 w 142200"/>
                    <a:gd name="textAreaRight" fmla="*/ 123120 w 14220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2682637"/>
                      <a:lnTo>
                        <a:pt x="7200" y="21168"/>
                      </a:lnTo>
                      <a:lnTo>
                        <a:pt x="0" y="17280"/>
                      </a:lnTo>
                      <a:lnTo>
                        <a:pt x="7200" y="12528"/>
                      </a:lnTo>
                      <a:lnTo>
                        <a:pt x="7200" y="14688"/>
                      </a:lnTo>
                      <a:arcTo wR="21600" hR="7560" stAng="2682637" swAng="-2325203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-357435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Group 178"/>
              <p:cNvGrpSpPr/>
              <p:nvPr/>
            </p:nvGrpSpPr>
            <p:grpSpPr>
              <a:xfrm>
                <a:off x="3733560" y="4572000"/>
                <a:ext cx="304560" cy="380880"/>
                <a:chOff x="3733560" y="4572000"/>
                <a:chExt cx="304560" cy="380880"/>
              </a:xfrm>
            </p:grpSpPr>
            <p:sp>
              <p:nvSpPr>
                <p:cNvPr id="198" name="AutoShape 179"/>
                <p:cNvSpPr/>
                <p:nvPr/>
              </p:nvSpPr>
              <p:spPr>
                <a:xfrm>
                  <a:off x="3733560" y="4594320"/>
                  <a:ext cx="142200" cy="358560"/>
                </a:xfrm>
                <a:custGeom>
                  <a:avLst/>
                  <a:gdLst>
                    <a:gd name="textAreaLeft" fmla="*/ 19080 w 142200"/>
                    <a:gd name="textAreaRight" fmla="*/ 123120 w 14220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11880"/>
                      </a:lnTo>
                      <a:arcTo wR="21600" hR="7560" stAng="10800000" swAng="-2682637"/>
                      <a:lnTo>
                        <a:pt x="14400" y="21168"/>
                      </a:lnTo>
                      <a:lnTo>
                        <a:pt x="21600" y="17280"/>
                      </a:lnTo>
                      <a:lnTo>
                        <a:pt x="14400" y="12528"/>
                      </a:lnTo>
                      <a:lnTo>
                        <a:pt x="14400" y="14688"/>
                      </a:lnTo>
                      <a:arcTo wR="21600" hR="7560" stAng="8117363" swAng="2325203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  <a:path fill="darkenLess"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7560"/>
                      </a:lnTo>
                      <a:arcTo wR="21600" hR="7560" stAng="10800000" swAng="-357435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AutoShape 180"/>
                <p:cNvSpPr/>
                <p:nvPr/>
              </p:nvSpPr>
              <p:spPr>
                <a:xfrm flipV="1">
                  <a:off x="3895920" y="4572000"/>
                  <a:ext cx="142200" cy="358560"/>
                </a:xfrm>
                <a:custGeom>
                  <a:avLst/>
                  <a:gdLst>
                    <a:gd name="textAreaLeft" fmla="*/ 19080 w 142200"/>
                    <a:gd name="textAreaRight" fmla="*/ 123120 w 14220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2682637"/>
                      <a:lnTo>
                        <a:pt x="7200" y="21168"/>
                      </a:lnTo>
                      <a:lnTo>
                        <a:pt x="0" y="17280"/>
                      </a:lnTo>
                      <a:lnTo>
                        <a:pt x="7200" y="12528"/>
                      </a:lnTo>
                      <a:lnTo>
                        <a:pt x="7200" y="14688"/>
                      </a:lnTo>
                      <a:arcTo wR="21600" hR="7560" stAng="2682637" swAng="-2325203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-357435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Group 181"/>
              <p:cNvGrpSpPr/>
              <p:nvPr/>
            </p:nvGrpSpPr>
            <p:grpSpPr>
              <a:xfrm>
                <a:off x="4343040" y="4572000"/>
                <a:ext cx="304560" cy="380880"/>
                <a:chOff x="4343040" y="4572000"/>
                <a:chExt cx="304560" cy="380880"/>
              </a:xfrm>
            </p:grpSpPr>
            <p:sp>
              <p:nvSpPr>
                <p:cNvPr id="201" name="AutoShape 182"/>
                <p:cNvSpPr/>
                <p:nvPr/>
              </p:nvSpPr>
              <p:spPr>
                <a:xfrm>
                  <a:off x="4343040" y="4594320"/>
                  <a:ext cx="142200" cy="358560"/>
                </a:xfrm>
                <a:custGeom>
                  <a:avLst/>
                  <a:gdLst>
                    <a:gd name="textAreaLeft" fmla="*/ 19080 w 142200"/>
                    <a:gd name="textAreaRight" fmla="*/ 123120 w 14220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11880"/>
                      </a:lnTo>
                      <a:arcTo wR="21600" hR="7560" stAng="10800000" swAng="-2682637"/>
                      <a:lnTo>
                        <a:pt x="14400" y="21168"/>
                      </a:lnTo>
                      <a:lnTo>
                        <a:pt x="21600" y="17280"/>
                      </a:lnTo>
                      <a:lnTo>
                        <a:pt x="14400" y="12528"/>
                      </a:lnTo>
                      <a:lnTo>
                        <a:pt x="14400" y="14688"/>
                      </a:lnTo>
                      <a:arcTo wR="21600" hR="7560" stAng="8117363" swAng="2325203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  <a:path fill="darkenLess"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7560"/>
                      </a:lnTo>
                      <a:arcTo wR="21600" hR="7560" stAng="10800000" swAng="-357435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AutoShape 183"/>
                <p:cNvSpPr/>
                <p:nvPr/>
              </p:nvSpPr>
              <p:spPr>
                <a:xfrm flipV="1">
                  <a:off x="4505400" y="4572000"/>
                  <a:ext cx="142200" cy="358560"/>
                </a:xfrm>
                <a:custGeom>
                  <a:avLst/>
                  <a:gdLst>
                    <a:gd name="textAreaLeft" fmla="*/ 19080 w 142200"/>
                    <a:gd name="textAreaRight" fmla="*/ 123120 w 14220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2682637"/>
                      <a:lnTo>
                        <a:pt x="7200" y="21168"/>
                      </a:lnTo>
                      <a:lnTo>
                        <a:pt x="0" y="17280"/>
                      </a:lnTo>
                      <a:lnTo>
                        <a:pt x="7200" y="12528"/>
                      </a:lnTo>
                      <a:lnTo>
                        <a:pt x="7200" y="14688"/>
                      </a:lnTo>
                      <a:arcTo wR="21600" hR="7560" stAng="2682637" swAng="-2325203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-357435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Group 184"/>
              <p:cNvGrpSpPr/>
              <p:nvPr/>
            </p:nvGrpSpPr>
            <p:grpSpPr>
              <a:xfrm>
                <a:off x="5028840" y="4572000"/>
                <a:ext cx="304560" cy="380880"/>
                <a:chOff x="5028840" y="4572000"/>
                <a:chExt cx="304560" cy="380880"/>
              </a:xfrm>
            </p:grpSpPr>
            <p:sp>
              <p:nvSpPr>
                <p:cNvPr id="204" name="AutoShape 185"/>
                <p:cNvSpPr/>
                <p:nvPr/>
              </p:nvSpPr>
              <p:spPr>
                <a:xfrm>
                  <a:off x="5028840" y="4594320"/>
                  <a:ext cx="142200" cy="358560"/>
                </a:xfrm>
                <a:custGeom>
                  <a:avLst/>
                  <a:gdLst>
                    <a:gd name="textAreaLeft" fmla="*/ 19080 w 142200"/>
                    <a:gd name="textAreaRight" fmla="*/ 123120 w 14220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11880"/>
                      </a:lnTo>
                      <a:arcTo wR="21600" hR="7560" stAng="10800000" swAng="-2682637"/>
                      <a:lnTo>
                        <a:pt x="14400" y="21168"/>
                      </a:lnTo>
                      <a:lnTo>
                        <a:pt x="21600" y="17280"/>
                      </a:lnTo>
                      <a:lnTo>
                        <a:pt x="14400" y="12528"/>
                      </a:lnTo>
                      <a:lnTo>
                        <a:pt x="14400" y="14688"/>
                      </a:lnTo>
                      <a:arcTo wR="21600" hR="7560" stAng="8117363" swAng="2325203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  <a:path fill="darkenLess"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7560"/>
                      </a:lnTo>
                      <a:arcTo wR="21600" hR="7560" stAng="10800000" swAng="-357435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AutoShape 186"/>
                <p:cNvSpPr/>
                <p:nvPr/>
              </p:nvSpPr>
              <p:spPr>
                <a:xfrm flipV="1">
                  <a:off x="5191200" y="4572000"/>
                  <a:ext cx="142200" cy="358560"/>
                </a:xfrm>
                <a:custGeom>
                  <a:avLst/>
                  <a:gdLst>
                    <a:gd name="textAreaLeft" fmla="*/ 19080 w 142200"/>
                    <a:gd name="textAreaRight" fmla="*/ 123120 w 14220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2682637"/>
                      <a:lnTo>
                        <a:pt x="7200" y="21168"/>
                      </a:lnTo>
                      <a:lnTo>
                        <a:pt x="0" y="17280"/>
                      </a:lnTo>
                      <a:lnTo>
                        <a:pt x="7200" y="12528"/>
                      </a:lnTo>
                      <a:lnTo>
                        <a:pt x="7200" y="14688"/>
                      </a:lnTo>
                      <a:arcTo wR="21600" hR="7560" stAng="2682637" swAng="-2325203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-357435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" name="Group 187"/>
              <p:cNvGrpSpPr/>
              <p:nvPr/>
            </p:nvGrpSpPr>
            <p:grpSpPr>
              <a:xfrm>
                <a:off x="5638680" y="4572000"/>
                <a:ext cx="304200" cy="380880"/>
                <a:chOff x="5638680" y="4572000"/>
                <a:chExt cx="304200" cy="380880"/>
              </a:xfrm>
            </p:grpSpPr>
            <p:sp>
              <p:nvSpPr>
                <p:cNvPr id="207" name="AutoShape 188"/>
                <p:cNvSpPr/>
                <p:nvPr/>
              </p:nvSpPr>
              <p:spPr>
                <a:xfrm>
                  <a:off x="5638680" y="4594320"/>
                  <a:ext cx="141840" cy="358560"/>
                </a:xfrm>
                <a:custGeom>
                  <a:avLst/>
                  <a:gdLst>
                    <a:gd name="textAreaLeft" fmla="*/ 18720 w 141840"/>
                    <a:gd name="textAreaRight" fmla="*/ 123120 w 14184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11880"/>
                      </a:lnTo>
                      <a:arcTo wR="21600" hR="7560" stAng="10800000" swAng="-2682637"/>
                      <a:lnTo>
                        <a:pt x="14400" y="21168"/>
                      </a:lnTo>
                      <a:lnTo>
                        <a:pt x="21600" y="17280"/>
                      </a:lnTo>
                      <a:lnTo>
                        <a:pt x="14400" y="12528"/>
                      </a:lnTo>
                      <a:lnTo>
                        <a:pt x="14400" y="14688"/>
                      </a:lnTo>
                      <a:arcTo wR="21600" hR="7560" stAng="8117363" swAng="2325203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  <a:path fill="darkenLess"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7560"/>
                      </a:lnTo>
                      <a:arcTo wR="21600" hR="7560" stAng="10800000" swAng="-357435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AutoShape 189"/>
                <p:cNvSpPr/>
                <p:nvPr/>
              </p:nvSpPr>
              <p:spPr>
                <a:xfrm flipV="1">
                  <a:off x="5801040" y="4572000"/>
                  <a:ext cx="141840" cy="358560"/>
                </a:xfrm>
                <a:custGeom>
                  <a:avLst/>
                  <a:gdLst>
                    <a:gd name="textAreaLeft" fmla="*/ 18720 w 141840"/>
                    <a:gd name="textAreaRight" fmla="*/ 123120 w 14184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2682637"/>
                      <a:lnTo>
                        <a:pt x="7200" y="21168"/>
                      </a:lnTo>
                      <a:lnTo>
                        <a:pt x="0" y="17280"/>
                      </a:lnTo>
                      <a:lnTo>
                        <a:pt x="7200" y="12528"/>
                      </a:lnTo>
                      <a:lnTo>
                        <a:pt x="7200" y="14688"/>
                      </a:lnTo>
                      <a:arcTo wR="21600" hR="7560" stAng="2682637" swAng="-2325203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-357435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Group 190"/>
              <p:cNvGrpSpPr/>
              <p:nvPr/>
            </p:nvGrpSpPr>
            <p:grpSpPr>
              <a:xfrm>
                <a:off x="6248160" y="4572000"/>
                <a:ext cx="304560" cy="380880"/>
                <a:chOff x="6248160" y="4572000"/>
                <a:chExt cx="304560" cy="380880"/>
              </a:xfrm>
            </p:grpSpPr>
            <p:sp>
              <p:nvSpPr>
                <p:cNvPr id="210" name="AutoShape 191"/>
                <p:cNvSpPr/>
                <p:nvPr/>
              </p:nvSpPr>
              <p:spPr>
                <a:xfrm>
                  <a:off x="6248160" y="4594320"/>
                  <a:ext cx="142200" cy="358560"/>
                </a:xfrm>
                <a:custGeom>
                  <a:avLst/>
                  <a:gdLst>
                    <a:gd name="textAreaLeft" fmla="*/ 19080 w 142200"/>
                    <a:gd name="textAreaRight" fmla="*/ 123120 w 14220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11880"/>
                      </a:lnTo>
                      <a:arcTo wR="21600" hR="7560" stAng="10800000" swAng="-2682637"/>
                      <a:lnTo>
                        <a:pt x="14400" y="21168"/>
                      </a:lnTo>
                      <a:lnTo>
                        <a:pt x="21600" y="17280"/>
                      </a:lnTo>
                      <a:lnTo>
                        <a:pt x="14400" y="12528"/>
                      </a:lnTo>
                      <a:lnTo>
                        <a:pt x="14400" y="14688"/>
                      </a:lnTo>
                      <a:arcTo wR="21600" hR="7560" stAng="8117363" swAng="2325203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  <a:path fill="darkenLess"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7560"/>
                      </a:lnTo>
                      <a:arcTo wR="21600" hR="7560" stAng="10800000" swAng="-357435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AutoShape 192"/>
                <p:cNvSpPr/>
                <p:nvPr/>
              </p:nvSpPr>
              <p:spPr>
                <a:xfrm flipV="1">
                  <a:off x="6410520" y="4572000"/>
                  <a:ext cx="142200" cy="358560"/>
                </a:xfrm>
                <a:custGeom>
                  <a:avLst/>
                  <a:gdLst>
                    <a:gd name="textAreaLeft" fmla="*/ 19080 w 142200"/>
                    <a:gd name="textAreaRight" fmla="*/ 123120 w 14220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2682637"/>
                      <a:lnTo>
                        <a:pt x="7200" y="21168"/>
                      </a:lnTo>
                      <a:lnTo>
                        <a:pt x="0" y="17280"/>
                      </a:lnTo>
                      <a:lnTo>
                        <a:pt x="7200" y="12528"/>
                      </a:lnTo>
                      <a:lnTo>
                        <a:pt x="7200" y="14688"/>
                      </a:lnTo>
                      <a:arcTo wR="21600" hR="7560" stAng="2682637" swAng="-2325203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-357435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Group 193"/>
              <p:cNvGrpSpPr/>
              <p:nvPr/>
            </p:nvGrpSpPr>
            <p:grpSpPr>
              <a:xfrm>
                <a:off x="7543440" y="4572000"/>
                <a:ext cx="304560" cy="380880"/>
                <a:chOff x="7543440" y="4572000"/>
                <a:chExt cx="304560" cy="380880"/>
              </a:xfrm>
            </p:grpSpPr>
            <p:sp>
              <p:nvSpPr>
                <p:cNvPr id="213" name="AutoShape 194"/>
                <p:cNvSpPr/>
                <p:nvPr/>
              </p:nvSpPr>
              <p:spPr>
                <a:xfrm>
                  <a:off x="7543440" y="4594320"/>
                  <a:ext cx="142200" cy="358560"/>
                </a:xfrm>
                <a:custGeom>
                  <a:avLst/>
                  <a:gdLst>
                    <a:gd name="textAreaLeft" fmla="*/ 19080 w 142200"/>
                    <a:gd name="textAreaRight" fmla="*/ 123120 w 14220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11880"/>
                      </a:lnTo>
                      <a:arcTo wR="21600" hR="7560" stAng="10800000" swAng="-2682637"/>
                      <a:lnTo>
                        <a:pt x="14400" y="21168"/>
                      </a:lnTo>
                      <a:lnTo>
                        <a:pt x="21600" y="17280"/>
                      </a:lnTo>
                      <a:lnTo>
                        <a:pt x="14400" y="12528"/>
                      </a:lnTo>
                      <a:lnTo>
                        <a:pt x="14400" y="14688"/>
                      </a:lnTo>
                      <a:arcTo wR="21600" hR="7560" stAng="8117363" swAng="2325203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  <a:path fill="darkenLess"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7560"/>
                      </a:lnTo>
                      <a:arcTo wR="21600" hR="7560" stAng="10800000" swAng="-357435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AutoShape 195"/>
                <p:cNvSpPr/>
                <p:nvPr/>
              </p:nvSpPr>
              <p:spPr>
                <a:xfrm flipV="1">
                  <a:off x="7705800" y="4572000"/>
                  <a:ext cx="142200" cy="358560"/>
                </a:xfrm>
                <a:custGeom>
                  <a:avLst/>
                  <a:gdLst>
                    <a:gd name="textAreaLeft" fmla="*/ 19080 w 142200"/>
                    <a:gd name="textAreaRight" fmla="*/ 123120 w 14220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2682637"/>
                      <a:lnTo>
                        <a:pt x="7200" y="21168"/>
                      </a:lnTo>
                      <a:lnTo>
                        <a:pt x="0" y="17280"/>
                      </a:lnTo>
                      <a:lnTo>
                        <a:pt x="7200" y="12528"/>
                      </a:lnTo>
                      <a:lnTo>
                        <a:pt x="7200" y="14688"/>
                      </a:lnTo>
                      <a:arcTo wR="21600" hR="7560" stAng="2682637" swAng="-2325203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-357435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"/>
          <p:cNvPicPr/>
          <p:nvPr/>
        </p:nvPicPr>
        <p:blipFill>
          <a:blip r:embed="rId1"/>
          <a:stretch/>
        </p:blipFill>
        <p:spPr>
          <a:xfrm>
            <a:off x="1752480" y="1635120"/>
            <a:ext cx="5762880" cy="24033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DVEC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4419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9"/>
          <p:cNvSpPr/>
          <p:nvPr/>
        </p:nvSpPr>
        <p:spPr>
          <a:xfrm>
            <a:off x="6438960" y="2666880"/>
            <a:ext cx="380880" cy="76212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RANSPOR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981080" y="3657240"/>
            <a:ext cx="51055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nant z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trans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omponent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layer diffusion in c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1676520" y="1066680"/>
            <a:ext cx="5762520" cy="2403720"/>
          </a:xfrm>
          <a:prstGeom prst="rect">
            <a:avLst/>
          </a:prstGeom>
          <a:ln w="0">
            <a:noFill/>
          </a:ln>
        </p:spPr>
      </p:pic>
      <p:sp>
        <p:nvSpPr>
          <p:cNvPr id="222" name="Oval 5"/>
          <p:cNvSpPr/>
          <p:nvPr/>
        </p:nvSpPr>
        <p:spPr>
          <a:xfrm>
            <a:off x="6654960" y="2108160"/>
            <a:ext cx="380880" cy="76212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8760" y="1036800"/>
            <a:ext cx="432612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Arsenic in the Central Oklahoma Aquif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97000" y="2684160"/>
            <a:ext cx="4325760" cy="33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senic mostly in confined part of aqui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senic associated with high 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con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confin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as"/>
          <p:cNvPicPr/>
          <p:nvPr/>
        </p:nvPicPr>
        <p:blipFill>
          <a:blip r:embed="rId1"/>
          <a:stretch/>
        </p:blipFill>
        <p:spPr>
          <a:xfrm>
            <a:off x="4621320" y="136440"/>
            <a:ext cx="4370400" cy="6629400"/>
          </a:xfrm>
          <a:prstGeom prst="rect">
            <a:avLst/>
          </a:prstGeom>
          <a:ln w="34920">
            <a:solidFill>
              <a:srgbClr val="00cc99"/>
            </a:solidFill>
            <a:miter/>
          </a:ln>
        </p:spPr>
      </p:pic>
      <p:sp>
        <p:nvSpPr>
          <p:cNvPr id="226" name="AutoShape 5"/>
          <p:cNvSpPr/>
          <p:nvPr/>
        </p:nvSpPr>
        <p:spPr>
          <a:xfrm>
            <a:off x="5486400" y="3048120"/>
            <a:ext cx="609480" cy="838080"/>
          </a:xfrm>
          <a:custGeom>
            <a:avLst/>
            <a:gdLst>
              <a:gd name="textAreaLeft" fmla="*/ 81360 w 609480"/>
              <a:gd name="textAreaRight" fmla="*/ 528120 w 60948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6"/>
          <p:cNvSpPr/>
          <p:nvPr/>
        </p:nvSpPr>
        <p:spPr>
          <a:xfrm flipV="1">
            <a:off x="5334120" y="2208960"/>
            <a:ext cx="609480" cy="838440"/>
          </a:xfrm>
          <a:custGeom>
            <a:avLst/>
            <a:gdLst>
              <a:gd name="textAreaLeft" fmla="*/ 81360 w 609480"/>
              <a:gd name="textAreaRight" fmla="*/ 528120 w 609480"/>
              <a:gd name="textAreaTop" fmla="*/ 146160 h 838440"/>
              <a:gd name="textAreaBottom" fmla="*/ 60768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72E9-306F-4DEE-A4FE-A23C3A371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Geochemical Reactions 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e initially fills the aqui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ite and dolomite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ion exchan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NaX + 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C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NaX + 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Mg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face complex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fo-HAsO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HfoOH + HAsO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E0CF-960F-44C4-A9BD-25107E502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DVEC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are numbered from 1 to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x numbers (of SOLUTION, EQUILIBRIUM_PHASES, etc) are used to define the solution and reactants in each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0 (or N+1) enters the colu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is “shifted” from one cell to the 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17:52:05Z</dcterms:created>
  <dc:creator>dlpark</dc:creator>
  <dc:description/>
  <dc:language>en-US</dc:language>
  <cp:lastModifiedBy>OED</cp:lastModifiedBy>
  <dcterms:modified xsi:type="dcterms:W3CDTF">2011-03-17T14:40:08Z</dcterms:modified>
  <cp:revision>169</cp:revision>
  <dc:subject/>
  <dc:title>Defining Solutions</dc:title>
</cp:coreProperties>
</file>