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ED4CF1-4CDE-4DCE-A0B5-740F605F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AEF903-9B89-41B2-A09D-E857C7E4F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2O = 0.5 CO2 + 0.5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its    mmol/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Fe(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-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q/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1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1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6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1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3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5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4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.2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19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2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3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2.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VERSE_MODELING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olutions      10     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certainty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yr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X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balanc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tolerance         1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mineral_water    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95D80E-4389-4378-9F30-2ABDD758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 in 100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file pco2-gw.se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heading pCO2 Ca Mg C p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punch si("CO2(g)"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punch tot("Ca")*1000, tot("Mg")*1000, tot("C")*1000, -la("H+"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3FAA32-5265-49F7-8CA9-15CFAB6A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ITLE Example 14.--Transport with equilibrium_phases, exchange, and surface reaction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LEASE NOTE: This problem requires database file wateq4f.dat!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senic data of Archer and Nordstrom (2002) included in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q4f.dat (PHREEQC Version 2.8)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ults differ from WRIR 99-4259 because of revised data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Mg+2 = Hfo_wOMg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Ca+2 = Hfo_wOCa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 Brin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5.71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46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16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5.4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6.642  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03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0047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      .05 u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prints initial condition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file ex14.se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head  m_Ca m_Mg m_Na umol_As p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 PUNCH TOT("Ca"), TOT("Mg"), TOT("Na"), TOT("As")*1e6, -LA("H+"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skips print of initial exchange and initial surface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with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    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assumes 1/10 of iron is HF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           0.07    600.    3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0 20 x precipita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4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1916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03579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.1226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.1337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1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235153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cell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hifts 2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rint_frequency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A69-6299-4E3E-9682-DC86706A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D9D0-CC28-40D0-BD5A-125566ED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842-93B4-4169-81B6-33427E93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243-BBDC-41A3-BE49-068EE224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77C-87AD-474D-A943-90CFF8F8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C82E-B4F6-42A9-87E9-EECC330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EFA-D6BE-4F68-8151-85F7EA1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EC7-DD1C-45F2-A5AF-098223D4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470-02B0-4D40-8A96-EA6D902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2F0-295A-474D-93FD-660EF6FC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F23-C9F8-4BA2-89EC-729CAD03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C85-F2BF-47BC-9454-1D02AC3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F7E4-38C8-4145-B81F-C2E70DFB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Modeling Workshop, March 201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D REACTIVE-TRANSPORT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water flow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 water com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D REACTIVE-TRANSPORT--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P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at Cape Cod Sewage Plu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60880" y="380880"/>
            <a:ext cx="470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—PhreeqcI, NET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modeling—PhreeqcI, NETPATH (isotope fracti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modeling—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Reactive-transport modeling—PhreeqcI, 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Reacive-transport modeling--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 are you trying to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geochemical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s of modeling are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the necessary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ELD WOR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: CFC,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isotopes:           D, 18O, 13C, 34S, 87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ble isotopes : N, Ca, B, Pb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sotopes:        T/He, 1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956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, optical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ex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ASES OF GEOCHEMICAL MODELING—TREND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of concentration against Cl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INVERSE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sequence of water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e chemical reactions affecting major elements in water an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ffective for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VERSE MODELING—Estuarine Pore Wat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lution fractions:  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4.160e-001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e 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1.000e+000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mole transfers: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yrite    -3.803e-003     0.000e+000     0.000e+000  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e(OH)3(a)     3.808e-003     0.000e+000     0.000e+000   Fe(OH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O(g)     3.240e+001     0.000e+000     0.000e+000   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cite     1.049e-003     0.000e+000     0.000e+000   CaC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ganic carbon     2.116e-002     0.000e+000     0.000e+000   C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X2    -1.019e-003     0.000e+000     0.000e+000   Ca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X     2.039e-003     0.000e+000     0.000e+000   N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FORWARD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an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RWARD MODELING—TRENDS IN CARBONATE GW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371600" y="1900080"/>
          <a:ext cx="67057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0080"/>
                    <a:ext cx="67057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-Transport Model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 TRANSPORT—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nates, ion exchange, surface comp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8T17:30:26Z</dcterms:modified>
  <cp:revision>35</cp:revision>
  <dc:subject/>
  <dc:title>Defining Solutions</dc:title>
</cp:coreProperties>
</file>