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90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9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notesSlide8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9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68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32.wmf" ContentType="image/x-wmf"/>
  <Override PartName="/ppt/media/image24.wmf" ContentType="image/x-wmf"/>
  <Override PartName="/ppt/media/image23.png" ContentType="image/png"/>
  <Override PartName="/ppt/media/image10.png" ContentType="image/png"/>
  <Override PartName="/ppt/media/image4.png" ContentType="image/png"/>
  <Override PartName="/ppt/media/image30.wmf" ContentType="image/x-wmf"/>
  <Override PartName="/ppt/media/image27.png" ContentType="image/png"/>
  <Override PartName="/ppt/media/image28.png" ContentType="image/png"/>
  <Override PartName="/ppt/media/image5.png" ContentType="image/png"/>
  <Override PartName="/ppt/media/image8.png" ContentType="image/png"/>
  <Override PartName="/ppt/media/image13.png" ContentType="image/png"/>
  <Override PartName="/ppt/media/image33.wmf" ContentType="image/x-wmf"/>
  <Override PartName="/ppt/media/image9.png" ContentType="image/png"/>
  <Override PartName="/ppt/media/image7.png" ContentType="image/png"/>
  <Override PartName="/ppt/media/image12.png" ContentType="image/png"/>
  <Override PartName="/ppt/media/image6.wmf" ContentType="image/x-wmf"/>
  <Override PartName="/ppt/media/image11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91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6960" cy="463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973320" y="0"/>
            <a:ext cx="3036600" cy="463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0800" y="698400"/>
            <a:ext cx="4646520" cy="348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0" y="8832600"/>
            <a:ext cx="3036960" cy="4633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973320" y="8832600"/>
            <a:ext cx="3036600" cy="4633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DC14B8A-A31B-488F-843B-41A86CA2AA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2.wmf"/><Relationship Id="rId3" Type="http://schemas.openxmlformats.org/officeDocument/2006/relationships/slide" Target="../slides/slide40.xml"/><Relationship Id="rId4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3.wmf"/><Relationship Id="rId3" Type="http://schemas.openxmlformats.org/officeDocument/2006/relationships/slide" Target="../slides/slide41.xml"/><Relationship Id="rId4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_rels/notesSlide91.xml.rels><?xml version="1.0" encoding="UTF-8"?>
<Relationships xmlns="http://schemas.openxmlformats.org/package/2006/relationships"><Relationship Id="rId1" Type="http://schemas.openxmlformats.org/officeDocument/2006/relationships/slide" Target="../slides/slide9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3DF0FAC-81A9-43CA-8B9D-CA60738D23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D395C92-D8CC-47DC-8CF8-59D8DFCF59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CD5A604-28A8-4A39-BFF0-8F6E7DECC4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37C5956-1B25-44D7-A358-1D51B36F58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98A04CD-A6FC-41D9-ADC8-EAEBF422D3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70EC1CF-4D1B-43CC-AEC0-9AD2CED879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6DE4DA8-7190-4A49-B4AE-C87C0561FA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AE443F9-7BDE-466F-A345-A44EF008C9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5C87C10-842E-4339-9E79-16188CBBE4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FDAA6A0-4625-4113-9C64-A97D3D1D2E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3ED2549-F9F9-49C8-9A6B-E1486A6C26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Reading data base.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OLUTION_MASTER_SPECIES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OLUTION_SPECIES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HASES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XCHANGE_MASTER_SPECIES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XCHANGE_SPECIES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URFACE_MASTER_SPECIES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URFACE_SPECIES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RATES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Reading input data for simulation 1.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DATABASE C:\Program Files\USGS\Phreeqc Interactive 2.16.0\phreeqd.dat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OLUTION 1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emp      25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H        8.2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e        8.45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redox     pe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units     ppm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density   1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a        412.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Mg        1291.8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a        10768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         399.1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        0.00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Alkalinity 141.682 as HCO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l        1935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(6)      271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water    1 # kg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-------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Beginning of initial solution calculations.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-------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solution 1.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-----------Solution composition------------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lements           Molality       Moles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Alkalinity       2.406e-003  2.406e-00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a               1.066e-002  1.066e-00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l               5.657e-001  5.657e-001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               3.711e-008  3.711e-008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                1.058e-002  1.058e-00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Mg               5.507e-002  5.507e-00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a               4.854e-001  4.854e-001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(6)             2.926e-002  2.926e-00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----------Description of solution----------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H  =   8.220    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e  =   8.450    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pecific Conductance (uS/cm, 25 oC) = 52808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Density (g/cm3)  =   1.02328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Activity of water  =   0.981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onic strength  =  6.748e-001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Mass of water (kg)  =  1.000e+00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otal carbon (mol/kg)  =  2.182e-00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otal CO2 (mol/kg)  =  2.182e-00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emperature (deg C)  =  25.00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lectrical balance (eq)  =  7.967e-004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ercent error, 100*(Cat-|An|)/(Cat+|An|)  =   0.0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terations  =   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otal H  = 1.110144e+00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otal O  = 5.562980e+001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----------Distribution of species----------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Log       Log         Log 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pecies                 Molality    Activity  Molality  Activity     Gamma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OH-                   2.674e-006  1.629e-006    -5.573    -5.788    -0.215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+                    7.981e-009  6.026e-009    -8.098    -8.220    -0.12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2O                   5.551e+001  9.806e-001     1.744    -0.009     0.00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(4)            2.182e-00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CO3-                 1.516e-003  1.024e-003    -2.819    -2.990    -0.17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MgHCO3+               2.198e-004  1.642e-004    -3.658    -3.785    -0.12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aHCO3                1.669e-004  1.950e-004    -3.777    -3.710     0.06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MgCO3                 8.924e-005  1.042e-004    -4.049    -3.982     0.06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aCO3-                6.726e-005  5.026e-005    -4.172    -4.299    -0.12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aHCO3+               4.603e-005  3.110e-005    -4.337    -4.507    -0.17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O3-2                 3.826e-005  7.969e-006    -4.417    -5.099    -0.681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aCO3                 2.728e-005  3.187e-005    -4.564    -4.497     0.06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O2                   1.211e-005  1.415e-005    -4.917    -4.849     0.06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CO3                 1.700e-016  1.985e-016   -15.770   -15.702     0.06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HCO3+               1.423e-016  1.063e-016   -15.847   -15.973    -0.12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a              1.066e-00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a+2                  9.504e-003  2.380e-003    -2.022    -2.623    -0.601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aSO4                 1.083e-003  1.265e-003    -2.965    -2.898     0.06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aHCO3+               4.603e-005  3.110e-005    -4.337    -4.507    -0.17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aCO3                 2.728e-005  3.187e-005    -4.564    -4.497     0.06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aOH+                 8.604e-008  6.429e-008    -7.065    -7.192    -0.12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aHSO4+               5.979e-011  4.467e-011   -10.223   -10.350    -0.12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l              5.657e-001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l-                   5.657e-001  3.528e-001    -0.247    -0.452    -0.205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Cl+                 6.769e-016  5.058e-016   -15.169   -15.296    -0.12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Cl+2                9.556e-019  2.978e-019   -18.020   -18.526    -0.506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Cl2+                6.281e-019  4.693e-019   -18.202   -18.329    -0.12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Cl3                 1.417e-020  1.656e-020   -19.849   -19.781     0.06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(2)           6.007e-015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+2                  4.525e-015  1.039e-015   -14.344   -14.984    -0.639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Cl+                 6.769e-016  5.058e-016   -15.169   -15.296    -0.12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SO4                 4.213e-016  4.921e-016   -15.375   -15.308     0.06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CO3                 1.700e-016  1.985e-016   -15.770   -15.702     0.06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HCO3+               1.423e-016  1.063e-016   -15.847   -15.973    -0.12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OH+                 7.153e-017  5.345e-017   -16.145   -16.272    -0.12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HSO4+               2.609e-023  1.949e-023   -22.584   -22.710    -0.12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(3)           3.711e-008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(OH)3               2.840e-008  3.318e-008    -7.547    -7.479     0.06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(OH)4-              6.591e-009  4.924e-009    -8.181    -8.308    -0.12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(OH)2+              2.118e-009  1.583e-009    -8.674    -8.801    -0.12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OH+2                9.425e-014  2.937e-014   -13.026   -13.532    -0.506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SO4+                1.093e-018  8.167e-019   -17.961   -18.088    -0.12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Cl+2                9.556e-019  2.978e-019   -18.020   -18.526    -0.506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Cl2+                6.281e-019  4.693e-019   -18.202   -18.329    -0.12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+3                  3.509e-019  2.795e-020   -18.455   -19.554    -1.099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(SO4)2-             6.371e-020  4.761e-020   -19.196   -19.322    -0.12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Cl3                 1.417e-020  1.656e-020   -19.849   -19.781     0.06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2(OH)2+4            2.462e-024  2.322e-026   -23.609   -25.634    -2.025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HSO4+2              4.228e-026  1.318e-026   -25.374   -25.880    -0.506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3(OH)4+5            1.122e-029  7.678e-033   -28.950   -32.115    -3.165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(0)            5.540e-03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2                    2.770e-037  3.236e-037   -36.557   -36.490     0.06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               1.058e-00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+                    1.041e-002  6.495e-003    -1.982    -2.187    -0.205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SO4-                 1.627e-004  1.216e-004    -3.789    -3.915    -0.12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OH                   3.137e-009  3.665e-009    -8.503    -8.436     0.06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Mg              5.507e-00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Mg+2                  4.742e-002  1.371e-002    -1.324    -1.863    -0.539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MgSO4                 7.330e-003  8.562e-003    -2.135    -2.067     0.06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MgHCO3+               2.198e-004  1.642e-004    -3.658    -3.785    -0.12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MgCO3                 8.924e-005  1.042e-004    -4.049    -3.982     0.06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MgOH+                 1.084e-005  8.100e-006    -4.965    -5.092    -0.12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a              4.854e-001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a+                   4.791e-001  3.387e-001    -0.320    -0.470    -0.151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aSO4-                6.053e-003  4.523e-003    -2.218    -2.345    -0.12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aHCO3                1.669e-004  1.950e-004    -3.777    -3.710     0.06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aCO3-                6.726e-005  5.026e-005    -4.172    -4.299    -0.12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aOH                  3.117e-007  3.641e-007    -6.506    -6.439     0.06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O(0)            6.554e-02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O2                    3.277e-020  3.828e-020   -19.485   -19.417     0.06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(6)            2.926e-00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O4-2                 1.463e-002  2.664e-003    -1.835    -2.574    -0.74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MgSO4                 7.330e-003  8.562e-003    -2.135    -2.067     0.06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aSO4-                6.053e-003  4.523e-003    -2.218    -2.345    -0.12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aSO4                 1.083e-003  1.265e-003    -2.965    -2.898     0.06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SO4-                 1.627e-004  1.216e-004    -3.789    -3.915    -0.12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SO4-                 2.089e-009  1.561e-009    -8.680    -8.807    -0.12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aHSO4+               5.979e-011  4.467e-011   -10.223   -10.350    -0.12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SO4                 4.213e-016  4.921e-016   -15.375   -15.308     0.06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SO4+                1.093e-018  8.167e-019   -17.961   -18.088    -0.12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(SO4)2-             6.371e-020  4.761e-020   -19.196   -19.322    -0.12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HSO4+               2.609e-023  1.949e-023   -22.584   -22.710    -0.12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HSO4+2              4.228e-026  1.318e-026   -25.374   -25.880    -0.506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------------Saturation indices-------------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hase               SI log IAP  log KT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Anhydrite        -0.84   -5.20   -4.36  CaSO4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Aragonite         0.61   -7.72   -8.34  CaCO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alcite           0.76   -7.72   -8.48  CaCO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O2(g)           -3.38   -4.85   -1.47  CO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Dolomite          2.41  -14.68  -17.09  CaMg(CO3)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(OH)3(a)        0.19    5.08    4.89  Fe(OH)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Goethite          6.09    5.09   -1.00  FeOOH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Gypsum           -0.63   -5.21   -4.58  CaSO4:2H2O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2(g)           -33.30    9.70   43.00  H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2O(g)           -1.51   -0.01    1.51  H2O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alite           -2.50   -0.92    1.58  NaCl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ematite         14.20   10.19   -4.01  Fe2O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Jarosite-K       -7.52  -16.73   -9.21  KFe3(SO4)2(OH)6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Melanterite     -15.41  -17.62   -2.21  FeSO4:7H2O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O2(g)           -16.52  -19.42   -2.89  O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iderite         -9.19  -20.08  -10.89  FeCO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nd of simulation.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Reading input data for simulation 2.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nd of run.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B8879BF-9D75-4D80-A26D-8B18ECA94D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# IS.2 Seawater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OLUTION 1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temp      25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H        8.22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e        8.45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redox     pe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units     ppm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ensity   1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a        412.3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Mg        1291.8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Na        10768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K         399.1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Fe        0.002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lkalinity 141.682 as HCO3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l        19353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(6)      2712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-water    1 # kg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FBA1370-8F8D-4DD1-A109-7D6404515C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534600" y="4414680"/>
            <a:ext cx="6242040" cy="41832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------------------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ing data base.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------------------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OLUTION_MASTER_SPECIES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OLUTION_SPECIES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HASES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ITZER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CHANGE_MASTER_SPECIES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CHANGE_SPECIES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URFACE_MASTER_SPECIES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URFACE_SPECIES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------------------------------------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ing input data for simulation 1.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------------------------------------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ATABASE C:\Program Files\USGS\Phreeqc Interactive 2.16.0\pitzer.dat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OLUTION 1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      25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H        8.22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e        8.45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dox     pe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units     ppm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ensity   1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a        412.3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g        1291.8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a        10768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K         399.1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Fe        0.002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lkalinity 141.682 as HCO3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l        19353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(6)      2712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water    1 # kg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-------------------------------------------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Beginning of initial solution calculations.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-------------------------------------------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l solution 1.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-----------------------------Solution composition------------------------------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lements           Molality       Moles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lkalinity       2.406e-003  2.406e-003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a               1.066e-002  1.066e-002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l               5.657e-001  5.657e-001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Fe               3.711e-008  3.711e-008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K                1.058e-002  1.058e-002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g               5.508e-002  5.508e-002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a               4.854e-001  4.854e-001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(6)             2.926e-002  2.926e-002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----------------------------Description of solution----------------------------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H  =   8.220    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e  =   8.450    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ensity (g/cm3)  =   0.99705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ctivity of water  =   0.981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onic strength  =  7.218e-001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ass of water (kg)  =  1.000e+000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otal carbon (mol/kg)  =  2.190e-003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otal CO2 (mol/kg)  =  2.190e-003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erature (deg C)  =  25.000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lectrical balance (eq)  =  8.294e-004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ercent error, 100*(Cat-|An|)/(Cat+|An|)  =   0.07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terations  =  14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Gamma iterations  =   3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Osmotic coefficient  =   0.90342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ensity of water  =   0.99706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otal H  = 1.110144e+002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otal O  = 5.562981e+001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----------------------------Distribution of species----------------------------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acInnes   MacInnes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acInnes    Log       Log         Log 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pecies                 Molality    Activity  Molality  Activity     Gamma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OH-                   3.150e-006  1.636e-006    -5.502    -5.786    -0.285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H+                    7.414e-009  6.026e-009    -8.130    -8.220    -0.090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H2O                   5.551e+001  9.813e-001     1.744    -0.008     0.000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(4)            2.190e-003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HCO3-                 1.956e-003  1.067e-003    -2.709    -2.972    -0.263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O3-2                 9.885e-005  8.109e-006    -4.005    -5.091    -1.086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gCO3                 9.495e-005  9.495e-005    -4.023    -4.023     0.000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aCO3                 2.809e-005  2.809e-005    -4.551    -4.551     0.000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O2                   1.261e-005  1.425e-005    -4.899    -4.846     0.053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a              1.066e-002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a+2                  1.063e-002  2.445e-003    -1.973    -2.612    -0.638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aCO3                 2.809e-005  2.809e-005    -4.551    -4.551     0.000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l              5.657e-001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l-                   5.657e-001  3.524e-001    -0.247    -0.453    -0.206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Fe              3.711e-008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Fe+2                  3.711e-008  7.959e-009    -7.430    -8.099    -0.669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K               1.058e-002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K+                    1.058e-002  6.889e-003    -1.976    -2.162    -0.186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g              5.508e-002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g+2                  5.498e-002  1.382e-002    -1.260    -1.860    -0.600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gCO3                 9.495e-005  9.495e-005    -4.023    -4.023     0.000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gOH+                 3.593e-006  3.493e-006    -5.444    -5.457    -0.012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a              4.854e-001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a+                   4.854e-001  3.426e-001    -0.314    -0.465    -0.151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(6)            2.926e-002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O4-2                 2.926e-002  2.534e-003    -1.534    -2.596    -1.062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HSO4-                 2.281e-009  1.455e-009    -8.642    -8.837    -0.195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------------------------------Saturation indices-------------------------------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hase               SI log IAP  log KT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nhydrite        -0.85   -5.21   -4.36  CaSO4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ragonite         0.52   -7.70   -8.22  CaCO3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rcanite         -5.14   -6.92   -1.78  K2SO4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Bischofite       -7.27   -2.81    4.46  MgCl2:6H2O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Bloedite         -5.67   -8.02   -2.35  Na2Mg(SO4)2:4H2O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Brucite          -2.55  -13.43  -10.88  Mg(OH)2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Burkeite        -12.30  -13.08   -0.77  Na6CO3(SO4)2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alcite           0.70   -7.70   -8.41  CaCO3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arnallite       -9.76   -5.43    4.33  KMgCl3:6H2O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O2(g)           -3.38   -4.85   -1.47  CO2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olomite          2.43  -14.65  -17.08  CaMg(CO3)2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psomite         -2.63   -4.51   -1.88  MgSO4:7H2O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Gaylussite       -4.34  -13.77   -9.42  CaNa2(CO3)2:5H2O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Glaserite        -8.34  -12.14   -3.80  NaK3(SO4)2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Glauberite       -3.49   -8.73   -5.25  Na2Ca(SO4)2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Gypsum           -0.64   -5.22   -4.58  CaSO4:2H2O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H2O(g)           -1.52   -0.01    1.51  H2O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Halite           -2.49   -0.92    1.57  NaCl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Hexahydrite      -2.87   -4.50   -1.63  MgSO4:6H2O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Kainite          -6.90   -7.10   -0.19  KMgClSO4:3H2O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Kalicinite       -5.41  -15.47  -10.06  KHCO3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Kieserite        -4.34   -4.46   -0.12  MgSO4:H2O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Labile_S         -6.61  -12.28   -5.67  Na4Ca(SO4)3:2H2O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Leonhardite      -3.60   -4.49   -0.89  MgSO4:4H2O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Leonite          -7.43  -11.41   -3.98  K2Mg(SO4)2:4H2O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agnesite         0.88   -6.95   -7.83  MgCO3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irabilite       -2.40   -3.61   -1.21  Na2SO4:10H2O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isenite        -73.98  -84.79  -10.81  K8H6(SO4)7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ahcolite        -3.03  -13.78  -10.74  NaHCO3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atron           -5.28   -6.10   -0.82  Na2CO3:10H2O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squehonite     -1.81   -6.98   -5.17  MgCO3:3H2O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entahydrite     -3.21   -4.50   -1.28  MgSO4:5H2O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irssonite       -4.51  -13.74   -9.23  Na2Ca(CO3)2:2H2O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olyhalite       -8.06  -21.81  -13.74  K2MgCa2(SO4)4:2H2O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ortlandite      -8.99  -14.18   -5.19  Ca(OH)2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choenite        -7.10  -11.42   -4.33  K2Mg(SO4)2:6H2O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ylvite          -3.51   -2.61    0.90  KCl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yngenite        -4.69  -12.14   -7.45  K2Ca(SO4)2:H2O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rona            -8.43  -19.81  -11.38  Na3H(CO3)2:2H2O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------------------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nd of simulation.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------------------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------------------------------------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ing input data for simulation 2.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------------------------------------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-----------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nd of run.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-----------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FD44FA9-42E6-4F5F-A4CA-EFD79DA77C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() indicates molality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1a. Ca(total)= 1.066e-2 = (Ca+2) + (CaSO4) + (CaHCO3+) + (CaCO3) + (CaOH+) + (CaHSO4+)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1b. Ca(total) = 1.066e-2 = (Ca+2) + (CaCO3)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2a. 9.5/10.7 ~ 0.95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2b. 1.063/1.066 ~ 1.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3a. 3.509e-019 / 3.711e-008 ~ 1e-11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3b. No Fe+3 ion.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4a. log activity CO3-2 = -5.091; log gamma CO3-2 = -0.68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4b. Log activity CO3-2 = -5.099; log gamma CO3-2 = -1.09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5a. SI(calcite) = 0.76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5b. SI(calcite) = 0.7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put file: H:\ntc\07\Solutions.working\is2.pqi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Output file: H:\ntc\07\Solutions.working\is2.pqo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Database file: C:\Program Files\USGS\Phreeqc Interactive 2.13.2\phreeqc.dat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Reading data base.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OLUTION_MASTER_SPECIES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OLUTION_SPECIES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HASES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XCHANGE_MASTER_SPECIES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XCHANGE_SPECIES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URFACE_MASTER_SPECIES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URFACE_SPECIES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RATES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Reading input data for simulation 1.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DATABASE C:\Program Files\USGS\Phreeqc Interactive 2.13.2\phreeqc.dat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OLUTION 1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emp      25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H        8.2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e        8.45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redox     pe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units     ppm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density   1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a        412.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Mg        1291.8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a        10768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         399.1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        0.00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Alkalinity 141.682 as HCO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l        1935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(6)      271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water    1 # kgg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-------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Beginning of initial solution calculations.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-------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solution 1.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-----------Solution composition------------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lements           Molality       Moles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Alkalinity       2.406e-003  2.406e-00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a               1.066e-002  1.066e-00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l               5.657e-001  5.657e-001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               3.711e-008  3.711e-008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                1.058e-002  1.058e-00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Mg               5.507e-002  5.507e-00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a               4.854e-001  4.854e-001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(6)             2.926e-002  2.926e-00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----------Description of solution----------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H  =   8.220    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e  =   8.450    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Activity of water  =   0.981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onic strength  =  6.748e-001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Mass of water (kg)  =  1.000e+00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otal carbon (mol/kg)  =  2.182e-00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otal CO2 (mol/kg)  =  2.182e-00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emperature (deg C)  =  25.00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lectrical balance (eq)  =  7.967e-004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ercent error, 100*(Cat-|An|)/(Cat+|An|)  =   0.0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terations  =   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otal H  = 1.110144e+00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otal O  = 5.562980e+001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----------Distribution of species----------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Log       Log         Log 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pecies                 Molality    Activity  Molality  Activity     Gamma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OH-                   2.674e-006  1.629e-006    -5.573    -5.788    -0.215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+                    7.981e-009  6.026e-009    -8.098    -8.220    -0.12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2O                   5.551e+001  9.806e-001     1.744    -0.009     0.00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(4)            2.182e-00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CO3-                 1.516e-003  1.024e-003    -2.819    -2.990    -0.17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MgHCO3+               2.198e-004  1.642e-004    -3.658    -3.785    -0.12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aHCO3                1.669e-004  1.950e-004    -3.777    -3.710     0.06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MgCO3                 8.924e-005  1.042e-004    -4.049    -3.982     0.06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aCO3-                6.726e-005  5.026e-005    -4.172    -4.299    -0.12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aHCO3+               4.603e-005  3.110e-005    -4.337    -4.507    -0.17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O3-2                 3.826e-005  7.969e-006    -4.417    -5.099    -0.681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aCO3                 2.728e-005  3.187e-005    -4.564    -4.497     0.06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O2                   1.211e-005  1.415e-005    -4.917    -4.849     0.06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CO3                 1.700e-016  1.985e-016   -15.770   -15.702     0.06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HCO3+               1.423e-016  1.063e-016   -15.847   -15.973    -0.12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a              1.066e-00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a+2                  9.504e-003  2.380e-003    -2.022    -2.623    -0.601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aSO4                 1.083e-003  1.265e-003    -2.965    -2.898     0.06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aHCO3+               4.603e-005  3.110e-005    -4.337    -4.507    -0.17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aCO3                 2.728e-005  3.187e-005    -4.564    -4.497     0.06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aOH+                 8.604e-008  6.429e-008    -7.065    -7.192    -0.12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aHSO4+               5.979e-011  4.467e-011   -10.223   -10.350    -0.12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l              5.657e-001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l-                   5.657e-001  3.528e-001    -0.247    -0.452    -0.205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Cl+                 6.769e-016  5.058e-016   -15.169   -15.296    -0.12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Cl+2                9.556e-019  2.978e-019   -18.020   -18.526    -0.506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Cl2+                6.281e-019  4.693e-019   -18.202   -18.329    -0.12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Cl3                 1.417e-020  1.656e-020   -19.849   -19.781     0.06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(2)           6.007e-015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+2                  4.525e-015  1.039e-015   -14.344   -14.984    -0.639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Cl+                 6.769e-016  5.058e-016   -15.169   -15.296    -0.12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SO4                 4.213e-016  4.921e-016   -15.375   -15.308     0.06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CO3                 1.700e-016  1.985e-016   -15.770   -15.702     0.06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HCO3+               1.423e-016  1.063e-016   -15.847   -15.973    -0.12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OH+                 7.153e-017  5.345e-017   -16.145   -16.272    -0.12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HSO4+               2.609e-023  1.949e-023   -22.584   -22.710    -0.12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(3)           3.711e-008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(OH)3               2.840e-008  3.318e-008    -7.547    -7.479     0.06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(OH)4-              6.591e-009  4.924e-009    -8.181    -8.308    -0.12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(OH)2+              2.118e-009  1.583e-009    -8.674    -8.801    -0.12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OH+2                9.425e-014  2.937e-014   -13.026   -13.532    -0.506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SO4+                1.093e-018  8.167e-019   -17.961   -18.088    -0.12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Cl+2                9.556e-019  2.978e-019   -18.020   -18.526    -0.506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Cl2+                6.281e-019  4.693e-019   -18.202   -18.329    -0.12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+3                  3.509e-019  2.795e-020   -18.455   -19.554    -1.099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(SO4)2-             6.371e-020  4.761e-020   -19.196   -19.322    -0.12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Cl3                 1.417e-020  1.656e-020   -19.849   -19.781     0.06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2(OH)2+4            2.462e-024  2.322e-026   -23.609   -25.634    -2.025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HSO4+2              4.228e-026  1.318e-026   -25.374   -25.880    -0.506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3(OH)4+5            1.122e-029  7.678e-033   -28.950   -32.115    -3.165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(0)            5.540e-03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2                    2.770e-037  3.236e-037   -36.557   -36.490     0.06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               1.058e-00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+                    1.041e-002  6.495e-003    -1.982    -2.187    -0.205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SO4-                 1.627e-004  1.216e-004    -3.789    -3.915    -0.12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OH                   3.137e-009  3.665e-009    -8.503    -8.436     0.06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Mg              5.507e-00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Mg+2                  4.742e-002  1.371e-002    -1.324    -1.863    -0.539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MgSO4                 7.330e-003  8.562e-003    -2.135    -2.067     0.06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MgHCO3+               2.198e-004  1.642e-004    -3.658    -3.785    -0.12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MgCO3                 8.924e-005  1.042e-004    -4.049    -3.982     0.06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MgOH+                 1.084e-005  8.100e-006    -4.965    -5.092    -0.12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a              4.854e-001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a+                   4.791e-001  3.387e-001    -0.320    -0.470    -0.151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aSO4-                6.053e-003  4.523e-003    -2.218    -2.345    -0.12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aHCO3                1.669e-004  1.950e-004    -3.777    -3.710     0.06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aCO3-                6.726e-005  5.026e-005    -4.172    -4.299    -0.12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aOH                  3.117e-007  3.641e-007    -6.506    -6.439     0.06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O(0)            6.554e-02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O2                    3.277e-020  3.828e-020   -19.485   -19.417     0.06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(6)            2.926e-00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O4-2                 1.463e-002  2.664e-003    -1.835    -2.574    -0.74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MgSO4                 7.330e-003  8.562e-003    -2.135    -2.067     0.06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aSO4-                6.053e-003  4.523e-003    -2.218    -2.345    -0.12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aSO4                 1.083e-003  1.265e-003    -2.965    -2.898     0.06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SO4-                 1.627e-004  1.216e-004    -3.789    -3.915    -0.12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SO4-                 2.089e-009  1.561e-009    -8.680    -8.807    -0.12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aHSO4+               5.979e-011  4.467e-011   -10.223   -10.350    -0.12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SO4                 4.213e-016  4.921e-016   -15.375   -15.308     0.06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SO4+                1.093e-018  8.167e-019   -17.961   -18.088    -0.12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(SO4)2-             6.371e-020  4.761e-020   -19.196   -19.322    -0.12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HSO4+               2.609e-023  1.949e-023   -22.584   -22.710    -0.12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HSO4+2              4.228e-026  1.318e-026   -25.374   -25.880    -0.506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------------Saturation indices-------------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hase               SI log IAP  log KT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Anhydrite        -0.84   -5.20   -4.36  CaSO4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Aragonite         0.61   -7.72   -8.34  CaCO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alcite           0.76   -7.72   -8.48  CaCO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O2(g)           -3.38   -4.85   -1.47  CO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Dolomite          2.41  -14.68  -17.09  CaMg(CO3)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(OH)3(a)        0.19    5.08    4.89  Fe(OH)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Goethite          6.09    5.09   -1.00  FeOOH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Gypsum           -0.63   -5.21   -4.58  CaSO4:2H2O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2(g)           -33.34  -36.49   -3.15  H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2O(g)           -1.52   -0.01    1.51  H2O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alite           -2.50   -0.92    1.58  NaCl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ematite         14.20   10.19   -4.01  Fe2O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Jarosite-K       -7.52  -16.73   -9.21  KFe3(SO4)2(OH)6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Melanterite     -15.41  -17.62   -2.21  FeSO4:7H2O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O2(g)           -16.52  -19.42   -2.89  O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iderite         -9.19  -20.08  -10.89  FeCO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nd of simulation.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Reading input data for simulation 2.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nd of run.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D2CF0AD-9038-46FA-B46B-391C318B26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pm, temperature independent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mg/L, temperature dependent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mg vs moles 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Mol/kg water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Kgs ~ kgw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ensity of seawater 1.02; Ppm ~ mg/L; mol/L ~ mol/kgw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09DD73E-6CF4-4919-A7FC-8FEA74F649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IS.2a.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Questions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() indicates molality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[] indicates activity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1.  K = [HCO3-][H+]/([CO2][H2O])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2.  Log K = log([HCO3-]) + log([H+]) - log([CO2]) + log([H2O])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3.  Log K = -2.99 + (-8.22) – (-4.85) – (–.009) = – 6.351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4.  pH 6.35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9D5D8AD-D14C-46ED-BD74-9DBB2181D0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92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DF751AB-6F11-4D6E-88A7-35CA3DFED0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Courier New"/>
              </a:rPr>
              <a:t>IS.3.</a:t>
            </a:r>
            <a:r>
              <a:rPr b="0" lang="en-US" sz="12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3333cc"/>
                </a:solidFill>
                <a:latin typeface="Courier New"/>
              </a:rPr>
              <a:t>Questions 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1. CO2 decreases, pH increases.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2. CO2 increases, pH decreases.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3. CaCO3 + CO2 + H2O = Ca+2 + 2HCO3-; CO2 decreases, HCO3- increases, pH increases.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D3EA869-7BF3-41CD-8417-E316D8B666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E008971-22E3-4973-96BB-C49727063A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BCD67E1-C652-4BDB-98D3-F6E09D2A95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66F90B3-8148-48AE-BB84-A54D585F81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B1CDC50-9277-4FB3-8314-983CE95012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IS.1. Questions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For most waters, we can assume most of the mass in solution is water. Mass of water in 1 kg seawater ~ 1 kg.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412/40 ~ 10 mmol/kgw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142/61 ~ 2.4 meq/kgw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2.4*50 ~ 120 mg/kgw as HCO3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None, density will only be used when concentration is specified as per liter.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8F83568-A7EF-45C8-BF98-18AC0C7D5E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# IS 4a Exercise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OLUTION_SPREAD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H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C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1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5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1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6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1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7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1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8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1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9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1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10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1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11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1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12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1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ELECTED_OUTPUT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-file                 is4a.sel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-reset                false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-ph                   true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-molalities           CO2  HCO3-  CO3-2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aphicFrame>
        <p:nvGraphicFramePr>
          <p:cNvPr id="586" name="Object 5"/>
          <p:cNvGraphicFramePr/>
          <p:nvPr/>
        </p:nvGraphicFramePr>
        <p:xfrm>
          <a:off x="1071720" y="7554960"/>
          <a:ext cx="5136840" cy="2636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8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7554960"/>
                    <a:ext cx="5136840" cy="263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1DFA1BE-845D-4BF6-815B-306B77D378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body"/>
          </p:nvPr>
        </p:nvSpPr>
        <p:spPr>
          <a:xfrm>
            <a:off x="839520" y="4425480"/>
            <a:ext cx="5141880" cy="43354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# IS 4b. Exercise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OLUTION_SPREAD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H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Alkalinity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6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2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7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2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8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2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9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2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10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2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11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2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ELECTED_OUTPUT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-file                 is4b.sel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-reset                false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-ph                   true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-totals               C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-molalities           CO2  HCO3-  CO3-2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graphicFrame>
        <p:nvGraphicFramePr>
          <p:cNvPr id="591" name="Object 5"/>
          <p:cNvGraphicFramePr/>
          <p:nvPr/>
        </p:nvGraphicFramePr>
        <p:xfrm>
          <a:off x="1147680" y="7174080"/>
          <a:ext cx="3718080" cy="190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9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174080"/>
                    <a:ext cx="3718080" cy="19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45CB065-EBC7-4E36-B40D-0EBB95F7C1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IS 4.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Questions 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1. Total CO2 = (CO2) + (HCO3-) + (CO3-2)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2. Alkalinity = (HCO3-) + 2(CO3-2)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3. Alkalinity = (HCO3-) + 2(CO3-2) + (OH-)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4. Alkalinity = (HCO3-) + 2(CO3-2) + (OH-) – (H+)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EC00EB5-A645-4416-A2DE-06CB83233A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92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5E43FD4-0E66-42F8-92C1-90A0425383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92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FF5E3BC-BFF3-4931-BBE4-37277FC1EE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IS.7.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Questions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1. NH4+ + 3H2O  = NO3- + 10H+ + 8e-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Log K = -119.1 = log[NO3-] – 10pH – 8pe – log[NH4+] - 3log[H2O]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8pe = log[NO3-] – log[NH4+] + 119.1 – 10pH – 3log[H2O]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e = 1/8log( [NO3-] / [NH4+] ) – 10/8pH + 14.9 – 3/8log[H2O]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7102C34-3D6E-4182-89E0-690516B673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1E8A11A-BA3B-4375-B782-BF08205A1F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9CEB01D-97ED-402E-8778-BFACFE118B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03C4C2C-1C1F-4C23-86B0-DD5614C01F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19" name="Slide Number Placeholder 3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C8D31F5-FB02-46A2-A137-89BC326C1A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DC4C5FC-9737-4777-AC4F-CA37D3D595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# IS.8 Exercise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OLUTION 1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H        7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e        0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redox     pe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Fe        1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OLUTION 2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H        7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e        0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redox     pe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Fe(2)     1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OLUTION 3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H        7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e        0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redox     pe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Fe(3)    1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OLUTION 4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H        7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e        0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redox     Fe(2)/Fe(3)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Fe(2)     1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Fe(3)     1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46F36FC-D69E-4279-AD86-3CAFEF8A4C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2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3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Total iron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1.0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1.0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1.0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2.0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Total ferrous iron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1.0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1.0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1.0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Total ferric iron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3e-8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1.0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1.0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Fe(3)/Fe(2) p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--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--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--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4.4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SI Fe(OH)3(a)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-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4.4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4.4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SI Goethit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5.9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-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10.3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10.3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put file: C:\NTC\07\Solutions.working\is8.pqi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Output file: C:\NTC\07\Solutions.working\is8.pqo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Database file: C:\Program Files\USGS\Phreeqc Interactive 2.13.2\phreeqc.dat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Reading data base.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OLUTION_MASTER_SPECIES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OLUTION_SPECIES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HASES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XCHANGE_MASTER_SPECIES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XCHANGE_SPECIES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URFACE_MASTER_SPECIES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URFACE_SPECIES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RATES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Reading input data for simulation 1.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DATABASE C:\Program Files\USGS\Phreeqc Interactive 2.13.2\phreeqc.dat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OLUTION 1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H        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e        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redox     pe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        1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OLUTION 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H        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e        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redox     pe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(2)     1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OLUTION 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H        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e        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redox     pe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(3)    1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OLUTION 4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H        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e        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redox     Fe(2)/Fe(3)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(2)     1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(3)     1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-------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Beginning of initial solution calculations.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-------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solution 1.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-----------Solution composition------------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lements           Molality       Moles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               1.000e-003  1.000e-00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----------Description of solution----------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H  =   7.000    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e  =   0.000    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Activity of water  =   1.00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onic strength  =  1.996e-00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Mass of water (kg)  =  1.000e+00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otal alkalinity (eq/kg)  =  2.755e-006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otal carbon (mol/kg)  =  0.000e+00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otal CO2 (mol/kg)  =  0.000e+00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emperature (deg C)  =  25.00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lectrical balance (eq)  =  1.997e-00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ercent error, 100*(Cat-|An|)/(Cat+|An|)  =  99.99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terations  =   4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otal H  = 1.110124e+00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otal O  = 5.550622e+001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----------Distribution of species----------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Log       Log         Log 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pecies                 Molality    Activity  Molality  Activity     Gamma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OH-                   1.052e-007  1.001e-007    -6.978    -7.000    -0.02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+                    1.047e-007  1.000e-007    -6.980    -7.000    -0.02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2O                   5.551e+001  1.000e+000     1.744    -0.000     0.00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(2)           1.000e-00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+2                  9.972e-004  8.225e-004    -3.001    -3.085    -0.084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OH+                 2.733e-006  2.601e-006    -5.563    -5.585    -0.021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(3)           3.948e-008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(OH)3               2.162e-008  2.163e-008    -7.665    -7.665     0.00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(OH)2+              1.764e-008  1.679e-008    -7.753    -7.775    -0.021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(OH)4-              2.073e-010  1.973e-010    -9.683    -9.705    -0.021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OH+2                6.181e-012  5.071e-012   -11.209   -11.295    -0.086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+3                  1.191e-016  7.855e-017   -15.924   -16.105    -0.181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2(OH)2+4            1.527e-021  6.923e-022   -20.816   -21.160    -0.344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3(OH)4+5            8.362e-027  2.429e-027   -26.078   -26.615    -0.53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(0)            1.415e-01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2                    7.076e-018  7.079e-018   -17.150   -17.150     0.00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O(0)            0.000e+00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O2                    0.000e+000  0.000e+000   -58.080   -58.080     0.00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------------Saturation indices-------------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hase               SI log IAP  log KT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(OH)3(a)        0.00    4.90    4.89  Fe(OH)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Goethite          5.90    4.90   -1.00  FeOOH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2(g)           -14.00  -17.15   -3.15  H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2O(g)           -1.51   -0.00    1.51  H2O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ematite         13.80    9.79   -4.01  Fe2O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O2(g)           -55.19  -58.08   -2.89  O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solution 2.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-----------Solution composition------------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lements           Molality       Moles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(2)            1.000e-003  1.000e-00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----------Description of solution----------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H  =   7.000    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e  =   0.000    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Activity of water  =   1.00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onic strength  =  1.996e-00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Mass of water (kg)  =  1.000e+00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otal alkalinity (eq/kg)  =  2.733e-006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otal carbon (mol/kg)  =  0.000e+00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otal CO2 (mol/kg)  =  0.000e+00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emperature (deg C)  =  25.00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lectrical balance (eq)  =  1.997e-00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ercent error, 100*(Cat-|An|)/(Cat+|An|)  =  99.99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terations  =   4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otal H  = 1.110124e+00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otal O  = 5.550622e+001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----------Distribution of species----------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Log       Log         Log 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pecies                 Molality    Activity  Molality  Activity     Gamma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OH-                   1.052e-007  1.001e-007    -6.978    -7.000    -0.02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+                    1.047e-007  1.000e-007    -6.980    -7.000    -0.02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2O                   5.551e+001  1.000e+000     1.744    -0.000     0.00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(2)           1.000e-00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+2                  9.973e-004  8.225e-004    -3.001    -3.085    -0.084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OH+                 2.733e-006  2.601e-006    -5.563    -5.585    -0.021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(0)            1.415e-01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2                    7.076e-018  7.079e-018   -17.150   -17.150     0.00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O(0)            0.000e+00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O2                    0.000e+000  0.000e+000   -58.080   -58.080     0.00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------------Saturation indices-------------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hase               SI log IAP  log KT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2(g)           -14.00  -17.15   -3.15  H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2O(g)           -1.51   -0.00    1.51  H2O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O2(g)           -55.19  -58.08   -2.89  O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solution 3.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-----------Solution composition------------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lements           Molality       Moles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(3)            1.000e-003  1.000e-00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----------Description of solution----------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H  =   7.000    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e  =   0.000    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Activity of water  =   1.00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onic strength  =  2.224e-004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Mass of water (kg)  =  1.000e+00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otal alkalinity (eq/kg)  =  5.660e-004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otal carbon (mol/kg)  =  0.000e+00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otal CO2 (mol/kg)  =  0.000e+00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emperature (deg C)  =  25.00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lectrical balance (eq)  =  4.340e-004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ercent error, 100*(Cat-|An|)/(Cat+|An|)  =  97.6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terations  =   4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otal H  = 1.110150e+00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otal O  = 5.550878e+001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----------Distribution of species----------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Log       Log         Log 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pecies                 Molality    Activity  Molality  Activity     Gamma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OH-                   1.018e-007  1.001e-007    -6.992    -7.000    -0.00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+                    1.017e-007  1.000e-007    -6.993    -7.000    -0.00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2O                   5.551e+001  1.000e+000     1.744    -0.000     0.00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(3)           1.000e-00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(OH)3               5.558e-004  5.558e-004    -3.255    -3.255     0.00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(OH)2+              4.389e-004  4.315e-004    -3.358    -3.365    -0.00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(OH)4-              5.157e-006  5.069e-006    -5.288    -5.295    -0.00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OH+2                1.396e-007  1.303e-007    -6.855    -6.885    -0.03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+3                  2.347e-012  2.018e-012   -11.630   -11.695    -0.065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2(OH)2+4            6.013e-013  4.570e-013   -12.221   -12.340    -0.119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3(OH)4+5            6.325e-014  4.119e-014   -13.199   -13.385    -0.186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(0)            1.416e-01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2                    7.079e-018  7.079e-018   -17.150   -17.150     0.00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O(0)            0.000e+00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O2                    0.000e+000  0.000e+000   -58.080   -58.080     0.00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------------Saturation indices-------------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hase               SI log IAP  log KT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(OH)3(a)        4.41    9.30    4.89  Fe(OH)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Goethite         10.30    9.30   -1.00  FeOOH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2(g)           -14.00  -17.15   -3.15  H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2O(g)           -1.51   -0.00    1.51  H2O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ematite         22.62   18.61   -4.01  Fe2O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O2(g)           -55.19  -58.08   -2.89  O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solution 4.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-----------Solution composition------------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lements           Molality       Moles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(2)            1.000e-003  1.000e-00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(3)            1.000e-003  1.000e-00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----------Description of solution----------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H  =   7.000    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e  =   0.000    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Activity of water  =   1.00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onic strength  =  2.223e-00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Mass of water (kg)  =  1.000e+00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otal alkalinity (eq/kg)  =  5.601e-004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otal carbon (mol/kg)  =  0.000e+00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otal CO2 (mol/kg)  =  0.000e+00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emperature (deg C)  =  25.00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lectrical balance (eq)  =  2.440e-00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ercent error, 100*(Cat-|An|)/(Cat+|An|)  =  99.56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terations  =   4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otal H  = 1.110150e+00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otal O  = 5.550878e+001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---------------Redox couples---------------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Redox couple             pe  Eh (volts)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(2)/Fe(3)          4.4073      0.260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----------Distribution of species----------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Log       Log         Log 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pecies                 Molality    Activity  Molality  Activity     Gamma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OH-                   1.055e-007  1.001e-007    -6.977    -7.000    -0.02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+                    1.050e-007  1.000e-007    -6.979    -7.000    -0.021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2O                   5.551e+001  1.000e+000     1.744    -0.000     0.00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(2)           1.000e-00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+2                  9.973e-004  8.146e-004    -3.001    -3.089    -0.088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OH+                 2.713e-006  2.576e-006    -5.566    -5.589    -0.02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(3)           1.000e-00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(OH)3               5.470e-004  5.473e-004    -3.262    -3.262     0.00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(OH)2+              4.476e-004  4.249e-004    -3.349    -3.372    -0.02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(OH)4-              5.258e-006  4.991e-006    -5.279    -5.302    -0.02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OH+2                1.580e-007  1.283e-007    -6.801    -6.892    -0.09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+3                  3.076e-012  1.987e-012   -11.512   -11.702    -0.19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2(OH)2+4            1.019e-012  4.431e-013   -11.992   -12.353    -0.361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3(OH)4+5            1.444e-013  3.934e-014   -12.840   -13.405    -0.565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(0)            2.168e-026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2                    1.084e-026  1.085e-026   -25.965   -25.965     0.00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O(0)            0.000e+00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O2                    0.000e+000  0.000e+000   -40.451   -40.451     0.00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------------Saturation indices-------------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hase               SI log IAP  log KT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(OH)3(a)        4.41    9.30    4.89  Fe(OH)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Goethite         10.30    9.30   -1.00  FeOOH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2(g)           -22.81  -25.96   -3.15  H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2O(g)           -1.51   -0.00    1.51  H2O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ematite         22.60   18.60   -4.01  Fe2O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O2(g)           -37.56  -40.45   -2.89  O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nd of simulation.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Reading input data for simulation 2.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nd of run.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0A19C1F-75FF-47EF-BAD9-036A822396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458280" y="4414680"/>
            <a:ext cx="5883480" cy="4183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marL="228600" indent="0">
              <a:lnSpc>
                <a:spcPct val="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IS.8.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Questions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Questions 1: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olution 1: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. Fe distributed by using pe 0, Fe(2) and Fe(3) defined.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b. Fe(3) is defined, goethite SI can be calculated.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olution 2: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. Fe(2) is defined to be 1 mmol/kgw.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Fe(3) is undefined.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b. Fe(3) is not defined, goethite SI can not be calculated.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olution 3: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. Fe(2) is undefined.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Fe(3) is defined to be 1 mmol/kgw.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b. Fe(3) is defined, goethite SI can be calculated.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olution 4: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. Fe(2) and Fe(3) defined.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b. Fe(3) is defined, goethite SI can be calculated. 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Question 2: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e from Fe(2)/Fe(3) couple is 4.4.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Question 3: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The equation is for the activity of Fe+3 and Fe+2 ions. In solution, we defined the sum of the molalities of the Fe(3) and Fe(2) species. Fe(2) is predominantly (Fe+2) ion, but Fe(OH)3 and Fe(OH)2+ are the predominant Fe(3) species. (Fe+3) is 8 orders of magnitude less than the predominant species.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Question 4: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efine iron as Fe(2) or adjust pe sufficiently low to produce mostly Fe(2). Note: goethite SI will not be calculated in the first case and will be completely dependent on your choice of pe for the second.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9992475-4193-4FB2-AF20-197E5D6754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3345D3C-80FB-40DF-804A-41F47AE67F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ACE7912-23DD-44A3-90EE-7B8848A4A5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92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387B2A1-2F07-4BDB-9257-D5CEDC8331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EF2A8A3-BC0B-43F8-9B45-4B76B503BB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18F5FDC-6691-4354-83C5-45B2BBD13B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1"/>
          <p:cNvSpPr>
            <a:spLocks noGrp="1"/>
          </p:cNvSpPr>
          <p:nvPr>
            <p:ph type="body"/>
          </p:nvPr>
        </p:nvSpPr>
        <p:spPr>
          <a:xfrm>
            <a:off x="610920" y="4425480"/>
            <a:ext cx="5654520" cy="433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marL="22860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IS.10.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Exercises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6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6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# IS.10 Exercise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6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OLUTION 1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6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H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7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harge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6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a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6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6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6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OLUTION 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6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H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7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6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a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6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6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l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harge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6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6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6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Answers: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6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-228600">
              <a:lnSpc>
                <a:spcPct val="60000"/>
              </a:lnSpc>
              <a:spcBef>
                <a:spcPts val="300"/>
              </a:spcBef>
              <a:buClr>
                <a:srgbClr val="000000"/>
              </a:buClr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H = 10.1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-228600">
              <a:lnSpc>
                <a:spcPct val="60000"/>
              </a:lnSpc>
              <a:spcBef>
                <a:spcPts val="300"/>
              </a:spcBef>
              <a:buClr>
                <a:srgbClr val="000000"/>
              </a:buClr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l = 1.35 mmol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6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C40EE98-2FC2-4A62-A8EF-B98F1470DA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601DCC2-2F18-46CE-B275-4A8270975D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E60FD78-4742-430E-BAD4-9F884DB972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4FC8C95-CF89-40A4-BA7E-01646EF9A7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AB73B8C-9FEA-4595-BC4F-A1F2CDA20A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# IS.11. Exercise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OLUTION 1 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temp      25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H        4.5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e        4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redox     pe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units     mg/l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ensity   1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a        0.384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Mg        0.043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Na        0.141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K         0.036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(4)      1 CO2(g)     -3.5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l        0.236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(6)      1.3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N(5)      0.237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N(-3)     0.208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         0.0003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-water    1 # kg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1. 1.1e-5 mol/kgwater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EA210E6-E118-4FB8-B228-4E9701E4BB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C328E09-8B78-43B3-9969-F15668345A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534960" y="4414680"/>
            <a:ext cx="6035760" cy="41832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IS.12.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# IS.12. Exercise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OLUTION 1 Air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-temp 25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H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7  charge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O2(g)   -3.5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OLUTION 2 Soil zone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-temp 25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H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7  charge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O2(g)   -2.0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OLUTION 2 Soil zone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-temp 10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H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7  charge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O2(g)   -2.0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S.12.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H = 5.66, TDIC =  13 umol/kgw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H = 4.91, TDIC = 353 umol/kgw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H = 4.87, TDIC = 552 umol/kgw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D5DA501-E641-47F7-8C7F-5BC637C00F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OLUTION_MASTER_SPECIES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#element species        alk     gfw_formula     element_gfw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a       Ca+2           0.0     Ca              40.08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        CO3-2          2.0     HCO3            12.0111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(+4)    CO3-2          2.0     HCO3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(-4)    CH4            0.0     CH4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lkalinity CO3-2        1.0     Ca0.5(CO3)0.5   50.05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35F382B-ABC5-49FE-A1CD-79EBCA01D5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667" name="PlaceHolder 2"/>
          <p:cNvSpPr>
            <a:spLocks noGrp="1"/>
          </p:cNvSpPr>
          <p:nvPr>
            <p:ph type="body"/>
          </p:nvPr>
        </p:nvSpPr>
        <p:spPr>
          <a:xfrm>
            <a:off x="534960" y="4414680"/>
            <a:ext cx="6035760" cy="41832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IS.12.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# IS.12. Exercise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OLUTION_SPREAD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-units    mg/l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Number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Temp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pH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Ca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Mg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K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Na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Alkalinity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Cl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Si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S(6)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Al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alcite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as CaCO3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Kaolinite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6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17.46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10.31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2.6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3.5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12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330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291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280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19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75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1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IS.12.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H = 8.76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8.3e-8 mol/kgw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2E2A10C-97B4-47B3-A0C4-EC9618C1E5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719B320-C980-4198-B33F-9364598CC9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211D28A-CD74-414D-9CB5-564B49B7FC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E27343E-A6F8-4678-9D98-6D0CDE5353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679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36CEAAC-747D-4DAE-8665-9CE847C5C9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1F6CFC1-4D9F-4D1D-8F7A-70CC0E61A1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685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073817F-DE04-4F82-8289-2242AAE86A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86DE8D7-1CAD-44EF-87A4-EE4E251D90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95F3C3C-66E5-42B6-AFBD-4F0FE5E4C6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493CC3B-5291-4B8C-883E-103DCF7740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EE29B22-CA53-437B-9F0D-4D3A68D4B3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F4EBD-D795-4D36-A877-DBC75103C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DF09B-F005-4102-BE02-CB88B8793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90ED4-F222-414A-83AD-F4EA9A0ED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922C6-68BD-4EC0-A889-32BBD51E5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CF90F-1223-4A2F-9E38-CFF8DD045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3CE8A-56EB-48A8-A8F1-6B5616AEC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5F742-B0D1-437A-A5D4-BD1E7D131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DD373-70D1-4BAE-8865-D16C78C77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1265D-C2DA-4642-AC83-D45461C5F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61B26-5F3B-4332-B272-AA9E670DF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1F4D8-2B2F-4939-94A5-51DFD857D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F887D-A816-4199-9C3C-6666C5A52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2E057-C94A-482B-A134-A31EA51AD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3B250-3B15-4740-83C4-3D534B8C6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2F22D-9B42-41DC-9F1B-D540C160E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A42CE-6153-49CE-8A72-73D666CC9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A14E9-A4FB-4779-9BF3-9EEBFAFBB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10FD8-5DB3-4BCA-BE01-31E8DA63C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CFC95-8C27-4396-BF63-5482EF14A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189FD-413B-4558-A9F2-64447936D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4DF86-6F0C-4AE5-B7E2-747E48104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777CB-DFFE-4223-AF1C-273056193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752D6-F4FC-457A-A213-632B37272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9CA87-EFCA-476C-85BB-65F9917E2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14D1E-8C4F-43B0-BC45-5F25851D19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23" descr="Image of small USGS Identifier"/>
          <p:cNvPicPr/>
          <p:nvPr/>
        </p:nvPicPr>
        <p:blipFill>
          <a:blip r:embed="rId2"/>
          <a:stretch/>
        </p:blipFill>
        <p:spPr>
          <a:xfrm>
            <a:off x="152280" y="6284880"/>
            <a:ext cx="1143000" cy="420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3" descr="Image of small USGS Identifier"/>
          <p:cNvPicPr/>
          <p:nvPr/>
        </p:nvPicPr>
        <p:blipFill>
          <a:blip r:embed="rId2"/>
          <a:stretch/>
        </p:blipFill>
        <p:spPr>
          <a:xfrm>
            <a:off x="152280" y="6284880"/>
            <a:ext cx="1143000" cy="4208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3" descr="Image of small USGS Identifier"/>
          <p:cNvPicPr/>
          <p:nvPr/>
        </p:nvPicPr>
        <p:blipFill>
          <a:blip r:embed="rId3"/>
          <a:stretch/>
        </p:blipFill>
        <p:spPr>
          <a:xfrm>
            <a:off x="152280" y="6284880"/>
            <a:ext cx="1143000" cy="4208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39398-3A53-4A6F-9293-1197D86F49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8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0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Monday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modynamics of aqueous sol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on associ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itz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UTION and SOLUTION _SP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—ratio of HC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C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—ratio of oxidized/reduced valence st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l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ase bounda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turation ind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certain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ful miner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potential react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EC162-D3C5-4858-B42E-9E22EA01C2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Databases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763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on association appro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reeqc.dat—simplest (subset of Wateq4f.da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teq4f.dat—more trace el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nteq.dat—translated from minteq v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nteq.v4.dat—translated from minteq v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lnl.dat—most complete set of elements, temperature depend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o.dat—(in development) thermodynamics of isotop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tzer specific interaction appro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itzer.dat—Specific interaction model (many paramet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T specific interaction the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t.dat—Simplified specific interaction model (1 paramet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714EE-4049-46C3-9FCC-53081FB095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PHREEQC Database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data blocks related to speci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LUTION_MASTER_SPECI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—Redox states and gram formula m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LUTION_SPECI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—Reaction and log 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HAS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—Reaction and log 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15FF3-91C3-4B12-8CC4-60817B8520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What is a speciation calculation?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ut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centr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ss-balance—sum of the calcium species = total calci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ss-action—activities of products divided by reactants = const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ivity coefficients—function of ionic streng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lalities, activ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turation ind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E18CA-33AE-4E0F-9BC4-8F9A8509DF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Mass-Balance Equation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1629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alyzed concentration of sulfate = (S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+ (MgS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+ (NaS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+ (CaS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+ (KS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+ (HS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+ (CaHS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+ (FeS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+ (FeS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+ (Fe(S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+ (FeHS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+ (FeHS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) indicates mol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E7B20-455D-49E1-8D9E-203050ED58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Mass-Action Equation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590560" y="1828440"/>
            <a:ext cx="38862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S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CaS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Object 4"/>
              <p:cNvSpPr txBox="1"/>
              <p:nvPr/>
            </p:nvSpPr>
            <p:spPr>
              <a:xfrm>
                <a:off x="3200400" y="2925720"/>
                <a:ext cx="2666880" cy="99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[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aSO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]</m:t>
                        </m:r>
                      </m:num>
                      <m:den>
                        <m:r>
                          <m:t xml:space="preserve">[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a</m:t>
                            </m:r>
                          </m:e>
                          <m:sup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]</m:t>
                        </m:r>
                        <m:r>
                          <m:t xml:space="preserve">[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O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4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  <m:r>
                          <m:t xml:space="preserve">]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4" name="Text Box 5"/>
          <p:cNvSpPr/>
          <p:nvPr/>
        </p:nvSpPr>
        <p:spPr>
          <a:xfrm>
            <a:off x="838800" y="5334120"/>
            <a:ext cx="2654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] indicates ac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5" name="Object 6"/>
              <p:cNvSpPr txBox="1"/>
              <p:nvPr/>
            </p:nvSpPr>
            <p:spPr>
              <a:xfrm>
                <a:off x="1143000" y="4381560"/>
                <a:ext cx="6781680" cy="5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K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[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aSO</m:t>
                        </m:r>
                      </m:e>
                      <m:sub>
                        <m:sSup>
                          <m:e>
                            <m:r>
                              <m:t xml:space="preserve">4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sub>
                    </m:sSub>
                    <m:r>
                      <m:t xml:space="preserve">]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[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a</m:t>
                        </m:r>
                      </m:e>
                      <m:sup>
                        <m:r>
                          <m:t xml:space="preserve">+</m:t>
                        </m:r>
                        <m:r>
                          <m:t xml:space="preserve">2</m:t>
                        </m:r>
                      </m:sup>
                    </m:sSup>
                    <m:r>
                      <m:t xml:space="preserve">]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[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O</m:t>
                        </m:r>
                      </m:e>
                      <m:sub>
                        <m:sSup>
                          <m:e>
                            <m:r>
                              <m:t xml:space="preserve">4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sup>
                        </m:sSup>
                      </m:sub>
                    </m:sSub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6" name="Slide Number Placeholder 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E2B78-E497-42F1-91A1-E36D946B12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590560" y="151920"/>
            <a:ext cx="4267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Activity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Object 4"/>
              <p:cNvSpPr txBox="1"/>
              <p:nvPr/>
            </p:nvSpPr>
            <p:spPr>
              <a:xfrm>
                <a:off x="380880" y="838080"/>
                <a:ext cx="198144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γ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" name="Object 8"/>
              <p:cNvSpPr txBox="1"/>
              <p:nvPr/>
            </p:nvSpPr>
            <p:spPr>
              <a:xfrm>
                <a:off x="380880" y="3417840"/>
                <a:ext cx="3505320" cy="109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sSub>
                      <m:e>
                        <m:r>
                          <m:t xml:space="preserve">γ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i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μ</m:t>
                            </m:r>
                          </m:e>
                        </m:rad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0</m:t>
                            </m:r>
                          </m:sup>
                        </m:sSubSup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μ</m:t>
                            </m:r>
                          </m:e>
                        </m:rad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μ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70" name="Object 10"/>
          <p:cNvGraphicFramePr/>
          <p:nvPr/>
        </p:nvGraphicFramePr>
        <p:xfrm>
          <a:off x="4952880" y="1600200"/>
          <a:ext cx="3984840" cy="4876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1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2880" y="1600200"/>
                    <a:ext cx="3984840" cy="487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2" name="Text Box 13"/>
          <p:cNvSpPr/>
          <p:nvPr/>
        </p:nvSpPr>
        <p:spPr>
          <a:xfrm>
            <a:off x="380880" y="2792520"/>
            <a:ext cx="449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TEQ activity coeffici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Object 14"/>
              <p:cNvSpPr txBox="1"/>
              <p:nvPr/>
            </p:nvSpPr>
            <p:spPr>
              <a:xfrm>
                <a:off x="380880" y="5245200"/>
                <a:ext cx="3810240" cy="104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sSub>
                      <m:e>
                        <m:r>
                          <m:t xml:space="preserve">γ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z</m:t>
                        </m:r>
                      </m:e>
                      <m:sub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μ</m:t>
                                </m:r>
                              </m:e>
                            </m:rad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μ</m:t>
                                </m:r>
                              </m:e>
                            </m:rad>
                          </m:den>
                        </m:f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t xml:space="preserve">3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μ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74" name="Text Box 16"/>
          <p:cNvSpPr/>
          <p:nvPr/>
        </p:nvSpPr>
        <p:spPr>
          <a:xfrm>
            <a:off x="380880" y="4618080"/>
            <a:ext cx="449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vies activity coeffici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5" name="Object 17"/>
              <p:cNvSpPr txBox="1"/>
              <p:nvPr/>
            </p:nvSpPr>
            <p:spPr>
              <a:xfrm>
                <a:off x="380880" y="1736640"/>
                <a:ext cx="1981440" cy="94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</m:nary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76" name="Slide Number Placeholder 1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6549E-5FD2-4999-9E7E-DE9C0B7541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Uncharged Specie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78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64715-A989-4823-BADE-B6A1BD21DC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9" name="Object 2"/>
              <p:cNvSpPr txBox="1"/>
              <p:nvPr/>
            </p:nvSpPr>
            <p:spPr>
              <a:xfrm>
                <a:off x="3581280" y="1981080"/>
                <a:ext cx="1667160" cy="5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sSub>
                      <m:e>
                        <m:r>
                          <m:t xml:space="preserve">γ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μ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0" name="TextBox 6"/>
          <p:cNvSpPr/>
          <p:nvPr/>
        </p:nvSpPr>
        <p:spPr>
          <a:xfrm>
            <a:off x="1557720" y="3048120"/>
            <a:ext cx="640008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called the Setschenow coeffic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lue of 0.1 used i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hreeqc.dat, wateq4f.da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Pitzer Activity Coefficient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Object 4"/>
              <p:cNvSpPr txBox="1"/>
              <p:nvPr/>
            </p:nvSpPr>
            <p:spPr>
              <a:xfrm>
                <a:off x="485640" y="1860480"/>
                <a:ext cx="8172720" cy="14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sSub>
                          <m:e>
                            <m:r>
                              <m:t xml:space="preserve">γ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F</m:t>
                        </m:r>
                        <m:r>
                          <m:t xml:space="preserve">+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a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Ma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Z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Ma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c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t xml:space="preserve">c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Φ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Mc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a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M</m:t>
                                        </m:r>
                                      </m:e>
                                      <m:sub>
                                        <m:r>
                                          <m:t xml:space="preserve">a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ψ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Mca</m:t>
                                        </m:r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  <m:r>
                                      <m:t xml:space="preserve">+</m:t>
                                    </m:r>
                                  </m:e>
                                </m:nary>
                              </m:e>
                            </m:nary>
                          </m:e>
                        </m:nary>
                      </m:e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a</m:t>
                            </m:r>
                            <m:r>
                              <m:t xml:space="preserve">&lt;</m:t>
                            </m:r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a</m:t>
                                </m:r>
                                <m:r>
                                  <m:t xml:space="preserve">'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t xml:space="preserve">a</m:t>
                                    </m:r>
                                    <m:r>
                                      <m:t xml:space="preserve">'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ψ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aa</m:t>
                                    </m:r>
                                    <m:r>
                                      <m:t xml:space="preserve">'</m:t>
                                    </m:r>
                                    <m:r>
                                      <m:t xml:space="preserve">m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z</m:t>
                                        </m:r>
                                      </m:e>
                                      <m:sub>
                                        <m:r>
                                          <m:t xml:space="preserve">m</m:t>
                                        </m:r>
                                      </m:sub>
                                    </m:sSub>
                                  </m:e>
                                </m:d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c</m:t>
                                    </m:r>
                                  </m:sub>
                                  <m:sup/>
                                  <m:e>
                                    <m:nary>
                                      <m:naryPr>
                                        <m:chr m:val="∑"/>
                                        <m:supHide m:val="1"/>
                                      </m:naryPr>
                                      <m:sub>
                                        <m:r>
                                          <m:t xml:space="preserve">a</m:t>
                                        </m:r>
                                      </m:sub>
                                      <m:sup/>
                                      <m:e>
                                        <m:sSub>
                                          <m:e>
                                            <m:r>
                                              <m:t xml:space="preserve">m</m:t>
                                            </m:r>
                                          </m:e>
                                          <m:sub>
                                            <m:r>
                                              <m:t xml:space="preserve">c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m</m:t>
                                            </m:r>
                                          </m:e>
                                          <m:sub>
                                            <m:r>
                                              <m:t xml:space="preserve">a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ca</m:t>
                                            </m:r>
                                          </m:sub>
                                        </m:sSub>
                                      </m:e>
                                    </m:nary>
                                  </m:e>
                                </m:nary>
                              </m:e>
                            </m:nary>
                          </m:sub>
                          <m:sup/>
                          <m:e/>
                        </m:nary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183" name="Text Box 6"/>
          <p:cNvSpPr/>
          <p:nvPr/>
        </p:nvSpPr>
        <p:spPr>
          <a:xfrm>
            <a:off x="380880" y="4114800"/>
            <a:ext cx="7255080" cy="16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ncentration of an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ncentration of 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on specific parame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Object 7"/>
              <p:cNvSpPr txBox="1"/>
              <p:nvPr/>
            </p:nvSpPr>
            <p:spPr>
              <a:xfrm>
                <a:off x="457200" y="4878360"/>
                <a:ext cx="144792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,</m:t>
                    </m:r>
                    <m:r>
                      <m:t xml:space="preserve">Φ</m:t>
                    </m:r>
                    <m:r>
                      <m:t xml:space="preserve">,</m:t>
                    </m:r>
                    <m:r>
                      <m:t xml:space="preserve">ψ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5" name="Text Box 9"/>
          <p:cNvSpPr/>
          <p:nvPr/>
        </p:nvSpPr>
        <p:spPr>
          <a:xfrm>
            <a:off x="461520" y="5257800"/>
            <a:ext cx="8158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unction of ionic strength, molalities of cations and an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Slide Number Placeholder 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82CB8-0092-48A4-8D36-FFB9A696A9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SIT Activity Coefficient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Object 4"/>
              <p:cNvSpPr txBox="1"/>
              <p:nvPr/>
            </p:nvSpPr>
            <p:spPr>
              <a:xfrm>
                <a:off x="1897200" y="1919160"/>
                <a:ext cx="5343480" cy="13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n</m:t>
                    </m:r>
                    <m:sSub>
                      <m:e>
                        <m:r>
                          <m:t xml:space="preserve">γ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z</m:t>
                        </m:r>
                      </m:e>
                      <m:sub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b>
                    </m:sSub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μ</m:t>
                            </m:r>
                          </m:e>
                        </m:rad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μ</m:t>
                            </m:r>
                          </m:e>
                        </m:rad>
                      </m:den>
                    </m:f>
                    <m:r>
                      <m:t xml:space="preserve">+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k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89" name="Text Box 6"/>
          <p:cNvSpPr/>
          <p:nvPr/>
        </p:nvSpPr>
        <p:spPr>
          <a:xfrm>
            <a:off x="380880" y="4114800"/>
            <a:ext cx="7255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entrations of 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0" name="Object 7"/>
              <p:cNvSpPr txBox="1"/>
              <p:nvPr/>
            </p:nvSpPr>
            <p:spPr>
              <a:xfrm>
                <a:off x="457200" y="4734000"/>
                <a:ext cx="379440" cy="45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1" name="Slide Number Placeholder 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284D3-4F17-4C56-84A4-F21A294FC2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6"/>
          <p:cNvSpPr/>
          <p:nvPr/>
        </p:nvSpPr>
        <p:spPr>
          <a:xfrm>
            <a:off x="896760" y="4724280"/>
            <a:ext cx="579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action param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6"/>
          <p:cNvSpPr/>
          <p:nvPr/>
        </p:nvSpPr>
        <p:spPr>
          <a:xfrm>
            <a:off x="380880" y="4114800"/>
            <a:ext cx="725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6"/>
          <p:cNvSpPr/>
          <p:nvPr/>
        </p:nvSpPr>
        <p:spPr>
          <a:xfrm>
            <a:off x="457200" y="5405400"/>
            <a:ext cx="579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= 0.51, B = 1.5 at 25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Aqueous Model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7848720" cy="40388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on associ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most elements (Al, S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onic strength &lt;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st only in Na, Cl med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nsistent thermodynamic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mperature depen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16FD2-7A83-43D6-90C1-9887E079EE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Solution Definition and Speciation Calculation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grpSp>
        <p:nvGrpSpPr>
          <p:cNvPr id="96" name="Group 3"/>
          <p:cNvGrpSpPr/>
          <p:nvPr/>
        </p:nvGrpSpPr>
        <p:grpSpPr>
          <a:xfrm>
            <a:off x="3048120" y="2133720"/>
            <a:ext cx="2742840" cy="2133360"/>
            <a:chOff x="3048120" y="2133720"/>
            <a:chExt cx="2742840" cy="2133360"/>
          </a:xfrm>
        </p:grpSpPr>
        <p:sp>
          <p:nvSpPr>
            <p:cNvPr id="97" name="AutoShape 4"/>
            <p:cNvSpPr/>
            <p:nvPr/>
          </p:nvSpPr>
          <p:spPr>
            <a:xfrm>
              <a:off x="3048120" y="2133720"/>
              <a:ext cx="2674440" cy="2133360"/>
            </a:xfrm>
            <a:prstGeom prst="downArrowCallout">
              <a:avLst>
                <a:gd name="adj1" fmla="val 31343"/>
                <a:gd name="adj2" fmla="val 31341"/>
                <a:gd name="adj3" fmla="val 16667"/>
                <a:gd name="adj4" fmla="val 6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Text Box 5"/>
            <p:cNvSpPr/>
            <p:nvPr/>
          </p:nvSpPr>
          <p:spPr>
            <a:xfrm>
              <a:off x="3939480" y="2346840"/>
              <a:ext cx="61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Text Box 6"/>
            <p:cNvSpPr/>
            <p:nvPr/>
          </p:nvSpPr>
          <p:spPr>
            <a:xfrm>
              <a:off x="5173920" y="2204640"/>
              <a:ext cx="61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N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Text Box 7"/>
            <p:cNvSpPr/>
            <p:nvPr/>
          </p:nvSpPr>
          <p:spPr>
            <a:xfrm>
              <a:off x="3048120" y="2346840"/>
              <a:ext cx="822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O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Text Box 8"/>
            <p:cNvSpPr/>
            <p:nvPr/>
          </p:nvSpPr>
          <p:spPr>
            <a:xfrm>
              <a:off x="4556880" y="2560320"/>
              <a:ext cx="61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Text Box 9"/>
            <p:cNvSpPr/>
            <p:nvPr/>
          </p:nvSpPr>
          <p:spPr>
            <a:xfrm>
              <a:off x="4007880" y="2915640"/>
              <a:ext cx="61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F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Text Box 10"/>
            <p:cNvSpPr/>
            <p:nvPr/>
          </p:nvSpPr>
          <p:spPr>
            <a:xfrm>
              <a:off x="3528000" y="3058200"/>
              <a:ext cx="61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Text Box 11"/>
            <p:cNvSpPr/>
            <p:nvPr/>
          </p:nvSpPr>
          <p:spPr>
            <a:xfrm>
              <a:off x="4556880" y="3129120"/>
              <a:ext cx="11656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HCO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AutoShape 12"/>
          <p:cNvSpPr/>
          <p:nvPr/>
        </p:nvSpPr>
        <p:spPr>
          <a:xfrm>
            <a:off x="2971800" y="4267080"/>
            <a:ext cx="2895480" cy="1447920"/>
          </a:xfrm>
          <a:custGeom>
            <a:avLst/>
            <a:gdLst>
              <a:gd name="textAreaLeft" fmla="*/ 723960 w 2895480"/>
              <a:gd name="textAreaRight" fmla="*/ 2171880 w 2895480"/>
              <a:gd name="textAreaTop" fmla="*/ 0 h 1447920"/>
              <a:gd name="textAreaBottom" fmla="*/ 1448280 h 144792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Group 13"/>
          <p:cNvGrpSpPr/>
          <p:nvPr/>
        </p:nvGrpSpPr>
        <p:grpSpPr>
          <a:xfrm>
            <a:off x="5943600" y="4572000"/>
            <a:ext cx="2819160" cy="914400"/>
            <a:chOff x="5943600" y="4572000"/>
            <a:chExt cx="2819160" cy="914400"/>
          </a:xfrm>
        </p:grpSpPr>
        <p:sp>
          <p:nvSpPr>
            <p:cNvPr id="107" name="Rectangle 14"/>
            <p:cNvSpPr/>
            <p:nvPr/>
          </p:nvSpPr>
          <p:spPr>
            <a:xfrm>
              <a:off x="5943600" y="4572000"/>
              <a:ext cx="2819160" cy="914400"/>
            </a:xfrm>
            <a:prstGeom prst="rect">
              <a:avLst/>
            </a:prstGeom>
            <a:noFill/>
            <a:ln w="572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Text Box 15"/>
            <p:cNvSpPr/>
            <p:nvPr/>
          </p:nvSpPr>
          <p:spPr>
            <a:xfrm>
              <a:off x="6119640" y="4724280"/>
              <a:ext cx="255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ac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Group 16"/>
          <p:cNvGrpSpPr/>
          <p:nvPr/>
        </p:nvGrpSpPr>
        <p:grpSpPr>
          <a:xfrm>
            <a:off x="457200" y="4267080"/>
            <a:ext cx="2438280" cy="1371600"/>
            <a:chOff x="457200" y="4267080"/>
            <a:chExt cx="2438280" cy="1371600"/>
          </a:xfrm>
        </p:grpSpPr>
        <p:sp>
          <p:nvSpPr>
            <p:cNvPr id="110" name="Rectangle 17"/>
            <p:cNvSpPr/>
            <p:nvPr/>
          </p:nvSpPr>
          <p:spPr>
            <a:xfrm>
              <a:off x="457200" y="4267080"/>
              <a:ext cx="2438280" cy="1371600"/>
            </a:xfrm>
            <a:prstGeom prst="rect">
              <a:avLst/>
            </a:prstGeom>
            <a:noFill/>
            <a:ln w="572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Text Box 18"/>
            <p:cNvSpPr/>
            <p:nvPr/>
          </p:nvSpPr>
          <p:spPr>
            <a:xfrm>
              <a:off x="609480" y="4495680"/>
              <a:ext cx="22096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aturation Indic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Text Box 19"/>
          <p:cNvSpPr/>
          <p:nvPr/>
        </p:nvSpPr>
        <p:spPr>
          <a:xfrm>
            <a:off x="3733920" y="4648320"/>
            <a:ext cx="1447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peciation calc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Group 20"/>
          <p:cNvGrpSpPr/>
          <p:nvPr/>
        </p:nvGrpSpPr>
        <p:grpSpPr>
          <a:xfrm>
            <a:off x="5943600" y="3505320"/>
            <a:ext cx="2819160" cy="914400"/>
            <a:chOff x="5943600" y="3505320"/>
            <a:chExt cx="2819160" cy="914400"/>
          </a:xfrm>
        </p:grpSpPr>
        <p:sp>
          <p:nvSpPr>
            <p:cNvPr id="114" name="Rectangle 21"/>
            <p:cNvSpPr/>
            <p:nvPr/>
          </p:nvSpPr>
          <p:spPr>
            <a:xfrm>
              <a:off x="5943600" y="3505320"/>
              <a:ext cx="2819160" cy="914400"/>
            </a:xfrm>
            <a:prstGeom prst="rect">
              <a:avLst/>
            </a:prstGeom>
            <a:noFill/>
            <a:ln w="572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Text Box 22"/>
            <p:cNvSpPr/>
            <p:nvPr/>
          </p:nvSpPr>
          <p:spPr>
            <a:xfrm>
              <a:off x="6119640" y="3657600"/>
              <a:ext cx="255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verse Model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Group 23"/>
          <p:cNvGrpSpPr/>
          <p:nvPr/>
        </p:nvGrpSpPr>
        <p:grpSpPr>
          <a:xfrm>
            <a:off x="5943600" y="5638680"/>
            <a:ext cx="2819160" cy="914400"/>
            <a:chOff x="5943600" y="5638680"/>
            <a:chExt cx="2819160" cy="914400"/>
          </a:xfrm>
        </p:grpSpPr>
        <p:sp>
          <p:nvSpPr>
            <p:cNvPr id="117" name="Rectangle 24"/>
            <p:cNvSpPr/>
            <p:nvPr/>
          </p:nvSpPr>
          <p:spPr>
            <a:xfrm>
              <a:off x="5943600" y="5638680"/>
              <a:ext cx="2819160" cy="914400"/>
            </a:xfrm>
            <a:prstGeom prst="rect">
              <a:avLst/>
            </a:prstGeom>
            <a:noFill/>
            <a:ln w="572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Text Box 25"/>
            <p:cNvSpPr/>
            <p:nvPr/>
          </p:nvSpPr>
          <p:spPr>
            <a:xfrm>
              <a:off x="6119640" y="5790960"/>
              <a:ext cx="255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ranspor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" name="Slide Number Placeholder 2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690BE-17AB-46C2-BA34-DFE0FDCB86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455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Aqueous Model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99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DF167-2E66-47C2-A2C3-6D9907C78D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685800" y="1674360"/>
            <a:ext cx="7772400" cy="4419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tzer specific inter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 ionic str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modynamic consistency for mixtures of electroly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mited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ttle if any red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add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mperature depen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3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Aqueous Model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02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83797-98C4-4B03-9DFC-82F1A13510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685800" y="1523520"/>
            <a:ext cx="7772400" cy="4419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tter possibility for higher ionic strength than ion associ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y fewer parame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in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or results for gypsum/NaCl in my limited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mperature depend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istenc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2" descr=""/>
          <p:cNvPicPr/>
          <p:nvPr/>
        </p:nvPicPr>
        <p:blipFill>
          <a:blip r:embed="rId1"/>
          <a:stretch/>
        </p:blipFill>
        <p:spPr>
          <a:xfrm>
            <a:off x="1523880" y="1828800"/>
            <a:ext cx="5781960" cy="432432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PhreeqcI: SOLUTION Data Block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7640" y="1981080"/>
            <a:ext cx="1600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Oval 5"/>
          <p:cNvSpPr/>
          <p:nvPr/>
        </p:nvSpPr>
        <p:spPr>
          <a:xfrm>
            <a:off x="2590920" y="2438280"/>
            <a:ext cx="304560" cy="457200"/>
          </a:xfrm>
          <a:prstGeom prst="ellipse">
            <a:avLst/>
          </a:prstGeom>
          <a:noFill/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lide Number Placeholder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D7CDA-0E61-4A10-845F-F58A69DC27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76176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Number, pH, pe, Temperature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10" name="Text Box 3"/>
          <p:cNvSpPr/>
          <p:nvPr/>
        </p:nvSpPr>
        <p:spPr>
          <a:xfrm>
            <a:off x="6095880" y="289548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4" descr=""/>
          <p:cNvPicPr/>
          <p:nvPr/>
        </p:nvPicPr>
        <p:blipFill>
          <a:blip r:embed="rId1"/>
          <a:stretch/>
        </p:blipFill>
        <p:spPr>
          <a:xfrm>
            <a:off x="2362320" y="1676520"/>
            <a:ext cx="4962240" cy="4687920"/>
          </a:xfrm>
          <a:prstGeom prst="rect">
            <a:avLst/>
          </a:prstGeom>
          <a:ln w="0">
            <a:noFill/>
          </a:ln>
        </p:spPr>
      </p:pic>
      <p:sp>
        <p:nvSpPr>
          <p:cNvPr id="212" name="Oval 5"/>
          <p:cNvSpPr/>
          <p:nvPr/>
        </p:nvSpPr>
        <p:spPr>
          <a:xfrm>
            <a:off x="1981080" y="1828800"/>
            <a:ext cx="1371600" cy="457200"/>
          </a:xfrm>
          <a:prstGeom prst="ellipse">
            <a:avLst/>
          </a:prstGeom>
          <a:noFill/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Slide Number Placeholder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66C10-2DEB-4848-A11E-C60FC66678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2" descr=""/>
          <p:cNvPicPr/>
          <p:nvPr/>
        </p:nvPicPr>
        <p:blipFill>
          <a:blip r:embed="rId1"/>
          <a:stretch/>
        </p:blipFill>
        <p:spPr>
          <a:xfrm>
            <a:off x="990720" y="990720"/>
            <a:ext cx="5010120" cy="541008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64008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Solution Composition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552720" y="1371240"/>
            <a:ext cx="259092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nit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ault is mmol/kg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Oval 5"/>
          <p:cNvSpPr/>
          <p:nvPr/>
        </p:nvSpPr>
        <p:spPr>
          <a:xfrm>
            <a:off x="1447920" y="1523880"/>
            <a:ext cx="1371600" cy="457200"/>
          </a:xfrm>
          <a:prstGeom prst="ellipse">
            <a:avLst/>
          </a:prstGeom>
          <a:noFill/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Oval 6"/>
          <p:cNvSpPr/>
          <p:nvPr/>
        </p:nvSpPr>
        <p:spPr>
          <a:xfrm>
            <a:off x="3657600" y="5867280"/>
            <a:ext cx="990720" cy="457200"/>
          </a:xfrm>
          <a:prstGeom prst="ellipse">
            <a:avLst/>
          </a:prstGeom>
          <a:noFill/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7"/>
          <p:cNvSpPr/>
          <p:nvPr/>
        </p:nvSpPr>
        <p:spPr>
          <a:xfrm>
            <a:off x="6553080" y="5562720"/>
            <a:ext cx="1981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when d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Oval 8"/>
          <p:cNvSpPr/>
          <p:nvPr/>
        </p:nvSpPr>
        <p:spPr>
          <a:xfrm>
            <a:off x="4038480" y="4343400"/>
            <a:ext cx="609840" cy="380880"/>
          </a:xfrm>
          <a:prstGeom prst="ellipse">
            <a:avLst/>
          </a:prstGeom>
          <a:noFill/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9"/>
          <p:cNvSpPr/>
          <p:nvPr/>
        </p:nvSpPr>
        <p:spPr>
          <a:xfrm>
            <a:off x="6553080" y="3962520"/>
            <a:ext cx="2514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 concentr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”, special un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Oval 10"/>
          <p:cNvSpPr/>
          <p:nvPr/>
        </p:nvSpPr>
        <p:spPr>
          <a:xfrm>
            <a:off x="685800" y="2133720"/>
            <a:ext cx="5410080" cy="1371600"/>
          </a:xfrm>
          <a:prstGeom prst="ellipse">
            <a:avLst/>
          </a:prstGeom>
          <a:noFill/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11"/>
          <p:cNvSpPr/>
          <p:nvPr/>
        </p:nvSpPr>
        <p:spPr>
          <a:xfrm>
            <a:off x="6553080" y="2514600"/>
            <a:ext cx="25909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el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Slide Number Placeholder 1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0C906-8A6E-43D5-91DB-061129D5D0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2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5781600" cy="432432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12" descr=""/>
          <p:cNvPicPr/>
          <p:nvPr/>
        </p:nvPicPr>
        <p:blipFill>
          <a:blip r:embed="rId2"/>
          <a:stretch/>
        </p:blipFill>
        <p:spPr>
          <a:xfrm>
            <a:off x="3282840" y="3733920"/>
            <a:ext cx="4667400" cy="255276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1629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Run Speciation Calculation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553080" y="1142640"/>
            <a:ext cx="99072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Oval 6"/>
          <p:cNvSpPr/>
          <p:nvPr/>
        </p:nvSpPr>
        <p:spPr>
          <a:xfrm>
            <a:off x="2895480" y="1600200"/>
            <a:ext cx="381240" cy="304920"/>
          </a:xfrm>
          <a:prstGeom prst="ellipse">
            <a:avLst/>
          </a:prstGeom>
          <a:noFill/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Oval 7"/>
          <p:cNvSpPr/>
          <p:nvPr/>
        </p:nvSpPr>
        <p:spPr>
          <a:xfrm>
            <a:off x="6477120" y="4267080"/>
            <a:ext cx="380880" cy="304920"/>
          </a:xfrm>
          <a:prstGeom prst="ellipse">
            <a:avLst/>
          </a:prstGeom>
          <a:noFill/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Oval 8"/>
          <p:cNvSpPr/>
          <p:nvPr/>
        </p:nvSpPr>
        <p:spPr>
          <a:xfrm>
            <a:off x="6477120" y="4724280"/>
            <a:ext cx="380880" cy="304920"/>
          </a:xfrm>
          <a:prstGeom prst="ellipse">
            <a:avLst/>
          </a:prstGeom>
          <a:noFill/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Oval 9"/>
          <p:cNvSpPr/>
          <p:nvPr/>
        </p:nvSpPr>
        <p:spPr>
          <a:xfrm>
            <a:off x="5486400" y="5257800"/>
            <a:ext cx="1371600" cy="457200"/>
          </a:xfrm>
          <a:prstGeom prst="ellipse">
            <a:avLst/>
          </a:prstGeom>
          <a:noFill/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Oval 10"/>
          <p:cNvSpPr/>
          <p:nvPr/>
        </p:nvSpPr>
        <p:spPr>
          <a:xfrm>
            <a:off x="6934320" y="4038480"/>
            <a:ext cx="1066680" cy="457200"/>
          </a:xfrm>
          <a:prstGeom prst="ellipse">
            <a:avLst/>
          </a:prstGeom>
          <a:noFill/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11"/>
          <p:cNvSpPr/>
          <p:nvPr/>
        </p:nvSpPr>
        <p:spPr>
          <a:xfrm>
            <a:off x="6553080" y="304812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f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Slide Number Placeholder 1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3174B-7995-4E0E-8DBB-16DD1E02EC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Ion Association Model Result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238" name="Picture 4" descr=""/>
          <p:cNvPicPr/>
          <p:nvPr/>
        </p:nvPicPr>
        <p:blipFill>
          <a:blip r:embed="rId1"/>
          <a:stretch/>
        </p:blipFill>
        <p:spPr>
          <a:xfrm>
            <a:off x="1440000" y="1371600"/>
            <a:ext cx="6476760" cy="5249880"/>
          </a:xfrm>
          <a:prstGeom prst="rect">
            <a:avLst/>
          </a:prstGeom>
          <a:ln w="0">
            <a:noFill/>
          </a:ln>
        </p:spPr>
      </p:pic>
      <p:sp>
        <p:nvSpPr>
          <p:cNvPr id="239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1C0D4-C2BC-4AD5-BCF1-F6EC874D5F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Initial Solution 2.</a:t>
            </a: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Exercise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35812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Helvetic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phreeqc.dat to run a speciation calculation for seaw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Helvetic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pitzer.da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py input to a new buff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trl-a (select all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trl-c (cop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-&gt;new or ctrl-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new input fi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trl-v (past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3944880" y="1836720"/>
          <a:ext cx="4284720" cy="4572000"/>
        </p:xfrm>
        <a:graphic>
          <a:graphicData uri="http://schemas.openxmlformats.org/drawingml/2006/table">
            <a:tbl>
              <a:tblPr/>
              <a:tblGrid>
                <a:gridCol w="2303640"/>
                <a:gridCol w="19810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titu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u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8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kalinity as HCO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2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91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76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9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0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1.68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35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3" name="Text Box 15"/>
          <p:cNvSpPr/>
          <p:nvPr/>
        </p:nvSpPr>
        <p:spPr>
          <a:xfrm>
            <a:off x="4572000" y="1066680"/>
            <a:ext cx="32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Units are pp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Slide Number Placeholder 1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0A3B5-B254-49F9-AE1C-8D3EDB9A29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2" descr=""/>
          <p:cNvPicPr/>
          <p:nvPr/>
        </p:nvPicPr>
        <p:blipFill>
          <a:blip r:embed="rId1"/>
          <a:stretch/>
        </p:blipFill>
        <p:spPr>
          <a:xfrm>
            <a:off x="838080" y="1752480"/>
            <a:ext cx="7020000" cy="4757760"/>
          </a:xfrm>
          <a:prstGeom prst="rect">
            <a:avLst/>
          </a:prstGeom>
          <a:ln w="0">
            <a:noFill/>
          </a:ln>
        </p:spPr>
      </p:pic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-360" y="304920"/>
            <a:ext cx="89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Results of 2 Speciation Calculations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47" name="Oval 6"/>
          <p:cNvSpPr/>
          <p:nvPr/>
        </p:nvSpPr>
        <p:spPr>
          <a:xfrm>
            <a:off x="1676520" y="1828800"/>
            <a:ext cx="533160" cy="380880"/>
          </a:xfrm>
          <a:prstGeom prst="ellipse">
            <a:avLst/>
          </a:prstGeom>
          <a:noFill/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7"/>
          <p:cNvSpPr/>
          <p:nvPr/>
        </p:nvSpPr>
        <p:spPr>
          <a:xfrm>
            <a:off x="2517840" y="1143000"/>
            <a:ext cx="66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8"/>
          <p:cNvSpPr/>
          <p:nvPr/>
        </p:nvSpPr>
        <p:spPr>
          <a:xfrm flipH="1">
            <a:off x="2133720" y="1447920"/>
            <a:ext cx="380880" cy="380880"/>
          </a:xfrm>
          <a:prstGeom prst="line">
            <a:avLst/>
          </a:prstGeom>
          <a:ln w="381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Slide Number Placeholder 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9833A-2861-49CD-9EFB-EC6A622D58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83944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Initial Solution 2. Questions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 the mass-balance equation for calcium in seawater for each databa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fraction of the total is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2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on for each databas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fraction of the total is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3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on for each databas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are the log activity and log activity coefficient of 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2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ach database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saturation index of calcite for each databas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4"/>
          <p:cNvSpPr/>
          <p:nvPr/>
        </p:nvSpPr>
        <p:spPr>
          <a:xfrm>
            <a:off x="533520" y="4876920"/>
            <a:ext cx="80010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C9352-C1C4-4AA2-A9AE-4AE4F6E043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0" name=""/>
          <p:cNvGraphicFramePr/>
          <p:nvPr/>
        </p:nvGraphicFramePr>
        <p:xfrm>
          <a:off x="1600200" y="1371600"/>
          <a:ext cx="4284720" cy="4572000"/>
        </p:xfrm>
        <a:graphic>
          <a:graphicData uri="http://schemas.openxmlformats.org/drawingml/2006/table">
            <a:tbl>
              <a:tblPr/>
              <a:tblGrid>
                <a:gridCol w="2303640"/>
                <a:gridCol w="19810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titu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u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8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kalinity as HCO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2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91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76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9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0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1.68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35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1" name="Text Box 55"/>
          <p:cNvSpPr/>
          <p:nvPr/>
        </p:nvSpPr>
        <p:spPr>
          <a:xfrm>
            <a:off x="1219320" y="380880"/>
            <a:ext cx="58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Seawater: Units are pp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lide Number Placeholder 1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9D538-20BA-45C3-AE07-8DF459D340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Initial Solution 2a.</a:t>
            </a: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Question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0010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 the mass-action equation for the reaction:    C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 = HC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 the mass-action equation for question 1 in log for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lculate the equilibrium constant by using the log activities from the speciation resul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what pH will activity  [C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] equal activity [HC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]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3674D-793D-42EE-A7D2-46141D1E18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Initial Solution 2. Answers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) indicates mol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a. Ca(total)= 1.066e-2 = (Ca+2) + (CaSO4) + (CaHCO3+) + (CaCO3) + (CaOH+) + (CaHSO4+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b. Ca(total) = 1.066e-2 = (Ca+2) + (CaCO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a. 9.5/10.7 ~ 0.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b. 1.063/1.066 ~ 1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a. 3.509e-019 / 3.711e-008 ~ 1e-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b. No Fe+3 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a. log activity CO3-2 = -5.099; log gamma CO3-2 = -0.6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b. log activity CO3-2 = -5.091; log gamma CO3-2 = -1.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a. SI(calcite) = 0.7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b. SI(calcite) = 0.7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DE087-5702-4111-9ADD-397A8DFD65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Initial Solution 2a. Answer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 = [HCO3-][H+]/([CO2][H2O]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 K = log([HCO3-]) + log([H+]) - log([CO2]) + log([H2O]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 K = -2.99 + (-8.22) - (- 4.849) - (-0.009) = -6.35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pH 6.3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F54F9-D499-40AE-9D59-7206E541D7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More on Solution Definition</a:t>
            </a:r>
            <a:br>
              <a:rPr sz="4400"/>
            </a:b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, Carbon, Alkali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D9013-7E5C-43E5-9CF7-62B7447CC7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What is pH?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7848720" cy="31240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Ques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How does the pH change when C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egasses during an alkalinity titration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How does pH change when plankton respire C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How does pH change when calcite dissolv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4"/>
          <p:cNvSpPr/>
          <p:nvPr/>
        </p:nvSpPr>
        <p:spPr>
          <a:xfrm>
            <a:off x="1295280" y="1523880"/>
            <a:ext cx="6400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 =        6.3 + log[(HC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/(C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5"/>
          <p:cNvSpPr/>
          <p:nvPr/>
        </p:nvSpPr>
        <p:spPr>
          <a:xfrm>
            <a:off x="1295280" y="2209680"/>
            <a:ext cx="6400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 =        10.3 + log[(C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/(HC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Slide Number Placeholder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D54AA-A421-4DA6-AE30-F6BFB9946A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480" y="22096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Alkalinity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304776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-59724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ively, the alkalinity is the number of equivalents of 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needed to convert all of the inorganic carbon to              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q or 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 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kalinity is independent of P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6"/>
          <p:cNvSpPr/>
          <p:nvPr/>
        </p:nvSpPr>
        <p:spPr>
          <a:xfrm>
            <a:off x="685800" y="53352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Total Inorganic Carb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7"/>
          <p:cNvSpPr/>
          <p:nvPr/>
        </p:nvSpPr>
        <p:spPr>
          <a:xfrm>
            <a:off x="685800" y="1371600"/>
            <a:ext cx="7772400" cy="5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ber of moles of carbon of valenc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Slide Number Placeholder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41CC8-39C7-45D2-B3F6-B93FD82F85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14" descr=""/>
          <p:cNvPicPr/>
          <p:nvPr/>
        </p:nvPicPr>
        <p:blipFill>
          <a:blip r:embed="rId1"/>
          <a:stretch/>
        </p:blipFill>
        <p:spPr>
          <a:xfrm>
            <a:off x="152280" y="1752480"/>
            <a:ext cx="8663040" cy="2494080"/>
          </a:xfrm>
          <a:prstGeom prst="rect">
            <a:avLst/>
          </a:prstGeom>
          <a:ln w="0">
            <a:noFill/>
          </a:ln>
        </p:spPr>
      </p:pic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5105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SOLUTION_SPREAD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79" name="Oval 8"/>
          <p:cNvSpPr/>
          <p:nvPr/>
        </p:nvSpPr>
        <p:spPr>
          <a:xfrm>
            <a:off x="1828800" y="2590920"/>
            <a:ext cx="457200" cy="685800"/>
          </a:xfrm>
          <a:prstGeom prst="ellipse">
            <a:avLst/>
          </a:prstGeom>
          <a:noFill/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9"/>
          <p:cNvSpPr/>
          <p:nvPr/>
        </p:nvSpPr>
        <p:spPr>
          <a:xfrm>
            <a:off x="1752480" y="4876920"/>
            <a:ext cx="51055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SELECTED_OUTPU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Oval 10"/>
          <p:cNvSpPr/>
          <p:nvPr/>
        </p:nvSpPr>
        <p:spPr>
          <a:xfrm>
            <a:off x="3886200" y="3276720"/>
            <a:ext cx="457200" cy="457200"/>
          </a:xfrm>
          <a:prstGeom prst="ellipse">
            <a:avLst/>
          </a:prstGeom>
          <a:noFill/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Line 11"/>
          <p:cNvSpPr/>
          <p:nvPr/>
        </p:nvSpPr>
        <p:spPr>
          <a:xfrm flipH="1">
            <a:off x="2285640" y="1066680"/>
            <a:ext cx="762120" cy="1447920"/>
          </a:xfrm>
          <a:prstGeom prst="line">
            <a:avLst/>
          </a:prstGeom>
          <a:ln w="5724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Line 12"/>
          <p:cNvSpPr/>
          <p:nvPr/>
        </p:nvSpPr>
        <p:spPr>
          <a:xfrm flipV="1">
            <a:off x="3276720" y="3809520"/>
            <a:ext cx="685800" cy="1143000"/>
          </a:xfrm>
          <a:prstGeom prst="line">
            <a:avLst/>
          </a:prstGeom>
          <a:ln w="5724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Slide Number Placeholder 10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2C666-0010-45F7-AA04-1B63274720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5105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SOLUTION_SPREAD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286" name="Picture 8" descr=""/>
          <p:cNvPicPr/>
          <p:nvPr/>
        </p:nvPicPr>
        <p:blipFill>
          <a:blip r:embed="rId1"/>
          <a:stretch/>
        </p:blipFill>
        <p:spPr>
          <a:xfrm>
            <a:off x="1752480" y="1447920"/>
            <a:ext cx="5496120" cy="5200560"/>
          </a:xfrm>
          <a:prstGeom prst="rect">
            <a:avLst/>
          </a:prstGeom>
          <a:ln w="0">
            <a:noFill/>
          </a:ln>
        </p:spPr>
      </p:pic>
      <p:sp>
        <p:nvSpPr>
          <p:cNvPr id="287" name="Oval 4"/>
          <p:cNvSpPr/>
          <p:nvPr/>
        </p:nvSpPr>
        <p:spPr>
          <a:xfrm>
            <a:off x="1523880" y="1600200"/>
            <a:ext cx="1219320" cy="533520"/>
          </a:xfrm>
          <a:prstGeom prst="ellipse">
            <a:avLst/>
          </a:prstGeom>
          <a:noFill/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Oval 9"/>
          <p:cNvSpPr/>
          <p:nvPr/>
        </p:nvSpPr>
        <p:spPr>
          <a:xfrm>
            <a:off x="5943600" y="4876920"/>
            <a:ext cx="1219320" cy="533160"/>
          </a:xfrm>
          <a:prstGeom prst="ellipse">
            <a:avLst/>
          </a:prstGeom>
          <a:noFill/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Slide Number Placeholder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27ADB-88EF-40CA-AF13-157C566B46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Picture 16" descr=""/>
          <p:cNvPicPr/>
          <p:nvPr/>
        </p:nvPicPr>
        <p:blipFill>
          <a:blip r:embed="rId1"/>
          <a:stretch/>
        </p:blipFill>
        <p:spPr>
          <a:xfrm>
            <a:off x="457200" y="1143000"/>
            <a:ext cx="5010120" cy="5429160"/>
          </a:xfrm>
          <a:prstGeom prst="rect">
            <a:avLst/>
          </a:prstGeom>
          <a:ln w="0">
            <a:noFill/>
          </a:ln>
        </p:spPr>
      </p:pic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63244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SELECTED_OUTPUT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92" name="Text Box 12"/>
          <p:cNvSpPr/>
          <p:nvPr/>
        </p:nvSpPr>
        <p:spPr>
          <a:xfrm>
            <a:off x="6248520" y="44197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Reset all to fa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13"/>
          <p:cNvSpPr/>
          <p:nvPr/>
        </p:nvSpPr>
        <p:spPr>
          <a:xfrm>
            <a:off x="6324480" y="20574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e 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14"/>
          <p:cNvSpPr/>
          <p:nvPr/>
        </p:nvSpPr>
        <p:spPr>
          <a:xfrm>
            <a:off x="6248520" y="52578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Set pH to tr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Oval 15"/>
          <p:cNvSpPr/>
          <p:nvPr/>
        </p:nvSpPr>
        <p:spPr>
          <a:xfrm>
            <a:off x="609480" y="1549440"/>
            <a:ext cx="762120" cy="380880"/>
          </a:xfrm>
          <a:prstGeom prst="ellipse">
            <a:avLst/>
          </a:prstGeom>
          <a:noFill/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Oval 17"/>
          <p:cNvSpPr/>
          <p:nvPr/>
        </p:nvSpPr>
        <p:spPr>
          <a:xfrm>
            <a:off x="2590920" y="3352680"/>
            <a:ext cx="1143000" cy="381240"/>
          </a:xfrm>
          <a:prstGeom prst="ellipse">
            <a:avLst/>
          </a:prstGeom>
          <a:noFill/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Oval 18"/>
          <p:cNvSpPr/>
          <p:nvPr/>
        </p:nvSpPr>
        <p:spPr>
          <a:xfrm>
            <a:off x="1295280" y="1905120"/>
            <a:ext cx="838440" cy="380880"/>
          </a:xfrm>
          <a:prstGeom prst="ellipse">
            <a:avLst/>
          </a:prstGeom>
          <a:noFill/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Oval 19"/>
          <p:cNvSpPr/>
          <p:nvPr/>
        </p:nvSpPr>
        <p:spPr>
          <a:xfrm>
            <a:off x="4419720" y="4495680"/>
            <a:ext cx="914400" cy="381240"/>
          </a:xfrm>
          <a:prstGeom prst="ellipse">
            <a:avLst/>
          </a:prstGeom>
          <a:noFill/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Slide Number Placeholder 1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4ED54-453B-4FCA-882B-3A35360607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Picture 9" descr=""/>
          <p:cNvPicPr/>
          <p:nvPr/>
        </p:nvPicPr>
        <p:blipFill>
          <a:blip r:embed="rId1"/>
          <a:stretch/>
        </p:blipFill>
        <p:spPr>
          <a:xfrm>
            <a:off x="228600" y="1066680"/>
            <a:ext cx="5915160" cy="5429520"/>
          </a:xfrm>
          <a:prstGeom prst="rect">
            <a:avLst/>
          </a:prstGeom>
          <a:ln w="0">
            <a:noFill/>
          </a:ln>
        </p:spPr>
      </p:pic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SELECTED_OUTPUT--Molalities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02" name="Oval 5"/>
          <p:cNvSpPr/>
          <p:nvPr/>
        </p:nvSpPr>
        <p:spPr>
          <a:xfrm>
            <a:off x="1905120" y="1447920"/>
            <a:ext cx="685800" cy="457200"/>
          </a:xfrm>
          <a:prstGeom prst="ellipse">
            <a:avLst/>
          </a:prstGeom>
          <a:noFill/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Oval 6"/>
          <p:cNvSpPr/>
          <p:nvPr/>
        </p:nvSpPr>
        <p:spPr>
          <a:xfrm>
            <a:off x="304920" y="2514600"/>
            <a:ext cx="761760" cy="457200"/>
          </a:xfrm>
          <a:prstGeom prst="ellipse">
            <a:avLst/>
          </a:prstGeom>
          <a:noFill/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Oval 7"/>
          <p:cNvSpPr/>
          <p:nvPr/>
        </p:nvSpPr>
        <p:spPr>
          <a:xfrm>
            <a:off x="3352680" y="2629080"/>
            <a:ext cx="609840" cy="380880"/>
          </a:xfrm>
          <a:prstGeom prst="ellipse">
            <a:avLst/>
          </a:prstGeom>
          <a:noFill/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8"/>
          <p:cNvSpPr/>
          <p:nvPr/>
        </p:nvSpPr>
        <p:spPr>
          <a:xfrm>
            <a:off x="6248520" y="281952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spe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Slide Number Placeholder 9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F818F-05E3-4396-B2C0-647B37CDC4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Initial Solution 1.</a:t>
            </a: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Question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84872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28120" indent="-528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approximate molality of C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approximate alkalinity in meq/kgw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alkalinity concentration in mg/kgs as Ca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effect does density have on the calculated molalit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5"/>
          <p:cNvSpPr/>
          <p:nvPr/>
        </p:nvSpPr>
        <p:spPr>
          <a:xfrm>
            <a:off x="762120" y="5105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PHREEQC results are always moles or molal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40DEF-77C1-4C3D-BBC0-998FA4C44E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09480" y="322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Initial Solution 4a.</a:t>
            </a: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Exercise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graphicFrame>
        <p:nvGraphicFramePr>
          <p:cNvPr id="308" name=""/>
          <p:cNvGraphicFramePr/>
          <p:nvPr/>
        </p:nvGraphicFramePr>
        <p:xfrm>
          <a:off x="609480" y="1008000"/>
          <a:ext cx="2514600" cy="3379680"/>
        </p:xfrm>
        <a:graphic>
          <a:graphicData uri="http://schemas.openxmlformats.org/drawingml/2006/table">
            <a:tbl>
              <a:tblPr/>
              <a:tblGrid>
                <a:gridCol w="1182960"/>
                <a:gridCol w="1331640"/>
              </a:tblGrid>
              <a:tr h="3618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2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2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9" name="Text Box 215"/>
          <p:cNvSpPr/>
          <p:nvPr/>
        </p:nvSpPr>
        <p:spPr>
          <a:xfrm>
            <a:off x="3429000" y="1084320"/>
            <a:ext cx="533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entration in mmol/kg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302"/>
          <p:cNvSpPr/>
          <p:nvPr/>
        </p:nvSpPr>
        <p:spPr>
          <a:xfrm>
            <a:off x="0" y="4513320"/>
            <a:ext cx="89154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e speciation calculations for these 9 solution compositions with SOLUTION _SPRE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e a table of pH, (CO2), (HCO3-), (CO3-2) with SELECTED_OUTPUT. Plot pH vs. concentrations in Exc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Slide Number Placeholder 4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6C6D8-15F7-4B6A-BD92-A7424477A7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Initial Solution 4b.</a:t>
            </a: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Exercise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graphicFrame>
        <p:nvGraphicFramePr>
          <p:cNvPr id="313" name=""/>
          <p:cNvGraphicFramePr/>
          <p:nvPr/>
        </p:nvGraphicFramePr>
        <p:xfrm>
          <a:off x="609480" y="1066680"/>
          <a:ext cx="2514600" cy="2373480"/>
        </p:xfrm>
        <a:graphic>
          <a:graphicData uri="http://schemas.openxmlformats.org/drawingml/2006/table">
            <a:tbl>
              <a:tblPr/>
              <a:tblGrid>
                <a:gridCol w="1182960"/>
                <a:gridCol w="1331640"/>
              </a:tblGrid>
              <a:tr h="3618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kalin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2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4" name="Text Box 38"/>
          <p:cNvSpPr/>
          <p:nvPr/>
        </p:nvSpPr>
        <p:spPr>
          <a:xfrm>
            <a:off x="3429000" y="1143000"/>
            <a:ext cx="533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entration in meq/kg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39"/>
          <p:cNvSpPr/>
          <p:nvPr/>
        </p:nvSpPr>
        <p:spPr>
          <a:xfrm>
            <a:off x="380880" y="3733920"/>
            <a:ext cx="853452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e speciation calculations for these 6 solution compositions with SOLUTION _SPRE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SELECTED_OUTPUT to make a table of pH, (CO2), (HCO3-), (CO3-2), total C (use TOTALS tab). Plot pH vs. concentrations in Exc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Slide Number Placeholder 3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38ED3-8303-49F2-84BC-C7BEA8339A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Initial Solution 4.</a:t>
            </a: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Question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Write a definition of total carbon(4) (sometimes called total 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r TDIC) in terms of (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, (H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, (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Write a definition of alkalinity in terms of (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, (H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, (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Include (O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in your defini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Include (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in your defini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107E4-1FC7-4CFA-BDA7-4C07E48BC8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Fixed Total Carbon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2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0AFDD-0DFE-4651-B776-C0E78BDAEF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Picture 5" descr=""/>
          <p:cNvPicPr/>
          <p:nvPr/>
        </p:nvPicPr>
        <p:blipFill>
          <a:blip r:embed="rId1"/>
          <a:stretch/>
        </p:blipFill>
        <p:spPr>
          <a:xfrm>
            <a:off x="1652760" y="1754280"/>
            <a:ext cx="5609880" cy="47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Fixed Alkalinity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2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A0A6E-6B45-49C7-83C0-1031369ED5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Picture 7" descr=""/>
          <p:cNvPicPr/>
          <p:nvPr/>
        </p:nvPicPr>
        <p:blipFill>
          <a:blip r:embed="rId1"/>
          <a:stretch/>
        </p:blipFill>
        <p:spPr>
          <a:xfrm>
            <a:off x="1828800" y="1676520"/>
            <a:ext cx="5497560" cy="46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Initial Solution 4. Answer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CO2 = (CO2) + (HCO3-) + (CO3-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kalinity = (HCO3-) + 2(CO3-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kalinity = (HCO3-) + 2(CO3-2) + (OH-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kalinity = (HCO3-) + 2(CO3-2) + (OH-) – (H+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0D0DC-C22E-4AC3-85D5-7B2504C271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More on Solution Definition</a:t>
            </a:r>
            <a:br>
              <a:rPr sz="4400"/>
            </a:b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ox, 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38FA3-DC69-498C-8027-5CEFE23378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What is pe?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33" name="Text Box 4"/>
          <p:cNvSpPr/>
          <p:nvPr/>
        </p:nvSpPr>
        <p:spPr>
          <a:xfrm>
            <a:off x="1295280" y="1676520"/>
            <a:ext cx="7010640" cy="52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+2 = Fe+3 + e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 = log( </a:t>
            </a:r>
            <a:r>
              <a:rPr b="0" lang="en-US" sz="2400" spc="-1" strike="noStrike">
                <a:solidFill>
                  <a:srgbClr val="00cc99"/>
                </a:solidFill>
                <a:latin typeface="Arial"/>
              </a:rPr>
              <a:t>[Fe+3]/[Fe+2]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+ 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S- + 4H2O = SO4-2 + 9H+ + 8e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 = log( </a:t>
            </a:r>
            <a:r>
              <a:rPr b="0" lang="en-US" sz="2400" spc="-1" strike="noStrike">
                <a:solidFill>
                  <a:srgbClr val="00cc99"/>
                </a:solidFill>
                <a:latin typeface="Arial"/>
              </a:rPr>
              <a:t>[SO4-2]/[HS-]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– 9/8pH + 4.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2 + 6H2O = 2NO3- + 12H+ + 10e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 = 0.1log( </a:t>
            </a:r>
            <a:r>
              <a:rPr b="0" lang="en-US" sz="2400" spc="-1" strike="noStrike">
                <a:solidFill>
                  <a:srgbClr val="00cc99"/>
                </a:solidFill>
                <a:latin typeface="Arial"/>
              </a:rPr>
              <a:t>[NO3-]</a:t>
            </a:r>
            <a:r>
              <a:rPr b="0" lang="en-US" sz="2400" spc="-1" strike="noStrike" baseline="30000">
                <a:solidFill>
                  <a:srgbClr val="00cc99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cc99"/>
                </a:solidFill>
                <a:latin typeface="Arial"/>
              </a:rPr>
              <a:t>/[N2]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) –1.2pH + 20.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 = 16.9Eh, Eh in volts (platinum electrode measureme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87689-B2F8-4476-B861-B56C8C8EA5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Initial Solution 7.</a:t>
            </a: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Write an equation for pe from the equation for oxidation of NH4+ to NO3-, log K for reaction is –119.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: Chemical reaction has NH4+ and H2O on the left-hand-side and NO3-, H+, and e- on the right-hand-sid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DFA4D-BD54-45B9-A505-F28E308F04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Initial Solution 7. Answer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H4+ + 3H2O  = NO3- + 10H+ + 8e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 K = -119.1 = log[NO3-] – 10pH – 8pe – log[NH4+] - 3log[H2O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pe = log[NO3-] – log[NH4+] + 119.1 – 10pH – 3log[H2O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 = 1/8log( [NO3-] / [NH4+] ) – 10/8pH + 14.9 – 3/8log[H2O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2AE9A-E1FE-4C54-82E4-2660D964A1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Initial Solution 1. 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most waters, we can assume most of the mass in solution is water. Mass of water in 1 kg seawater ~ 1 k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12/40 ~ 10 mmol/kgw ~ 0.01 mol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42/61 ~ 2.3 meq/kgw ~ 0.0023 mol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3*50 ~ 116 mg/kgw as CaCO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e, density will only be used when concentration is specified as per li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530F8-D803-48EC-A437-79DB862D1E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More on pe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queous electrons do not ex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ox reactions are frequently </a:t>
            </a:r>
            <a:r>
              <a:rPr b="0" lang="en-US" sz="3200" spc="-1" strike="noStrike">
                <a:solidFill>
                  <a:srgbClr val="00cc99"/>
                </a:solidFill>
                <a:latin typeface="Arial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 equilibri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 pes from multiple redox cou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ever, we do not expect to see major inconsistencies—e.g. both D.O. and H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—in a single enviro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DD921-7701-4FE5-9134-0A843DD3A2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Redox and pe in SOLUTION Data Block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7631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do you need pe for SOLU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distribute </a:t>
            </a:r>
            <a:r>
              <a:rPr b="0" lang="en-US" sz="2400" spc="-1" strike="noStrike">
                <a:solidFill>
                  <a:srgbClr val="00cc99"/>
                </a:solidFill>
                <a:latin typeface="Arial"/>
              </a:rPr>
              <a:t>tot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ncentration of a redox element among redox states [e.g. Fe to Fe(2) and Fe(3)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few saturation indices with 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dissociation re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yr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tive sulf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ganese ox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use a redox couple Fe(2)/Fe(3) in place of 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rely, pe = 16.9Eh. (25 C and Eh in Volt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 options can only be applied to speciation calculations; thermodynamic pe is used for all other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0A17F-8FC3-4B31-BFB0-94949661B2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Redox Element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graphicFrame>
        <p:nvGraphicFramePr>
          <p:cNvPr id="348" name=""/>
          <p:cNvGraphicFramePr/>
          <p:nvPr/>
        </p:nvGraphicFramePr>
        <p:xfrm>
          <a:off x="685800" y="914400"/>
          <a:ext cx="3733920" cy="545616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1143000"/>
              </a:tblGrid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e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dox st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ec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4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b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(4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4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(-4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4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lfu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(6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(-2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S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4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itrog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(5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4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(3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4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(0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4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(-3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H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4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xyg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(0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4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(-2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4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ydrog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(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4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(0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49" name=""/>
          <p:cNvGraphicFramePr/>
          <p:nvPr/>
        </p:nvGraphicFramePr>
        <p:xfrm>
          <a:off x="4724280" y="914400"/>
          <a:ext cx="3962520" cy="5473800"/>
        </p:xfrm>
        <a:graphic>
          <a:graphicData uri="http://schemas.openxmlformats.org/drawingml/2006/table">
            <a:tbl>
              <a:tblPr/>
              <a:tblGrid>
                <a:gridCol w="1617840"/>
                <a:gridCol w="1212840"/>
                <a:gridCol w="1131840"/>
              </a:tblGrid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e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dox st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ec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r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(3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+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(2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+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gane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n(2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n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+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4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seni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(5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O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4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(3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O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4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raniu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(6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O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+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(4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+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4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romiu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(6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O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(3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+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4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leniu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(6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O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4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(4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O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(-2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Se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50" name="Slide Number Placeholder 120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F861C-F391-41B3-8D71-59A7A3B40D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294920" y="533520"/>
            <a:ext cx="632484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Using Redox Couple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095880" y="1981080"/>
            <a:ext cx="2819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uble click to get list of redox coup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t have analyses for chosen redox cou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3" name="Picture 9" descr=""/>
          <p:cNvPicPr/>
          <p:nvPr/>
        </p:nvPicPr>
        <p:blipFill>
          <a:blip r:embed="rId1"/>
          <a:stretch/>
        </p:blipFill>
        <p:spPr>
          <a:xfrm>
            <a:off x="304920" y="1447920"/>
            <a:ext cx="5505480" cy="5200560"/>
          </a:xfrm>
          <a:prstGeom prst="rect">
            <a:avLst/>
          </a:prstGeom>
          <a:ln w="0">
            <a:noFill/>
          </a:ln>
        </p:spPr>
      </p:pic>
      <p:sp>
        <p:nvSpPr>
          <p:cNvPr id="354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93B20-CFC2-4ABD-A66D-87F4220C0C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Seawater Initial Solution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440" y="2209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 total was entered. How were Fe(3) and Fe(2) concentrations calculat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7" name="Object 4"/>
              <p:cNvSpPr txBox="1"/>
              <p:nvPr/>
            </p:nvSpPr>
            <p:spPr>
              <a:xfrm>
                <a:off x="3962520" y="4267080"/>
                <a:ext cx="4876560" cy="53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pe</m:t>
                        </m:r>
                      </m:e>
                      <m:sub>
                        <m:r>
                          <m:t xml:space="preserve">O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)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O</m:t>
                        </m:r>
                      </m:sub>
                    </m:sSub>
                    <m:r>
                      <m:t xml:space="preserve">≠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pe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t xml:space="preserve">5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pe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(</m:t>
                        </m:r>
                        <m:r>
                          <m:t xml:space="preserve">6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8" name="Object 5"/>
              <p:cNvSpPr txBox="1"/>
              <p:nvPr/>
            </p:nvSpPr>
            <p:spPr>
              <a:xfrm>
                <a:off x="3962520" y="5318280"/>
                <a:ext cx="4876560" cy="53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pe</m:t>
                        </m:r>
                      </m:e>
                      <m:sub>
                        <m:r>
                          <m:t xml:space="preserve">O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)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pe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t xml:space="preserve">5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pe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(</m:t>
                        </m:r>
                        <m:r>
                          <m:t xml:space="preserve">6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59" name="Rectangle 6"/>
          <p:cNvSpPr/>
          <p:nvPr/>
        </p:nvSpPr>
        <p:spPr>
          <a:xfrm>
            <a:off x="609480" y="4267080"/>
            <a:ext cx="381024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initial solu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“reaction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Slide Number Placeholder 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FA024-A9FD-4866-8693-644C58320B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Iron Speciation with PhreePlot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14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3" name="Picture 8" descr=""/>
          <p:cNvPicPr/>
          <p:nvPr/>
        </p:nvPicPr>
        <p:blipFill>
          <a:blip r:embed="rId1"/>
          <a:stretch/>
        </p:blipFill>
        <p:spPr>
          <a:xfrm>
            <a:off x="266760" y="1295280"/>
            <a:ext cx="4268880" cy="488484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9" descr=""/>
          <p:cNvPicPr/>
          <p:nvPr/>
        </p:nvPicPr>
        <p:blipFill>
          <a:blip r:embed="rId2"/>
          <a:stretch/>
        </p:blipFill>
        <p:spPr>
          <a:xfrm>
            <a:off x="4610160" y="1382760"/>
            <a:ext cx="4244760" cy="4786200"/>
          </a:xfrm>
          <a:prstGeom prst="rect">
            <a:avLst/>
          </a:prstGeom>
          <a:ln w="0">
            <a:noFill/>
          </a:ln>
        </p:spPr>
      </p:pic>
      <p:sp>
        <p:nvSpPr>
          <p:cNvPr id="365" name="Slide Number Placeholder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BC3F0-430C-4998-9E2F-151023EA6A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Initial Solution 8.</a:t>
            </a: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Exercise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graphicFrame>
        <p:nvGraphicFramePr>
          <p:cNvPr id="367" name=""/>
          <p:cNvGraphicFramePr/>
          <p:nvPr/>
        </p:nvGraphicFramePr>
        <p:xfrm>
          <a:off x="990720" y="1827360"/>
          <a:ext cx="6858000" cy="3321000"/>
        </p:xfrm>
        <a:graphic>
          <a:graphicData uri="http://schemas.openxmlformats.org/drawingml/2006/table">
            <a:tbl>
              <a:tblPr/>
              <a:tblGrid>
                <a:gridCol w="2361960"/>
                <a:gridCol w="914400"/>
                <a:gridCol w="990720"/>
                <a:gridCol w="990720"/>
                <a:gridCol w="1600200"/>
              </a:tblGrid>
              <a:tr h="47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titu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do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(2)/Fe(3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, mmol/kg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(2) , mmol/kg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(3) , mmol/kg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8" name="Text Box 117"/>
          <p:cNvSpPr/>
          <p:nvPr/>
        </p:nvSpPr>
        <p:spPr>
          <a:xfrm>
            <a:off x="3962520" y="12193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ution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800" y="5409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SOLUTIONs and run calcul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Slide Number Placeholder 5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0E7D3-E413-4097-B2FE-EAAD9E9610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Initial Solution 8.</a:t>
            </a: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Exercise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graphicFrame>
        <p:nvGraphicFramePr>
          <p:cNvPr id="372" name=""/>
          <p:cNvGraphicFramePr/>
          <p:nvPr/>
        </p:nvGraphicFramePr>
        <p:xfrm>
          <a:off x="609480" y="1827360"/>
          <a:ext cx="7543800" cy="3321000"/>
        </p:xfrm>
        <a:graphic>
          <a:graphicData uri="http://schemas.openxmlformats.org/drawingml/2006/table">
            <a:tbl>
              <a:tblPr/>
              <a:tblGrid>
                <a:gridCol w="3429000"/>
                <a:gridCol w="1067040"/>
                <a:gridCol w="990360"/>
                <a:gridCol w="990720"/>
                <a:gridCol w="1066680"/>
              </a:tblGrid>
              <a:tr h="47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e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 ir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 ferrous ir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 ferric ir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 from Fe(3)/Fe(2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turation Index Fe(OH)3(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turation Index Goethi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3" name="Text Box 53"/>
          <p:cNvSpPr/>
          <p:nvPr/>
        </p:nvSpPr>
        <p:spPr>
          <a:xfrm>
            <a:off x="4724280" y="12193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ution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5800" y="5409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l in the t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Slide Number Placeholder 5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EAA1A-AC44-4D59-B4BE-6077B3731F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Initial Solution 8.</a:t>
            </a: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Question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For each 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499"/>
              </a:spcBef>
              <a:buClr>
                <a:srgbClr val="000000"/>
              </a:buClr>
              <a:buFont typeface="Helvetic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lain the distribution of Fe between Fe(2) and Fe(3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499"/>
              </a:spcBef>
              <a:buClr>
                <a:srgbClr val="000000"/>
              </a:buClr>
              <a:buFont typeface="Helvetic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equation is used for goethite SI:                                              FeOOH + 3H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Fe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2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                                                         Explain why the goethite saturation index is present or abs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What pe is calculated for solution 4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In solution 4, given the following equation, why is the pe not 13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 = log( [Fe+3]/[Fe+2]</a:t>
            </a:r>
            <a:r>
              <a:rPr b="0" lang="en-US" sz="2400" spc="-1" strike="noStrike">
                <a:solidFill>
                  <a:srgbClr val="00cc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+ 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For pH &gt; 5, it is a good assumption that the measured iron concentration is nearly all Fe(2) (ferrous). How can you ensure that the speciation calculation is consistent with this assump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9B2F9-8D14-42E5-B9B1-6701795079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Initial Solution 8.</a:t>
            </a: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Answer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graphicFrame>
        <p:nvGraphicFramePr>
          <p:cNvPr id="380" name=""/>
          <p:cNvGraphicFramePr/>
          <p:nvPr/>
        </p:nvGraphicFramePr>
        <p:xfrm>
          <a:off x="609480" y="1827360"/>
          <a:ext cx="7543800" cy="3321000"/>
        </p:xfrm>
        <a:graphic>
          <a:graphicData uri="http://schemas.openxmlformats.org/drawingml/2006/table">
            <a:tbl>
              <a:tblPr/>
              <a:tblGrid>
                <a:gridCol w="3429000"/>
                <a:gridCol w="1067040"/>
                <a:gridCol w="990360"/>
                <a:gridCol w="990720"/>
                <a:gridCol w="1066680"/>
              </a:tblGrid>
              <a:tr h="47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e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 ir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 ferrous ir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 ferric ir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e-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 from Fe(3)/Fe(2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turation Index Fe(OH)3(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turation Index Goethi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81" name="Text Box 47"/>
          <p:cNvSpPr/>
          <p:nvPr/>
        </p:nvSpPr>
        <p:spPr>
          <a:xfrm>
            <a:off x="4724280" y="12193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ution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85800" y="5409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l in the t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Slide Number Placeholder 5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8A5DC-047D-4BF8-8D44-FBB3A0090B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Solution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d for all PHREEQC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UTION and SOLUTION _SPR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ge bal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ase bound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turation ind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certain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ful miner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potential react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68AC6-D5F4-4B99-92B8-33F48FEDE7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Initial Solution 8. Answers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lution 1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. Fe distributed by using pe 0, Fe(2) and Fe(3) defin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. Fe(3) is defined, goethite SI can be calcula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lution 2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. Fe(2) is defined to be 1 mmol/kg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(3) is undefin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. Fe(3) is not defined, goethite SI can not be calcula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lution 3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. Fe(2) is undefin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(3) is defined to be 1 mmol/kg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. Fe(3) is defined, goethite SI can be calcula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lution 4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. Fe(2) and Fe(3) defin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. Fe(3) is defined, goethite SI can be calculate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pe from Fe(2)/Fe(3) couple is 4.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The equation is for the activity of Fe+3 and Fe+2 ions. In solution, we defined the sum of the molalities of the Fe(3) and Fe(2) species. Fe(2) is predominantly (Fe+2) ion, but Fe(OH)3 and Fe(OH)2+ are the predominant Fe(3) species. (Fe+3) is 8 orders of magnitude less than the predominant speci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 Define iron as Fe(2) or adjust pe sufficiently low to produce mostly Fe(2). Note: goethite SI will not be calculated in the first case and will be completely dependent on your choice of pe for the seco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357BE-24D9-4A9F-B313-CB3675460E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Final thoughts on pe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 is used to distribute total redox element concentration among redox states, but often not need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measurements of total concentrations of redox element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, always Fe(2) except at low p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n, always Mn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, consider other redox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, consider other redox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, probably U(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, probably V(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DA2FA-9A72-4A8F-A9ED-F893BB510B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Final thoughts on pe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couples where available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(0)/O(-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(5)/N(-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(6)/S(-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(3)/Fe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(5)/As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E0BFD-3102-4F11-8101-2CCCD0F7B5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Berner’s Redox Environment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x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ox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lfid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han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5" name="Picture 4" descr=""/>
          <p:cNvPicPr/>
          <p:nvPr/>
        </p:nvPicPr>
        <p:blipFill>
          <a:blip r:embed="rId1"/>
          <a:stretch/>
        </p:blipFill>
        <p:spPr>
          <a:xfrm>
            <a:off x="3200400" y="1600200"/>
            <a:ext cx="4903920" cy="5105520"/>
          </a:xfrm>
          <a:prstGeom prst="rect">
            <a:avLst/>
          </a:prstGeom>
          <a:ln w="0">
            <a:noFill/>
          </a:ln>
        </p:spPr>
      </p:pic>
      <p:sp>
        <p:nvSpPr>
          <p:cNvPr id="396" name="Text Box 5"/>
          <p:cNvSpPr/>
          <p:nvPr/>
        </p:nvSpPr>
        <p:spPr>
          <a:xfrm>
            <a:off x="174600" y="5402160"/>
            <a:ext cx="287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orstenson (198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Slide Number Placeholder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EA55B-A1C6-425C-9713-909234C465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graphicFrame>
        <p:nvGraphicFramePr>
          <p:cNvPr id="399" name="Object 8"/>
          <p:cNvGraphicFramePr/>
          <p:nvPr/>
        </p:nvGraphicFramePr>
        <p:xfrm>
          <a:off x="609480" y="600120"/>
          <a:ext cx="8229600" cy="5840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0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600120"/>
                    <a:ext cx="8229600" cy="584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DC6BB-585C-48E0-85BA-759EFD01F3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Picture 5" descr=""/>
          <p:cNvPicPr/>
          <p:nvPr/>
        </p:nvPicPr>
        <p:blipFill>
          <a:blip r:embed="rId1"/>
          <a:stretch/>
        </p:blipFill>
        <p:spPr>
          <a:xfrm>
            <a:off x="3849840" y="0"/>
            <a:ext cx="5294160" cy="6858000"/>
          </a:xfrm>
          <a:prstGeom prst="rect">
            <a:avLst/>
          </a:prstGeom>
          <a:ln w="0">
            <a:noFill/>
          </a:ln>
        </p:spPr>
      </p:pic>
      <p:sp>
        <p:nvSpPr>
          <p:cNvPr id="403" name="Text Box 4"/>
          <p:cNvSpPr/>
          <p:nvPr/>
        </p:nvSpPr>
        <p:spPr>
          <a:xfrm>
            <a:off x="152280" y="685800"/>
            <a:ext cx="416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khurst and others (199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B7859-4968-4900-84D7-9A4E3CF5C2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PHREEQC Program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PHREEQC Version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t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UI Phreeqc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UI Phreeqc For Windows (Vincent Po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PHAST Version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llel chemis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35421-6617-4AEF-94AC-2FB8522F18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Future PHREEQC Program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685800" y="13712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REEQC Version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tch with Charting (don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UI PhreeqcI with Char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Phreeqc: scriptable (don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ial (don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allel transport and chemistry (don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UI PHAST for Windo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BMOD-Watershed reactive transpor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71D39-D9E1-4014-AD22-4874513382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More on Solution Definition</a:t>
            </a:r>
            <a:br>
              <a:rPr sz="4400"/>
            </a:b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rge Balance and Adjustment to Phase Equilibri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5BDF1-E2E1-483D-8429-D904B326C4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Charge Balance Option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most analyses, just leave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just the major anion or 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just 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1C590-3343-491F-9CAC-1D3728C28D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Periodic_table.bmp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4" descr=""/>
          <p:cNvPicPr/>
          <p:nvPr/>
        </p:nvPicPr>
        <p:blipFill>
          <a:blip r:embed="rId1"/>
          <a:stretch/>
        </p:blipFill>
        <p:spPr>
          <a:xfrm>
            <a:off x="0" y="1274760"/>
            <a:ext cx="9144000" cy="5583240"/>
          </a:xfrm>
          <a:prstGeom prst="rect">
            <a:avLst/>
          </a:prstGeom>
          <a:ln w="0">
            <a:noFill/>
          </a:ln>
        </p:spPr>
      </p:pic>
      <p:sp>
        <p:nvSpPr>
          <p:cNvPr id="136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F9B4A-FA58-43A8-9A88-022E4EE19D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Picture 9" descr=""/>
          <p:cNvPicPr/>
          <p:nvPr/>
        </p:nvPicPr>
        <p:blipFill>
          <a:blip r:embed="rId1"/>
          <a:stretch/>
        </p:blipFill>
        <p:spPr>
          <a:xfrm>
            <a:off x="457200" y="1371600"/>
            <a:ext cx="5505480" cy="5200560"/>
          </a:xfrm>
          <a:prstGeom prst="rect">
            <a:avLst/>
          </a:prstGeom>
          <a:ln w="0">
            <a:noFill/>
          </a:ln>
        </p:spPr>
      </p:pic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SOLUTION Charge Balance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324480" y="1752480"/>
            <a:ext cx="23623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pH or major 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way to specify cation or an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Oval 5"/>
          <p:cNvSpPr/>
          <p:nvPr/>
        </p:nvSpPr>
        <p:spPr>
          <a:xfrm>
            <a:off x="2971800" y="1905120"/>
            <a:ext cx="2514600" cy="1523880"/>
          </a:xfrm>
          <a:prstGeom prst="ellipse">
            <a:avLst/>
          </a:prstGeom>
          <a:noFill/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Oval 7"/>
          <p:cNvSpPr/>
          <p:nvPr/>
        </p:nvSpPr>
        <p:spPr>
          <a:xfrm>
            <a:off x="990720" y="1600200"/>
            <a:ext cx="1295280" cy="457200"/>
          </a:xfrm>
          <a:prstGeom prst="ellipse">
            <a:avLst/>
          </a:prstGeom>
          <a:noFill/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Slide Number Placeholder 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2179F-8592-47E7-87F2-295237A8E6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Initial Solution 10.</a:t>
            </a: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Exercise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24" name="Text Box 30"/>
          <p:cNvSpPr/>
          <p:nvPr/>
        </p:nvSpPr>
        <p:spPr>
          <a:xfrm>
            <a:off x="380880" y="1523880"/>
            <a:ext cx="8534520" cy="37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e a solution made by adding 1 mmol of NaH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1 mmol N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a kilogram of water. What is the pH of the solu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nt: The solution definition contains Na and C(4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e a solution made by adding 1 mmol of NaH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1 mmol N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a kilogram of water that was then titrated to pH 7 with pure HCl. How much chloride was add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nt: The solution definition contains Na, C, and 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7287D-69F0-4F06-ACA7-0CD252E2CB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Initial Solution 10.</a:t>
            </a: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Answer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685800" y="259056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60000"/>
              </a:lnSpc>
              <a:spcBef>
                <a:spcPts val="799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 = 10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60000"/>
              </a:lnSpc>
              <a:spcBef>
                <a:spcPts val="799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 = 1.35 mm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19702-349B-4F6E-A52E-B991ED5416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Adjustments to Phase Equilibrium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most analyses, don’t do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ollowing are reason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just concentrations to equilibrium with atmosphere (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C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just pH to calcite equilibr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timate aluminum concentration by equilibrium with gibbsite or kaolin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BA20B-F232-44AC-8869-6FD486E1E9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Picture 8" descr=""/>
          <p:cNvPicPr/>
          <p:nvPr/>
        </p:nvPicPr>
        <p:blipFill>
          <a:blip r:embed="rId1"/>
          <a:stretch/>
        </p:blipFill>
        <p:spPr>
          <a:xfrm>
            <a:off x="228600" y="1447920"/>
            <a:ext cx="5505480" cy="5200560"/>
          </a:xfrm>
          <a:prstGeom prst="rect">
            <a:avLst/>
          </a:prstGeom>
          <a:ln w="0">
            <a:noFill/>
          </a:ln>
        </p:spPr>
      </p:pic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Adjusting to Phase Equilibrium with SOLUTION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5714640" y="1981080"/>
            <a:ext cx="3048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Ph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 saturation index for mineral, log partial pressure for g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Oval 5"/>
          <p:cNvSpPr/>
          <p:nvPr/>
        </p:nvSpPr>
        <p:spPr>
          <a:xfrm>
            <a:off x="762120" y="1600200"/>
            <a:ext cx="1295280" cy="533520"/>
          </a:xfrm>
          <a:prstGeom prst="ellipse">
            <a:avLst/>
          </a:prstGeom>
          <a:noFill/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Oval 6"/>
          <p:cNvSpPr/>
          <p:nvPr/>
        </p:nvSpPr>
        <p:spPr>
          <a:xfrm>
            <a:off x="2209680" y="4521240"/>
            <a:ext cx="1905120" cy="380880"/>
          </a:xfrm>
          <a:prstGeom prst="ellipse">
            <a:avLst/>
          </a:prstGeom>
          <a:noFill/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Slide Number Placeholder 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B1431-96F7-4B3F-9F4B-D3E563DC74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8" name="Picture 10" descr=""/>
          <p:cNvPicPr/>
          <p:nvPr/>
        </p:nvPicPr>
        <p:blipFill>
          <a:blip r:embed="rId1"/>
          <a:stretch/>
        </p:blipFill>
        <p:spPr>
          <a:xfrm>
            <a:off x="304920" y="1380960"/>
            <a:ext cx="5495760" cy="5400720"/>
          </a:xfrm>
          <a:prstGeom prst="rect">
            <a:avLst/>
          </a:prstGeom>
          <a:ln w="0">
            <a:noFill/>
          </a:ln>
        </p:spPr>
      </p:pic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Adjusting to Phase Equilibrium with SOLUTION_SPREAD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476760" y="1905120"/>
            <a:ext cx="2361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ect ph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e SI or log partial press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Oval 5"/>
          <p:cNvSpPr/>
          <p:nvPr/>
        </p:nvSpPr>
        <p:spPr>
          <a:xfrm>
            <a:off x="2895480" y="3581280"/>
            <a:ext cx="2210040" cy="381240"/>
          </a:xfrm>
          <a:prstGeom prst="ellipse">
            <a:avLst/>
          </a:prstGeom>
          <a:noFill/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Oval 6"/>
          <p:cNvSpPr/>
          <p:nvPr/>
        </p:nvSpPr>
        <p:spPr>
          <a:xfrm>
            <a:off x="2743200" y="2209680"/>
            <a:ext cx="2362320" cy="1219320"/>
          </a:xfrm>
          <a:prstGeom prst="ellipse">
            <a:avLst/>
          </a:prstGeom>
          <a:noFill/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Oval 7"/>
          <p:cNvSpPr/>
          <p:nvPr/>
        </p:nvSpPr>
        <p:spPr>
          <a:xfrm>
            <a:off x="1066680" y="1600200"/>
            <a:ext cx="685800" cy="457200"/>
          </a:xfrm>
          <a:prstGeom prst="ellipse">
            <a:avLst/>
          </a:prstGeom>
          <a:noFill/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Slide Number Placeholder 9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6A188-4FEC-466F-AC51-EFAF75C258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Picture 8" descr=""/>
          <p:cNvPicPr/>
          <p:nvPr/>
        </p:nvPicPr>
        <p:blipFill>
          <a:blip r:embed="rId1"/>
          <a:stretch/>
        </p:blipFill>
        <p:spPr>
          <a:xfrm>
            <a:off x="762120" y="1905120"/>
            <a:ext cx="4800600" cy="4717800"/>
          </a:xfrm>
          <a:prstGeom prst="rect">
            <a:avLst/>
          </a:prstGeom>
          <a:ln w="0">
            <a:noFill/>
          </a:ln>
        </p:spPr>
      </p:pic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UNITS in SOLUTION_SPREAD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6172200" y="2361960"/>
            <a:ext cx="27432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’t forget to set the unit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Oval 5"/>
          <p:cNvSpPr/>
          <p:nvPr/>
        </p:nvSpPr>
        <p:spPr>
          <a:xfrm>
            <a:off x="1295280" y="2057400"/>
            <a:ext cx="914400" cy="457200"/>
          </a:xfrm>
          <a:prstGeom prst="ellipse">
            <a:avLst/>
          </a:prstGeom>
          <a:noFill/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Oval 6"/>
          <p:cNvSpPr/>
          <p:nvPr/>
        </p:nvSpPr>
        <p:spPr>
          <a:xfrm>
            <a:off x="533520" y="2895480"/>
            <a:ext cx="1143000" cy="304920"/>
          </a:xfrm>
          <a:prstGeom prst="ellipse">
            <a:avLst/>
          </a:prstGeom>
          <a:noFill/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Slide Number Placeholder 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5A465-67A9-4185-931A-1815003ABC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Initial Solution 11.</a:t>
            </a: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Exercise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85800" y="5409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Calculate the carbon concentration that would be in equilibrium with the atmosphere (log P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-3.5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3" name=""/>
          <p:cNvGraphicFramePr/>
          <p:nvPr/>
        </p:nvGraphicFramePr>
        <p:xfrm>
          <a:off x="762120" y="1600200"/>
          <a:ext cx="7391160" cy="3627360"/>
        </p:xfrm>
        <a:graphic>
          <a:graphicData uri="http://schemas.openxmlformats.org/drawingml/2006/table">
            <a:tbl>
              <a:tblPr/>
              <a:tblGrid>
                <a:gridCol w="1987560"/>
                <a:gridCol w="1428480"/>
                <a:gridCol w="2546640"/>
                <a:gridCol w="142848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titu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ue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titu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ue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3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8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(6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g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4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(5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3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4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(-3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0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3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0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(4)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4" name="Text Box 182"/>
          <p:cNvSpPr/>
          <p:nvPr/>
        </p:nvSpPr>
        <p:spPr>
          <a:xfrm>
            <a:off x="2214360" y="838080"/>
            <a:ext cx="470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inwater, Concentration in mg/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Slide Number Placeholder 4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C2234-2DBE-4D62-BFEE-0D8EEFEF5F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Initial Solution 11.</a:t>
            </a: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Answer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culate the carbon concentration that would be in equilibrium with the atmosphere (log P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-3.5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1e-5 mol C per kilogram w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B0541-18D0-44D3-A33E-70D31C66C4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Initial Solution 12.</a:t>
            </a: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Exercise 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60" name="Rectangle 4"/>
          <p:cNvSpPr/>
          <p:nvPr/>
        </p:nvSpPr>
        <p:spPr>
          <a:xfrm>
            <a:off x="685800" y="236232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culate the pH and TDIC of a solution in equilibrium with the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CO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air 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3.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at 25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culate the pH and TDIC of a solution in equilibrium with a soil-zone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CO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2.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t 25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culate the pH and TDIC of a solution in equilibrium with a soil-zone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CO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2.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t 10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Slide Number Placeholder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DF0BA-E3BB-4F5E-BBC6-56D9AE2525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Default Gram Formula Mass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609480" y="1600200"/>
          <a:ext cx="8153640" cy="3657600"/>
        </p:xfrm>
        <a:graphic>
          <a:graphicData uri="http://schemas.openxmlformats.org/drawingml/2006/table">
            <a:tbl>
              <a:tblPr/>
              <a:tblGrid>
                <a:gridCol w="2971800"/>
                <a:gridCol w="5181840"/>
              </a:tblGrid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ement/Redox St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fault “as” phreeqc.dat/wateq4f.da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kalin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CO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, C(4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CO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3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H4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O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9" name="Text Box 64"/>
          <p:cNvSpPr/>
          <p:nvPr/>
        </p:nvSpPr>
        <p:spPr>
          <a:xfrm>
            <a:off x="457200" y="549900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ault GFW is defined in 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ield of SOLUTION_MASTER_SPECIES in database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lide Number Placeholder 3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6BC96-D4D4-4479-A7C5-25F227F51B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Initial Solution 12.</a:t>
            </a: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Answers 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63" name="Rectangle 4"/>
          <p:cNvSpPr/>
          <p:nvPr/>
        </p:nvSpPr>
        <p:spPr>
          <a:xfrm>
            <a:off x="762120" y="1752480"/>
            <a:ext cx="777240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80000"/>
              </a:lnSpc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pH = 5.66, TDIC =  13 umol/kg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pH = 4.91, TDIC = 353 umol/kg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pH = 4.87, TDIC = 552 umol/kg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27256-3BC2-45C5-B011-0EB8AD3F06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SATURATION INDEX</a:t>
            </a:r>
            <a:br>
              <a:rPr sz="4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hermodynamic state of a mineral relative to a solution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6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4375B-4675-4E8A-80D8-BD7EF0F860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7" name="Object 5"/>
              <p:cNvSpPr txBox="1"/>
              <p:nvPr/>
            </p:nvSpPr>
            <p:spPr>
              <a:xfrm>
                <a:off x="2759040" y="2011320"/>
                <a:ext cx="3625920" cy="57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IAP</m:t>
                        </m:r>
                      </m:num>
                      <m:den>
                        <m:r>
                          <m:t xml:space="preserve">K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68" name="TextBox 6"/>
          <p:cNvSpPr/>
          <p:nvPr/>
        </p:nvSpPr>
        <p:spPr>
          <a:xfrm>
            <a:off x="609480" y="2743200"/>
            <a:ext cx="6705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A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ion activity produ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equilibrium const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9" name="Object 6"/>
              <p:cNvSpPr txBox="1"/>
              <p:nvPr/>
            </p:nvSpPr>
            <p:spPr>
              <a:xfrm>
                <a:off x="1646280" y="3948120"/>
                <a:ext cx="585144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alcite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(</m:t>
                    </m:r>
                    <m:r>
                      <m:t xml:space="preserve">[</m:t>
                    </m:r>
                    <m:r>
                      <m:rPr>
                        <m:lit/>
                        <m:nor/>
                      </m:rPr>
                      <m:t xml:space="preserve">Ca</m:t>
                    </m:r>
                    <m:r>
                      <m:t xml:space="preserve">]</m:t>
                    </m:r>
                    <m:r>
                      <m:t xml:space="preserve">[</m:t>
                    </m:r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CO</m:t>
                        </m:r>
                      </m:e>
                      <m:sub>
                        <m:r>
                          <m:t xml:space="preserve">3</m:t>
                        </m:r>
                      </m:sub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bSup>
                    <m:f>
                      <m:fPr>
                        <m:type m:val="lin"/>
                      </m:fPr>
                      <m:num>
                        <m:r>
                          <m:t xml:space="preserve">]</m:t>
                        </m:r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alcite</m:t>
                            </m:r>
                          </m:sub>
                        </m:sSub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0" name="Object 7"/>
              <p:cNvSpPr txBox="1"/>
              <p:nvPr/>
            </p:nvSpPr>
            <p:spPr>
              <a:xfrm>
                <a:off x="419040" y="5029200"/>
                <a:ext cx="830592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alcite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(</m:t>
                    </m:r>
                    <m:r>
                      <m:t xml:space="preserve">[</m:t>
                    </m:r>
                    <m:r>
                      <m:rPr>
                        <m:lit/>
                        <m:nor/>
                      </m:rPr>
                      <m:t xml:space="preserve">Ca</m:t>
                    </m:r>
                    <m:r>
                      <m:t xml:space="preserve">]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(</m:t>
                    </m:r>
                    <m:r>
                      <m:t xml:space="preserve">[</m:t>
                    </m:r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CO</m:t>
                        </m:r>
                      </m:e>
                      <m:sub>
                        <m:r>
                          <m:t xml:space="preserve">3</m:t>
                        </m:r>
                      </m:sub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bSup>
                    <m:r>
                      <m:t xml:space="preserve">]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alcite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SATURATION INDEX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 &lt; 0, Mineral should dissol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 &gt; 0, Mineral should precipi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 ~ 0, Mineral reacts fast enough to maintain equilibr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y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ine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certainti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D7FB7-7A40-437B-8A8E-DADB19A858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Rules for Saturation Indice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eral cannot dissolve if it is not pres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SI &lt; 0 and mineral is present—the mineral could dissolve, but not precipi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SI &gt; 0—the mineral could precipitate, but not dissol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SI ~ 0—the mineral could dissolve or precipitate to maintain equilibr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BDB03-ED11-492E-A19A-1F18D0379F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Uncertainties in SI: Analytical data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99"/>
              </a:buClr>
              <a:buSzPct val="12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% uncertainty in element concentration is .02 units in S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99"/>
              </a:buClr>
              <a:buSzPct val="12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.5 pH unit uncertainty is 0.5 units in SI of calcite, 1.0 unit in dolom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99"/>
              </a:buClr>
              <a:buSzPct val="12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pe or pH unit uncertainty is 8 units in SI of FeS for the following equ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(FeS) = log[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]+log[SO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]-8pH-8pe-log K(F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C326F-EEE3-4547-A0D3-4F7E7CCB78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Uncertainties in SI: Equation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99"/>
              </a:buClr>
              <a:buSzPct val="12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ch smaller uncertainty for SI(FeS) with the following equation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(FeS) = log[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]+log[H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]+pH-log K(F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99"/>
              </a:buClr>
              <a:buSzPct val="12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minerals with redox elements, uncertainties are much smaller if the valence states of the elements in solution are measur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E06DF-91EE-4843-BE77-519E253BC0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Uncertainties in SI: Log K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1048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atite from Stumm and Morga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OH) = 5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3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O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atite from Wateq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K = -55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Arial"/>
              </a:rPr>
              <a:t>Log Ks especially uncertain for aluminosilic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5" name="Object 4"/>
              <p:cNvSpPr txBox="1"/>
              <p:nvPr/>
            </p:nvSpPr>
            <p:spPr>
              <a:xfrm>
                <a:off x="685800" y="2971800"/>
                <a:ext cx="827892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sSubSup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r</m:t>
                        </m:r>
                      </m:sub>
                      <m:sup>
                        <m:r>
                          <m:t xml:space="preserve">0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55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4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1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8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5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633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4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57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kJ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ol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6" name="Object 5"/>
              <p:cNvSpPr txBox="1"/>
              <p:nvPr/>
            </p:nvSpPr>
            <p:spPr>
              <a:xfrm>
                <a:off x="757080" y="3621240"/>
                <a:ext cx="3667320" cy="65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patite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ΔG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0</m:t>
                            </m:r>
                          </m:sup>
                        </m:sSubSup>
                      </m:num>
                      <m:den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R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5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07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6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87" name="Slide Number Placeholder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6DA29-D409-4986-90B1-D624A98E06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Useful Mineral List</a:t>
            </a:r>
            <a:br>
              <a:rPr sz="4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erals that may react to equilibrium relatively quickly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graphicFrame>
        <p:nvGraphicFramePr>
          <p:cNvPr id="489" name="Object 58"/>
          <p:cNvGraphicFramePr/>
          <p:nvPr/>
        </p:nvGraphicFramePr>
        <p:xfrm>
          <a:off x="685800" y="2219400"/>
          <a:ext cx="7848720" cy="4321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0" name="Object 5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219400"/>
                    <a:ext cx="7848720" cy="432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C70E3-76FD-4BFC-9CDF-0CBA2F33FF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Initial Solution 13.</a:t>
            </a: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Exercise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ine solution compositions in spreadsheet “solution_spread.xls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lculate saturation indices usin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hreeqc.da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y out RunPhreeqc macro or copy/paste into Phreeqc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can you infer about the hydrologic setting, mineralogy, and possible reactions for these wate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C0706-0282-4530-AACD-97177A4DFF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Solution_spread.xls + is13.xls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7" name="Picture 4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6858000" cy="5468760"/>
          </a:xfrm>
          <a:prstGeom prst="rect">
            <a:avLst/>
          </a:prstGeom>
          <a:ln w="0">
            <a:noFill/>
          </a:ln>
        </p:spPr>
      </p:pic>
      <p:sp>
        <p:nvSpPr>
          <p:cNvPr id="498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4B459-39FB-4698-99B2-D301C0A7F7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067" descr=""/>
          <p:cNvPicPr/>
          <p:nvPr/>
        </p:nvPicPr>
        <p:blipFill>
          <a:blip r:embed="rId1"/>
          <a:stretch/>
        </p:blipFill>
        <p:spPr>
          <a:xfrm>
            <a:off x="228600" y="1352520"/>
            <a:ext cx="6477120" cy="485136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Changing Database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0" y="1676520"/>
            <a:ext cx="2286000" cy="439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time you r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e-&gt;Proper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put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utput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base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tions-&gt;Set default data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2066" descr=""/>
          <p:cNvPicPr/>
          <p:nvPr/>
        </p:nvPicPr>
        <p:blipFill>
          <a:blip r:embed="rId2"/>
          <a:stretch/>
        </p:blipFill>
        <p:spPr>
          <a:xfrm>
            <a:off x="304920" y="2209680"/>
            <a:ext cx="4343400" cy="23749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2065" descr=""/>
          <p:cNvPicPr/>
          <p:nvPr/>
        </p:nvPicPr>
        <p:blipFill>
          <a:blip r:embed="rId3"/>
          <a:stretch/>
        </p:blipFill>
        <p:spPr>
          <a:xfrm>
            <a:off x="3048120" y="4122720"/>
            <a:ext cx="3809880" cy="2430360"/>
          </a:xfrm>
          <a:prstGeom prst="rect">
            <a:avLst/>
          </a:prstGeom>
          <a:ln w="0">
            <a:noFill/>
          </a:ln>
        </p:spPr>
      </p:pic>
      <p:sp>
        <p:nvSpPr>
          <p:cNvPr id="146" name="Oval 2068"/>
          <p:cNvSpPr/>
          <p:nvPr/>
        </p:nvSpPr>
        <p:spPr>
          <a:xfrm>
            <a:off x="1905120" y="1523880"/>
            <a:ext cx="533160" cy="457200"/>
          </a:xfrm>
          <a:prstGeom prst="ellipse">
            <a:avLst/>
          </a:prstGeom>
          <a:noFill/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Oval 2069"/>
          <p:cNvSpPr/>
          <p:nvPr/>
        </p:nvSpPr>
        <p:spPr>
          <a:xfrm>
            <a:off x="3200400" y="3581280"/>
            <a:ext cx="533520" cy="457200"/>
          </a:xfrm>
          <a:prstGeom prst="ellipse">
            <a:avLst/>
          </a:prstGeom>
          <a:noFill/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lide Number Placeholder 10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E105D-6301-4DDF-8857-EFCB89C8C2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queous speciation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le-balance equations—Sum of species containing Ca equals total analyzed 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queous mass-action equations—Activity  of products over reactants equal a const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ity coefficient mode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on association with individual activity coeffici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itzer specific interaction approa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=log(IAP/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25827-B11E-48B4-921F-488542B846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UTION and SOLUTION _SPR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—ratio of H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—ratio of oxidized/reduced valenc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ge bal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ase bound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turation ind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certain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ful miner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y potential react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4B5AE-B0E6-4FEF-9E5F-AC3B75BB5E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8T17:52:05Z</dcterms:created>
  <dc:creator>dlpark</dc:creator>
  <dc:description/>
  <dc:language>en-US</dc:language>
  <cp:lastModifiedBy>OED</cp:lastModifiedBy>
  <dcterms:modified xsi:type="dcterms:W3CDTF">2011-03-15T21:49:26Z</dcterms:modified>
  <cp:revision>536</cp:revision>
  <dc:subject/>
  <dc:title>Defining Solutions</dc:title>
</cp:coreProperties>
</file>