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6603F2-D7A0-4440-B748-EB165E858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D347DC-FEBA-41AE-975F-BF8230DC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2O = 0.5 CO2 + 0.5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its    mmol/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Fe(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-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q/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1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1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6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1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3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5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4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.2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19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2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3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2.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VERSE_MODELING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olutions      10     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certainty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yr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X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balanc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tolerance         1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mineral_water    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6B92F3-FFB7-4723-AB2F-C5B6B8D5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 in 100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file pco2-gw.se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heading pCO2 Ca Mg C p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punch si("CO2(g)"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punch tot("Ca")*1000, tot("Mg")*1000, tot("C")*1000, -la("H+"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8926CD-70E9-4187-A2A6-33099193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ITLE Example 14.--Transport with equilibrium_phases, exchange, and surface reaction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LEASE NOTE: This problem requires database file wateq4f.dat!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senic data of Archer and Nordstrom (2002) included in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q4f.dat (PHREEQC Version 2.8)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ults differ from WRIR 99-4259 because of revised data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Mg+2 = Hfo_wOMg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Ca+2 = Hfo_wOCa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 Brin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5.71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46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16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5.4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6.642  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03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0047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      .05 u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prints initial condition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file ex14.se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head  m_Ca m_Mg m_Na umol_As p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 PUNCH TOT("Ca"), TOT("Mg"), TOT("Na"), TOT("As")*1e6, -LA("H+"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skips print of initial exchange and initial surface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with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    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assumes 1/10 of iron is HF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           0.07    600.    3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0 20 x precipita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4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1916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03579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.1226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.1337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1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235153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cell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hifts 2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rint_frequency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A4E-56A1-4BF9-BB33-609B6FAD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5C4-53D5-45C3-9DF0-569F131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AED-57F8-423C-9819-7413EC12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69A-378E-4008-85EC-F0D7D2FA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F26-E98B-4982-B2DA-66D9E59F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AEF-AF05-4E70-A22E-7A2B7D4C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1B9-720B-41F4-AE68-8ECB6EE9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393-8EC0-4099-B51B-27A8866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803-C2E8-4575-865C-FA9D427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206-0CEC-4011-A370-0DCE891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F7D-0AFA-4899-A0EF-CA6DB08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C4C-D9EC-4F06-A422-A8ED7ED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6BA-F1E9-470D-B74B-8861E5DF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Modeling Workshop, March 201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D REACTIVE-TRANSPORT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water flow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 water com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D REACTIVE-TRANSPORT--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P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at Cape Cod Sewage Plu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60880" y="380880"/>
            <a:ext cx="470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—PhreeqcI, NET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modeling—PhreeqcI, NETPATH (isotope fracti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modeling—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Reactive-transport modeling—PhreeqcI, 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Reacive-transport modeling--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 are you trying to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geochemical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s of modeling are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the necessary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ELD WOR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: CFC,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isotopes:           D, 18O, 13C, 34S, 87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ble isotopes : N, Ca, B, Pb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sotopes:        T/He, 1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956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, optical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ex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ASES OF GEOCHEMICAL MODELING—TREND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of concentration against Cl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INVERSE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sequence of water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e chemical reactions affecting major elements in water an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ffective for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VERSE MODELING—Estuarine Pore Wat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lution fractions:  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4.160e-001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e 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1.000e+000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mole transfers: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yrite    -3.803e-003     0.000e+000     0.000e+000  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e(OH)3(a)     3.808e-003     0.000e+000     0.000e+000   Fe(OH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O(g)     3.240e+001     0.000e+000     0.000e+000   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cite     1.049e-003     0.000e+000     0.000e+000   CaC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ganic carbon     2.116e-002     0.000e+000     0.000e+000   C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X2    -1.019e-003     0.000e+000     0.000e+000   Ca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X     2.039e-003     0.000e+000     0.000e+000   N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FORWARD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an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RWARD MODELING—TRENDS IN CARBONATE GW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371600" y="1900080"/>
          <a:ext cx="67057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0080"/>
                    <a:ext cx="67057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-Transport Model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 TRANSPORT—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nates, ion exchange, surface comp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8T17:30:26Z</dcterms:modified>
  <cp:revision>35</cp:revision>
  <dc:subject/>
  <dc:title>Defining Solutions</dc:title>
</cp:coreProperties>
</file>