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C068-D034-4EE4-885D-7B160D6D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A5FF-0106-457A-AA48-C6A6467B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5EA1-955C-46F0-A18D-5B257EBF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BADD-0138-46D8-8BA3-670C5EFF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77A6-6DA2-47BE-811A-823A8272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B9D5-4757-469F-963D-C0C629F4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8585-2D6F-4C5F-9E11-893CE3D1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C7B1-532B-4E64-AB99-3AEC786D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516A-1A2D-4466-85E8-958A51E8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9E87-EC73-4D91-86F3-13E86BF0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AE8E-2F7F-453F-A428-4A3C6D0E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06E0-940E-49D1-8CA1-F0BA5500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3270-5AF4-4265-B2F5-AB017143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8DF1-4051-4026-A661-C414AFEF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F15B-7C6A-4087-A4E4-3B1B6CDE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7506-9E07-4668-A9CB-BBB52FF4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7DFA-2C54-40FC-AFB4-60429637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4A28-819F-451F-A08B-BB54F263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A419-CA1F-4BD5-8A51-2DB908A3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F29C-4651-448F-8703-C8332043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45B9-F248-4DC0-BE04-6F0998C4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DA30-5006-4290-8A6C-83D081DF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FAEE-74F1-47FA-9C84-44916693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F8E3-FCE0-459C-8FB5-BAD3B84A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769E-111C-4252-A49D-F71366F34AA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" name="" descr="Image of small USGS Identifier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457200" y="6400800"/>
            <a:ext cx="11430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BC3B-D8D3-44D8-B77F-01C9E812E69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Image of small USGS Identifier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457200" y="6095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8394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cc"/>
                </a:solidFill>
                <a:latin typeface="Arial"/>
              </a:rPr>
              <a:t>Ground-Water Flow and Solute Transport for the PHAST Simulator:</a:t>
            </a:r>
            <a:r>
              <a:rPr b="0" lang="en-US" sz="47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700"/>
            </a:br>
            <a:r>
              <a:rPr b="0" lang="en-US" sz="4700" spc="-1" strike="noStrike">
                <a:solidFill>
                  <a:srgbClr val="ffffcc"/>
                </a:solidFill>
                <a:latin typeface="Arial"/>
              </a:rPr>
              <a:t>Numerical Considerations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72392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6576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trolling Numerical Oscill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09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iter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entered-in-space differenc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entered-in-time differenc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here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523880" y="2743200"/>
                <a:ext cx="27432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Δx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523880" y="4419720"/>
                <a:ext cx="30830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Δt</m:t>
                        </m:r>
                      </m:num>
                      <m:den>
                        <m:sSup>
                          <m:e>
                            <m:r>
                              <m:t xml:space="preserve">Δ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αvΔt</m:t>
                        </m:r>
                      </m:num>
                      <m:den>
                        <m:sSup>
                          <m:e>
                            <m:r>
                              <m:t xml:space="preserve">Δ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ll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514600" y="5468760"/>
                <a:ext cx="10666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Δt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trolling Numerical Dispers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pstream-in-space differencing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ackward-in-time differenc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curacy require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mensionless accuracy requirement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                                                    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477800" y="1633680"/>
                <a:ext cx="16002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pac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Δ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581280" y="1633680"/>
                <a:ext cx="14749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pac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477800" y="3048120"/>
                <a:ext cx="16002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595680" y="3048120"/>
                <a:ext cx="14749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Δ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477800" y="4400640"/>
                <a:ext cx="32464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pac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952880" y="5367240"/>
                <a:ext cx="16020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477800" y="5367240"/>
                <a:ext cx="278316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Δx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vΔt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318280" y="4400640"/>
                <a:ext cx="31399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pac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ross-Flow Dispersion Discretization truncation err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lute transport equation in 2-dimensions, steady flow at angle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to coordinat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334120" cy="662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52280" y="28195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ackwards-in-time and upstream-in-space differenc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runcation error leading terms; numerical dispers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43434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umerical disper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angential is minimum at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=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/4; maximum at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= 0,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/2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ormal is maximum at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=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/4; minimum at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= 0,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/2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752480" y="3524400"/>
            <a:ext cx="5715000" cy="6188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2280" y="54100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med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Refine grid and reduce time step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ther remedies not available in PHAS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ield-Scale Exampl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lute Slug in 2 Dimens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niform propert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eady flo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ydraulic 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low-path length: 100 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rosity: 0.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persivity: 0.012 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round-water veloc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terstitial velocity: 1.97 m/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arcy velocity: 0.197 m/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persion coefficient: 0.024 m2/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lug duration: 10 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327672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eld-Scale Examp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3885840"/>
            <a:ext cx="274320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924360" y="298440"/>
            <a:ext cx="5067360" cy="2952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172200" y="3741840"/>
            <a:ext cx="2666880" cy="2582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44600" y="3429000"/>
            <a:ext cx="510516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perator Splitting Erro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rder </a:t>
            </a:r>
            <a:r>
              <a:rPr b="0" i="1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inear equilibrium sorp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inear kinetic mass transfer or linear deca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med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 small time step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ther remedies not available in PHA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Negative Intermediate Concentration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use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patial discretization (centered-in-space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emporal discretization (centered-in-time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ross-dispersion terms with strong diagonal flow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perator splitting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.g.Linear equilibrium sorption chemistry, SNlA metho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where R is the retardation factor, R &gt; 1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vershoot and undershoot may occur with strong sorption, strong partitionin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ffect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ailure of the chemical reaction calcul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362320" y="3666960"/>
            <a:ext cx="259056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Negative Intermediate Concentration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medi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mall </a:t>
            </a:r>
            <a:r>
              <a:rPr b="0" i="1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mall </a:t>
            </a:r>
            <a:r>
              <a:rPr b="0" i="1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odify or ignore cross-dispersion term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HAST limits 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c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positive value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ain of ma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ther remedies not available in PHA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utomatic Time-Step Algorithm for Steady-State Flow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trol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aximum change in head over time step;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ime-step limits;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min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max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bjective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just time step to achieve target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ethod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tart each cycle with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mi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just time step as necessary for targe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duce time step if solver convergence failur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ssible difficultie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min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incompatible with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h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compatible with b.c. and i.c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olving the Linear Equation System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parse; small fraction of non-zero eleme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ructured; 7 diagon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ymmetric for flow equ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nsymmetric for transport equ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3565440" y="1676520"/>
            <a:ext cx="222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</a:rPr>
              <a:t>Ax = b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umerical implement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umerical oscillation and dispers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perator splitting erro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gative concentr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utomatic time ste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inear equation solv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agnosis of difficult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near Equation Solve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rect Solv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ased on Gaussian elimination without pivot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 user 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st for smaller problems (few thousand nod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near Equation Solve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terative solv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econditioned restarted Orthomin metho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ased on adjusting the solution to minimize the residual using a set of conjugate, orthogonal directi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reconditioning used to accelerate convergen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everal user paramet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nvergence toleran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start interva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teration count limi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eeded for larger problems (tens of thousands of node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terative Linear Equation Solver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caling the equ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ows and columns can be scal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ere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d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e diagonal scaling matric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cale factors calculated to make the maximum element in each row and column of A equal to o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nables a single value of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to apply to flow and all transport equation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nly row scaling is implement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473120" y="2349360"/>
            <a:ext cx="2286000" cy="4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terative Linear Equation Solver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tting Orthomin iteration 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opping tolera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efault: 1x10</a:t>
            </a:r>
            <a:r>
              <a:rPr b="0" lang="en-US" sz="2000" spc="-1" strike="noStrike" baseline="30000">
                <a:solidFill>
                  <a:srgbClr val="eaeaea"/>
                </a:solidFill>
                <a:latin typeface="Verdana"/>
              </a:rPr>
              <a:t>-1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Vary </a:t>
            </a:r>
            <a:r>
              <a:rPr b="0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and observe change in solu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ant changes to be in insignificant digi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ximum number of iter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efault: 5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crease if necessary; usually indicates another proble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start interval (number of saved search direction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efault: 2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crease if necessary to avoid non-convergen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omputational Procedure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9760" y="1294920"/>
            <a:ext cx="6400800" cy="838440"/>
          </a:xfrm>
          <a:prstGeom prst="rect">
            <a:avLst/>
          </a:prstGeom>
          <a:noFill/>
          <a:ln w="38160">
            <a:solidFill>
              <a:srgbClr val="eec85e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overning partial differential equ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d boundary condi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3238560" y="2610000"/>
            <a:ext cx="2743200" cy="457200"/>
          </a:xfrm>
          <a:prstGeom prst="rect">
            <a:avLst/>
          </a:prstGeom>
          <a:noFill/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cretiz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3543480"/>
            <a:ext cx="8153280" cy="457200"/>
          </a:xfrm>
          <a:prstGeom prst="rect">
            <a:avLst/>
          </a:prstGeom>
          <a:noFill/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ystem of flow and transport algebraic equa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62040" y="4476600"/>
            <a:ext cx="6096240" cy="457200"/>
          </a:xfrm>
          <a:prstGeom prst="rect">
            <a:avLst/>
          </a:prstGeom>
          <a:noFill/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quation solv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7480" y="5410080"/>
            <a:ext cx="6705360" cy="457200"/>
          </a:xfrm>
          <a:prstGeom prst="rect">
            <a:avLst/>
          </a:prstGeom>
          <a:noFill/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pproximate numerical sol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10160" y="2143080"/>
            <a:ext cx="0" cy="457200"/>
          </a:xfrm>
          <a:prstGeom prst="line">
            <a:avLst/>
          </a:prstGeom>
          <a:ln w="38160">
            <a:solidFill>
              <a:srgbClr val="eec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10160" y="3076560"/>
            <a:ext cx="0" cy="457200"/>
          </a:xfrm>
          <a:prstGeom prst="line">
            <a:avLst/>
          </a:prstGeom>
          <a:ln w="38160">
            <a:solidFill>
              <a:srgbClr val="eec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10160" y="4010040"/>
            <a:ext cx="0" cy="457200"/>
          </a:xfrm>
          <a:prstGeom prst="line">
            <a:avLst/>
          </a:prstGeom>
          <a:ln w="38160">
            <a:solidFill>
              <a:srgbClr val="eec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10160" y="4943520"/>
            <a:ext cx="0" cy="457200"/>
          </a:xfrm>
          <a:prstGeom prst="line">
            <a:avLst/>
          </a:prstGeom>
          <a:ln w="38160">
            <a:solidFill>
              <a:srgbClr val="eec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mputational mathematics is mainly based on two ideas: Taylor series and linear algebr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-L.N. Trefethen (1998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Finite Difference Discretization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D Solute Transport, Steady Flow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8120" y="1409760"/>
            <a:ext cx="2514600" cy="755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9480" y="2133720"/>
            <a:ext cx="6019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patial discretiz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erm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entered-in-spac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498680" y="2577960"/>
            <a:ext cx="407880" cy="457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419720" y="3298680"/>
            <a:ext cx="914400" cy="435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09480" y="3809880"/>
            <a:ext cx="6553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erm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entered-in-space;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ossible oscilla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pstream-in-spac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isper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490760" y="3797280"/>
            <a:ext cx="338040" cy="457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4419720" y="4508640"/>
            <a:ext cx="838080" cy="39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419720" y="5613480"/>
                <a:ext cx="6094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Finite Difference Discretization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D Solute Transport, Steady Flow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8120" y="1530360"/>
            <a:ext cx="2514600" cy="755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2362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emporal discretiz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r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entered-in-tim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ossible oscil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ackward-in-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isper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523880" y="2819520"/>
            <a:ext cx="373320" cy="533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613400" y="3767040"/>
            <a:ext cx="657000" cy="34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13400" y="4970520"/>
                <a:ext cx="5745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77560"/>
            <a:ext cx="75438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Finite Difference Discretization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90920" y="1130400"/>
            <a:ext cx="3429000" cy="920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14400" y="2362320"/>
            <a:ext cx="6019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ariable grid spac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r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entered-in-spac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424160" indent="-2034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803240" y="2933640"/>
            <a:ext cx="408240" cy="457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14400" y="4191120"/>
            <a:ext cx="6553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r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entered-in-spac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trol error by limiting changes in adjacent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 factor of 1.25 to 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803240" y="4127400"/>
            <a:ext cx="403560" cy="546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952880" y="3733920"/>
            <a:ext cx="1498680" cy="349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4952880" y="5111640"/>
            <a:ext cx="149868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ield-Scale Exampl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lute Slug in 1 Dimens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niform propert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eady flo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ydraulic 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low-path length: 100 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rosity: 0.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persivity: 0.012 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round-water veloc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terstitial velocity: 1.97 m/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arcy velocity: 0.197 m/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persion coefficient: 0.024 m2/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lug duration: 10 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ield-Scale Examples 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centration Profi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alytical and two finite-difference solu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905120" y="2276640"/>
            <a:ext cx="66862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4:35:18Z</dcterms:created>
  <dc:creator>Dave Parkhurst</dc:creator>
  <dc:description/>
  <dc:language>en-US</dc:language>
  <cp:lastModifiedBy>dlpark</cp:lastModifiedBy>
  <dcterms:modified xsi:type="dcterms:W3CDTF">2009-03-05T18:04:52Z</dcterms:modified>
  <cp:revision>72</cp:revision>
  <dc:subject/>
  <dc:title>Using WPHAST to Model the Central Oklahoma Aquifer</dc:title>
</cp:coreProperties>
</file>