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7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0.png" ContentType="image/png"/>
  <Override PartName="/ppt/media/image28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3110D9-B960-457C-AD2B-6DD9D5E6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107.xml"/><Relationship Id="rId4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71.xml"/><Relationship Id="rId4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9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E5A955-C3D0-4D35-8704-0C19B5972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32AD96-861B-4E84-AA88-CDC2D56D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D5EBC3-8A42-4C54-9914-544AD26A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31132B-FE4B-4409-8525-2BCBCA297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1917060-98CE-4AB4-B1C3-2D5D0175F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2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 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rth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309FB5-6C4C-4E52-AC1C-5CDC85E6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2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ibbsite requires the least amount of Anorthite to dissolve to become satu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, anorthite, gibbsite, kaolinit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artz is undersaturated in all calcula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76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0CE01F-C3BC-4472-B2F0-4EC176BC9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D1B9B5-9C78-4AF8-9DEE-DBD4ECCEF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5. TES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mmol C(-4) (methane); 25 mmol C(4) (20 mmol CO2, 5 mmol HCO3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monium bicarbonate wa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 bubb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CA1C37-1739-43F2-844F-76C363C9C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6 Gas 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_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4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0% CH4, 30%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8 liter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5396B0-B9D8-4C45-895F-4E3B11DEE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5146A9-85D1-4361-A218-738180604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2717E8-A6BA-4B45-9EE6-B7C7A0524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6F220B-DE98-43C2-A390-D2D09F9C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A51EB8-DFE7-464F-95AE-51287A7B6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7B88FB-98F8-404A-9B5B-402495FF3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7BE068-3AAC-4325-AA89-C1733847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C37F8E-55E1-453A-B5F2-03516A60F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solu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5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216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0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.373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375e-00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781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692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177e-0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126e-0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485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ifferences are caused entirely by redox equilibration. Initial solution is in redox disequilibrium, the reaction solution is in redox equilibrium. In the reaction solution, N(-3) has been oxidized to N(5) and N(0). O(0) has been reduced in the process of oxidizing N(-3). Oxidation tends to decrease pH. Redox is defined by O(0)/O(-2) and N(5)/N(0) redox couples, both will give the same p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C0C95C-02D3-4BA7-AF3B-26A76A5A8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7AD6B0-C172-4892-A1A3-E5CCAF0CB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F41481-08FF-44DD-8865-B4A8FBBFF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F52E75-8DAB-4814-863A-2F0B1A02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C808B7-961A-4382-9BEB-FDCCEFDDA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C111D9-21B5-4FAA-9C20-9E4FD47D0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D32FFF-416E-4DD6-9A16-3AA3903BC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222C98-F76E-4A7A-AD78-D67C501F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0E1669-7B95-446D-9A27-7A0A0359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05318A-FEAA-4CA9-B728-076B6D5FB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5CCDFC-9CE2-478D-8254-F76003A11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3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A40364-BCF0-4871-93B6-05B32BFF5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Rain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 Rainwater, redox equilibriu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 Solution 2 + equilibrium with CO2 and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 Solution 3 + Reaction + equilibrium with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49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.65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8e+000 -1.749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2(g)           -2.00  -20.15  -18.15 1.000e+001 9.998e+000 -1.774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4 mmol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7 mmol CO2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9e+000 -5.7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58 millimoles of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5F8CA4-D701-435E-BFEA-12ECE6A33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lace the MIX step with the following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plete file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5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C8E57F-BAFF-4FA0-96BF-CFA6FF33D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Tuesday.working\r5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Tuesday.working\r5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 1.092e-005  1.092e-005  Equilibrium with C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3.840e-004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2.360e-004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3.600e-005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4.300e-005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 2.080e-004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 2.370e-004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1.410e-004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 5.109e-004  5.109e-004  Equilibrium with 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1.300e-003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4.5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4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3.66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3.657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1.7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3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33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1266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9.2674      0.548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6.1219      0.9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359e-005  3.162e-005    -4.474    -4.500    -0.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3.383e-010  3.166e-010    -9.471    -9.50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76e-005  1.077e-005    -4.968    -4.968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614e-007  1.514e-007    -6.792    -6.820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902e-013  2.246e-013   -12.537   -12.649    -0.1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3.347e-004  2.588e-004    -3.475    -3.587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451e-012  1.358e-012   -11.838   -11.86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2.360e-004  2.209e-004    -3.627    -3.65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3e-021  7.079e-021   -20.150   -20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3.576e-005  3.347e-005    -4.447    -4.475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666e-015  3.669e-015   -14.436   -14.43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3.664e-005  2.841e-005    -4.436    -4.546    -0.1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483e-012  3.262e-012   -11.458   -11.48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2.055e-004  1.920e-004    -3.687    -3.71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3.458e-009  3.461e-009    -8.461    -8.4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2.370e-004  2.216e-004    -3.625    -3.654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1.403e-004  1.315e-004    -3.853    -3.88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2.745e-014  2.747e-014   -13.562   -13.5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5.109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554e-004  2.556e-004    -3.593    -3.59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238e-003  9.556e-004    -2.907    -3.020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3.137e-006  2.938e-006    -5.503    -5.532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2.25   -6.61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7.90  -16.24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-7.76  -16.24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16.34  -33.4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2.03   -6.6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7.00  -20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9.12   -7.54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10.23   -8.46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0.70   -3.59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mix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tur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.000e+001 Solution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900e+001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                  11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3.50   -4.97   -1.47   1.000e+001  1.000e+001  2.07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1.062e-005  1.065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7.663e-003  7.68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10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2.53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7.496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5.82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6.46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52.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3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52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447e-003  2.922e-003    -2.463    -2.534    -0.07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4.272e-012  3.423e-012   -11.369   -11.466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2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40.824  -140.81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62e-005  1.077e-005    -4.974    -4.9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996e-009  1.637e-009    -8.700    -8.7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5.808e-017  2.628e-017   -16.236   -16.58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7.6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4.326e-003  1.966e-003    -2.364    -2.706    -0.34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373e-013  1.116e-013   -12.862   -12.95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1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10e-003  3.781e-003    -2.327    -2.422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3.216   -43.2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6e-004  5.449e-004    -3.168    -3.264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6.374e-016  6.460e-016   -15.196   -15.19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89e-004  2.096e-004    -3.348    -3.679    -0.33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202e-013  2.602e-013   -12.495   -12.58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48.428   -48.531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5.247   -55.24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299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2.044e-01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2.044e-014  1.626e-014   -13.690   -13.78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6e-003  5.025e-003    -2.200    -2.29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9e-003  2.199e-003    -2.569    -2.6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4.903e-015  4.969e-015   -14.310   -14.30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2.164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1.082e-006  1.097e-006    -5.966    -5.9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6.797  -126.79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31.102  -131.198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41.230  -141.582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909e-002  8.440e-003    -1.719    -2.074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951e-003  2.398e-003    -2.530    -2.620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42   -4.7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-10.95  -19.29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-10.81  -19.29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37.96 -140.8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22.46  -39.5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20   -4.7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40.06  -43.21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5.79 -126.79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6   -5.08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7.01  -55.24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3.07   -5.9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1.61  -86.73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6e+000 -4.45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2.00   -3.47   -1.47   1.000e+001  1.000e+001  1.7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2.744e-003  2.75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10e-002  1.21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9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024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339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4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9.9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273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561e-007  1.241e-007    -6.807    -6.90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9.543e-008  8.057e-008    -7.020    -7.094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2.024  -132.01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2.303e-003  1.878e-003    -2.638    -2.726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3.355e-004  3.405e-004    -3.474    -3.4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473e-006  1.093e-006    -5.607    -5.961    -0.3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1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6.824e-003  3.031e-003    -2.166    -2.518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7.722e-009  6.237e-009    -8.112    -8.2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54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392   -41.38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75e-004  5.400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2.288e-011  2.322e-011   -10.640   -10.63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41e-004  2.030e-004    -3.352    -3.692    -0.3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132e-008  9.141e-009    -7.946    -8.039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246   -50.353    -0.1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509   -52.50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0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367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367e-012  1.079e-012   -11.864   -11.967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86e-003    -2.200    -2.302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81e-003    -2.570    -2.661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761e-010  1.787e-010    -9.754    -9.74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4.834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417e-010  2.453e-010    -9.617    -9.6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344  -128.443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602  -128.59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3.905  -134.268    -0.3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19e-002  8.702e-003    -1.695    -2.060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8.440e-008  6.817e-008    -7.074    -7.16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2   -4.5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6 -132.0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2.00   -3.4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4  -18.1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0   -4.5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24  -41.3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60 -128.60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27  -52.50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72   -9.61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24  -90.36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.000e-003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 2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9e+000 -5.728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4.313e-003  4.3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68e-002  1.27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6.906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249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43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3.55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8.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644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472e-007  1.242e-007    -6.832    -6.906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4e-007  8.052e-008    -6.994    -7.094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1.968  -131.9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3.394e-003  2.765e-003    -2.469    -2.5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7.614e-004  7.728e-004    -3.118    -3.11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372e-006  1.044e-006    -5.625    -5.981    -0.3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6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7.173e-003  3.173e-003    -2.144    -2.498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5.250e-009  4.236e-009    -8.280    -8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49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467   -41.4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0e-004  5.397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1.483e-011  1.505e-011   -10.829   -10.82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63e-004  2.033e-004    -3.350    -3.692    -0.34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7.358e-009  5.937e-009    -8.133    -8.22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170   -50.277    -0.1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622   -52.61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1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150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150e-012  9.065e-013   -11.939   -12.04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79e-003    -2.200    -2.30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79e-003    -2.570    -2.662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141e-010  1.158e-010    -9.943    -9.93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825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412e-010  3.463e-010    -9.467    -9.4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461  -128.561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531  -128.52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4.208  -134.573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02e-002  8.592e-003    -1.699    -2.066    -0.3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1.286e-007  1.038e-007    -6.891    -6.984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0   -4.56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0 -131.96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1.64   -3.11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6  -18.1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2   -4.57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31  -41.4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53 -128.52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39  -52.62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57   -9.4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10  -90.21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73394C-2D82-42A5-BB75-9BC3427D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0DB3C2-EBB5-4DE3-9D83-437337B3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E938C3-70D5-4209-A4AF-5DB3D4DB5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6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050 in 5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 0 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VERSE_MODELING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solutions 2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phase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E01434-B8CF-4819-847A-590B4697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7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e in SO4, increase in Ca and Mg, constant or decrease in HCO3, decrease in pH, SI’s near zero for calcite and dolom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do not get a Mg+2 SO4-2 water composition. Ratio of Ca/Mg is approximately constant and near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get to the final water composition, the net reaction is approximately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CaSO4 + 16CaMg(CO3)2 = 32CaCO3 + 21Ca+2 + 16Mg+2 + 37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has reached equilibrium and does not change. However, it is not quite an invariant poin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A56F7B-8FD9-4BE5-A4AF-3C46FE19E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AD8040-0611-4B7A-8C1B-BBDCA687C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8. 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es, Increase in Ca, Mg, SO4; decrease in pH; not much change in alkalinity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rease in sulfate (number 4 to number 6) and H2S indicate sulfate reduc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and Cl indicate mixing with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E3DC5E-6873-4B32-A5D9-1ED3F2E2A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3F2434-8310-4F0C-A70F-A6418F38F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9. Extra credit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0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82721B-F4E5-4559-B3CA-212C034FE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9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0D323A-0C5B-49E3-A470-202E7C19C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6A75A5-D7D0-4B16-80F4-4E7C686A7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2D2FC9-771A-43BF-9E4A-AB3801600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C54A65-73FB-4D94-81B0-9AAA849F9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42DE95-32D4-44A1-BECA-0A88EADFE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7C9C26-C607-4405-950D-5DCD3FDEE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lysulfides in llnl.dat make S(-2)/S(6) look wron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242605-97C4-4ACD-8474-D6D5F010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1a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r1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O(0) C(4) C(-4) Fe(3) Fe(2) S(6) S(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ium_phas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illimoles in 50 step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D45D3-8CBD-49AB-93DB-E03C079E5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1a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, Fe(OH)3(a), SO4, CH2O (-&gt; CH4 + CO2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 is not important anywher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See plo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4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entually, the reacted carbon is split between CO2 and CH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5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OH)3 dissolves as pe decreases. Fe is no longer being sequestered in mackinawite (FeS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6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7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18" name="Object 4"/>
          <p:cNvGraphicFramePr/>
          <p:nvPr/>
        </p:nvGraphicFramePr>
        <p:xfrm>
          <a:off x="1608120" y="984564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84564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C7B6EB-3149-4038-B67C-6CDF6C087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11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lfate decreases, alkalinity increases, pH increases, ammonium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-2) is significant, Fe is negligible. pH 7.5 not 9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F2AD02D-8987-4634-885F-82B505DBF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4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a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ACABAE-BC8A-46BA-9E5A-6DCEC4442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5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32*137 = 43 mg/L Ba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2 mmol/kgw methane was gene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tion exchange is a possibility. With much larger TDIC, witherite (BaCO3) is a possibility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F7869E-A251-4FB8-B3ED-132F3EF05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533175-DE98-44FA-BCF4-F8ADB95D1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33239B0-8C04-4C3D-9D95-419B9B1C2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A2F612-B0A3-4F17-B9EE-FB1E9CE27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6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2.9447      0.765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/N(5)           11.7378      0.69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(3)/Cr(6)          7.0462      0.41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6.1349      0.36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3348      0.256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(3)/As(5)         -0.1501     -0.0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(4)/U(6)           -1.0821     -0.06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(3)/V(5)           -2.2557     -0.133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0)          -3.2032     -0.18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/S(6)          -3.6279     -0.214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/C(4)          -4.0436     -0.23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) increase in iron concentration should occur first if ferric oxyhydroxides are in the system. Equal Fe(2)/Fe(3) at pe ~ 4, Equal U(4)/U(6) at pe ~ -1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3- in oxic water, NH4+ in methanic water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4EBCB3-26AD-433F-BB8C-302DAAFB3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BBF11B-44F7-4B39-84F2-36AC9D24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96D5DA-5A15-43ED-9620-41BF5817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8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252090-B6D9-4B00-AFB8-B298077C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8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2 + xO2 + yH2O -&gt; Fe+3 + 2SO4-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addition, ferric iron hydrolizes to make additional H+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net acid production to give pH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 + 2.25O2 + H+ -&gt; Fe+3 + SO4-2 + .5H2O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t ferric iron hydroliz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a net acid production that give pH 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S + 2O2 -&gt; Zn+2 + SO4-2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inc hydrolosis is minima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+2 + H2O = FeOH+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 result is pH 7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 HSO4-/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023958-F739-4120-9D0C-C4EC627E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B7F140-A855-4EF7-88B3-481B1689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FeS2 + 75O2 = 19FeOOH + .8Fe(+3) + 27HSO4- + 12SO4-2 + 50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4 and 5.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ypsum is supersaturated, and probably would precipita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CO2 is 1 atmosphere. If O2 reacts to equilibrium with the atmosphere, logically, CO2 would also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59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875-CDAB-4742-B447-6E9136ED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09A-D398-4DE6-9CC7-5016AAE4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636-899D-41CC-82A1-441E8C7BB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F10-886D-42AE-815F-D3DEBB33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CC22-221C-4403-BE4A-D4C14135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990D-B008-4F9E-BF66-EDBF5FB0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046A-693A-4ABD-9131-75434A40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2C6B-7BAC-4D3E-94F0-B75F8D34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7DE1-06B2-40F2-81B6-512948B5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0F76-51A2-4BBA-803D-C93130B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839F-A7F7-4A15-B7FB-4ADCF87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3D3-40CA-4E27-BE84-BA977D8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2303-E182-4FF4-A4BD-4EA7AC23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353F-E204-41C2-B81B-80F88DB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CAE7-1167-48CD-96BC-84AF71C9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258A-59B3-4791-B1DD-EBCC6C02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3E6E-E464-43A2-AFC5-4AEE6AB3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A02-068C-4896-A733-9F924E19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BC5-FA8B-4438-8175-5F5AE80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509-30B5-49A9-AD7F-AB88DC1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0F9-7190-4520-AF9B-7AFCAA9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BF0-27E3-470E-94BC-D1B8BE12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2B7-94E9-4AEC-8AFB-EFF2B1E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19B-E0F4-4DCE-A379-5FAAF7BB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921-FCDB-482B-9CC9-4F87E43EF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82F-3549-46C7-BC00-6DA197680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in PHR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EEQC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eochemical reactions discussion an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F017-CF45-4484-B406-FC2E49B69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URFACE Data Block Definition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name—Hfo is Hydrous Fer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rfac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RFAC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s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000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538-67B3-41F9-A162-C6F81272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 Oklahom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bandoned Pb/Zn Mine</a:t>
            </a:r>
            <a:br>
              <a:rPr sz="4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are 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xidizes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028"/>
          <p:cNvGraphicFramePr/>
          <p:nvPr/>
        </p:nvGraphicFramePr>
        <p:xfrm>
          <a:off x="304920" y="2533680"/>
          <a:ext cx="861048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6104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F89-F090-4DE3-882B-EF1C4CBCD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yrite Oxid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/Marc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hydrite/Goethite, jarosite, al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psum if calcite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sid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 &gt; FeS &gt; 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7DAF-ABD8-427E-B93F-6183FD522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71BF-32DE-46AE-A355-982AC54C2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(aug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ibole (hornblen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d calcite important in silicate ter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8580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en/Goldich reaction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4035960" y="3276720"/>
            <a:ext cx="459720" cy="2514600"/>
            <a:chOff x="4035960" y="3276720"/>
            <a:chExt cx="459720" cy="2514600"/>
          </a:xfrm>
        </p:grpSpPr>
        <p:sp>
          <p:nvSpPr>
            <p:cNvPr id="532" name="Text Box 7"/>
            <p:cNvSpPr/>
            <p:nvPr/>
          </p:nvSpPr>
          <p:spPr>
            <a:xfrm rot="5400000">
              <a:off x="3160800" y="4151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re s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2670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Rectangle 10"/>
          <p:cNvSpPr/>
          <p:nvPr/>
        </p:nvSpPr>
        <p:spPr>
          <a:xfrm>
            <a:off x="5334120" y="327672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7196-36DE-44D2-A4B6-B95C3021A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minerals react to form gibbsite, kaolinite, smectite, zeolites,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dynamic data is 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al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s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easure alu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 are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738F-0886-4829-8A83-79597EB2E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62400" cy="51242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d Reactant to Phase Bound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ed (or removed) until gibbsite equilibrium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s target SI for Gib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s amount of  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71800" y="3962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685800" y="3962520"/>
            <a:ext cx="1828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7D71-6918-41BA-AC11-3214FD60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e phreeqc.d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(Ca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me to equilibrium with gib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kaol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Ca-Montmorillo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Anorthite to equilibrium, allow gibbsite, kaolinite, and Ca-Montmorillonite to precip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7AD9-8F8B-40FF-8ACD-D4D3F852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thermodynamic data, which mineral should precipitate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able phase assemblage in a water/anorthit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quartz need to be included in this calc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38BB-2619-48BE-BD58-E9D3982C0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site requires the least amount of Anorthite to dissolve to become satu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anorthite, gibbsite, kaolinite?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is undersaturated in all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6729-9A37-482E-8C71-9280878AC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erra Nevada Spring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ol/kg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Ca, Alkalinity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increase in Mg, K, Cl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4"/>
          <p:cNvGraphicFramePr/>
          <p:nvPr/>
        </p:nvGraphicFramePr>
        <p:xfrm>
          <a:off x="76320" y="2590920"/>
          <a:ext cx="883908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839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4B06-2D91-425C-92EA-B9776F147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47800"/>
            <a:ext cx="89722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—Nonequilibrium Reactio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n affect any chemical constitu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d 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ate hydro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9A3E-DB72-41D6-961C-B3F8D949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 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8235-F6AE-4190-802A-4C7FFC1C6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 minerals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lectron acceptor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OH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CD42-E11D-4E51-8753-BBC5291D5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_PHAS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1DE-E794-48C3-992A-7C26D5F84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4. TES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il zone, carbonate ground water, log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rate the water with by addition of HCl (use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equilibrium with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n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apes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8FC-FE1E-47EB-8ED7-CCF402AFB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lus hea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UZ water and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e s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586A-B819-4FB9-8995-4299A1159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 = nRT 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[CO2]/P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—Volum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—Pressur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24BC-8BE6-44DA-AA61-C229A67D5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5"/>
          <p:cNvGraphicFramePr/>
          <p:nvPr/>
        </p:nvGraphicFramePr>
        <p:xfrm>
          <a:off x="304920" y="2819520"/>
          <a:ext cx="861048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610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6"/>
          <p:cNvSpPr/>
          <p:nvPr/>
        </p:nvSpPr>
        <p:spPr>
          <a:xfrm>
            <a:off x="762120" y="990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6212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B53-325E-4B39-9184-B75A4B47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ga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les in the gas phase are calculated ideal gas law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552920" cy="54291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1D7C-A5B6-4C08-B4E6-D76DAEE60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ater with 50 mmol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0.1 in freshwater s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reacted carbon distribu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lassify the water in terms of cations and an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should we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33AD-68B8-4527-89F9-3AE3E384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mol C(-4) (methane); 25 mmol C(4) (20 mmol CO2, 5 mmol HCO3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monium bicarbonat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479-CC19-4FD0-A3B9-2E9917DBD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 and RATES Data Block Defini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40960"/>
            <a:ext cx="71629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ac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ression (RA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Kinetics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_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-1 CH2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ate = 0.01*TOT(“Doc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AVE rate*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F38-7B26-4B31-9DAA-2B4D7C535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Gas 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gas phase in the last si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essure is 1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mposition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6B92-DE86-4BE2-87E1-7BB3CAAA2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CH4, 30%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3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9DC-2871-4602-A26C-7A5884127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79246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ID_SOLUTIONS—Composition of one or more solid solu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ce elements and isoto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soli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each soli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OLID_SOLUTION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 soli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[13C]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33E4-7FEC-41CA-B9BC-3C92E3E3C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000" y="847800"/>
            <a:ext cx="869004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S_PHASE—Finite gas phase in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fill a finit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A491-9B98-4DF7-B771-F830FFE4D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79246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S_PHASE—Composition of the gas pha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ixed volume or Fixed press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GAS_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2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4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3A4C-7861-464F-B194-4689A006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Reacta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data blocks defin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—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ion—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minerals and gases—EQUILIBRIUM_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rs—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s—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—KINETIC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solutions—SOLID_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reactants on shelves by type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852-E02A-404F-AD72-2D784DAD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HREEQC—Reaction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88880"/>
            <a:ext cx="32115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nc_u1buw[1]"/>
          <p:cNvPicPr/>
          <p:nvPr/>
        </p:nvPicPr>
        <p:blipFill>
          <a:blip r:embed="rId1"/>
          <a:stretch/>
        </p:blipFill>
        <p:spPr>
          <a:xfrm>
            <a:off x="457200" y="2133720"/>
            <a:ext cx="3211560" cy="34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_qgd_eaj[1]"/>
          <p:cNvPicPr/>
          <p:nvPr/>
        </p:nvPicPr>
        <p:blipFill>
          <a:blip r:embed="rId2"/>
          <a:stretch/>
        </p:blipFill>
        <p:spPr>
          <a:xfrm>
            <a:off x="5410080" y="2362320"/>
            <a:ext cx="3452760" cy="344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"/>
          <p:cNvSpPr/>
          <p:nvPr/>
        </p:nvSpPr>
        <p:spPr>
          <a:xfrm>
            <a:off x="4229280" y="3868560"/>
            <a:ext cx="685800" cy="855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10080" y="1389240"/>
            <a:ext cx="3211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52D5-54CD-4066-BEBD-11B60E241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_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_PH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76720" y="22860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9E7-98A7-4866-85B4-8FF929C30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3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N-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581280" y="2666880"/>
            <a:ext cx="114300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5562720" y="2666880"/>
            <a:ext cx="3808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A5EF-3751-4C3C-B3AB-EC692CF5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46"/>
          <p:cNvGrpSpPr/>
          <p:nvPr/>
        </p:nvGrpSpPr>
        <p:grpSpPr>
          <a:xfrm>
            <a:off x="152280" y="1905120"/>
            <a:ext cx="1067040" cy="1066680"/>
            <a:chOff x="152280" y="1905120"/>
            <a:chExt cx="1067040" cy="1066680"/>
          </a:xfrm>
        </p:grpSpPr>
        <p:sp>
          <p:nvSpPr>
            <p:cNvPr id="97" name="AutoShape 23"/>
            <p:cNvSpPr/>
            <p:nvPr/>
          </p:nvSpPr>
          <p:spPr>
            <a:xfrm>
              <a:off x="152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152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8"/>
          <p:cNvGrpSpPr/>
          <p:nvPr/>
        </p:nvGrpSpPr>
        <p:grpSpPr>
          <a:xfrm>
            <a:off x="3657600" y="1905120"/>
            <a:ext cx="1219320" cy="1066680"/>
            <a:chOff x="3657600" y="1905120"/>
            <a:chExt cx="1219320" cy="1066680"/>
          </a:xfrm>
        </p:grpSpPr>
        <p:sp>
          <p:nvSpPr>
            <p:cNvPr id="100" name="AutoShape 48"/>
            <p:cNvSpPr/>
            <p:nvPr/>
          </p:nvSpPr>
          <p:spPr>
            <a:xfrm>
              <a:off x="373392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3657600" y="21337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4800600" y="1905120"/>
            <a:ext cx="1066680" cy="1066680"/>
            <a:chOff x="4800600" y="1905120"/>
            <a:chExt cx="1066680" cy="1066680"/>
          </a:xfrm>
        </p:grpSpPr>
        <p:sp>
          <p:nvSpPr>
            <p:cNvPr id="103" name="AutoShape 51"/>
            <p:cNvSpPr/>
            <p:nvPr/>
          </p:nvSpPr>
          <p:spPr>
            <a:xfrm>
              <a:off x="480060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2"/>
            <p:cNvSpPr/>
            <p:nvPr/>
          </p:nvSpPr>
          <p:spPr>
            <a:xfrm>
              <a:off x="480060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3"/>
          <p:cNvGrpSpPr/>
          <p:nvPr/>
        </p:nvGrpSpPr>
        <p:grpSpPr>
          <a:xfrm>
            <a:off x="5867280" y="1905120"/>
            <a:ext cx="1067040" cy="1066680"/>
            <a:chOff x="5867280" y="1905120"/>
            <a:chExt cx="1067040" cy="1066680"/>
          </a:xfrm>
        </p:grpSpPr>
        <p:sp>
          <p:nvSpPr>
            <p:cNvPr id="106" name="AutoShape 54"/>
            <p:cNvSpPr/>
            <p:nvPr/>
          </p:nvSpPr>
          <p:spPr>
            <a:xfrm>
              <a:off x="5867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5867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6"/>
          <p:cNvGrpSpPr/>
          <p:nvPr/>
        </p:nvGrpSpPr>
        <p:grpSpPr>
          <a:xfrm>
            <a:off x="6934320" y="1905120"/>
            <a:ext cx="1066680" cy="1066680"/>
            <a:chOff x="6934320" y="1905120"/>
            <a:chExt cx="1066680" cy="1066680"/>
          </a:xfrm>
        </p:grpSpPr>
        <p:sp>
          <p:nvSpPr>
            <p:cNvPr id="109" name="AutoShape 57"/>
            <p:cNvSpPr/>
            <p:nvPr/>
          </p:nvSpPr>
          <p:spPr>
            <a:xfrm>
              <a:off x="6934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8"/>
            <p:cNvSpPr/>
            <p:nvPr/>
          </p:nvSpPr>
          <p:spPr>
            <a:xfrm>
              <a:off x="6934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9"/>
          <p:cNvGrpSpPr/>
          <p:nvPr/>
        </p:nvGrpSpPr>
        <p:grpSpPr>
          <a:xfrm>
            <a:off x="1219320" y="1905120"/>
            <a:ext cx="1066680" cy="1066680"/>
            <a:chOff x="1219320" y="1905120"/>
            <a:chExt cx="1066680" cy="1066680"/>
          </a:xfrm>
        </p:grpSpPr>
        <p:sp>
          <p:nvSpPr>
            <p:cNvPr id="112" name="AutoShape 60"/>
            <p:cNvSpPr/>
            <p:nvPr/>
          </p:nvSpPr>
          <p:spPr>
            <a:xfrm>
              <a:off x="1219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1"/>
            <p:cNvSpPr/>
            <p:nvPr/>
          </p:nvSpPr>
          <p:spPr>
            <a:xfrm>
              <a:off x="1219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5"/>
          <p:cNvGrpSpPr/>
          <p:nvPr/>
        </p:nvGrpSpPr>
        <p:grpSpPr>
          <a:xfrm>
            <a:off x="2666880" y="1905120"/>
            <a:ext cx="1067040" cy="1066680"/>
            <a:chOff x="2666880" y="1905120"/>
            <a:chExt cx="1067040" cy="1066680"/>
          </a:xfrm>
        </p:grpSpPr>
        <p:sp>
          <p:nvSpPr>
            <p:cNvPr id="115" name="AutoShape 66"/>
            <p:cNvSpPr/>
            <p:nvPr/>
          </p:nvSpPr>
          <p:spPr>
            <a:xfrm>
              <a:off x="26668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7"/>
            <p:cNvSpPr/>
            <p:nvPr/>
          </p:nvSpPr>
          <p:spPr>
            <a:xfrm>
              <a:off x="26668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70"/>
          <p:cNvSpPr/>
          <p:nvPr/>
        </p:nvSpPr>
        <p:spPr>
          <a:xfrm>
            <a:off x="457200" y="3200400"/>
            <a:ext cx="8305920" cy="157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ATIO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3"/>
          <p:cNvSpPr/>
          <p:nvPr/>
        </p:nvSpPr>
        <p:spPr>
          <a:xfrm>
            <a:off x="4419720" y="4800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6"/>
          <p:cNvGrpSpPr/>
          <p:nvPr/>
        </p:nvGrpSpPr>
        <p:grpSpPr>
          <a:xfrm>
            <a:off x="762120" y="5486400"/>
            <a:ext cx="1295280" cy="762120"/>
            <a:chOff x="762120" y="5486400"/>
            <a:chExt cx="1295280" cy="762120"/>
          </a:xfrm>
        </p:grpSpPr>
        <p:sp>
          <p:nvSpPr>
            <p:cNvPr id="121" name="Rectangle 78"/>
            <p:cNvSpPr/>
            <p:nvPr/>
          </p:nvSpPr>
          <p:spPr>
            <a:xfrm>
              <a:off x="7621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4"/>
            <p:cNvSpPr/>
            <p:nvPr/>
          </p:nvSpPr>
          <p:spPr>
            <a:xfrm>
              <a:off x="91440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5"/>
          <p:cNvGrpSpPr/>
          <p:nvPr/>
        </p:nvGrpSpPr>
        <p:grpSpPr>
          <a:xfrm>
            <a:off x="2343240" y="5486400"/>
            <a:ext cx="1295280" cy="762120"/>
            <a:chOff x="2343240" y="5486400"/>
            <a:chExt cx="1295280" cy="762120"/>
          </a:xfrm>
        </p:grpSpPr>
        <p:sp>
          <p:nvSpPr>
            <p:cNvPr id="124" name="Rectangle 80"/>
            <p:cNvSpPr/>
            <p:nvPr/>
          </p:nvSpPr>
          <p:spPr>
            <a:xfrm>
              <a:off x="234324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5"/>
            <p:cNvSpPr/>
            <p:nvPr/>
          </p:nvSpPr>
          <p:spPr>
            <a:xfrm>
              <a:off x="2343240" y="5627880"/>
              <a:ext cx="1295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4"/>
          <p:cNvGrpSpPr/>
          <p:nvPr/>
        </p:nvGrpSpPr>
        <p:grpSpPr>
          <a:xfrm>
            <a:off x="3924360" y="5486400"/>
            <a:ext cx="1371600" cy="762120"/>
            <a:chOff x="3924360" y="5486400"/>
            <a:chExt cx="1371600" cy="762120"/>
          </a:xfrm>
        </p:grpSpPr>
        <p:sp>
          <p:nvSpPr>
            <p:cNvPr id="127" name="Rectangle 81"/>
            <p:cNvSpPr/>
            <p:nvPr/>
          </p:nvSpPr>
          <p:spPr>
            <a:xfrm>
              <a:off x="392436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6"/>
            <p:cNvSpPr/>
            <p:nvPr/>
          </p:nvSpPr>
          <p:spPr>
            <a:xfrm>
              <a:off x="4000320" y="5715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5581800" y="5486400"/>
            <a:ext cx="1295280" cy="762120"/>
            <a:chOff x="5581800" y="5486400"/>
            <a:chExt cx="1295280" cy="762120"/>
          </a:xfrm>
        </p:grpSpPr>
        <p:sp>
          <p:nvSpPr>
            <p:cNvPr id="130" name="Rectangle 82"/>
            <p:cNvSpPr/>
            <p:nvPr/>
          </p:nvSpPr>
          <p:spPr>
            <a:xfrm>
              <a:off x="558180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7"/>
            <p:cNvSpPr/>
            <p:nvPr/>
          </p:nvSpPr>
          <p:spPr>
            <a:xfrm>
              <a:off x="573408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4"/>
          <p:cNvGrpSpPr/>
          <p:nvPr/>
        </p:nvGrpSpPr>
        <p:grpSpPr>
          <a:xfrm>
            <a:off x="7924680" y="1905120"/>
            <a:ext cx="1219320" cy="1066680"/>
            <a:chOff x="7924680" y="1905120"/>
            <a:chExt cx="1219320" cy="1066680"/>
          </a:xfrm>
        </p:grpSpPr>
        <p:sp>
          <p:nvSpPr>
            <p:cNvPr id="133" name="AutoShape 88"/>
            <p:cNvSpPr/>
            <p:nvPr/>
          </p:nvSpPr>
          <p:spPr>
            <a:xfrm>
              <a:off x="800100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9"/>
            <p:cNvSpPr/>
            <p:nvPr/>
          </p:nvSpPr>
          <p:spPr>
            <a:xfrm>
              <a:off x="7924680" y="21337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3"/>
          <p:cNvGrpSpPr/>
          <p:nvPr/>
        </p:nvGrpSpPr>
        <p:grpSpPr>
          <a:xfrm>
            <a:off x="7162920" y="5486400"/>
            <a:ext cx="1371600" cy="762120"/>
            <a:chOff x="7162920" y="5486400"/>
            <a:chExt cx="1371600" cy="762120"/>
          </a:xfrm>
        </p:grpSpPr>
        <p:sp>
          <p:nvSpPr>
            <p:cNvPr id="136" name="Rectangle 91"/>
            <p:cNvSpPr/>
            <p:nvPr/>
          </p:nvSpPr>
          <p:spPr>
            <a:xfrm>
              <a:off x="71629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7162920" y="57150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Slide Number Placeholder 4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EAC7-F8A1-41EA-A90B-03E0DA6A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—SOLUTION or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rreversible reac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rsibl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_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new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ompositions if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1D8F-BE52-426D-BBD0-FDD8D1016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Geochemical Reac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C660-23BA-4019-8F7A-B022EC3BD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PHREEQC Data Block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_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D5E-55DD-4EB4-93B0-111F38419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F88F-E0EA-4A0C-9F1F-78F0E2C2B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29080" cy="441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X: One or more 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09720" y="228564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solution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mixing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895480" y="2971800"/>
            <a:ext cx="1752840" cy="10666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834-0E40-469D-8752-C3556516F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1. Exercis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Implicit Redox Reactions</a:t>
            </a:r>
            <a:br>
              <a:rPr sz="36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ainwater as SOLUTION 1 with log partial press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0.7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IX by using solution 1 and mixing fracti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14480" y="1752480"/>
          <a:ext cx="8877240" cy="5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52480"/>
                    <a:ext cx="8877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592-42A1-4E52-8442-ACB6EEA5F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differences between the initial solution composition and the reaction (“mixed”) solution composition, particularly pH, pe, N(5), N(0), and     N(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02D-2DE5-4520-AE37-EEEE5AC2A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3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75e-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81e-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92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77e-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26e-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85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s are caused entirely by redox equilibration. Initial solution is in redox disequilibrium, the reaction solution is in redox equilibrium. In the reaction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 has been oxidized to N(5) and N(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 has been reduced in the process of oxidizing N(-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idation tends to decrease 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ox is defined by O(0)/O(-2) and N(5)/N(0) redox couples, both will give the same 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3B8E-4072-4349-A33E-F24F2A781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dox disequilib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(5), N(-3), O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queous redox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efine “elements” for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(5), N(3), N(0), N(-3), Ngas, 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70D6-B302-4FBB-8905-E5054C844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3C5A-7001-4418-B69C-44E78659A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—Chemical Composition of a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2000"/>
            <a:ext cx="82296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lements Ca, Mg, Na, K, Alkalinity, Cl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8DA9-AC7B-4FC6-A3F6-DF9B701E6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AVE and U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results of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defined SOLUTIONs, EQUILIBRIUM_PHASES, REACTIONs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SAVEd SOLUTIONS, EQUILBRIUM_PHA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57800" y="2286000"/>
            <a:ext cx="457200" cy="380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105520" y="2666880"/>
            <a:ext cx="380880" cy="3049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0135-B962-41FC-BCD9-DBE1B2CC6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42577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VE results from a “Reaction Calculation”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LUTION defines an “initial solution” calculation, which is automatically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971800" y="2514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400800" y="1981080"/>
            <a:ext cx="2362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are used to keep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do not need to be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661-F30A-48BF-8327-50AC6DAB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: Previously defined or SAV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cludes KINETICS, MIX, REACTION, and 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previously SAVEd EQUILIBRIUM_PHASES, EXCHANGE, SOLID_SOLUTION, SOLUTION, SURFACE, or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880" y="1952640"/>
            <a:ext cx="3981600" cy="399096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3581280" y="3657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C750-2275-487B-80BA-48985CCA7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52801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0D4-7520-4BD2-8050-6136FB0F6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51360" cy="494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ants and stoichiome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6920" y="24382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hase or typ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ve stoichi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harg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431640" y="185436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895480" y="3048120"/>
            <a:ext cx="2133720" cy="7617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4B4-15A0-414A-9E31-408A0469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00760" cy="5095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Reaction amou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number of equal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specifi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533520" y="3048120"/>
            <a:ext cx="990360" cy="12952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295280" y="1676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1828800" y="3429000"/>
            <a:ext cx="2819520" cy="7621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11BA-C961-45E0-BEA1-50D7B1CD1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f minerals/gases that react to equilibrium or zer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/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atu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162400" cy="5124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066-4057-4D9F-BFC4-07C4CA995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4388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24D2-2A1C-43D0-8932-7852DF43E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42920" y="1523880"/>
            <a:ext cx="4124160" cy="4953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”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state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—defines a “Sim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OLUTION results in an initial solution calculation (unique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 calculation—SOLUTION + one of each reactant type befor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can be keywor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be defined by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pecia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ac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nspor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1981080" y="337824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609480" y="327672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609480" y="380988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09480" y="43434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09480" y="50292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981080" y="392436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81080" y="472428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81080" y="579132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3E35-8C9F-4288-99A7-E0051B8A1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ation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igmatic EN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52680" y="15238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ction calculation—No Reactan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3029040" cy="49910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B35-C0EE-42E7-959E-854798445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Irreversible) REACTION—Add/Remove elements to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2236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lution 1 m NaCl and 2 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D07-B28F-4426-B4E0-384C4B0B2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quenti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unsaturated zone water. Build on previous exercise with rainwater. Add SAVE solution 2 after MIX step and befor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END, add USE solution 2 and equilibrate (EQUILIBRIUM_PHASES)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g partial pressure –2, and calcite (SI = 0), save solution as solution 3.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ution 3, add 1 mmol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CTION), equilibrate with calcite (EQUILIBRIUM_PHASES), save as solution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D6BB-1F9F-4B0F-9A9E-FDAF47722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3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inwater, rainwater, in redox equilibrium (the mixture), the mixture equilibrated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lcite, and after reaction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ed to make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reacted to make solution 4 from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E74F-D5D1-46A0-B1CB-DE1C45A8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R3.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Rain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Rainwater, redox equilib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 Solution 2 + equilibrium with CO2 and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 Solution 3 + Reaction + equilibrium with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4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 -8.48     -8.48  1.000e+001 9.998e+000 -1.749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           -2.00  -20.15  -18.15 1.000e+001 9.998e+000 -1.774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4 mmol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7 mmol CO2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-8.48   -8.48 1.000e+001 9.999e+000 -5.767e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8 millimoles of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91B7-567F-417D-A924-A914CC5B4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. 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X and REACTION to evaporate rainwater 20 fold (at constant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fore reaction with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cite. Hint: You  must remove water and water has 55.5 mol per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898-2D21-4108-8E14-1D2F25F9E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5. Answer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2(g) -0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D28-F74B-4758-9C86-C2F3ED363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 in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-solu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calculation includes an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66680" y="2743200"/>
            <a:ext cx="365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267080" y="2743200"/>
            <a:ext cx="43434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SOLID_SOLUTION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6272-49D2-4297-91E8-B9D6F5331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6B07-9479-4523-89B8-0DF00F39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dolomit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5BB9-0DAB-4EF2-88A9-24AE9F69D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50 mmol of anhydrite (CaSO4) in increments of 10 mmol. Maintain equilibrium with calcite and dolomite, allow anhydrite to precipitate if it becomes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these data blocks: SOLUTION, EQUILIBRIUM_PHASES, REACTION, USE, SAVE in two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C6EA-A31D-4CD6-8411-D2AE63124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rends do you expect in water composition with anhydrite-driven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ollowing reaction mis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4 + CaMg(CO3)2 = 2CaCO3 + Mg+2 + SO4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ow does the water composition change from step 4 to step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173C-403D-4FF7-9EAA-C7C74FF57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44160"/>
            <a:ext cx="822636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—Assemblage of Minerals and Gases that react to equilibrium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7940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[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8E33-9C4C-4E7D-96F4-524901DE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995400" y="1981080"/>
          <a:ext cx="715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981080"/>
                    <a:ext cx="715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5A8A-338D-48FC-9451-6387A12E6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6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swers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SO4, increase in Ca and Mg, constant or decrease in HCO3, decrease in pH, SI’s near zero for calcite and dolo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get a Mg+2 SO4-2 water composition. Ratio of Mg/Ca is approximately constant at .3 to 1 (depending on K for dolom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o the final water composition, the net reaction is approx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CaSO4 + 16CaMg(CO3)2 = 32CaCO3 + 21Ca+2 + 16Mg+2 + 37SO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has reached equilibrium and does not change. However, it is not quite an invarian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CBC-CF07-4EC4-9F65-F5AEDD56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48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7543800" y="4419720"/>
            <a:ext cx="9144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5867280" y="3429000"/>
            <a:ext cx="10670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4419720" y="1941480"/>
            <a:ext cx="7617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049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04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3049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3733920" y="1650960"/>
            <a:ext cx="7873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049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 Reac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638680" y="3962520"/>
            <a:ext cx="12956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124080" y="4800600"/>
            <a:ext cx="43434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304920" y="3429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 file name (default selected.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6"/>
          <p:cNvSpPr/>
          <p:nvPr/>
        </p:nvSpPr>
        <p:spPr>
          <a:xfrm>
            <a:off x="2819520" y="2057400"/>
            <a:ext cx="45720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4B5-2B1D-4EE0-A853-BF879604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: Total Molal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587840" cy="4972320"/>
          </a:xfrm>
          <a:prstGeom prst="rect">
            <a:avLst/>
          </a:prstGeom>
          <a:ln w="0">
            <a:noFill/>
          </a:ln>
        </p:spPr>
      </p:pic>
      <p:sp>
        <p:nvSpPr>
          <p:cNvPr id="351" name="Oval 5"/>
          <p:cNvSpPr/>
          <p:nvPr/>
        </p:nvSpPr>
        <p:spPr>
          <a:xfrm>
            <a:off x="2666880" y="1905120"/>
            <a:ext cx="78768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468-C16A-4D42-86BF-E3654170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2936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D01E-D1D9-4BA7-8F86-58A78FFF4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 Fi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th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/plo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W has built-in plott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303880" cy="6400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0A62-ECBE-4EE6-807E-B3F15CA58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8. Question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lummer and Sprinkle, 2001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re mg/L, S(-2) as H2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re these the trends of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52280" y="2362320"/>
          <a:ext cx="8809200" cy="65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8092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CC45-3A19-4AE9-B739-5263990F4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ncrease in Ca, Mg, SO4; decrease in pH; not much change in alk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sulfate (number 4 to number 6) and H2S indicate sulfate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nd Cl indicate mixing with sea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6E5-D4FD-4095-969E-1353EC9D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304920" y="1731960"/>
            <a:ext cx="4876560" cy="4840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ssolve Onl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38680" y="297180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ineral not to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809880" y="426708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01AE-D963-497C-89EF-9C28E433B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ate seawater (major ions only) with calcite and dolom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ground water with seawater in fractions of .25, 0.5, .75. Maintain equilibrium with calc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E171-95DA-4CC2-A307-009BAF111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9144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QUILIBRIUM_PHASES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om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19E-016A-40AA-93CF-06954653F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 is calculated for seawater equilibration with calcite and dolom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s are calculated for a carbonate reactions for the ground-water/seawater mix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550-9C47-4FEA-83C9-C86B828EF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9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2C03-7D2F-42DC-9679-4E50FE8E3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arbon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ate grou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 to -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, or calcite and dolo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y in the 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ater mixing can dissolve cal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69EA-E20C-491B-92F3-D9557BBF7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F511-1247-433C-9A4C-C20BDEF9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removal of electron acceptors, usually in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8766-0793-4364-9821-E8DB937B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c—Dissolve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oxic—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4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8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idic—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2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ic—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BFB-C486-4480-8BB5-AD061A301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838080" y="1219320"/>
          <a:ext cx="723924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23924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4C99-3119-4E46-A0D2-102CD6349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1AD5-F622-4038-9C94-D6B6E626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REA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281916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RO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4-2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3- 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     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884600" y="152388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H2O + SO4-2  = 2HCO3- + H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029200" y="2209680"/>
            <a:ext cx="281952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ha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 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9D71-D893-4A67-AA6F-CF1CE8B3E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in PHREEQ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 balance of C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nd O mole balances increase too, but equivalent to adding 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electron acceptors, C ends up as CO3-2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acceptor effectively gives up O and assumes the more reduc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oice of electron acceptor is thermo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182-1EA8-4068-A29D-8B0E5590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3620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HANGE—Cation Exchange Composi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able cations in interlayers of c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X = C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505320" y="4724280"/>
                <a:ext cx="38098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aX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3A62-08B3-4667-99A5-E5B51CCCD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eawater by 50 percent, equilibrate with atmospheric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diluted seawater with 50 mmol of CH2O in 50 steps of 1 mmol. Equilibrate with .1 moles of Fe(OH)3(a) and 0.0 mol of mackinaw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moles of reaction (-rxn) and total concentrations of O(0), C(4), C(-4), Fe(2), Fe(3), S(6), S(-2) (-totals) and mackinawite (-equi) to the selected-output file (SELECTED_OUTP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61A-44BC-48DF-88F5-FE07ECCBB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quence of electron acceptors is us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Fe(3)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plot the concentrations in the selected-output file (rxn is the x variable, set first line rxn from –99 to 0, omit d_mackinaw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C(4) not a straight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Fe(2) increase after 30 mmol of CH2O is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as bubble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ends are observed for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CA7C-9D17-45C0-8939-2F641FBE1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7" name="Object 15"/>
          <p:cNvGraphicFramePr/>
          <p:nvPr/>
        </p:nvGraphicFramePr>
        <p:xfrm>
          <a:off x="838080" y="1676520"/>
          <a:ext cx="7620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5C80-0359-4209-8B1B-4DCD1F0BC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2, Fe(OH)3(a), SO4, CH2O (-&gt; CH4 + CO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3) is not important anyw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reacted carbon is split between CO2 and CH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OH)3 dissolves as pe decreases. Fe is no longer being sequestered in mackinawite (F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39C-7D74-4C89-8C81-3C47DC959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Question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tomac Estuary Sedi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se analyses similar to the sulfate reduction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analyses differ from the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304920" y="2590920"/>
          <a:ext cx="8488080" cy="54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48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4"/>
          <p:cNvSpPr/>
          <p:nvPr/>
        </p:nvSpPr>
        <p:spPr>
          <a:xfrm>
            <a:off x="3276720" y="2057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mmol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34C-6B23-439A-93FB-5C3360BB5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decreases, alkalinity increases, pH increases, ammonium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-2) is significant, Fe is negligible. pH 7.5 no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220B-C0AB-4595-A29E-154D0725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happen if organic matter oxidizes in the presence of ba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action simulation  assuming 1 mmol of organic carbon re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D74-647E-4157-AB43-96BFBF5D9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arium concentration in mg/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reactions other than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reactions could affect bari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A123-8663-4285-86DC-D2BB60FC4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2*137 = 43 mg/L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mol/kgw methane was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is a possibility. With much larger TDIC, witherite (BaCO3) is a po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E073-C402-4883-8C12-1594FA9B4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ate Redu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rman Landfi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oncentration appears insignificant unless barium is lost to cation exchange or mineral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533520" y="2209680"/>
          <a:ext cx="7529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52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C7F7-EBB0-48AF-97CC-BF3B491CF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CHANGE Data Block Defin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xchang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EXCHANG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X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 (X is defined in 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5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74AA-1A49-44B5-83EB-D06002EF2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e Cod Sewage Plu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1029"/>
          <p:cNvGraphicFramePr/>
          <p:nvPr/>
        </p:nvGraphicFramePr>
        <p:xfrm>
          <a:off x="228600" y="762120"/>
          <a:ext cx="8717040" cy="7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17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31"/>
          <p:cNvGraphicFramePr/>
          <p:nvPr/>
        </p:nvGraphicFramePr>
        <p:xfrm>
          <a:off x="304920" y="4114800"/>
          <a:ext cx="8610480" cy="85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1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14800"/>
                    <a:ext cx="8610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032"/>
          <p:cNvSpPr/>
          <p:nvPr/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33"/>
          <p:cNvSpPr/>
          <p:nvPr/>
        </p:nvSpPr>
        <p:spPr>
          <a:xfrm>
            <a:off x="7621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03A-2AFD-4103-8CAD-C3469A189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tral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6" name="Rectangle 551"/>
          <p:cNvSpPr/>
          <p:nvPr/>
        </p:nvSpPr>
        <p:spPr>
          <a:xfrm>
            <a:off x="-34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2057400"/>
          <a:ext cx="7885080" cy="1951200"/>
        </p:xfrm>
        <a:graphic>
          <a:graphicData uri="http://schemas.openxmlformats.org/drawingml/2006/table">
            <a:tbl>
              <a:tblPr/>
              <a:tblGrid>
                <a:gridCol w="1057320"/>
                <a:gridCol w="471600"/>
                <a:gridCol w="5284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nits 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kali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C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 of Jones 13N-01W-34 C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698"/>
          <p:cNvSpPr/>
          <p:nvPr/>
        </p:nvSpPr>
        <p:spPr>
          <a:xfrm>
            <a:off x="-3492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56"/>
          <p:cNvSpPr/>
          <p:nvPr/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ganic matter or reduce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8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B832-12D0-4639-B1DB-63058A851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DO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ag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—Iron oxy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eawater, atmosphere, 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—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 can be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7BA-28DF-4A8E-B829-4EC9A8B8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038C-47F6-487E-9044-C52EC01F4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make the redox table of the previous sl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is soluble as reduced ferrous iron, uranium is soluble as oxidized U(6). As organic carbon reacts, which would you observe first: (a) increase in iron, (b) decrease in uran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dynamically, which nitrogen species do you expect to see in an oxygenated ground water? In a methanic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6AA-2396-491C-BBAC-9192ACCF1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qual amounts (1 umol/kgw) of each redox state Se(6), Se(4); As(5), As(3); etc. in SOLUTION with pH 7. Look at pe table tha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ncrease in iron concentration should occur first if ferric oxyhydroxides are in the system. Equal Fe(2)/Fe(3) at pe ~ 4, Equal U(4)/U(6) at pe ~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- in oxic water, NH4+ in methanic water. However, NO3- generally is reduced to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itrification), not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itrify t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E8D1-F98A-41E9-8492-9BAF31A9B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9A65-EEF2-4D14-A0FE-EDB649BD3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stkev_minedump2"/>
          <p:cNvPicPr/>
          <p:nvPr/>
        </p:nvPicPr>
        <p:blipFill>
          <a:blip r:embed="rId1"/>
          <a:stretch/>
        </p:blipFill>
        <p:spPr>
          <a:xfrm>
            <a:off x="752400" y="933480"/>
            <a:ext cx="7639200" cy="499104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890-933A-431E-9EC5-03EF2C4F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id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/Marcasite are most important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Pyrite, Oxygen, Water, a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 and formation of ferric hydroxide complexes and minerals generates acid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EC8A-A751-4AB8-BF33-AF0FEAC4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Mountain, Californi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deposits at the top of a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912B-884C-4BBC-AA07-990A0D95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RFACE—Surface Composit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e elements Zn, Cd, Pb, As, P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tion onto the surfaces of minerals and organic matter, usually hydrous ferric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OH + 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71800" y="4842000"/>
                <a:ext cx="457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foOH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f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99AB-34F5-445A-A555-BE741F2B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,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200 to 500 ft below la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after dewatering c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the suppl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6383-4782-412D-91EE-0672A594B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mplified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4HCO3- = Fe(OH)3 + 2SO4-2 + 4CO2 + 1/2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1/2H2O = Fe+3 + SO4-2 + HSO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81A1-64F3-4E04-BAA7-1585A2299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dition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us ferric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ihyd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t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4F93-8BE1-478C-AB32-62029FFEC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deling Pyrit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irreversible reactant: O2 or F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rich environment of a tailings 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going to react up to 50 mmol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3EA8-4690-4C50-B88A-B51660800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py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mackinaw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sphale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0B1F-45D7-44B6-8142-3E4C34D24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alitative reactions that explain the pH of the 3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 buffer starts to operate at pHs below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input file with wateq4f.dat database. What minerals may precipitate during pyrite oxi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11E5-239D-490B-8BBB-090E8C9A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2 + xO2 + yH2O -&gt; Fe+3 + 2SO4-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 a little ferric iron hydrolizes to make additional H+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H2O = FeOH+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net acid production to give pH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kinaw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 + 2.25O2 + H+ -&gt; Fe+3 + SO4-2 + .5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 majority ferric iron hydro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xH2O = Fe(OH)x+y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net acid production that give pH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ale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S + 2O2 -&gt; Zn+2 + SO4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nc hydrolosis is mi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+2 + H2O = ZnOH+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result is pH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SO4-/SO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EDD5-67BF-4A03-AA8F-3774F77A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20 mmol of pyrite, maintaining equilibrium with atmospheric oxygen and goet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mine drainage is usually treated with limestone. Use the results of part 1 and equilibrate with O2, goethite, and calc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936B-08FF-4393-8483-44E82600F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t reaction for the PHREEQC results for the low-pH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H values with and without calcite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results of the calcite-equilibrated simulation, what additional reactions should be consid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3296-DEB4-4C10-BD7F-8506C1B07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Fe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5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9FeOOH + .8Fe(+3) + 27H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s are 1.4 and 5.8 without and with calcit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psum is supersaturated, and probably would 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atmosphere. I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ts to equilibrium with the atmosphere, logically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6DC6-56AB-4576-879D-77FE7EDF1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18:34Z</dcterms:modified>
  <cp:revision>69</cp:revision>
  <dc:subject/>
  <dc:title>Defining Solutions</dc:title>
</cp:coreProperties>
</file>