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E98F35-BE44-404B-9241-494FEC7D5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52DB0DC-4642-415D-8DD7-33D61E82962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12C-BF47-402B-976B-DCED2B12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DEF-EC23-42DF-A49E-E3818311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D77-9FDF-43F6-BC2B-38788460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888-F0E9-492A-8B2F-27AD01C4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4A6C-2D52-45CC-A694-8847F810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C422-AA56-4556-B936-4775E87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E10-A14D-4E61-8744-395EB5A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1862-4BD8-4BAB-9753-12CDDF93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DE22-C252-4DBA-9408-E547D968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BA8D-32B0-4CD8-9E8E-CA369054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3702-E369-4ED6-8EF8-80529CB9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102-1DDF-461C-B993-EE67ECE5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948-1741-4B3E-A57F-3BEF1452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1B64-F3C2-4639-9AC7-3A5014D3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6D26-C597-4F11-B25B-F032E946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1D5E-53BE-42D0-88D1-DA9B15CC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1A8E-A087-4220-9F37-F6875C89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2CD-0A99-41E8-A8E8-A64F38EF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585-6C61-4034-8B0F-72BBFA22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972-4299-4D5F-AE0A-27A8F612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8C5-5EBA-40D5-845E-12099E80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4C13-24CE-4EC7-A57E-0EAE8CED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0B1-7FAE-4B39-9E59-39B599A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098-B033-41DB-9764-BB3CC4F7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D41A-06FB-4F92-A93B-E8F5DFB8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152280" y="6361200"/>
            <a:ext cx="11430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74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F2DB-C704-4D4E-932B-8FDFBE94A45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PHAST 3D Reactive-Transport Simulator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732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avid Parkhurst, Ken Kipp, and Scott Charl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8275-8072-4336-8682-3C37CC0609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971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—Rectangular bri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dge—Right triangular we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i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169" name="Oval 7"/>
          <p:cNvSpPr/>
          <p:nvPr/>
        </p:nvSpPr>
        <p:spPr>
          <a:xfrm>
            <a:off x="548640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505320" y="435600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p, Bottom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raster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 + attribut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F08F-A886-4BFF-836A-0EEA908BC42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66800" y="38160"/>
            <a:ext cx="2590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imet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67080" y="121932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p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67160" y="28195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otto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0" y="3816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0" y="2819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5638680" y="423216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886200" y="423216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is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61C2-CC3C-4075-8780-BFE0E34373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polation for Top and Bott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Data are treated as scattered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ural neighbor interpolation (NNI) is used if possi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fines a continuous surface except at data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NI is not simply the closest neighb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a weights by nearest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closest neighbor interpolation (CNI) if NNI fai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continuo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outside convex hu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22A6-30F6-44D4-99B4-5B7520E3B25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Coordinat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p—State plane, U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id—Local coordinate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quite fi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, map =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415A-00FD-4C96-888A-BFB5BDD62D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ing Properties to a 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near in X, Y, or Z dir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 File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T File—Boundary conditions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,Y,Z,T,P: property at location and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5656-347B-45A9-86FB-C77D2A9338E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Interpolation from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ies are assigned from the closest of the set of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duces a volume with constant property around each poi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2D10-0FB3-45F9-9965-FF8297A63C8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patially Distributed Properties Are Overlayed in Zone Sequ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green followed by brow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brown followed by gree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4120" y="1838160"/>
            <a:ext cx="2057400" cy="1219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553080" y="2219400"/>
            <a:ext cx="1828800" cy="457200"/>
          </a:xfrm>
          <a:prstGeom prst="rect">
            <a:avLst/>
          </a:prstGeom>
          <a:solidFill>
            <a:srgbClr val="aa845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486400" y="199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934320" y="2257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553080" y="4867200"/>
            <a:ext cx="1905120" cy="45720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334120" y="4486320"/>
            <a:ext cx="2057400" cy="1219320"/>
          </a:xfrm>
          <a:prstGeom prst="rect">
            <a:avLst/>
          </a:prstGeom>
          <a:solidFill>
            <a:srgbClr val="33996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67280" y="4890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391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52E1-816D-4C52-82C6-4E719C3BB5C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280"/>
            <a:ext cx="281952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837720"/>
            <a:ext cx="44197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undary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one flo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715000" cy="3735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0512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8408-0236-4F9B-A3F1-8EE2F09653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Prop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ros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cific sto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itudinal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rizont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ertic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7FCE-372A-4B88-929F-973D638821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d 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head distribution for zon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in X, Y, or 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file with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C1E6-AE1F-4277-BA82-605C019E39C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roduction to PHA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f geochemical re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ast4Window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ive-transport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7345-2FD5-4F56-AA22-E8D316A259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cified Head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grid dependence because a specified head applies to entire cel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CACE-2237-46C6-BF1F-78F45BDA4A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y (Head dependent) BC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over area defined by zone (partial cell fa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exterior f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face—water goes to first active cell or water t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6DC-6FA2-4DDA-8D4F-04283F7531F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ux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area of cell face intersected by the z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5253120" y="228600"/>
            <a:ext cx="3890880" cy="376092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082-A474-4A9D-9D95-6B5B2DBC751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lapping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flux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leaky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ky and flux can coexist on a cell f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ither Leaky nor flux can coexist with specified h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t defined takes precedenc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84D-E085-495D-8A7C-C42DE2B0040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s &amp; Dra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ries of X,Y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d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vation of b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 (Rivers onl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 and time-dependent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define for first and last p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not defined at intermediate points, interpolation by river di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3274-73DE-471E-ACC8-9867097F34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ver  and Drain User Defini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600200" y="1227240"/>
            <a:ext cx="5638680" cy="54417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1F8A-25DE-404E-B7CA-2E71D2E5795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  and Drain Proces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88080" cy="55339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9940-21DF-42A4-882C-E881DBA0999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, Y lo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o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n interv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umping/injection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9574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59EB-BB11-49C4-BAD2-AECD23E95BE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 (PHREEQC)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queous mode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eq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LN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tz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T (Specific ion Interaction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a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74F0-D43D-4154-82B9-E32739D8B2B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ansport and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low and transport data file (.trans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emistry data file (.chem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A287-8D3B-4919-9CEC-15E8404FD3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412A-81EF-4128-833A-5F9C25534DD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ineral Assemblage in .chem.d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EQUILIBRIUM_PHASES 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alcit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.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lomite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.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28600" y="42670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fied by an integer (11)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to a zone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21CB-B4E9-4771-9941-E23924CC18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mistry-Transport Connec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 numbers for reactants in .chem.da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QUILIBRIUM_PHASES—Minerals  and gase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RFACE—Surface complexation si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CHANGE—Ion exchang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ID_SOLUTIONS—Solid 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INETICS—Kinetic reaction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in .trans.dat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MISTRY_IC (all reactan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undary conditions (solutions onl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ecified he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k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v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D347-F2AD-4A4E-907E-E5B767817F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processor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and 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passed using MP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-30 process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 to 500,000? no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rs of CP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842080" y="52959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842080" y="44197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6718320" y="489744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842080" y="133020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718320" y="181944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519440" y="212580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4432320" y="2603520"/>
            <a:ext cx="4572000" cy="1676160"/>
            <a:chOff x="4432320" y="2603520"/>
            <a:chExt cx="4572000" cy="1676160"/>
          </a:xfrm>
        </p:grpSpPr>
        <p:grpSp>
          <p:nvGrpSpPr>
            <p:cNvPr id="267" name="Group 14"/>
            <p:cNvGrpSpPr/>
            <p:nvPr/>
          </p:nvGrpSpPr>
          <p:grpSpPr>
            <a:xfrm>
              <a:off x="4432320" y="2908080"/>
              <a:ext cx="4572000" cy="685800"/>
              <a:chOff x="4432320" y="2908080"/>
              <a:chExt cx="4572000" cy="685800"/>
            </a:xfrm>
          </p:grpSpPr>
          <p:sp>
            <p:nvSpPr>
              <p:cNvPr id="268" name="AutoShape 15"/>
              <p:cNvSpPr/>
              <p:nvPr/>
            </p:nvSpPr>
            <p:spPr>
              <a:xfrm>
                <a:off x="44323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9" name="AutoShape 16"/>
              <p:cNvSpPr/>
              <p:nvPr/>
            </p:nvSpPr>
            <p:spPr>
              <a:xfrm>
                <a:off x="540396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0" name="AutoShape 17"/>
              <p:cNvSpPr/>
              <p:nvPr/>
            </p:nvSpPr>
            <p:spPr>
              <a:xfrm>
                <a:off x="637560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1" name="AutoShape 18"/>
              <p:cNvSpPr/>
              <p:nvPr/>
            </p:nvSpPr>
            <p:spPr>
              <a:xfrm>
                <a:off x="83185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2" name="AutoShape 19"/>
              <p:cNvSpPr/>
              <p:nvPr/>
            </p:nvSpPr>
            <p:spPr>
              <a:xfrm>
                <a:off x="734688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0"/>
            <p:cNvGrpSpPr/>
            <p:nvPr/>
          </p:nvGrpSpPr>
          <p:grpSpPr>
            <a:xfrm>
              <a:off x="4737240" y="2603520"/>
              <a:ext cx="3962160" cy="304560"/>
              <a:chOff x="4737240" y="2603520"/>
              <a:chExt cx="3962160" cy="30456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47372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>
                <a:off x="57276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>
                <a:off x="671832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>
                <a:off x="77090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86994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79" name="Line 26"/>
            <p:cNvSpPr/>
            <p:nvPr/>
          </p:nvSpPr>
          <p:spPr>
            <a:xfrm>
              <a:off x="4813200" y="359388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>
              <a:off x="576576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H="1">
              <a:off x="7023240" y="359388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H="1">
              <a:off x="687024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6718320" y="359388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84" name="Slide Number Placeholder 2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85A1-8E2A-40BB-A2A3-495CA3E960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842080" y="59817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1330200"/>
            <a:ext cx="4343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4519440" y="368784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432320" y="4165560"/>
            <a:ext cx="4572000" cy="1676160"/>
            <a:chOff x="4432320" y="4165560"/>
            <a:chExt cx="4572000" cy="1676160"/>
          </a:xfrm>
        </p:grpSpPr>
        <p:grpSp>
          <p:nvGrpSpPr>
            <p:cNvPr id="293" name="Group 14"/>
            <p:cNvGrpSpPr/>
            <p:nvPr/>
          </p:nvGrpSpPr>
          <p:grpSpPr>
            <a:xfrm>
              <a:off x="4432320" y="4470120"/>
              <a:ext cx="4572000" cy="685800"/>
              <a:chOff x="4432320" y="4470120"/>
              <a:chExt cx="4572000" cy="685800"/>
            </a:xfrm>
          </p:grpSpPr>
          <p:sp>
            <p:nvSpPr>
              <p:cNvPr id="294" name="AutoShape 15"/>
              <p:cNvSpPr/>
              <p:nvPr/>
            </p:nvSpPr>
            <p:spPr>
              <a:xfrm>
                <a:off x="44323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5" name="AutoShape 16"/>
              <p:cNvSpPr/>
              <p:nvPr/>
            </p:nvSpPr>
            <p:spPr>
              <a:xfrm>
                <a:off x="540396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6" name="AutoShape 17"/>
              <p:cNvSpPr/>
              <p:nvPr/>
            </p:nvSpPr>
            <p:spPr>
              <a:xfrm>
                <a:off x="637560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7" name="AutoShape 18"/>
              <p:cNvSpPr/>
              <p:nvPr/>
            </p:nvSpPr>
            <p:spPr>
              <a:xfrm>
                <a:off x="83185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8" name="AutoShape 19"/>
              <p:cNvSpPr/>
              <p:nvPr/>
            </p:nvSpPr>
            <p:spPr>
              <a:xfrm>
                <a:off x="734688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4737240" y="4165560"/>
              <a:ext cx="3962160" cy="304560"/>
              <a:chOff x="4737240" y="4165560"/>
              <a:chExt cx="3962160" cy="304560"/>
            </a:xfrm>
          </p:grpSpPr>
          <p:sp>
            <p:nvSpPr>
              <p:cNvPr id="300" name="Line 21"/>
              <p:cNvSpPr/>
              <p:nvPr/>
            </p:nvSpPr>
            <p:spPr>
              <a:xfrm>
                <a:off x="47372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1" name="Line 22"/>
              <p:cNvSpPr/>
              <p:nvPr/>
            </p:nvSpPr>
            <p:spPr>
              <a:xfrm>
                <a:off x="57276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>
                <a:off x="671832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77090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4" name="Line 25"/>
              <p:cNvSpPr/>
              <p:nvPr/>
            </p:nvSpPr>
            <p:spPr>
              <a:xfrm>
                <a:off x="86994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05" name="Line 26"/>
            <p:cNvSpPr/>
            <p:nvPr/>
          </p:nvSpPr>
          <p:spPr>
            <a:xfrm>
              <a:off x="4813200" y="51559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576576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7023240" y="515592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H="1">
              <a:off x="687024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6718320" y="515592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310" name="Group 47"/>
          <p:cNvGrpSpPr/>
          <p:nvPr/>
        </p:nvGrpSpPr>
        <p:grpSpPr>
          <a:xfrm>
            <a:off x="4457880" y="1828800"/>
            <a:ext cx="4572000" cy="1676520"/>
            <a:chOff x="4457880" y="1828800"/>
            <a:chExt cx="4572000" cy="1676520"/>
          </a:xfrm>
        </p:grpSpPr>
        <p:grpSp>
          <p:nvGrpSpPr>
            <p:cNvPr id="311" name="Group 14"/>
            <p:cNvGrpSpPr/>
            <p:nvPr/>
          </p:nvGrpSpPr>
          <p:grpSpPr>
            <a:xfrm>
              <a:off x="4457880" y="2133360"/>
              <a:ext cx="4572000" cy="685800"/>
              <a:chOff x="4457880" y="2133360"/>
              <a:chExt cx="4572000" cy="685800"/>
            </a:xfrm>
          </p:grpSpPr>
          <p:sp>
            <p:nvSpPr>
              <p:cNvPr id="312" name="AutoShape 15"/>
              <p:cNvSpPr/>
              <p:nvPr/>
            </p:nvSpPr>
            <p:spPr>
              <a:xfrm>
                <a:off x="44578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Na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3" name="AutoShape 16"/>
              <p:cNvSpPr/>
              <p:nvPr/>
            </p:nvSpPr>
            <p:spPr>
              <a:xfrm>
                <a:off x="542952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l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4" name="AutoShape 17"/>
              <p:cNvSpPr/>
              <p:nvPr/>
            </p:nvSpPr>
            <p:spPr>
              <a:xfrm>
                <a:off x="640116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5" name="AutoShape 18"/>
              <p:cNvSpPr/>
              <p:nvPr/>
            </p:nvSpPr>
            <p:spPr>
              <a:xfrm>
                <a:off x="83440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+/-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6" name="AutoShape 19"/>
              <p:cNvSpPr/>
              <p:nvPr/>
            </p:nvSpPr>
            <p:spPr>
              <a:xfrm>
                <a:off x="737244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20"/>
            <p:cNvGrpSpPr/>
            <p:nvPr/>
          </p:nvGrpSpPr>
          <p:grpSpPr>
            <a:xfrm>
              <a:off x="4762440" y="1828800"/>
              <a:ext cx="3962160" cy="304560"/>
              <a:chOff x="4762440" y="1828800"/>
              <a:chExt cx="3962160" cy="304560"/>
            </a:xfrm>
          </p:grpSpPr>
          <p:sp>
            <p:nvSpPr>
              <p:cNvPr id="318" name="Line 21"/>
              <p:cNvSpPr/>
              <p:nvPr/>
            </p:nvSpPr>
            <p:spPr>
              <a:xfrm>
                <a:off x="47624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9" name="Line 22"/>
              <p:cNvSpPr/>
              <p:nvPr/>
            </p:nvSpPr>
            <p:spPr>
              <a:xfrm>
                <a:off x="57528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0" name="Line 23"/>
              <p:cNvSpPr/>
              <p:nvPr/>
            </p:nvSpPr>
            <p:spPr>
              <a:xfrm>
                <a:off x="674352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1" name="Line 24"/>
              <p:cNvSpPr/>
              <p:nvPr/>
            </p:nvSpPr>
            <p:spPr>
              <a:xfrm>
                <a:off x="77342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2" name="Line 25"/>
              <p:cNvSpPr/>
              <p:nvPr/>
            </p:nvSpPr>
            <p:spPr>
              <a:xfrm>
                <a:off x="87246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23" name="Line 26"/>
            <p:cNvSpPr/>
            <p:nvPr/>
          </p:nvSpPr>
          <p:spPr>
            <a:xfrm>
              <a:off x="4838760" y="28195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4" name="Line 27"/>
            <p:cNvSpPr/>
            <p:nvPr/>
          </p:nvSpPr>
          <p:spPr>
            <a:xfrm>
              <a:off x="579132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5" name="Line 28"/>
            <p:cNvSpPr/>
            <p:nvPr/>
          </p:nvSpPr>
          <p:spPr>
            <a:xfrm flipH="1">
              <a:off x="7048440" y="2819520"/>
              <a:ext cx="167652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6" name="Line 29"/>
            <p:cNvSpPr/>
            <p:nvPr/>
          </p:nvSpPr>
          <p:spPr>
            <a:xfrm flipH="1">
              <a:off x="689616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7" name="Line 30"/>
            <p:cNvSpPr/>
            <p:nvPr/>
          </p:nvSpPr>
          <p:spPr>
            <a:xfrm>
              <a:off x="6743880" y="28195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28" name="Slide Number Placeholder 4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519-A562-41EB-8934-199E433136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8760" y="485280"/>
            <a:ext cx="4326120" cy="10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133720"/>
            <a:ext cx="43257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mostly in confined part of aquif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associated with high p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w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Picture 4" descr="as"/>
          <p:cNvPicPr/>
          <p:nvPr/>
        </p:nvPicPr>
        <p:blipFill>
          <a:blip r:embed="rId1"/>
          <a:stretch/>
        </p:blipFill>
        <p:spPr>
          <a:xfrm>
            <a:off x="4670280" y="136440"/>
            <a:ext cx="437040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FF17-EC93-479A-AE95-8BEA67B337C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e initially fills the aqui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cite and dolomite equilibriu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tion exchang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C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Ca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M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Mg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fo-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O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HfoOH + 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sorption at pH &gt; 8.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A64F-76C5-468B-B088-32E8E22DCC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rsenic Concentrations over Geologic Tim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9" name="ok.as.avi" descr=""/>
          <p:cNvPicPr/>
          <p:nvPr/>
        </p:nvPicPr>
        <p:blipFill>
          <a:blip r:embed="rId1"/>
          <a:stretch/>
        </p:blipFill>
        <p:spPr>
          <a:xfrm>
            <a:off x="457200" y="1233360"/>
            <a:ext cx="8039160" cy="5453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E93E-C046-40BE-BA3F-F27CE5EB81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1276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280" y="942480"/>
            <a:ext cx="9010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is a 3D reactive-transport mod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eld-scale problems with limi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requiremen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eld—Aquifer tests, tracer tests, logging, chemical samp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boratory—column experiments, extractions, mineralo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eling resul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derstanding natural 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igning enginee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dicting long-term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3A95-F77B-42C9-8263-C5F410FDE9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Reactive-Transport Mode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ree simultaneous process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ranspor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emical re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828A-589A-4C89-AA3A-EFAC37B6EE0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633240"/>
            <a:ext cx="395280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ST3D—Flow and trans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REEQC—Chemi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erator splitting—Sequential Non-Iterative Approa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T3D is a 3D reactive transport model built on MODFLOW, MT3DMS, and PHREEQ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915240" y="457200"/>
            <a:ext cx="1752480" cy="2577960"/>
            <a:chOff x="6915240" y="457200"/>
            <a:chExt cx="1752480" cy="2577960"/>
          </a:xfrm>
        </p:grpSpPr>
        <p:sp>
          <p:nvSpPr>
            <p:cNvPr id="139" name="Text Box 5"/>
            <p:cNvSpPr/>
            <p:nvPr/>
          </p:nvSpPr>
          <p:spPr>
            <a:xfrm>
              <a:off x="6915240" y="2514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6915240" y="148608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6915240" y="4572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7791480" y="1058760"/>
              <a:ext cx="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7791480" y="2087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915240" y="3733920"/>
            <a:ext cx="1752480" cy="2730240"/>
            <a:chOff x="6915240" y="3733920"/>
            <a:chExt cx="1752480" cy="2730240"/>
          </a:xfrm>
        </p:grpSpPr>
        <p:sp>
          <p:nvSpPr>
            <p:cNvPr id="145" name="Text Box 11"/>
            <p:cNvSpPr/>
            <p:nvPr/>
          </p:nvSpPr>
          <p:spPr>
            <a:xfrm>
              <a:off x="6915240" y="5943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915240" y="483876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6915240" y="373392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7791480" y="4373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7791480" y="547848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0" name="AutoShape 16"/>
          <p:cNvSpPr/>
          <p:nvPr/>
        </p:nvSpPr>
        <p:spPr>
          <a:xfrm>
            <a:off x="7448400" y="31734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Slide Number Placeholder 1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26F-1E87-472B-8B20-4DB72B83F3A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03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ow and Transpo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9560"/>
            <a:ext cx="8458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den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ph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rated confined or unconfine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-distributed finite-difference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undary condi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ecified, leaky, flux, rivers, drains, w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93CC-8250-4CD6-BC11-E51BA0AE4C2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El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1A1-2BB4-49E4-B676-9F514D140B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Ce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2268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830F-709F-4AD7-81A8-1D42771B3F6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ull Cell Has Parts of 8 Ele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ll Properties do not change abrupt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dia properties weighted by volu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ductances weighted by faci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28414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F1D8-4DAA-42F3-B541-0854D15EAD0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11-03-04T19:55:14Z</dcterms:modified>
  <cp:revision>117</cp:revision>
  <dc:subject/>
  <dc:title>Using WPHAST to Model the Central Oklahoma Aquifer</dc:title>
</cp:coreProperties>
</file>