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92B250-3C9B-4E43-812E-15544B948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F5A1A6-BC91-4F0E-90E9-6E20B7E4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D1A1DA-3F46-44D5-BF36-18E1825E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AA0A8E-3A45-41D5-938F-A44BE5515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3DBDB3-BE92-4B6F-986C-8AB00E10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CF57A0-CA72-4C2A-BEF4-E3FD863C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8E5-214D-45C1-A370-4D8D8794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069-15AC-4AB8-8709-0056D3A3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106-3644-4901-8850-553713E3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018-0A09-4FCB-AAD4-133A5B21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4DEF-CC34-4439-B348-7396EF00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4BE-9828-4C1E-B05A-C55D7CD2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F8C8-1B6B-4CDE-A0A3-8810C38E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024D-62A6-484E-A379-AF0BA43E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910E-C9F3-4C0F-AA94-39EAED52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A3F-9026-4AAA-B8B5-8F517630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E618-88C6-4B08-964D-2B91688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AC0-62FB-4545-9918-E2ED2D7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803-6E2F-4CD8-89C7-9211610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2CF7-C18A-4004-8489-306D7AF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57B-E85B-401A-83C0-53E769A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634C-D7E7-4B47-8A05-18AB0746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B8AF-5E47-4FFB-ADE1-528BD86E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B19-8D74-4536-9B91-FAEA9B82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4D5-9B7F-4C0B-AE7B-A0A2D1C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27F-3788-4B46-B794-C3250B69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503-C03B-4FA6-9C16-B1D2E124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B4A-CD17-4D64-B14B-87D67E0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46A-D3FE-4318-9F7F-B8549F4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EE2-F08D-4615-B855-4ADEF1D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820-666B-438F-B4F1-B8B2A0E8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14FB-6E61-4762-8746-22956C5D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4-1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E4BF-2A68-402D-8724-CEBABE10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aj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2019240"/>
            <a:ext cx="6111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rbonate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ganic carbon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itr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oxyhydroxi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ypsum 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yrite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eawater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ilicate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F9D8-EC88-4348-9B2D-F24D26C68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in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019240"/>
            <a:ext cx="611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d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rface complex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oli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7DE-3BCE-487E-AC81-C6AC3884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1371600" y="2133720"/>
            <a:ext cx="61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of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solu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DFB-7F41-4252-A2E7-0E0A9DE1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71600" y="222876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250-8B21-4367-BD84-7C0590418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and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796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days to learn PHREEQ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years to learn g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study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619-257F-43CC-B34E-D1B85936F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1066680"/>
            <a:ext cx="8381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The chemistry of solutions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Forward modeling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complexation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modeling—Pierre, Montezuma wells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 Reactive transport—David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modeling—R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reactive transport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66B9-638C-4EF3-B638-E97BF4EBD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4T21:49:06Z</dcterms:modified>
  <cp:revision>43</cp:revision>
  <dc:subject/>
  <dc:title>Defining Solutions</dc:title>
</cp:coreProperties>
</file>