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8DD-D690-4C9C-B5EA-5FB2DA67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9086-1FAE-4100-91BB-461E4E87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96F-F8FA-4984-8E17-410E24D0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1FC-0A69-487A-83F9-9DB491F1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EC38-CF89-4C2A-814A-2CFE4355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9100-C51A-4BC3-8F1A-530A05E0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DA7A-BC8B-446C-9280-826C8A08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015D-852E-4695-BAA0-3F6837A8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7175-55D7-46D4-8589-E6C59B6B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E206-F4EC-4B6E-B292-B9159E00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86B4-4271-48B2-BD6A-8EE374EA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388-3C55-4BFE-BC17-291BBAE8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1228-81C2-4C49-8AAC-658E8CDC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D7F9-9268-4EDF-A588-C1C0608A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D3F2-B01A-4DED-B7A0-44956070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B075-C269-4067-BE19-32C1D97A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FDE4-79BD-4131-B148-AAA04BAE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C38-C2D2-401F-9B54-672D5523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4E9-406A-430C-8787-1EAA370E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06F-67B9-42C5-8F8A-6DF8CA75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909-0FCD-4108-B517-82819751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924-5073-458C-8775-65E9A41C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92D-A197-4A44-862B-B8CCA4B6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5BD-AD44-4FC8-BFA9-8156298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91CA-44BF-4C65-9B5C-1E165BE71D2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" name="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40080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655B-1169-4B0C-BBE6-B4DE0130054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095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8394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cc"/>
                </a:solidFill>
                <a:latin typeface="Arial"/>
              </a:rPr>
              <a:t>Ground-Water Flow and Solute Transport for the PHAST Simulator:</a:t>
            </a: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700"/>
            </a:b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Numerical Considerations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72392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6576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olling Numerical Oscill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09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iter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differenc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time differenc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ere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523880" y="2743200"/>
                <a:ext cx="2743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4419720"/>
                <a:ext cx="30830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Δt</m:t>
                        </m:r>
                      </m:num>
                      <m:den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vΔt</m:t>
                        </m:r>
                      </m:num>
                      <m:den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514600" y="5468760"/>
                <a:ext cx="10666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Δt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olling Numerical Dispers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stream-in-space differencing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ckward-in-time differenc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racy requir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mensionless accuracy requirement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                                     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477800" y="1633680"/>
                <a:ext cx="16002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581280" y="1633680"/>
                <a:ext cx="14749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77800" y="3048120"/>
                <a:ext cx="1600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595680" y="3048120"/>
                <a:ext cx="14749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77800" y="4400640"/>
                <a:ext cx="3246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952880" y="5367240"/>
                <a:ext cx="16020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77800" y="5367240"/>
                <a:ext cx="27831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vΔt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18280" y="4400640"/>
                <a:ext cx="3139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oss-Flow Dispersion Discretization truncation err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ute transport equation in 2-dimensions, steady flow at angle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to coordin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334120" cy="662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2280" y="28195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ackwards-in-time and upstream-in-space differenc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 leading terms; numerical dispers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3434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umerical 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angential is min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4; max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0,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rmal is max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4; min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0,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52480" y="3524400"/>
            <a:ext cx="5715000" cy="618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54100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med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fine grid and reduce time ste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e Slug in 2 Dimens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iform proper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eady 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ydraulic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ow-path length: 100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rosity: 0.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vity: 0.012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nd-water velo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stitial velocity: 1.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rcy velocity: 0.1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on coefficient: 0.024 m2/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ug duration: 10 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327672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27432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24360" y="298440"/>
            <a:ext cx="5067360" cy="2952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172200" y="3741840"/>
            <a:ext cx="2666880" cy="2582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44600" y="3429000"/>
            <a:ext cx="51051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erator Splitting Err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der </a:t>
            </a:r>
            <a:r>
              <a:rPr b="0" i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equilibrium sorp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kinetic mass transfer or linear dec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d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small time ste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Negative Intermediate Concentration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us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patial discretization (centered-in-spac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mporal discretization (centered-in-tim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oss-dispersion terms with strong diagonal fl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perator splitt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.g.Linear equilibrium sorption chemistry, SNlA metho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here R is the retardation factor, R &gt; 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vershoot and undershoot may occur with strong sorption, strong partitionin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ffect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ailure of the chemical reaction calcul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362320" y="3666960"/>
            <a:ext cx="25905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Negative Intermediate Concentration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di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all </a:t>
            </a:r>
            <a:r>
              <a:rPr b="0" i="1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all </a:t>
            </a:r>
            <a:r>
              <a:rPr b="0" i="1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dify or ignore cross-dispersion ter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AST limits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c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positive valu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ain of ma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utomatic Time-Step Algorithm for Steady-State Flow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trol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ximum change in head over time step;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ime-step limits;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ax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bjectiv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just time step to achieve target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thod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art each cycle with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just time step as necessary for targe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duce time step if solver convergence failu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ssible difficulti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incompatible with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ompatible with b.c. and i.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olving the Linear Equation Syste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arse; small fraction of non-zero elem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ructured; 7 diagon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ymmetric for flow equ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symmetric for transport equ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3565440" y="1676520"/>
            <a:ext cx="22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Ax = 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umerical implement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umerical oscillation and disper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erator splitting err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gative concentr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tomatic time ste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equation solv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agnosis of difficul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near Equation Solv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rect Solv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sed on Gaussian elimination without pivo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user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st for smaller problems (few thousand no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near Equation Solv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erative solv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conditioned restarted Orthomin meth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ased on adjusting the solution to minimize the residual using a set of conjugate, orthogonal direc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econditioning used to accelerate converg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veral user paramet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vergence tolera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start interv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eration count limi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eded for larger problems (tens of thousands of nod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terative Linear Equation Solver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aling the equ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ows and columns can be scal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ere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e diagonal scaling matric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ale factors calculated to make the maximum element in each row and column of A equal to 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ables a single value of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to apply to flow and all transport equation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ly row scaling is implemen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73120" y="2349360"/>
            <a:ext cx="2286000" cy="4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terative Linear Equation Solver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tting Orthomin iteration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opping toler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1x10</a:t>
            </a:r>
            <a:r>
              <a:rPr b="0" lang="en-US" sz="2000" spc="-1" strike="noStrike" baseline="30000">
                <a:solidFill>
                  <a:srgbClr val="eaeaea"/>
                </a:solidFill>
                <a:latin typeface="Verdana"/>
              </a:rPr>
              <a:t>-1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ary </a:t>
            </a:r>
            <a:r>
              <a:rPr b="0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and observe change in solu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ant changes to be in insignificant digi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ximum number of iter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5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 if necessary; usually indicates another proble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start interval (number of saved search directio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 if necessary to avoid non-converg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omputational Procedur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9760" y="1294920"/>
            <a:ext cx="6400800" cy="83844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verning partial differential equ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boundary condi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238560" y="2610000"/>
            <a:ext cx="274320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cretiz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543480"/>
            <a:ext cx="815328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ystem of flow and transport algebraic equ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62040" y="4476600"/>
            <a:ext cx="609624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quation sol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7480" y="5410080"/>
            <a:ext cx="670536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pproximate numerical sol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10160" y="214308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10160" y="307656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0160" y="401004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494352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putational mathematics is mainly based on two ideas: Taylor series and linear algebr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-L.N. Trefethen (1998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D Solute Transport, Steady Fl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8120" y="1409760"/>
            <a:ext cx="2514600" cy="755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213372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patial discretiz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498680" y="257796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3298680"/>
            <a:ext cx="914400" cy="435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9480" y="3809880"/>
            <a:ext cx="6553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entered-in-space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ossible oscilla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pstream-in-spa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490760" y="3797280"/>
            <a:ext cx="33804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419720" y="4508640"/>
            <a:ext cx="838080" cy="39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613480"/>
                <a:ext cx="6094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D Solute Transport, Steady Fl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8120" y="1530360"/>
            <a:ext cx="2514600" cy="755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2362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emporal discretiz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tim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ssible oscil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ackward-in-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373320" cy="533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13400" y="3767040"/>
            <a:ext cx="657000" cy="34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13400" y="4970520"/>
                <a:ext cx="5745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75438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90920" y="1130400"/>
            <a:ext cx="3429000" cy="920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236232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ariable grid spac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424160" indent="-2034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803240" y="2933640"/>
            <a:ext cx="408240" cy="45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14400" y="4191120"/>
            <a:ext cx="6553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trol error by limiting changes in adjacent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factor of 1.25 to 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803240" y="4127400"/>
            <a:ext cx="403560" cy="546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952880" y="3733920"/>
            <a:ext cx="1498680" cy="34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952880" y="5111640"/>
            <a:ext cx="14986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e Slug in 1 Dimen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iform proper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eady 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ydraulic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ow-path length: 100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rosity: 0.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vity: 0.012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nd-water velo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stitial velocity: 1.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rcy velocity: 0.1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on coefficient: 0.024 m2/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ug duration: 10 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s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centration Profi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alytical and two finite-difference solu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05120" y="2276640"/>
            <a:ext cx="66862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35:18Z</dcterms:created>
  <dc:creator>Dave Parkhurst</dc:creator>
  <dc:description/>
  <dc:language>en-US</dc:language>
  <cp:lastModifiedBy>dlpark</cp:lastModifiedBy>
  <dcterms:modified xsi:type="dcterms:W3CDTF">2009-03-05T18:04:52Z</dcterms:modified>
  <cp:revision>72</cp:revision>
  <dc:subject/>
  <dc:title>Using WPHAST to Model the Central Oklahoma Aquifer</dc:title>
</cp:coreProperties>
</file>