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EC3E5D-7A86-4CE0-8E8E-8D2F6CD74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718BC8-50F5-4BC9-90FE-F647DB64E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6E48C73-D3DE-4411-AD6C-1EB2CD0FB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3E866A-F31B-4E6B-B3EA-A30641A67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A7687C6-6EF2-43B5-BAB7-9E0BC9F2D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71A402-5D1A-4541-9B76-4EA575F2C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6CD-2E6B-4AA5-8A26-E985FEEF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DD3-932A-4FFC-9C74-BB1AF585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278-BC9D-418B-8677-449922AC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4A9-A3FC-4385-A25F-ACEC6EA3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F78E-FA45-410D-8198-2DF45040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7BDD-D2DE-406A-B716-0BA692DB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5FFC-6E35-4280-8ABC-34981417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0128-6757-4C73-AA3C-19ADE855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8351-9F04-4297-8CFE-6CB9AE12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1C77-25E0-4A7C-A80E-6C542C61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4D86-FF63-42F7-8A65-A63C0EB3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EDA-671B-4406-9467-9DE9BF1B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9650-49DD-47A3-B76C-B6A8B49B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762B-199E-4499-8078-A7F1582B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C2AE-B4C4-4F64-87DD-BA7BF8CC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5932-E4A0-40AB-99B9-FA4AE6D6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2FA2-3E50-420B-BB7C-52267888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43BD-EAAF-4312-87F8-A9BFA47E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41AE-E25E-40C1-BD41-EA82438B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491A-72C2-47DF-8716-C06269C5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392F-A51C-486C-A3E1-CB686A7B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C76E-719E-40E5-ACFD-97425E79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B81-B118-4263-9DCD-909920CF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4E66-99FC-4E47-BCCE-94BC9E7D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9747-349A-4AE5-AD5A-965E996F9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0045-EF2E-4B28-9E5C-1702602B8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1066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Geochemistry for Ground-Water System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4-18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Parkhu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re Gly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 Joh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12FA-BFE2-4DBF-B28B-82B7714CA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ocesses that Control Major Element Chemist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371600" y="2019240"/>
            <a:ext cx="6111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arbonate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Organic carbon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itrat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n oxyhydroxid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at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an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Gypsum dis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yrite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Seawater 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ilicate we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623F-812F-4DC2-9ACC-08361ABC2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ocesses that Control Minor Element Chemist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371600" y="2019240"/>
            <a:ext cx="6111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do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a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urface complex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sph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a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at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olid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DD41-697E-4B9A-9ACE-12E42BBAB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stry for Ground-Water Syste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1371600" y="2133720"/>
            <a:ext cx="6111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of w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ng water-r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 solu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comple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ox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B5F3-ACA7-4E58-8E30-780EFF5AF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stry for Ground-Water Syste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371600" y="2228760"/>
            <a:ext cx="611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ucing water-r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v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61CD-4667-4A02-BEF9-869D8E722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stry and PHREEQC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7796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a few days to learn PHREEQ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a few years to learn geo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substitute for study an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63B9-C280-4E82-ACC0-64EE18DB1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eochemistry for Ground-Water System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33520" y="1066680"/>
            <a:ext cx="8381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ay: The chemistry of solutions—Dav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: Forward modeling—R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dnes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exchange—Pier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complexation—Pier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s—R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da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 modeling—Pierre, Montezuma wells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D Reactive transport—David p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shed modeling—Ri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 reactive transport—Dav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8F86-5AE0-4B27-BC50-E02C4C313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dlpark</cp:lastModifiedBy>
  <dcterms:modified xsi:type="dcterms:W3CDTF">2011-03-04T21:49:06Z</dcterms:modified>
  <cp:revision>43</cp:revision>
  <dc:subject/>
  <dc:title>Defining Solutions</dc:title>
</cp:coreProperties>
</file>