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EC0ABF-451A-41B9-A623-8BD505961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" Target="../slides/slide20.xml"/><Relationship Id="rId8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A3A7D4-5DAE-4BAC-A79D-3E1C1CBF4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D7EC3A-8290-41FE-BA78-77DA5C8C0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xercise T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 + H+ = SurfOH2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7.2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- + 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8.9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3H+ = SurfH2AsO4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9.3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2H+ = SurfHAsO4-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3.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= SurfOHAsO4-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0.5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       H3AsO4        -1.0     74.9216         74.92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3AsO4 primary master 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H3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2AsO4-             48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AsO4-3 + 3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20.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AsO4-2                483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 + AsO4-3 = HAsO4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1.5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AsO4-3              4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H+ + AsO4-3 = H2AsO4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18.4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bri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A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71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465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60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40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.64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39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47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fine 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brine with calcite and 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solution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initial exchange and 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Initial exchange and surfac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HANG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0.07   600    3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20xRain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x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9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2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3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23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rainwater with calcite, dolomite,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as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Advect reacted rainwater through colum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5 shif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t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   NaX CaX2 MgX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   Cl Na Ca M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headings As(ug/L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tar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PUNCH TOT("As")*1e6*74.9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cells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hifts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rint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unch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rnings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DD00F8-C5FA-4D8D-9072-C336752BA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xercise T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 + H+ = SurfOH2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7.2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- + 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8.9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3H+ = SurfH2AsO4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9.3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2H+ = SurfHAsO4-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3.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= SurfOHAsO4-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0.5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       H3AsO4        -1.0     74.9216         74.92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3AsO4 primary master 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H3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2AsO4-             48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AsO4-3 + 3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20.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AsO4-2                483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 + AsO4-3 = HAsO4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1.5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AsO4-3              4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H+ + AsO4-3 = H2AsO4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18.4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bri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A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71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465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60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40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.64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39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47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fine 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brine with calcite and 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solution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initial exchange and 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Initial exchange and surfac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HANG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0.07   600    3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20xRain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x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9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2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3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23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rainwater with calcite, dolomite,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as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Advect reacted rainwater through colum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5 shif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t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   NaX CaX2 MgX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   Cl Na Ca M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headings As(ug/L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tar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PUNCH TOT("As")*1e6*74.9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cells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hifts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rint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unch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rnings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45A44A-59E6-4F86-BB35-2B798B97F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2. 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Cl is a square wave, low concentrations in first 75 cells, high concentrations in last 25 cell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pH ~7.5 in first cell, pH is &gt; 9 for 50 cells, decreases to &lt; 5.5 by cell 70, up to constant 5.6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Arsenic &gt; 10 ug/L when pH is above 8.5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oride is a square-wave front because only advection is simulated. The front has moved 5 cells because there have been 5 shift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decreases from pH 9 to pH 6 from cell 2 to cell 6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ell 3 has pH 8.5, but little arsenic. Cell 2 has pH 9 and 100 ug/L As. So greater than pH 8.5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3743280" y="4425840"/>
          <a:ext cx="2827440" cy="154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4425840"/>
                    <a:ext cx="282744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917640" y="4425840"/>
          <a:ext cx="2833560" cy="154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7640" y="4425840"/>
                    <a:ext cx="28335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6"/>
          <p:cNvGraphicFramePr/>
          <p:nvPr/>
        </p:nvGraphicFramePr>
        <p:xfrm>
          <a:off x="917640" y="6029280"/>
          <a:ext cx="2833560" cy="1544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7640" y="6029280"/>
                    <a:ext cx="28335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166F0B-21A3-488B-9A9B-102072347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6A589C-3E63-4001-88E1-B0908F189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88E-59C0-4F08-965D-FD8A1820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253-589A-4E32-81D9-34CFFC25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7DD-1976-41E3-A7AB-935813D5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F8B-284F-4ACE-B42A-18A28A0C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09BC-586E-44B0-8D9B-E27A731E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806A-868F-4CE2-9FAD-CCD933C8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EFCF-E399-46F2-BC8F-CA571769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9A51-320D-41F5-BF60-F8F12A52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709A-4E2E-4DEA-8793-2564BF03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F0AF-2C3C-4B74-BC7F-4646E1D6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FD0C-A7CB-41F2-8CBF-0400E85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D9C-2E22-4BBE-A2F0-D6237A29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9D19-EC19-41D0-BCFD-5D853946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E78D-480A-4E55-BA11-2A42E37F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F13F-56F7-4677-BD08-DF0A5371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506B-5846-43DC-9CA6-B34278E3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E44A-F8CA-4896-95B0-0CFAF50D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49692-10E1-4437-A5C6-4F68C09C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9BDF-3B6D-495F-B57E-63258A7D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31A9-07EE-41A0-8D52-65AAEA77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C04A-4B44-41CA-9DE6-560DEEC2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4C4A-F366-46D5-A71A-DF7919F2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A99-853B-462A-B71D-F7986E26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5128-E977-4F34-945D-C60597E2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309B-DDE0-480D-8B9C-114473A4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859E-F19F-49FC-A0EA-5E75364F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71B8-B586-4461-9F01-C951F743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B9C2-A425-4D69-B88B-AF794DAA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EAAB-ACED-42DD-8CBA-E8FD2744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C6CB-103F-46A5-8764-AA018DB8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C25-C1A7-42D8-BE1F-402615CA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04B-0755-43AA-9649-11342823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3B5-38B7-4442-8DA2-9603FE77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417-9454-43D4-9F57-88E9DA24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D17-8852-47DB-9A81-CF600350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48A-AF8E-4F68-8085-8E06397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ADC0-904D-4569-833B-2848AD7D1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1A04-0762-48FE-AEC7-AE26510AC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10B9-F351-4829-8AA4-2B7EC3CFB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ursday Afterno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 reactive transport with PHEE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MOD—Watershed modeling with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kinetics—time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496040" cy="5019840"/>
          </a:xfrm>
          <a:prstGeom prst="rect">
            <a:avLst/>
          </a:prstGeom>
          <a:ln w="0">
            <a:noFill/>
          </a:ln>
        </p:spPr>
      </p:pic>
      <p:sp>
        <p:nvSpPr>
          <p:cNvPr id="237" name="Oval 5"/>
          <p:cNvSpPr/>
          <p:nvPr/>
        </p:nvSpPr>
        <p:spPr>
          <a:xfrm>
            <a:off x="304920" y="1523880"/>
            <a:ext cx="83808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-out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495680" cy="501984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838080" y="1600200"/>
            <a:ext cx="8384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9244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 Range of Numb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4038480" y="3276720"/>
            <a:ext cx="8384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2895480" y="4191120"/>
            <a:ext cx="15242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2895480" y="4648320"/>
            <a:ext cx="12956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2819520" y="5334120"/>
            <a:ext cx="114300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ECTION 1. Exerci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klahoma transport simu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plotting results. You ca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eeqcI and Excel (with SELECTED_OUT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reeqc for Windows and USER_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. Phreeqcpp in ChartPhreeqc directory also will plot with USER_GRAPH, but is not interactiv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ECTION 1. Exerci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klahoma transport simu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aqueous model and sorption model for arsenic from Dzombak and Morel, 1990 (Cut and paste from Power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457200" y="228600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_MASTER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    Surf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= Surf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 + H+ = SurfOH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7.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= SurfO-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-8.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+ 3H+ = SurfH2AsO4 + 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29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+ 2H+ = SurfHAsO4- + 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23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= SurfOHAsO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10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_MASTER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      H3AsO4        -1.0     74.9216    74.9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715000" y="2286000"/>
            <a:ext cx="2895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3AsO4 primary master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AsO4 = H3As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       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2AsO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AsO4 = AsO4-3 + 3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-2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AsO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+ + AsO4-3 = HAsO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11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AsO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H+ + AsO4-3 = H2AsO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        18.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nitial conditions for cells 1-1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Define SOLUTION 1 with the brine composition. (It is possible to cut and paste into PhreeqcI or Phreeqc for Window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Define EQUILIBRIUM_PHASES 1-100 with 0.1 mol calcite and 1.6 mol dolom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React solution 1 with equilibirum phases 1 (USE) and SAVE resultomg solution in cells 1-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Define EXCHANGE 1-100 to have 1 mol of exchanger X and to be in equilibrium with solution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Define SURFACE 1-100 to have 0.07 mol of surface complexation sites (Hfo), 600 m^2/g specific surface area, 30 grams of sorbent, and to be in equilibrium with solution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609480" y="1066680"/>
          <a:ext cx="8001000" cy="87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001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efine infilling solution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efine the evaporated rainwater as SOLUTION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eact solution 0 with EQUILIBRIUM_PHASES 0 that has calcite, dolomite, and pCO2= 10^-1.5. SAVE resulting solution as solution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685800" y="1447920"/>
          <a:ext cx="7226280" cy="8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226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0948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fine advec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Use ADVECTION data blo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_frequency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ch_frequency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ELECTED_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, Cl, Na, Ca, NaX, CaX2 (mol/kg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USER_P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(ug/kgw)  (gram formula mass is 75 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lot Advection Resul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selected output file into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input file into Phreeqc for Windows and add USER_GRAPH (nex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R_GRAPH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_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eadings Cell_number Cl Na Ca NaX CaX2 As(ug/L) 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titles "Cell_number“ "Log Concentration"  "pH"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x-axis, y-axis, sy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hart_title "Oklahoma Advec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nnect_simulations tr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true/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x_axis 0 100 50 1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min, max, major,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y_axis -6 3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min, max, major,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sy_axis 0 10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secondary y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lot_concentration_vs 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distance p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graph_x 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graph_y  log10(TOT("Cl")), log10(TOT("Na")), log10(TOT("Ca"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graph_y  log10(MOL("NaX")), log10(MOL("CaX2")), log10(TOT("As")*1e6*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 graph_sy -la("H+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D Solute Transpor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09480" y="28195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change wit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/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ci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2819520" y="1695600"/>
                <a:ext cx="2930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DVECTION 1. Ques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file in the column at the end of the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H profile in the column at the end of the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H at which arsenic appears to become a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 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, Mg exchange for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, dolomite dis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&gt;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&gt; 100 u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8"/>
          <p:cNvGraphicFramePr/>
          <p:nvPr/>
        </p:nvGraphicFramePr>
        <p:xfrm>
          <a:off x="685800" y="3733920"/>
          <a:ext cx="3697200" cy="246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369720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9"/>
          <p:cNvGraphicFramePr/>
          <p:nvPr/>
        </p:nvGraphicFramePr>
        <p:xfrm>
          <a:off x="5092560" y="1295280"/>
          <a:ext cx="3619800" cy="241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2560" y="1295280"/>
                    <a:ext cx="361980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7" descr=""/>
          <p:cNvPicPr/>
          <p:nvPr/>
        </p:nvPicPr>
        <p:blipFill>
          <a:blip r:embed="rId5"/>
          <a:stretch/>
        </p:blipFill>
        <p:spPr>
          <a:xfrm>
            <a:off x="5041800" y="3940200"/>
            <a:ext cx="3713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For Window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600200" y="1465200"/>
            <a:ext cx="68104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P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486080" y="1371600"/>
            <a:ext cx="617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 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 is a square wave, low concentrations in first 75 cells, high concentrations in last 25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 ~7.5 in first cell, pH is &gt; 9 for 50 cells, decreases to &lt; 5.5 by cell 70, up to constant 5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senic &gt; 10 ug/L when pH is above 8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l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=length/time ste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505040" cy="5029200"/>
          </a:xfrm>
          <a:prstGeom prst="rect">
            <a:avLst/>
          </a:prstGeom>
          <a:ln w="0">
            <a:noFill/>
          </a:ln>
        </p:spPr>
      </p:pic>
      <p:sp>
        <p:nvSpPr>
          <p:cNvPr id="291" name="Oval 8"/>
          <p:cNvSpPr/>
          <p:nvPr/>
        </p:nvSpPr>
        <p:spPr>
          <a:xfrm>
            <a:off x="762120" y="1828800"/>
            <a:ext cx="91440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ion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7"/>
          <p:cNvSpPr/>
          <p:nvPr/>
        </p:nvSpPr>
        <p:spPr>
          <a:xfrm>
            <a:off x="1523880" y="1752480"/>
            <a:ext cx="144792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nant cells/dual po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ne stagnan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ultiple stagnan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"/>
          <p:cNvSpPr/>
          <p:nvPr/>
        </p:nvSpPr>
        <p:spPr>
          <a:xfrm>
            <a:off x="2971800" y="1828800"/>
            <a:ext cx="1600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NSPORT—Charge-Balanced Diffus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1920" y="24382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ulti_d true 1e-9 0.3 0.05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H+ =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log_k  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-gamma  9.0    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w     9.31e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38480" y="1981080"/>
            <a:ext cx="48769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omponent diffusion—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tracer diffusion coefficient—1e-9 m2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osity—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porosity—0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ffusion stops when the porosity reaches the porosity lim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nent of porosity (n) –1.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ffective diffusion coefficient–De = Dw * porosity^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w is tracer diffusion coefficient in SOLUTION_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ield-Scale Examples </a:t>
            </a:r>
            <a:br>
              <a:rPr sz="40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centration Profil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and two finite-differenc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371600" y="2276640"/>
            <a:ext cx="66866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REEQC Transport Calcula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4" name="Group 108"/>
          <p:cNvGrpSpPr/>
          <p:nvPr/>
        </p:nvGrpSpPr>
        <p:grpSpPr>
          <a:xfrm>
            <a:off x="3048120" y="1523880"/>
            <a:ext cx="4876200" cy="685800"/>
            <a:chOff x="3048120" y="1523880"/>
            <a:chExt cx="4876200" cy="685800"/>
          </a:xfrm>
        </p:grpSpPr>
        <p:sp>
          <p:nvSpPr>
            <p:cNvPr id="145" name="Rectangle 87"/>
            <p:cNvSpPr/>
            <p:nvPr/>
          </p:nvSpPr>
          <p:spPr>
            <a:xfrm>
              <a:off x="304812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8"/>
            <p:cNvSpPr/>
            <p:nvPr/>
          </p:nvSpPr>
          <p:spPr>
            <a:xfrm>
              <a:off x="368100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9"/>
            <p:cNvSpPr/>
            <p:nvPr/>
          </p:nvSpPr>
          <p:spPr>
            <a:xfrm>
              <a:off x="431460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0"/>
            <p:cNvSpPr/>
            <p:nvPr/>
          </p:nvSpPr>
          <p:spPr>
            <a:xfrm>
              <a:off x="494784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1"/>
            <p:cNvSpPr/>
            <p:nvPr/>
          </p:nvSpPr>
          <p:spPr>
            <a:xfrm>
              <a:off x="558108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2"/>
            <p:cNvSpPr/>
            <p:nvPr/>
          </p:nvSpPr>
          <p:spPr>
            <a:xfrm>
              <a:off x="621468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9"/>
            <p:cNvSpPr/>
            <p:nvPr/>
          </p:nvSpPr>
          <p:spPr>
            <a:xfrm>
              <a:off x="754452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0"/>
            <p:cNvSpPr/>
            <p:nvPr/>
          </p:nvSpPr>
          <p:spPr>
            <a:xfrm>
              <a:off x="330120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03"/>
            <p:cNvSpPr/>
            <p:nvPr/>
          </p:nvSpPr>
          <p:spPr>
            <a:xfrm>
              <a:off x="393444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04"/>
            <p:cNvSpPr/>
            <p:nvPr/>
          </p:nvSpPr>
          <p:spPr>
            <a:xfrm>
              <a:off x="456804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05"/>
            <p:cNvSpPr/>
            <p:nvPr/>
          </p:nvSpPr>
          <p:spPr>
            <a:xfrm>
              <a:off x="52009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06"/>
            <p:cNvSpPr/>
            <p:nvPr/>
          </p:nvSpPr>
          <p:spPr>
            <a:xfrm>
              <a:off x="58345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07"/>
            <p:cNvSpPr/>
            <p:nvPr/>
          </p:nvSpPr>
          <p:spPr>
            <a:xfrm>
              <a:off x="71647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09"/>
          <p:cNvSpPr/>
          <p:nvPr/>
        </p:nvSpPr>
        <p:spPr>
          <a:xfrm>
            <a:off x="7621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8"/>
          <p:cNvSpPr/>
          <p:nvPr/>
        </p:nvSpPr>
        <p:spPr>
          <a:xfrm>
            <a:off x="7621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49"/>
          <p:cNvGrpSpPr/>
          <p:nvPr/>
        </p:nvGrpSpPr>
        <p:grpSpPr>
          <a:xfrm>
            <a:off x="3048120" y="2971800"/>
            <a:ext cx="4876560" cy="1066680"/>
            <a:chOff x="3048120" y="2971800"/>
            <a:chExt cx="4876560" cy="1066680"/>
          </a:xfrm>
        </p:grpSpPr>
        <p:grpSp>
          <p:nvGrpSpPr>
            <p:cNvPr id="161" name="Group 148"/>
            <p:cNvGrpSpPr/>
            <p:nvPr/>
          </p:nvGrpSpPr>
          <p:grpSpPr>
            <a:xfrm>
              <a:off x="3048120" y="3341520"/>
              <a:ext cx="4876560" cy="316080"/>
              <a:chOff x="3048120" y="3341520"/>
              <a:chExt cx="4876560" cy="316080"/>
            </a:xfrm>
          </p:grpSpPr>
          <p:sp>
            <p:nvSpPr>
              <p:cNvPr id="162" name="Rectangle 125"/>
              <p:cNvSpPr/>
              <p:nvPr/>
            </p:nvSpPr>
            <p:spPr>
              <a:xfrm>
                <a:off x="304812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6"/>
              <p:cNvSpPr/>
              <p:nvPr/>
            </p:nvSpPr>
            <p:spPr>
              <a:xfrm>
                <a:off x="368136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27"/>
              <p:cNvSpPr/>
              <p:nvPr/>
            </p:nvSpPr>
            <p:spPr>
              <a:xfrm>
                <a:off x="431496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28"/>
              <p:cNvSpPr/>
              <p:nvPr/>
            </p:nvSpPr>
            <p:spPr>
              <a:xfrm>
                <a:off x="494820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9"/>
              <p:cNvSpPr/>
              <p:nvPr/>
            </p:nvSpPr>
            <p:spPr>
              <a:xfrm>
                <a:off x="558180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30"/>
              <p:cNvSpPr/>
              <p:nvPr/>
            </p:nvSpPr>
            <p:spPr>
              <a:xfrm>
                <a:off x="621504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1"/>
              <p:cNvSpPr/>
              <p:nvPr/>
            </p:nvSpPr>
            <p:spPr>
              <a:xfrm>
                <a:off x="754524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139"/>
            <p:cNvGrpSpPr/>
            <p:nvPr/>
          </p:nvGrpSpPr>
          <p:grpSpPr>
            <a:xfrm>
              <a:off x="3301920" y="2971800"/>
              <a:ext cx="4368960" cy="349200"/>
              <a:chOff x="3301920" y="2971800"/>
              <a:chExt cx="4368960" cy="349200"/>
            </a:xfrm>
          </p:grpSpPr>
          <p:sp>
            <p:nvSpPr>
              <p:cNvPr id="170" name="AutoShape 132"/>
              <p:cNvSpPr/>
              <p:nvPr/>
            </p:nvSpPr>
            <p:spPr>
              <a:xfrm>
                <a:off x="330192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33"/>
              <p:cNvSpPr/>
              <p:nvPr/>
            </p:nvSpPr>
            <p:spPr>
              <a:xfrm>
                <a:off x="3935520" y="2971800"/>
                <a:ext cx="506160" cy="349200"/>
              </a:xfrm>
              <a:custGeom>
                <a:avLst/>
                <a:gdLst>
                  <a:gd name="textAreaLeft" fmla="*/ 88560 w 506160"/>
                  <a:gd name="textAreaRight" fmla="*/ 367200 w 5061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34"/>
              <p:cNvSpPr/>
              <p:nvPr/>
            </p:nvSpPr>
            <p:spPr>
              <a:xfrm>
                <a:off x="456876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135"/>
              <p:cNvSpPr/>
              <p:nvPr/>
            </p:nvSpPr>
            <p:spPr>
              <a:xfrm>
                <a:off x="5200560" y="2971800"/>
                <a:ext cx="507960" cy="349200"/>
              </a:xfrm>
              <a:custGeom>
                <a:avLst/>
                <a:gdLst>
                  <a:gd name="textAreaLeft" fmla="*/ 88920 w 507960"/>
                  <a:gd name="textAreaRight" fmla="*/ 36828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36"/>
              <p:cNvSpPr/>
              <p:nvPr/>
            </p:nvSpPr>
            <p:spPr>
              <a:xfrm>
                <a:off x="5834160" y="2971800"/>
                <a:ext cx="507960" cy="349200"/>
              </a:xfrm>
              <a:custGeom>
                <a:avLst/>
                <a:gdLst>
                  <a:gd name="textAreaLeft" fmla="*/ 88920 w 507960"/>
                  <a:gd name="textAreaRight" fmla="*/ 36828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137"/>
              <p:cNvSpPr/>
              <p:nvPr/>
            </p:nvSpPr>
            <p:spPr>
              <a:xfrm>
                <a:off x="716436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47"/>
            <p:cNvGrpSpPr/>
            <p:nvPr/>
          </p:nvGrpSpPr>
          <p:grpSpPr>
            <a:xfrm>
              <a:off x="3309480" y="3689280"/>
              <a:ext cx="4310280" cy="349200"/>
              <a:chOff x="3309480" y="3689280"/>
              <a:chExt cx="4310280" cy="349200"/>
            </a:xfrm>
          </p:grpSpPr>
          <p:sp>
            <p:nvSpPr>
              <p:cNvPr id="177" name="AutoShape 141"/>
              <p:cNvSpPr/>
              <p:nvPr/>
            </p:nvSpPr>
            <p:spPr>
              <a:xfrm flipH="1" flipV="1">
                <a:off x="584280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42"/>
              <p:cNvSpPr/>
              <p:nvPr/>
            </p:nvSpPr>
            <p:spPr>
              <a:xfrm flipH="1" flipV="1">
                <a:off x="5210280" y="3689280"/>
                <a:ext cx="506160" cy="349200"/>
              </a:xfrm>
              <a:custGeom>
                <a:avLst/>
                <a:gdLst>
                  <a:gd name="textAreaLeft" fmla="*/ 88560 w 506160"/>
                  <a:gd name="textAreaRight" fmla="*/ 367200 w 5061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143"/>
              <p:cNvSpPr/>
              <p:nvPr/>
            </p:nvSpPr>
            <p:spPr>
              <a:xfrm flipH="1" flipV="1">
                <a:off x="457596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44"/>
              <p:cNvSpPr/>
              <p:nvPr/>
            </p:nvSpPr>
            <p:spPr>
              <a:xfrm flipH="1" flipV="1">
                <a:off x="3942720" y="3689280"/>
                <a:ext cx="507960" cy="349200"/>
              </a:xfrm>
              <a:custGeom>
                <a:avLst/>
                <a:gdLst>
                  <a:gd name="textAreaLeft" fmla="*/ 88560 w 507960"/>
                  <a:gd name="textAreaRight" fmla="*/ 36792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145"/>
              <p:cNvSpPr/>
              <p:nvPr/>
            </p:nvSpPr>
            <p:spPr>
              <a:xfrm flipH="1" flipV="1">
                <a:off x="3309120" y="3689280"/>
                <a:ext cx="507960" cy="349200"/>
              </a:xfrm>
              <a:custGeom>
                <a:avLst/>
                <a:gdLst>
                  <a:gd name="textAreaLeft" fmla="*/ 88560 w 507960"/>
                  <a:gd name="textAreaRight" fmla="*/ 36792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46"/>
              <p:cNvSpPr/>
              <p:nvPr/>
            </p:nvSpPr>
            <p:spPr>
              <a:xfrm flipH="1" flipV="1">
                <a:off x="711288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150"/>
          <p:cNvSpPr/>
          <p:nvPr/>
        </p:nvSpPr>
        <p:spPr>
          <a:xfrm>
            <a:off x="7621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97"/>
          <p:cNvGrpSpPr/>
          <p:nvPr/>
        </p:nvGrpSpPr>
        <p:grpSpPr>
          <a:xfrm>
            <a:off x="3048120" y="4572000"/>
            <a:ext cx="4876560" cy="837720"/>
            <a:chOff x="3048120" y="4572000"/>
            <a:chExt cx="4876560" cy="837720"/>
          </a:xfrm>
        </p:grpSpPr>
        <p:grpSp>
          <p:nvGrpSpPr>
            <p:cNvPr id="185" name="Group 152"/>
            <p:cNvGrpSpPr/>
            <p:nvPr/>
          </p:nvGrpSpPr>
          <p:grpSpPr>
            <a:xfrm>
              <a:off x="3048120" y="5094000"/>
              <a:ext cx="4876560" cy="315720"/>
              <a:chOff x="3048120" y="5094000"/>
              <a:chExt cx="4876560" cy="315720"/>
            </a:xfrm>
          </p:grpSpPr>
          <p:sp>
            <p:nvSpPr>
              <p:cNvPr id="186" name="Rectangle 153"/>
              <p:cNvSpPr/>
              <p:nvPr/>
            </p:nvSpPr>
            <p:spPr>
              <a:xfrm>
                <a:off x="304812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54"/>
              <p:cNvSpPr/>
              <p:nvPr/>
            </p:nvSpPr>
            <p:spPr>
              <a:xfrm>
                <a:off x="368136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55"/>
              <p:cNvSpPr/>
              <p:nvPr/>
            </p:nvSpPr>
            <p:spPr>
              <a:xfrm>
                <a:off x="431496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56"/>
              <p:cNvSpPr/>
              <p:nvPr/>
            </p:nvSpPr>
            <p:spPr>
              <a:xfrm>
                <a:off x="494820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57"/>
              <p:cNvSpPr/>
              <p:nvPr/>
            </p:nvSpPr>
            <p:spPr>
              <a:xfrm>
                <a:off x="558180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58"/>
              <p:cNvSpPr/>
              <p:nvPr/>
            </p:nvSpPr>
            <p:spPr>
              <a:xfrm>
                <a:off x="621504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59"/>
              <p:cNvSpPr/>
              <p:nvPr/>
            </p:nvSpPr>
            <p:spPr>
              <a:xfrm>
                <a:off x="754524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96"/>
            <p:cNvGrpSpPr/>
            <p:nvPr/>
          </p:nvGrpSpPr>
          <p:grpSpPr>
            <a:xfrm>
              <a:off x="3048120" y="4572000"/>
              <a:ext cx="4799880" cy="380880"/>
              <a:chOff x="3048120" y="4572000"/>
              <a:chExt cx="4799880" cy="380880"/>
            </a:xfrm>
          </p:grpSpPr>
          <p:grpSp>
            <p:nvGrpSpPr>
              <p:cNvPr id="194" name="Group 177"/>
              <p:cNvGrpSpPr/>
              <p:nvPr/>
            </p:nvGrpSpPr>
            <p:grpSpPr>
              <a:xfrm>
                <a:off x="3048120" y="4572000"/>
                <a:ext cx="304560" cy="380880"/>
                <a:chOff x="3048120" y="4572000"/>
                <a:chExt cx="304560" cy="380880"/>
              </a:xfrm>
            </p:grpSpPr>
            <p:sp>
              <p:nvSpPr>
                <p:cNvPr id="195" name="AutoShape 175"/>
                <p:cNvSpPr/>
                <p:nvPr/>
              </p:nvSpPr>
              <p:spPr>
                <a:xfrm>
                  <a:off x="304812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176"/>
                <p:cNvSpPr/>
                <p:nvPr/>
              </p:nvSpPr>
              <p:spPr>
                <a:xfrm flipV="1">
                  <a:off x="321048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78"/>
              <p:cNvGrpSpPr/>
              <p:nvPr/>
            </p:nvGrpSpPr>
            <p:grpSpPr>
              <a:xfrm>
                <a:off x="3733560" y="4572000"/>
                <a:ext cx="304560" cy="380880"/>
                <a:chOff x="3733560" y="4572000"/>
                <a:chExt cx="304560" cy="380880"/>
              </a:xfrm>
            </p:grpSpPr>
            <p:sp>
              <p:nvSpPr>
                <p:cNvPr id="198" name="AutoShape 179"/>
                <p:cNvSpPr/>
                <p:nvPr/>
              </p:nvSpPr>
              <p:spPr>
                <a:xfrm>
                  <a:off x="373356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180"/>
                <p:cNvSpPr/>
                <p:nvPr/>
              </p:nvSpPr>
              <p:spPr>
                <a:xfrm flipV="1">
                  <a:off x="389592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181"/>
              <p:cNvGrpSpPr/>
              <p:nvPr/>
            </p:nvGrpSpPr>
            <p:grpSpPr>
              <a:xfrm>
                <a:off x="4343040" y="4572000"/>
                <a:ext cx="304560" cy="380880"/>
                <a:chOff x="4343040" y="4572000"/>
                <a:chExt cx="304560" cy="380880"/>
              </a:xfrm>
            </p:grpSpPr>
            <p:sp>
              <p:nvSpPr>
                <p:cNvPr id="201" name="AutoShape 182"/>
                <p:cNvSpPr/>
                <p:nvPr/>
              </p:nvSpPr>
              <p:spPr>
                <a:xfrm>
                  <a:off x="43430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183"/>
                <p:cNvSpPr/>
                <p:nvPr/>
              </p:nvSpPr>
              <p:spPr>
                <a:xfrm flipV="1">
                  <a:off x="45054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184"/>
              <p:cNvGrpSpPr/>
              <p:nvPr/>
            </p:nvGrpSpPr>
            <p:grpSpPr>
              <a:xfrm>
                <a:off x="5028840" y="4572000"/>
                <a:ext cx="304560" cy="380880"/>
                <a:chOff x="5028840" y="4572000"/>
                <a:chExt cx="304560" cy="380880"/>
              </a:xfrm>
            </p:grpSpPr>
            <p:sp>
              <p:nvSpPr>
                <p:cNvPr id="204" name="AutoShape 185"/>
                <p:cNvSpPr/>
                <p:nvPr/>
              </p:nvSpPr>
              <p:spPr>
                <a:xfrm>
                  <a:off x="50288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186"/>
                <p:cNvSpPr/>
                <p:nvPr/>
              </p:nvSpPr>
              <p:spPr>
                <a:xfrm flipV="1">
                  <a:off x="51912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87"/>
              <p:cNvGrpSpPr/>
              <p:nvPr/>
            </p:nvGrpSpPr>
            <p:grpSpPr>
              <a:xfrm>
                <a:off x="5638680" y="4572000"/>
                <a:ext cx="304200" cy="380880"/>
                <a:chOff x="5638680" y="4572000"/>
                <a:chExt cx="304200" cy="380880"/>
              </a:xfrm>
            </p:grpSpPr>
            <p:sp>
              <p:nvSpPr>
                <p:cNvPr id="207" name="AutoShape 188"/>
                <p:cNvSpPr/>
                <p:nvPr/>
              </p:nvSpPr>
              <p:spPr>
                <a:xfrm>
                  <a:off x="5638680" y="4594320"/>
                  <a:ext cx="141840" cy="358560"/>
                </a:xfrm>
                <a:custGeom>
                  <a:avLst/>
                  <a:gdLst>
                    <a:gd name="textAreaLeft" fmla="*/ 18720 w 141840"/>
                    <a:gd name="textAreaRight" fmla="*/ 123120 w 14184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189"/>
                <p:cNvSpPr/>
                <p:nvPr/>
              </p:nvSpPr>
              <p:spPr>
                <a:xfrm flipV="1">
                  <a:off x="5801040" y="4572000"/>
                  <a:ext cx="141840" cy="358560"/>
                </a:xfrm>
                <a:custGeom>
                  <a:avLst/>
                  <a:gdLst>
                    <a:gd name="textAreaLeft" fmla="*/ 18720 w 141840"/>
                    <a:gd name="textAreaRight" fmla="*/ 123120 w 14184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90"/>
              <p:cNvGrpSpPr/>
              <p:nvPr/>
            </p:nvGrpSpPr>
            <p:grpSpPr>
              <a:xfrm>
                <a:off x="6248160" y="4572000"/>
                <a:ext cx="304560" cy="380880"/>
                <a:chOff x="6248160" y="4572000"/>
                <a:chExt cx="304560" cy="380880"/>
              </a:xfrm>
            </p:grpSpPr>
            <p:sp>
              <p:nvSpPr>
                <p:cNvPr id="210" name="AutoShape 191"/>
                <p:cNvSpPr/>
                <p:nvPr/>
              </p:nvSpPr>
              <p:spPr>
                <a:xfrm>
                  <a:off x="624816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192"/>
                <p:cNvSpPr/>
                <p:nvPr/>
              </p:nvSpPr>
              <p:spPr>
                <a:xfrm flipV="1">
                  <a:off x="641052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93"/>
              <p:cNvGrpSpPr/>
              <p:nvPr/>
            </p:nvGrpSpPr>
            <p:grpSpPr>
              <a:xfrm>
                <a:off x="7543440" y="4572000"/>
                <a:ext cx="304560" cy="380880"/>
                <a:chOff x="7543440" y="4572000"/>
                <a:chExt cx="304560" cy="380880"/>
              </a:xfrm>
            </p:grpSpPr>
            <p:sp>
              <p:nvSpPr>
                <p:cNvPr id="213" name="AutoShape 194"/>
                <p:cNvSpPr/>
                <p:nvPr/>
              </p:nvSpPr>
              <p:spPr>
                <a:xfrm>
                  <a:off x="75434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195"/>
                <p:cNvSpPr/>
                <p:nvPr/>
              </p:nvSpPr>
              <p:spPr>
                <a:xfrm flipV="1">
                  <a:off x="77058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1752480" y="1635120"/>
            <a:ext cx="5762880" cy="2403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6438960" y="2666880"/>
            <a:ext cx="380880" cy="7621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81080" y="365724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nant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omponent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ayer diffusion in 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62520" cy="2403720"/>
          </a:xfrm>
          <a:prstGeom prst="rect">
            <a:avLst/>
          </a:prstGeom>
          <a:ln w="0">
            <a:noFill/>
          </a:ln>
        </p:spPr>
      </p:pic>
      <p:sp>
        <p:nvSpPr>
          <p:cNvPr id="222" name="Oval 5"/>
          <p:cNvSpPr/>
          <p:nvPr/>
        </p:nvSpPr>
        <p:spPr>
          <a:xfrm>
            <a:off x="6654960" y="2108160"/>
            <a:ext cx="380880" cy="7621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8760" y="1036800"/>
            <a:ext cx="432612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rsenic in the Central Oklahoma Aquif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7000" y="2684160"/>
            <a:ext cx="432576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senic mostly in confined part of aqu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senic associated with high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as"/>
          <p:cNvPicPr/>
          <p:nvPr/>
        </p:nvPicPr>
        <p:blipFill>
          <a:blip r:embed="rId1"/>
          <a:stretch/>
        </p:blipFill>
        <p:spPr>
          <a:xfrm>
            <a:off x="4621320" y="136440"/>
            <a:ext cx="4370400" cy="6629400"/>
          </a:xfrm>
          <a:prstGeom prst="rect">
            <a:avLst/>
          </a:prstGeom>
          <a:ln w="34920">
            <a:solidFill>
              <a:srgbClr val="00cc99"/>
            </a:solidFill>
            <a:miter/>
          </a:ln>
        </p:spPr>
      </p:pic>
      <p:sp>
        <p:nvSpPr>
          <p:cNvPr id="226" name="AutoShape 5"/>
          <p:cNvSpPr/>
          <p:nvPr/>
        </p:nvSpPr>
        <p:spPr>
          <a:xfrm>
            <a:off x="5486400" y="30481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 flipV="1">
            <a:off x="5334120" y="220896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43D6-B400-4477-8575-089CBF92E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cal Reactions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e initially fills the aqui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 and dolomite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 ex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X +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X + 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g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comple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-HAs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oOH + HAs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0D01-8492-4010-AF62-FBA812359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numbered from 1 to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numbers (of SOLUTION, EQUILIBRIUM_PHASES, etc) are used to define the solution and reactants in each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0 (or N+1) enters the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“shifted” from one cell 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7T14:40:08Z</dcterms:modified>
  <cp:revision>169</cp:revision>
  <dc:subject/>
  <dc:title>Defining Solutions</dc:title>
</cp:coreProperties>
</file>