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32.wmf" ContentType="image/x-wmf"/>
  <Override PartName="/ppt/media/image24.wmf" ContentType="image/x-wmf"/>
  <Override PartName="/ppt/media/image23.png" ContentType="image/png"/>
  <Override PartName="/ppt/media/image10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28.png" ContentType="image/png"/>
  <Override PartName="/ppt/media/image5.png" ContentType="image/png"/>
  <Override PartName="/ppt/media/image8.png" ContentType="image/png"/>
  <Override PartName="/ppt/media/image13.png" ContentType="image/png"/>
  <Override PartName="/ppt/media/image33.wmf" ContentType="image/x-wmf"/>
  <Override PartName="/ppt/media/image9.png" ContentType="image/png"/>
  <Override PartName="/ppt/media/image7.png" ContentType="image/png"/>
  <Override PartName="/ppt/media/image12.png" ContentType="image/png"/>
  <Override PartName="/ppt/media/image6.wmf" ContentType="image/x-wmf"/>
  <Override PartName="/ppt/media/image11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0800" y="698400"/>
            <a:ext cx="4646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8832600"/>
            <a:ext cx="303696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973320" y="8832600"/>
            <a:ext cx="303660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E61CE0F-9788-403F-B0EC-51EFDE068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slide" Target="../slides/slide40.xml"/><Relationship Id="rId4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slide" Target="../slides/slide41.xml"/><Relationship Id="rId4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C628F64-EAB7-4F01-AA60-A2F3F8D8D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F19A60F-9B0A-4163-B06E-8A79AE9C6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5B88737-B47B-4C10-83D6-9946995C4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1923792-0429-4407-AB4F-7F4F109A2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546F265-CC9F-4C14-A0F7-D6F818013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B1D0774-085D-4EBC-80BC-193C9CEAC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CC71614-7252-4784-BC39-D3EB72E97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6EE94E7-2870-412E-B025-9F6FB4C3C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789A70B-7381-4A36-B46A-FFB4D6035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85D4511-772E-4039-BDA2-2456406A5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A28D929-B17A-4CAD-8821-7E230F320C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data base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XCHANGE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XCHANGE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RFACE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RFACE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AT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1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ATABASE C:\Program Files\USGS\Phreeqc Interactive 2.16.0\phreeqd.da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      2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      8.2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      8.4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nits     ppm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ensity  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412.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1291.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1076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399.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        0.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lkalinity 141.682 as H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1935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271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water    1 # kg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Beginning of initial solution calculations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solution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Solution composition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s           Molality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lkalinity       2.406e-003  2.406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 1.066e-002  1.066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 5.657e-001  5.657e-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               3.711e-008  3.711e-00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 1.058e-002  1.058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 5.507e-002  5.507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 4.854e-001  4.854e-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       2.926e-002  2.926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escription of solution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=   8.22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=   8.45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fic Conductance (uS/cm, 25 oC) = 5280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ensity (g/cm3)  =   1.0232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tivity of water  =   0.98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onic strength  =  6.748e-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ss of water (kg)  =  1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arbon (mol/kg)  =  2.182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O2 (mol/kg)  =  2.182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erature (deg C)  =  25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ctrical balance (eq)  =  7.967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rcent error, 100*(Cat-|An|)/(Cat+|An|)  =   0.0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terations  =   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H  = 1.110144e+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O  = 5.562980e+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istribution of species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       Log         Log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es                 Molality    Activity  Molality  Activity     Gamm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H-                   2.674e-006  1.629e-006    -5.573    -5.788    -0.21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+                    7.981e-009  6.026e-009    -8.098    -8.220    -0.12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  5.551e+001  9.806e-001     1.744    -0.009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4)            2.182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CO3-                 1.516e-003  1.024e-003    -2.819    -2.990    -0.17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2.198e-004  1.642e-004    -3.658    -3.78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1.669e-004  1.950e-004    -3.777    -3.710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8.924e-005  1.042e-004    -4.049    -3.982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6.726e-005  5.026e-005    -4.172    -4.299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4.603e-005  3.110e-005    -4.337    -4.507    -0.17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3-2                 3.826e-005  7.969e-006    -4.417    -5.099    -0.68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2.728e-005  3.187e-005    -4.564    -4.497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                   1.211e-005  1.415e-005    -4.917    -4.849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O3                 1.700e-016  1.985e-016   -15.770   -15.702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CO3+               1.423e-016  1.063e-016   -15.847   -15.973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1.066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+2                  9.504e-003  2.380e-003    -2.022    -2.623    -0.6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1.083e-003  1.265e-003    -2.965    -2.898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4.603e-005  3.110e-005    -4.337    -4.507    -0.17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2.728e-005  3.187e-005    -4.564    -4.497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OH+                 8.604e-008  6.429e-008    -7.065    -7.192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5.979e-011  4.467e-011   -10.223   -10.350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5.657e-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-                   5.657e-001  3.528e-001    -0.247    -0.452    -0.2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+                 6.769e-016  5.058e-016   -15.169   -15.296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+2                9.556e-019  2.978e-019   -18.020   -18.526    -0.5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2+                6.281e-019  4.693e-019   -18.202   -18.329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3                 1.417e-020  1.656e-020   -19.849   -19.781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           6.007e-01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+2                  4.525e-015  1.039e-015   -14.344   -14.984    -0.63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+                 6.769e-016  5.058e-016   -15.169   -15.296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SO4                 4.213e-016  4.921e-016   -15.375   -15.308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O3                 1.700e-016  1.985e-016   -15.770   -15.702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CO3+               1.423e-016  1.063e-016   -15.847   -15.973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OH+                 7.153e-017  5.345e-017   -16.145   -16.272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SO4+               2.609e-023  1.949e-023   -22.584   -22.710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3)           3.711e-00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               2.840e-008  3.318e-008    -7.547    -7.479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4-              6.591e-009  4.924e-009    -8.181    -8.308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2+              2.118e-009  1.583e-009    -8.674    -8.801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OH+2                9.425e-014  2.937e-014   -13.026   -13.532    -0.5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SO4+                1.093e-018  8.167e-019   -17.961   -18.088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+2                9.556e-019  2.978e-019   -18.020   -18.526    -0.5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2+                6.281e-019  4.693e-019   -18.202   -18.329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+3                  3.509e-019  2.795e-020   -18.455   -19.554    -1.0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SO4)2-             6.371e-020  4.761e-020   -19.196   -19.322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3                 1.417e-020  1.656e-020   -19.849   -19.781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2(OH)2+4            2.462e-024  2.322e-026   -23.609   -25.634    -2.02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SO4+2              4.228e-026  1.318e-026   -25.374   -25.880    -0.5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3(OH)4+5            1.122e-029  7.678e-033   -28.950   -32.115    -3.16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(0)            5.540e-03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                    2.770e-037  3.236e-037   -36.557   -36.490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1.058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+                    1.041e-002  6.495e-003    -1.982    -2.187    -0.2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1.627e-004  1.216e-004    -3.789    -3.91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OH                   3.137e-009  3.665e-009    -8.503    -8.436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5.507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+2                  4.742e-002  1.371e-002    -1.324    -1.863    -0.53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7.330e-003  8.562e-003    -2.135    -2.067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2.198e-004  1.642e-004    -3.658    -3.78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8.924e-005  1.042e-004    -4.049    -3.982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OH+                 1.084e-005  8.100e-006    -4.965    -5.092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4.854e-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+                   4.791e-001  3.387e-001    -0.320    -0.470    -0.15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6.053e-003  4.523e-003    -2.218    -2.34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1.669e-004  1.950e-004    -3.777    -3.710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6.726e-005  5.026e-005    -4.172    -4.299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OH                  3.117e-007  3.641e-007    -6.506    -6.439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6.554e-02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                    3.277e-020  3.828e-020   -19.485   -19.417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      2.926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4-2                 1.463e-002  2.664e-003    -1.835    -2.574    -0.74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7.330e-003  8.562e-003    -2.135    -2.067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6.053e-003  4.523e-003    -2.218    -2.34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1.083e-003  1.265e-003    -2.965    -2.898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1.627e-004  1.216e-004    -3.789    -3.91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SO4-                 2.089e-009  1.561e-009    -8.680    -8.807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5.979e-011  4.467e-011   -10.223   -10.350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SO4                 4.213e-016  4.921e-016   -15.375   -15.308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SO4+                1.093e-018  8.167e-019   -17.961   -18.088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SO4)2-             6.371e-020  4.761e-020   -19.196   -19.322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SO4+               2.609e-023  1.949e-023   -22.584   -22.710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SO4+2              4.228e-026  1.318e-026   -25.374   -25.880    -0.5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Saturation indices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nhydrite        -0.84   -5.20   -4.36  CaSO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ragonite         0.61   -7.72   -8.34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  0.76   -7.72   -8.48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           -3.38   -4.85   -1.47  C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olomite          2.41  -14.68  -17.09  CaMg(CO3)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(a)        0.19    5.08    4.89  Fe(OH)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oethite          6.09    5.09   -1.00  FeOOH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ypsum           -0.63   -5.21   -4.58  CaSO4:2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(g)           -33.30    9.70   43.00  H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           -1.51   -0.01    1.51  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alite           -2.50   -0.92    1.58  NaCl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ematite         14.20   10.19   -4.01  Fe2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Jarosite-K       -7.52  -16.73   -9.21  KFe3(SO4)2(OH)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elanterite     -15.41  -17.62   -2.21  FeSO4:7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          -16.52  -19.42   -2.89  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iderite         -9.19  -20.08  -10.89  Fe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simulatio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2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ru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80EEFB2-08FD-4576-80BD-289D915F9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IS.2 Seawat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emp      2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       8.2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        8.4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its     ppm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nsity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        412.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g        1291.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a        1076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         399.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        0.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kalinity 141.682 as H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        1935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(6)      271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water    1 # kg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47BC762-9C94-4B52-84C7-2D73E104E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534600" y="4414680"/>
            <a:ext cx="62420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ing data base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OLUTION_MASTER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OLUTION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ITZ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CHANGE_MASTER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CHANGE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URFACE_MASTER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URFACE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ing input data for simulation 1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ATABASE C:\Program Files\USGS\Phreeqc Interactive 2.16.0\pitzer.da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      2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H        8.2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e        8.4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dox     p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units     ppm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nsity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        412.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g        1291.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        1076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         399.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e        0.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kalinity 141.682 as H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l        1935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(6)      271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water    1 # kg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eginning of initial solution calculations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 solution 1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Solution composition------------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lements           Molality       Mol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kalinity       2.406e-003  2.406e-00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               1.066e-002  1.066e-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l               5.657e-001  5.657e-00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e               3.711e-008  3.711e-00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                1.058e-002  1.058e-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g               5.508e-002  5.508e-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               4.854e-001  4.854e-00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(6)             2.926e-002  2.926e-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Description of solution----------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H  =   8.220   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e  =   8.450   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nsity (g/cm3)  =   0.9970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ctivity of water  =   0.98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onic strength  =  7.218e-00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ss of water (kg)  =  1.000e+00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 carbon (mol/kg)  =  2.190e-00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 CO2 (mol/kg)  =  2.190e-00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erature (deg C)  =  25.00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lectrical balance (eq)  =  8.294e-00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ercent error, 100*(Cat-|An|)/(Cat+|An|)  =   0.07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terations  =  1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amma iterations  =   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smotic coefficient  =   0.9034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nsity of water  =   0.9970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 H  = 1.110144e+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otal O  = 5.562981e+00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Distribution of species----------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cInnes   MacInn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cInnes    Log       Log         Log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pecies                 Molality    Activity  Molality  Activity     Gamma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OH-                   3.150e-006  1.636e-006    -5.502    -5.786    -0.28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+                    7.414e-009  6.026e-009    -8.130    -8.220    -0.09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2O                   5.551e+001  9.813e-001     1.744    -0.008     0.00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(4)            2.190e-00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CO3-                 1.956e-003  1.067e-003    -2.709    -2.972    -0.26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3-2                 9.885e-005  8.109e-006    -4.005    -5.091    -1.08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gCO3                 9.495e-005  9.495e-005    -4.023    -4.023     0.00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CO3                 2.809e-005  2.809e-005    -4.551    -4.551     0.00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2                   1.261e-005  1.425e-005    -4.899    -4.846     0.05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              1.066e-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+2                  1.063e-002  2.445e-003    -1.973    -2.612    -0.63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CO3                 2.809e-005  2.809e-005    -4.551    -4.551     0.00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l              5.657e-00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l-                   5.657e-001  3.524e-001    -0.247    -0.453    -0.20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e              3.711e-00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e+2                  3.711e-008  7.959e-009    -7.430    -8.099    -0.669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               1.058e-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+                    1.058e-002  6.889e-003    -1.976    -2.162    -0.18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g              5.508e-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g+2                  5.498e-002  1.382e-002    -1.260    -1.860    -0.60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gCO3                 9.495e-005  9.495e-005    -4.023    -4.023     0.00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gOH+                 3.593e-006  3.493e-006    -5.444    -5.457    -0.01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              4.854e-00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+                   4.854e-001  3.426e-001    -0.314    -0.465    -0.15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(6)            2.926e-00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O4-2                 2.926e-002  2.534e-003    -1.534    -2.596    -1.06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SO4-                 2.281e-009  1.455e-009    -8.642    -8.837    -0.19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Saturation indices-------------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hase               SI log IAP  log K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nhydrite        -0.85   -5.21   -4.36  CaSO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agonite         0.52   -7.70   -8.22  Ca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canite         -5.14   -6.92   -1.78  K2SO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ischofite       -7.27   -2.81    4.46  MgCl2:6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edite         -5.67   -8.02   -2.35  Na2Mg(SO4)2:4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rucite          -2.55  -13.43  -10.88  Mg(OH)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Burkeite        -12.30  -13.08   -0.77  Na6CO3(SO4)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lcite           0.70   -7.70   -8.41  Ca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arnallite       -9.76   -5.43    4.33  KMgCl3:6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2(g)           -3.38   -4.85   -1.47  CO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olomite          2.43  -14.65  -17.08  CaMg(CO3)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psomite         -2.63   -4.51   -1.88  MgSO4:7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aylussite       -4.34  -13.77   -9.42  CaNa2(CO3)2:5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laserite        -8.34  -12.14   -3.80  NaK3(SO4)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lauberite       -3.49   -8.73   -5.25  Na2Ca(SO4)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Gypsum           -0.64   -5.22   -4.58  CaSO4:2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2O(g)           -1.52   -0.01    1.51  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alite           -2.49   -0.92    1.57  NaC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exahydrite      -2.87   -4.50   -1.63  MgSO4:6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ainite          -6.90   -7.10   -0.19  KMgClSO4:3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alicinite       -5.41  -15.47  -10.06  KH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Kieserite        -4.34   -4.46   -0.12  MgSO4: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abile_S         -6.61  -12.28   -5.67  Na4Ca(SO4)3:2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eonhardite      -3.60   -4.49   -0.89  MgSO4:4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eonite          -7.43  -11.41   -3.98  K2Mg(SO4)2:4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agnesite         0.88   -6.95   -7.83  Mg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irabilite       -2.40   -3.61   -1.21  Na2SO4:10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isenite        -73.98  -84.79  -10.81  K8H6(SO4)7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hcolite        -3.03  -13.78  -10.74  NaH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atron           -5.28   -6.10   -0.82  Na2CO3:10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squehonite     -1.81   -6.98   -5.17  MgCO3:3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entahydrite     -3.21   -4.50   -1.28  MgSO4:5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irssonite       -4.51  -13.74   -9.23  Na2Ca(CO3)2:2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lyhalite       -8.06  -21.81  -13.74  K2MgCa2(SO4)4:2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ortlandite      -8.99  -14.18   -5.19  Ca(OH)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choenite        -7.10  -11.42   -4.33  K2Mg(SO4)2:6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ylvite          -3.51   -2.61    0.90  KC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yngenite        -4.69  -12.14   -7.45  K2Ca(SO4)2: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rona            -8.43  -19.81  -11.38  Na3H(CO3)2:2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of simulation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ing input data for simulation 2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nd of run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16AA576-8DFF-4787-8960-214B23545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() indicates molality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a. Ca(total)= 1.066e-2 = (Ca+2) + (CaSO4) + (CaHCO3+) + (CaCO3) + (CaOH+) + (CaHSO4+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b. Ca(total) = 1.066e-2 = (Ca+2) + (CaCO3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a. 9.5/10.7 ~ 0.9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b. 1.063/1.066 ~ 1.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3a. 3.509e-019 / 3.711e-008 ~ 1e-1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3b. No Fe+3 io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4a. log activity CO3-2 = -5.091; log gamma CO3-2 = -0.6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4b. Log activity CO3-2 = -5.099; log gamma CO3-2 = -1.0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5a. SI(calcite) = 0.7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5b. SI(calcite) = 0.7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put file: H:\ntc\07\Solutions.working\is2.pqi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utput file: H:\ntc\07\Solutions.working\is2.pq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atabase file: C:\Program Files\USGS\Phreeqc Interactive 2.13.2\phreeqc.da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data base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XCHANGE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XCHANGE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RFACE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RFACE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AT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1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ATABASE C:\Program Files\USGS\Phreeqc Interactive 2.13.2\phreeqc.da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      2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      8.2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      8.4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nits     ppm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ensity  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412.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1291.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1076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399.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        0.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lkalinity 141.682 as H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1935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271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water    1 # kgg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Beginning of initial solution calculations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solution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Solution composition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s           Molality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lkalinity       2.406e-003  2.406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 1.066e-002  1.066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 5.657e-001  5.657e-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               3.711e-008  3.711e-00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 1.058e-002  1.058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 5.507e-002  5.507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 4.854e-001  4.854e-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       2.926e-002  2.926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escription of solution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=   8.22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=   8.45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tivity of water  =   0.98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onic strength  =  6.748e-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ss of water (kg)  =  1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arbon (mol/kg)  =  2.182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O2 (mol/kg)  =  2.182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erature (deg C)  =  25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ctrical balance (eq)  =  7.967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rcent error, 100*(Cat-|An|)/(Cat+|An|)  =   0.0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terations  =   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H  = 1.110144e+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O  = 5.562980e+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istribution of species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       Log         Log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es                 Molality    Activity  Molality  Activity     Gamm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H-                   2.674e-006  1.629e-006    -5.573    -5.788    -0.21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+                    7.981e-009  6.026e-009    -8.098    -8.220    -0.12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  5.551e+001  9.806e-001     1.744    -0.009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4)            2.182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CO3-                 1.516e-003  1.024e-003    -2.819    -2.990    -0.17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2.198e-004  1.642e-004    -3.658    -3.78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1.669e-004  1.950e-004    -3.777    -3.710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8.924e-005  1.042e-004    -4.049    -3.982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6.726e-005  5.026e-005    -4.172    -4.299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4.603e-005  3.110e-005    -4.337    -4.507    -0.17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3-2                 3.826e-005  7.969e-006    -4.417    -5.099    -0.68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2.728e-005  3.187e-005    -4.564    -4.497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                   1.211e-005  1.415e-005    -4.917    -4.849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O3                 1.700e-016  1.985e-016   -15.770   -15.702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CO3+               1.423e-016  1.063e-016   -15.847   -15.973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1.066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+2                  9.504e-003  2.380e-003    -2.022    -2.623    -0.6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1.083e-003  1.265e-003    -2.965    -2.898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4.603e-005  3.110e-005    -4.337    -4.507    -0.17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2.728e-005  3.187e-005    -4.564    -4.497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OH+                 8.604e-008  6.429e-008    -7.065    -7.192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5.979e-011  4.467e-011   -10.223   -10.350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5.657e-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-                   5.657e-001  3.528e-001    -0.247    -0.452    -0.2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+                 6.769e-016  5.058e-016   -15.169   -15.296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+2                9.556e-019  2.978e-019   -18.020   -18.526    -0.5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2+                6.281e-019  4.693e-019   -18.202   -18.329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3                 1.417e-020  1.656e-020   -19.849   -19.781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           6.007e-01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+2                  4.525e-015  1.039e-015   -14.344   -14.984    -0.63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+                 6.769e-016  5.058e-016   -15.169   -15.296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SO4                 4.213e-016  4.921e-016   -15.375   -15.308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O3                 1.700e-016  1.985e-016   -15.770   -15.702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CO3+               1.423e-016  1.063e-016   -15.847   -15.973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OH+                 7.153e-017  5.345e-017   -16.145   -16.272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SO4+               2.609e-023  1.949e-023   -22.584   -22.710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3)           3.711e-00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               2.840e-008  3.318e-008    -7.547    -7.479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4-              6.591e-009  4.924e-009    -8.181    -8.308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2+              2.118e-009  1.583e-009    -8.674    -8.801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OH+2                9.425e-014  2.937e-014   -13.026   -13.532    -0.5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SO4+                1.093e-018  8.167e-019   -17.961   -18.088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+2                9.556e-019  2.978e-019   -18.020   -18.526    -0.5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2+                6.281e-019  4.693e-019   -18.202   -18.329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+3                  3.509e-019  2.795e-020   -18.455   -19.554    -1.0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SO4)2-             6.371e-020  4.761e-020   -19.196   -19.322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Cl3                 1.417e-020  1.656e-020   -19.849   -19.781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2(OH)2+4            2.462e-024  2.322e-026   -23.609   -25.634    -2.02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SO4+2              4.228e-026  1.318e-026   -25.374   -25.880    -0.5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3(OH)4+5            1.122e-029  7.678e-033   -28.950   -32.115    -3.16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(0)            5.540e-03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                    2.770e-037  3.236e-037   -36.557   -36.490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1.058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+                    1.041e-002  6.495e-003    -1.982    -2.187    -0.2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1.627e-004  1.216e-004    -3.789    -3.91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OH                   3.137e-009  3.665e-009    -8.503    -8.436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5.507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+2                  4.742e-002  1.371e-002    -1.324    -1.863    -0.53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7.330e-003  8.562e-003    -2.135    -2.067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2.198e-004  1.642e-004    -3.658    -3.78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8.924e-005  1.042e-004    -4.049    -3.982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OH+                 1.084e-005  8.100e-006    -4.965    -5.092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4.854e-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+                   4.791e-001  3.387e-001    -0.320    -0.470    -0.15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6.053e-003  4.523e-003    -2.218    -2.34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1.669e-004  1.950e-004    -3.777    -3.710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6.726e-005  5.026e-005    -4.172    -4.299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OH                  3.117e-007  3.641e-007    -6.506    -6.439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6.554e-02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                    3.277e-020  3.828e-020   -19.485   -19.417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      2.926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4-2                 1.463e-002  2.664e-003    -1.835    -2.574    -0.74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7.330e-003  8.562e-003    -2.135    -2.067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6.053e-003  4.523e-003    -2.218    -2.34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1.083e-003  1.265e-003    -2.965    -2.898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1.627e-004  1.216e-004    -3.789    -3.915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SO4-                 2.089e-009  1.561e-009    -8.680    -8.807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5.979e-011  4.467e-011   -10.223   -10.350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SO4                 4.213e-016  4.921e-016   -15.375   -15.308     0.0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SO4+                1.093e-018  8.167e-019   -17.961   -18.088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SO4)2-             6.371e-020  4.761e-020   -19.196   -19.322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SO4+               2.609e-023  1.949e-023   -22.584   -22.710    -0.1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HSO4+2              4.228e-026  1.318e-026   -25.374   -25.880    -0.5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Saturation indices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nhydrite        -0.84   -5.20   -4.36  CaSO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ragonite         0.61   -7.72   -8.34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  0.76   -7.72   -8.48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           -3.38   -4.85   -1.47  C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olomite          2.41  -14.68  -17.09  CaMg(CO3)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(a)        0.19    5.08    4.89  Fe(OH)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oethite          6.09    5.09   -1.00  FeOOH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ypsum           -0.63   -5.21   -4.58  CaSO4:2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(g)           -33.34  -36.49   -3.15  H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           -1.52   -0.01    1.51  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alite           -2.50   -0.92    1.58  NaCl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ematite         14.20   10.19   -4.01  Fe2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Jarosite-K       -7.52  -16.73   -9.21  KFe3(SO4)2(OH)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elanterite     -15.41  -17.62   -2.21  FeSO4:7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          -16.52  -19.42   -2.89  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iderite         -9.19  -20.08  -10.89  Fe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simulatio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2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ru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28BDE6D-6E35-46F6-8E5E-5F9AFF101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pm, temperature independen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g/L, temperature dependen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g vs moles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ol/kg wat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gs ~ kg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nsity of seawater 1.02; Ppm ~ mg/L; mol/L ~ mol/kg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789BDE9-3CB3-4AA1-9969-954F47CDC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.2a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() indicates molality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[] indicates activity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.  K = [HCO3-][H+]/([CO2][H2O]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.  Log K = log([HCO3-]) + log([H+]) - log([CO2]) + log([H2O]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3.  Log K = -2.99 + (-8.22) – (-4.85) – (–.009) = – 6.35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.  pH 6.3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0EE8B70-85E6-47E7-8185-3126AA9BA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6C1CFB9-423D-4F99-AB58-7867C8F05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urier New"/>
              </a:rPr>
              <a:t>IS.3.</a:t>
            </a:r>
            <a:r>
              <a:rPr b="0" lang="en-US" sz="12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Courier New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. CO2 decreases, pH increases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. CO2 increases, pH decreases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3. CaCO3 + CO2 + H2O = Ca+2 + 2HCO3-; CO2 decreases, HCO3- increases, pH increases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8ADE7E1-E9C7-4149-B3E9-96FEF6587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06464A1-1224-4463-82E0-F7FE8AA06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3D7543E-D156-4E82-B03F-FA131507E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85F372F-37EC-45D5-8865-F3DD3B7D07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10F912F-9EA0-4BED-B2E3-0F700232C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.1. Question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or most waters, we can assume most of the mass in solution is water. Mass of water in 1 kg seawater ~ 1 kg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12/40 ~ 10 mmol/kg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42/61 ~ 2.4 meq/kg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.4*50 ~ 120 mg/kgw as H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ne, density will only be used when concentration is specified as per liter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D48B7C7-D799-45C9-8323-B91D81416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IS 4a 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C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LECTED_OUTPU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file                 is4a.se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reset                fal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ph                   tru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molalities           CO2  HCO3-  CO3-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586" name="Object 5"/>
          <p:cNvGraphicFramePr/>
          <p:nvPr/>
        </p:nvGraphicFramePr>
        <p:xfrm>
          <a:off x="1071720" y="7554960"/>
          <a:ext cx="5136840" cy="263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7554960"/>
                    <a:ext cx="5136840" cy="26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6C6FC83-A9D0-4FF3-A93C-2B4160957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body"/>
          </p:nvPr>
        </p:nvSpPr>
        <p:spPr>
          <a:xfrm>
            <a:off x="839520" y="4425480"/>
            <a:ext cx="5141880" cy="4335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IS 4b. 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Alkalinity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LECTED_OUTPU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file                 is4b.se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reset                fal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ph                   tru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totals               C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molalities           CO2  HCO3-  CO3-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graphicFrame>
        <p:nvGraphicFramePr>
          <p:cNvPr id="591" name="Object 5"/>
          <p:cNvGraphicFramePr/>
          <p:nvPr/>
        </p:nvGraphicFramePr>
        <p:xfrm>
          <a:off x="1147680" y="7174080"/>
          <a:ext cx="3718080" cy="190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174080"/>
                    <a:ext cx="371808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6A951BF-8C76-4C37-B9B7-9CB65F07A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 4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. Total CO2 = (CO2) + (HCO3-) + (CO3-2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. Alkalinity = (HCO3-) + 2(CO3-2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3. Alkalinity = (HCO3-) + 2(CO3-2) + (OH-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. Alkalinity = (HCO3-) + 2(CO3-2) + (OH-) – (H+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679E92E-0C8D-4FE4-9100-2764D2C7F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5373AE8-2979-4353-9C10-460F28A9B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3535376-AE8E-406E-A4E9-BDF729512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.7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. NH4+ + 3H2O  = NO3- + 10H+ + 8e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 K = -119.1 = log[NO3-] – 10pH – 8pe – log[NH4+] - 3log[H2O]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8pe = log[NO3-] – log[NH4+] + 119.1 – 10pH – 3log[H2O]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 = 1/8log( [NO3-] / [NH4+] ) – 10/8pH + 14.9 – 3/8log[H2O]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AEFB2A0-BB25-4A66-A37F-89E4F4BE6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60BDD94-DE38-46DA-B11D-3BC38E0C5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06A9CFB-E1CF-498B-BD37-084A91085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5BC134F-1C52-438C-84FC-291784218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9" name="Slide Number Placeholder 3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C501C16-371A-425B-85F9-9D1A1E071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0CB5151-3728-425F-B2DD-7B18EE1D2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IS.8 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       7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       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    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       7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       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(2) 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       7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       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(3)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       7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       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ox     Fe(2)/Fe(3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(2) 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(3) 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8C6A9B5-00BB-479A-A5A5-B50DFD294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iron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.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ferrous iron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tal ferric iron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e-8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e(3)/Fe(2) 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.4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I Fe(OH)3(a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.4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4.4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I Goethit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.9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0.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0.3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put file: C:\NTC\07\Solutions.working\is8.pqi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utput file: C:\NTC\07\Solutions.working\is8.pq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atabase file: C:\Program Files\USGS\Phreeqc Interactive 2.13.2\phreeqc.da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data base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XCHANGE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XCHANGE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RFACE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RFACE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AT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1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ATABASE C:\Program Files\USGS\Phreeqc Interactive 2.13.2\phreeqc.da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      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      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       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      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      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    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      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      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3)   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      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      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dox     Fe(2)/Fe(3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    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3)    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Beginning of initial solution calculations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solution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Solution composition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s           Molality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               1.000e-003  1.0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escription of solution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=   7.00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=   0.00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tivity of water  =   1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onic strength  =  1.996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ss of water (kg)  =  1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alkalinity (eq/kg)  =  2.755e-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arbon (mol/kg)  =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O2 (mol/kg)  =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erature (deg C)  =  25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ctrical balance (eq)  =  1.997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rcent error, 100*(Cat-|An|)/(Cat+|An|)  =  99.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terations  =   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H  = 1.110124e+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O  = 5.550622e+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istribution of species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       Log         Log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es                 Molality    Activity  Molality  Activity     Gamm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H-                   1.052e-007  1.001e-007    -6.978    -7.000    -0.02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+                    1.047e-007  1.000e-007    -6.980    -7.000    -0.02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  5.551e+001  1.000e+000     1.744    -0.00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           1.0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+2                  9.972e-004  8.225e-004    -3.001    -3.085    -0.08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OH+                 2.733e-006  2.601e-006    -5.563    -5.585    -0.02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3)           3.948e-00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               2.162e-008  2.163e-008    -7.665    -7.665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2+              1.764e-008  1.679e-008    -7.753    -7.775    -0.02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4-              2.073e-010  1.973e-010    -9.683    -9.705    -0.02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OH+2                6.181e-012  5.071e-012   -11.209   -11.295    -0.08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+3                  1.191e-016  7.855e-017   -15.924   -16.105    -0.18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2(OH)2+4            1.527e-021  6.923e-022   -20.816   -21.160    -0.34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3(OH)4+5            8.362e-027  2.429e-027   -26.078   -26.615    -0.53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(0)            1.415e-01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                    7.076e-018  7.079e-018   -17.150   -17.15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                    0.000e+000  0.000e+000   -58.080   -58.08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Saturation indices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(a)        0.00    4.90    4.89  Fe(OH)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oethite          5.90    4.90   -1.00  FeOOH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(g)           -14.00  -17.15   -3.15  H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           -1.51   -0.00    1.51  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ematite         13.80    9.79   -4.01  Fe2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          -55.19  -58.08   -2.89  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solution 2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Solution composition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s           Molality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            1.000e-003  1.0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escription of solution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=   7.00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=   0.00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tivity of water  =   1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onic strength  =  1.996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ss of water (kg)  =  1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alkalinity (eq/kg)  =  2.733e-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arbon (mol/kg)  =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O2 (mol/kg)  =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erature (deg C)  =  25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ctrical balance (eq)  =  1.997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rcent error, 100*(Cat-|An|)/(Cat+|An|)  =  99.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terations  =   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H  = 1.110124e+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O  = 5.550622e+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istribution of species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       Log         Log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es                 Molality    Activity  Molality  Activity     Gamm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H-                   1.052e-007  1.001e-007    -6.978    -7.000    -0.02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+                    1.047e-007  1.000e-007    -6.980    -7.000    -0.02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  5.551e+001  1.000e+000     1.744    -0.00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           1.0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+2                  9.973e-004  8.225e-004    -3.001    -3.085    -0.08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OH+                 2.733e-006  2.601e-006    -5.563    -5.585    -0.02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(0)            1.415e-01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                    7.076e-018  7.079e-018   -17.150   -17.15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                    0.000e+000  0.000e+000   -58.080   -58.08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Saturation indices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(g)           -14.00  -17.15   -3.15  H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           -1.51   -0.00    1.51  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          -55.19  -58.08   -2.89  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solution 3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Solution composition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s           Molality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3)            1.000e-003  1.0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escription of solution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=   7.00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=   0.00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tivity of water  =   1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onic strength  =  2.224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ss of water (kg)  =  1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alkalinity (eq/kg)  =  5.66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arbon (mol/kg)  =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O2 (mol/kg)  =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erature (deg C)  =  25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ctrical balance (eq)  =  4.34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rcent error, 100*(Cat-|An|)/(Cat+|An|)  =  97.6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terations  =   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H  = 1.110150e+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O  = 5.550878e+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istribution of species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       Log         Log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es                 Molality    Activity  Molality  Activity     Gamm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H-                   1.018e-007  1.001e-007    -6.992    -7.000    -0.00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+                    1.017e-007  1.000e-007    -6.993    -7.000    -0.00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  5.551e+001  1.000e+000     1.744    -0.00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3)           1.0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               5.558e-004  5.558e-004    -3.255    -3.255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2+              4.389e-004  4.315e-004    -3.358    -3.365    -0.00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4-              5.157e-006  5.069e-006    -5.288    -5.295    -0.00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OH+2                1.396e-007  1.303e-007    -6.855    -6.885    -0.03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+3                  2.347e-012  2.018e-012   -11.630   -11.695    -0.06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2(OH)2+4            6.013e-013  4.570e-013   -12.221   -12.340    -0.11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3(OH)4+5            6.325e-014  4.119e-014   -13.199   -13.385    -0.18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(0)            1.416e-01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                    7.079e-018  7.079e-018   -17.150   -17.15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                    0.000e+000  0.000e+000   -58.080   -58.08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Saturation indices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(a)        4.41    9.30    4.89  Fe(OH)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oethite         10.30    9.30   -1.00  FeOOH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(g)           -14.00  -17.15   -3.15  H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           -1.51   -0.00    1.51  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ematite         22.62   18.61   -4.01  Fe2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          -55.19  -58.08   -2.89  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solution 4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Solution composition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s           Molality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            1.000e-003  1.0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3)            1.000e-003  1.0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escription of solution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=   7.00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=   0.00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tivity of water  =   1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onic strength  =  2.223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ss of water (kg)  =  1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alkalinity (eq/kg)  =  5.601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arbon (mol/kg)  =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O2 (mol/kg)  =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erature (deg C)  =  25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ctrical balance (eq)  =  2.44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rcent error, 100*(Cat-|An|)/(Cat+|An|)  =  99.5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terations  =   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H  = 1.110150e+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O  = 5.550878e+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Redox couples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dox couple             pe  Eh (volts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/Fe(3)          4.4073      0.260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istribution of species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       Log         Log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es                 Molality    Activity  Molality  Activity     Gamm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H-                   1.055e-007  1.001e-007    -6.977    -7.000    -0.02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+                    1.050e-007  1.000e-007    -6.979    -7.000    -0.02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  5.551e+001  1.000e+000     1.744    -0.00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           1.0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+2                  9.973e-004  8.146e-004    -3.001    -3.089    -0.08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OH+                 2.713e-006  2.576e-006    -5.566    -5.589    -0.02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3)           1.0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               5.470e-004  5.473e-004    -3.262    -3.262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2+              4.476e-004  4.249e-004    -3.349    -3.372    -0.02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4-              5.258e-006  4.991e-006    -5.279    -5.302    -0.02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OH+2                1.580e-007  1.283e-007    -6.801    -6.892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+3                  3.076e-012  1.987e-012   -11.512   -11.702    -0.1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2(OH)2+4            1.019e-012  4.431e-013   -11.992   -12.353    -0.36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3(OH)4+5            1.444e-013  3.934e-014   -12.840   -13.405    -0.56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(0)            2.168e-02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                    1.084e-026  1.085e-026   -25.965   -25.965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                    0.000e+000  0.000e+000   -40.451   -40.451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Saturation indices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(a)        4.41    9.30    4.89  Fe(OH)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oethite         10.30    9.30   -1.00  FeOOH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(g)           -22.81  -25.96   -3.15  H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           -1.51   -0.00    1.51  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ematite         22.60   18.60   -4.01  Fe2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          -37.56  -40.45   -2.89  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simulatio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2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ru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5C02CE7-454C-4FD1-9D00-6EA36FD05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8280" y="4414680"/>
            <a:ext cx="588348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28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.8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s 1: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1: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. Fe distributed by using pe 0, Fe(2) and Fe(3) defined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. Fe(3) is defined, goethite SI can be calculated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2: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. Fe(2) is defined to be 1 mmol/kgw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(3) is undefined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. Fe(3) is not defined, goethite SI can not be calculated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3: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. Fe(2) is undefined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(3) is defined to be 1 mmol/kgw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. Fe(3) is defined, goethite SI can be calculated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4: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. Fe(2) and Fe(3) defined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. Fe(3) is defined, goethite SI can be calculated.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stion 2: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 from Fe(2)/Fe(3) couple is 4.4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stion 3: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 equation is for the activity of Fe+3 and Fe+2 ions. In solution, we defined the sum of the molalities of the Fe(3) and Fe(2) species. Fe(2) is predominantly (Fe+2) ion, but Fe(OH)3 and Fe(OH)2+ are the predominant Fe(3) species. (Fe+3) is 8 orders of magnitude less than the predominant species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stion 4: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ine iron as Fe(2) or adjust pe sufficiently low to produce mostly Fe(2). Note: goethite SI will not be calculated in the first case and will be completely dependent on your choice of pe for the second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422A24C-B2B4-4703-BDAB-5667DE8279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BAB3EEC-A4B5-48E3-B3CD-CCAD9075C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8689590-7FE3-4DA1-832E-9855E3A36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E2C24BA-96DA-4B2C-85E3-F8A4F7690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2377E20-13BB-4C57-9175-46CB8CB85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E2E818D-222D-4C0B-B887-3110B9AB1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body"/>
          </p:nvPr>
        </p:nvSpPr>
        <p:spPr>
          <a:xfrm>
            <a:off x="610920" y="4425480"/>
            <a:ext cx="5654520" cy="433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22860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S.10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xercise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# IS.10 Exercis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harg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harg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nswers: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6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= 10.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60000"/>
              </a:lnSpc>
              <a:spcBef>
                <a:spcPts val="300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= 1.35 mmol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A98189B-C8DF-4FE4-89D5-3503DCA65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03AF111-54BE-47F9-832E-27CE5E1E9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F2292F5-13C5-4F5A-B97E-995FFAF4A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3D81980-B35B-42E9-BE7E-821C827DF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C1E7996-AFCA-4D59-A029-BD836FAB9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IS.11. 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1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emp      2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       4.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        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its     mg/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nsity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        0.38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g        0.04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a        0.14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         0.03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(4)      1 CO2(g)     -3.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        0.23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(6)      1.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(5)      0.237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(-3)     0.20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         0.000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water    1 # kg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. 1.1e-5 mol/kgwat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756245B-F24E-4812-823B-E5CC7B3A6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96E226B-1344-4D28-867E-AB9A5C3707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534960" y="4414680"/>
            <a:ext cx="603576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.12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IS.12. 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1 Ai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temp 2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7  charg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2(g)   -3.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2 Soil zon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temp 2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7  charg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2(g)   -2.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2 Soil zon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temp 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7  charg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2(g)   -2.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S.12.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H = 5.66, TDIC =  13 umol/kg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H = 4.91, TDIC = 353 umol/kg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H = 4.87, TDIC = 552 umol/kg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C0076E3-9B76-420E-BC7F-E58D2C603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MASTER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element species        alk     gfw_formula     element_gf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       Ca+2           0.0     Ca              40.0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        CO3-2          2.0     HCO3            12.011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(+4)    CO3-2          2.0     H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(-4)    CH4            0.0     CH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kalinity CO3-2        1.0     Ca0.5(CO3)0.5   50.0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6B0F39E-02D5-4084-BB27-4DFA39D3F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534960" y="4414680"/>
            <a:ext cx="603576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.12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IS.12. 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units    mg/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umb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Temp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C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Mg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K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N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Alkalinity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C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Si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S(6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A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cit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as CaCO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Kaolinit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7.4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10.3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2.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3.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33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29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28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9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7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S.12.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= 8.7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8.3e-8 mol/kg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4978F53-787C-42EB-A2CA-21EC4CAAF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1401F22-9907-4885-BC7E-6614BD3BC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A968819-7C72-4891-AFCB-676F1897A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84EF258-63EE-4E94-8D98-CC4C99A39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0B93E99-FC0D-4A77-851A-FD4456E6A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159B850-C817-4C85-B476-3F843897C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0659D5C-8E7A-40E6-860D-6BDCED54A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FD5C048-6898-4445-A609-DD9FBB134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101C49C-1657-43F5-B017-FFE2CFFFF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A93DE31-6BE8-43E4-9600-C6A2FD0D8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82F05B9-90FC-46A1-93A9-3B66268C5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9446-B889-49A6-A5B1-AC485D175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F228-0353-41A4-A277-F63884B7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A46F-41F2-4C31-B138-D07EF47F8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71B8-80D7-413C-BE92-990532E5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FEE2-7867-46C9-8759-814E939DE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7833-8D81-47B3-9FF6-4A67747E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44DA-6046-4225-A0D3-61672398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4B59-0AD4-4D5F-9F51-FFCF6CC3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A56FC-4B13-49BB-8B0B-DAB43280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5E91-9E25-4455-B26C-7A6759EF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60F5-157A-461D-8EE2-FD601422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9806-B784-46C3-906B-EC2BCC92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EF7D8-5DF7-48AB-8F56-04E2D335D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64D5-504A-4AB4-8CA7-12BC6515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E86E-96D5-424A-ADB3-C65496CC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965F4-CE63-4BDC-870E-EC12815E9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B38D-3D3C-48A4-95E1-AF47747FD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CBAE-8EE0-45AB-B915-F967B55E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6BCD-95E2-4D42-99C9-20886EF6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B781-637F-48A9-861C-A274E6F3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DB42-51D4-487E-8763-0A5CC738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FD5F-6468-40B1-AA93-CF72B4A4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DDDD-B592-4017-95EE-1E994C7C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E8F3-20A1-4623-BA75-369314CB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4D02F-4B9D-41EE-8EE6-10664C63C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3" descr="Image of small USGS Identifier"/>
          <p:cNvPicPr/>
          <p:nvPr/>
        </p:nvPicPr>
        <p:blipFill>
          <a:blip r:embed="rId2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3" descr="Image of small USGS Identifier"/>
          <p:cNvPicPr/>
          <p:nvPr/>
        </p:nvPicPr>
        <p:blipFill>
          <a:blip r:embed="rId2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3" descr="Image of small USGS Identifier"/>
          <p:cNvPicPr/>
          <p:nvPr/>
        </p:nvPicPr>
        <p:blipFill>
          <a:blip r:embed="rId3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DEBD-F7B0-4748-9E97-15EE23A4F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onda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odynamics of aqueous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t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and SOLUTION _SP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—ratio of H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—ratio of oxidized/reduced valence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bound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ation ind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min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potential reac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2676-85E9-4884-8384-A4D520C5B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Databas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280" y="159984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 association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reeqc.dat—simplest (subset of Wateq4f.da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q4f.dat—more trace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teq.dat—translated from minteq v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teq.v4.dat—translated from minteq v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lnl.dat—most complete set of elements, temperature 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.dat—(in development) thermodynamics of isoto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tzer specific interaction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tzer.dat—Specific interaction model (many paramet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 specific interaction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t.dat—Simplified specific interaction model (1 parame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C76B-4784-4AC6-ADD9-9CB0F0458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HREEQC Databas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data blocks related to spe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UTION_MASTER_SPEC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Redox states and gram formula m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UTION_SPEC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Reaction and log 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A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Reaction and log 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4326-2830-44F8-997F-72BA25B2A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What is a speciation calculation?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nt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-balance—sum of the calcium species = total calc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s-action—activities of products divided by reactants = 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ty coefficients—function of ionic str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lalities,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uration ind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1EDA-FA4C-4193-9735-29A8EBF37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ass-Balance Equa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162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d concentration of sulfate = (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Mg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Na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Ca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K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H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CaH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Fe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Fe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Fe(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FeH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(FeH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) indicates mol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44CE-9AB1-40F0-9F6F-9405F6DBC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ass-Action Equa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90560" y="182844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a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4"/>
              <p:cNvSpPr txBox="1"/>
              <p:nvPr/>
            </p:nvSpPr>
            <p:spPr>
              <a:xfrm>
                <a:off x="3200400" y="2925720"/>
                <a:ext cx="266688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SO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O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4" name="Text Box 5"/>
          <p:cNvSpPr/>
          <p:nvPr/>
        </p:nvSpPr>
        <p:spPr>
          <a:xfrm>
            <a:off x="838800" y="5334120"/>
            <a:ext cx="265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] indicates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6"/>
              <p:cNvSpPr txBox="1"/>
              <p:nvPr/>
            </p:nvSpPr>
            <p:spPr>
              <a:xfrm>
                <a:off x="1143000" y="4381560"/>
                <a:ext cx="67816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[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aSO</m:t>
                        </m:r>
                      </m:e>
                      <m:sub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sub>
                    </m:sSub>
                    <m:r>
                      <m:t xml:space="preserve">]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a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[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</m:e>
                      <m:sub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AD7A-94C7-486B-BF75-B797F1EE6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90560" y="15192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ctivit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380880" y="838080"/>
                <a:ext cx="19814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8"/>
              <p:cNvSpPr txBox="1"/>
              <p:nvPr/>
            </p:nvSpPr>
            <p:spPr>
              <a:xfrm>
                <a:off x="380880" y="3417840"/>
                <a:ext cx="350532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z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μ</m:t>
                            </m:r>
                          </m:e>
                        </m:ra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μ</m:t>
                            </m:r>
                          </m:e>
                        </m:rad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70" name="Object 10"/>
          <p:cNvGraphicFramePr/>
          <p:nvPr/>
        </p:nvGraphicFramePr>
        <p:xfrm>
          <a:off x="4952880" y="1600200"/>
          <a:ext cx="398484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600200"/>
                    <a:ext cx="398484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Text Box 13"/>
          <p:cNvSpPr/>
          <p:nvPr/>
        </p:nvSpPr>
        <p:spPr>
          <a:xfrm>
            <a:off x="380880" y="27925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Q activity co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14"/>
              <p:cNvSpPr txBox="1"/>
              <p:nvPr/>
            </p:nvSpPr>
            <p:spPr>
              <a:xfrm>
                <a:off x="380880" y="5245200"/>
                <a:ext cx="38102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μ</m:t>
                                </m:r>
                              </m:e>
                            </m:rad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μ</m:t>
                                </m:r>
                              </m:e>
                            </m:rad>
                          </m:den>
                        </m:f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3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μ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4" name="Text Box 16"/>
          <p:cNvSpPr/>
          <p:nvPr/>
        </p:nvSpPr>
        <p:spPr>
          <a:xfrm>
            <a:off x="380880" y="461808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vies activity co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7"/>
              <p:cNvSpPr txBox="1"/>
              <p:nvPr/>
            </p:nvSpPr>
            <p:spPr>
              <a:xfrm>
                <a:off x="380880" y="1736640"/>
                <a:ext cx="198144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6" name="Slide Number Placeholder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7B58-4356-4D66-B466-6B859753B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ncharged Speci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83C1-B0BD-49E1-85BC-38F3E1822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2"/>
              <p:cNvSpPr txBox="1"/>
              <p:nvPr/>
            </p:nvSpPr>
            <p:spPr>
              <a:xfrm>
                <a:off x="3581280" y="1981080"/>
                <a:ext cx="16671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TextBox 6"/>
          <p:cNvSpPr/>
          <p:nvPr/>
        </p:nvSpPr>
        <p:spPr>
          <a:xfrm>
            <a:off x="1557720" y="3048120"/>
            <a:ext cx="640008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alled the Setschenow co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of 0.1 used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reeqc.dat, wateq4f.d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itzer Activity Coefficien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4"/>
              <p:cNvSpPr txBox="1"/>
              <p:nvPr/>
            </p:nvSpPr>
            <p:spPr>
              <a:xfrm>
                <a:off x="485640" y="1860480"/>
                <a:ext cx="817272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F</m:t>
                        </m:r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Z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c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c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ca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  <m:r>
                                      <m:t xml:space="preserve">+</m:t>
                                    </m:r>
                                  </m:e>
                                </m:nary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a</m:t>
                            </m:r>
                            <m:r>
                              <m:t xml:space="preserve">&lt;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a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a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z</m:t>
                                        </m:r>
                                      </m:e>
                                      <m:sub>
                                        <m:r>
                                          <m:t xml:space="preserve">m</m:t>
                                        </m:r>
                                      </m:sub>
                                    </m:sSub>
                                  </m:e>
                                </m:d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c</m:t>
                                    </m:r>
                                  </m:sub>
                                  <m:sup/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c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m</m:t>
                                            </m:r>
                                          </m:e>
                                          <m:sub>
                                            <m:r>
                                              <m:t xml:space="preserve">a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ca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nary>
                              </m:e>
                            </m:nary>
                          </m:sub>
                          <m:sup/>
                          <m:e/>
                        </m:nary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3" name="Text Box 6"/>
          <p:cNvSpPr/>
          <p:nvPr/>
        </p:nvSpPr>
        <p:spPr>
          <a:xfrm>
            <a:off x="380880" y="4114800"/>
            <a:ext cx="72550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centration of a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centration of 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 specific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7"/>
              <p:cNvSpPr txBox="1"/>
              <p:nvPr/>
            </p:nvSpPr>
            <p:spPr>
              <a:xfrm>
                <a:off x="457200" y="4878360"/>
                <a:ext cx="144792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Φ</m:t>
                    </m:r>
                    <m:r>
                      <m:t xml:space="preserve">,</m:t>
                    </m:r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Text Box 9"/>
          <p:cNvSpPr/>
          <p:nvPr/>
        </p:nvSpPr>
        <p:spPr>
          <a:xfrm>
            <a:off x="461520" y="5257800"/>
            <a:ext cx="815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of ionic strength, molalities of cations and a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FE00-2874-464B-A066-11A4EA36A2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IT Activity Coefficien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4"/>
              <p:cNvSpPr txBox="1"/>
              <p:nvPr/>
            </p:nvSpPr>
            <p:spPr>
              <a:xfrm>
                <a:off x="1897200" y="1919160"/>
                <a:ext cx="5343480" cy="13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z</m:t>
                        </m:r>
                      </m:e>
                      <m:sub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b>
                    </m:sSub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μ</m:t>
                            </m:r>
                          </m:e>
                        </m:rad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μ</m:t>
                            </m:r>
                          </m:e>
                        </m:rad>
                      </m:den>
                    </m:f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9" name="Text Box 6"/>
          <p:cNvSpPr/>
          <p:nvPr/>
        </p:nvSpPr>
        <p:spPr>
          <a:xfrm>
            <a:off x="380880" y="4114800"/>
            <a:ext cx="725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s of 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7"/>
              <p:cNvSpPr txBox="1"/>
              <p:nvPr/>
            </p:nvSpPr>
            <p:spPr>
              <a:xfrm>
                <a:off x="457200" y="4734000"/>
                <a:ext cx="37944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1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7A22-B466-405B-8196-3063F2044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896760" y="472428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 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380880" y="4114800"/>
            <a:ext cx="725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457200" y="54054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0.51, B = 1.5 at 25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queous Model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848720" cy="403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n associ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most elements (Al, 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ic strength &l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only in Na, Cl me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nsistent thermodynamic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0AF1-CC63-4C13-8A1B-B854C8C95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olution Definition and Speciation Calcula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3048120" y="2133720"/>
            <a:ext cx="2742840" cy="2133360"/>
            <a:chOff x="3048120" y="2133720"/>
            <a:chExt cx="2742840" cy="2133360"/>
          </a:xfrm>
        </p:grpSpPr>
        <p:sp>
          <p:nvSpPr>
            <p:cNvPr id="97" name="AutoShape 4"/>
            <p:cNvSpPr/>
            <p:nvPr/>
          </p:nvSpPr>
          <p:spPr>
            <a:xfrm>
              <a:off x="3048120" y="2133720"/>
              <a:ext cx="2674440" cy="2133360"/>
            </a:xfrm>
            <a:prstGeom prst="downArrowCallout">
              <a:avLst>
                <a:gd name="adj1" fmla="val 31343"/>
                <a:gd name="adj2" fmla="val 31341"/>
                <a:gd name="adj3" fmla="val 16667"/>
                <a:gd name="adj4" fmla="val 6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5"/>
            <p:cNvSpPr/>
            <p:nvPr/>
          </p:nvSpPr>
          <p:spPr>
            <a:xfrm>
              <a:off x="3939480" y="2346840"/>
              <a:ext cx="61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6"/>
            <p:cNvSpPr/>
            <p:nvPr/>
          </p:nvSpPr>
          <p:spPr>
            <a:xfrm>
              <a:off x="5173920" y="2204640"/>
              <a:ext cx="61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7"/>
            <p:cNvSpPr/>
            <p:nvPr/>
          </p:nvSpPr>
          <p:spPr>
            <a:xfrm>
              <a:off x="3048120" y="2346840"/>
              <a:ext cx="822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8"/>
            <p:cNvSpPr/>
            <p:nvPr/>
          </p:nvSpPr>
          <p:spPr>
            <a:xfrm>
              <a:off x="4556880" y="2560320"/>
              <a:ext cx="61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9"/>
            <p:cNvSpPr/>
            <p:nvPr/>
          </p:nvSpPr>
          <p:spPr>
            <a:xfrm>
              <a:off x="4007880" y="2915640"/>
              <a:ext cx="61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0"/>
            <p:cNvSpPr/>
            <p:nvPr/>
          </p:nvSpPr>
          <p:spPr>
            <a:xfrm>
              <a:off x="3528000" y="3058200"/>
              <a:ext cx="61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1"/>
            <p:cNvSpPr/>
            <p:nvPr/>
          </p:nvSpPr>
          <p:spPr>
            <a:xfrm>
              <a:off x="4556880" y="3129120"/>
              <a:ext cx="1165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C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AutoShape 12"/>
          <p:cNvSpPr/>
          <p:nvPr/>
        </p:nvSpPr>
        <p:spPr>
          <a:xfrm>
            <a:off x="2971800" y="4267080"/>
            <a:ext cx="2895480" cy="1447920"/>
          </a:xfrm>
          <a:custGeom>
            <a:avLst/>
            <a:gdLst>
              <a:gd name="textAreaLeft" fmla="*/ 723960 w 2895480"/>
              <a:gd name="textAreaRight" fmla="*/ 2171880 w 289548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13"/>
          <p:cNvGrpSpPr/>
          <p:nvPr/>
        </p:nvGrpSpPr>
        <p:grpSpPr>
          <a:xfrm>
            <a:off x="5943600" y="4572000"/>
            <a:ext cx="2819160" cy="914400"/>
            <a:chOff x="5943600" y="4572000"/>
            <a:chExt cx="2819160" cy="914400"/>
          </a:xfrm>
        </p:grpSpPr>
        <p:sp>
          <p:nvSpPr>
            <p:cNvPr id="107" name="Rectangle 14"/>
            <p:cNvSpPr/>
            <p:nvPr/>
          </p:nvSpPr>
          <p:spPr>
            <a:xfrm>
              <a:off x="5943600" y="4572000"/>
              <a:ext cx="2819160" cy="914400"/>
            </a:xfrm>
            <a:prstGeom prst="rect">
              <a:avLst/>
            </a:prstGeom>
            <a:noFill/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15"/>
            <p:cNvSpPr/>
            <p:nvPr/>
          </p:nvSpPr>
          <p:spPr>
            <a:xfrm>
              <a:off x="6119640" y="4724280"/>
              <a:ext cx="255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ac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16"/>
          <p:cNvGrpSpPr/>
          <p:nvPr/>
        </p:nvGrpSpPr>
        <p:grpSpPr>
          <a:xfrm>
            <a:off x="457200" y="4267080"/>
            <a:ext cx="2438280" cy="1371600"/>
            <a:chOff x="457200" y="4267080"/>
            <a:chExt cx="2438280" cy="1371600"/>
          </a:xfrm>
        </p:grpSpPr>
        <p:sp>
          <p:nvSpPr>
            <p:cNvPr id="110" name="Rectangle 17"/>
            <p:cNvSpPr/>
            <p:nvPr/>
          </p:nvSpPr>
          <p:spPr>
            <a:xfrm>
              <a:off x="457200" y="4267080"/>
              <a:ext cx="2438280" cy="1371600"/>
            </a:xfrm>
            <a:prstGeom prst="rect">
              <a:avLst/>
            </a:prstGeom>
            <a:noFill/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8"/>
            <p:cNvSpPr/>
            <p:nvPr/>
          </p:nvSpPr>
          <p:spPr>
            <a:xfrm>
              <a:off x="609480" y="4495680"/>
              <a:ext cx="2209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aturation Indi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 Box 19"/>
          <p:cNvSpPr/>
          <p:nvPr/>
        </p:nvSpPr>
        <p:spPr>
          <a:xfrm>
            <a:off x="3733920" y="464832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eciation cal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20"/>
          <p:cNvGrpSpPr/>
          <p:nvPr/>
        </p:nvGrpSpPr>
        <p:grpSpPr>
          <a:xfrm>
            <a:off x="5943600" y="3505320"/>
            <a:ext cx="2819160" cy="914400"/>
            <a:chOff x="5943600" y="3505320"/>
            <a:chExt cx="2819160" cy="914400"/>
          </a:xfrm>
        </p:grpSpPr>
        <p:sp>
          <p:nvSpPr>
            <p:cNvPr id="114" name="Rectangle 21"/>
            <p:cNvSpPr/>
            <p:nvPr/>
          </p:nvSpPr>
          <p:spPr>
            <a:xfrm>
              <a:off x="5943600" y="3505320"/>
              <a:ext cx="2819160" cy="914400"/>
            </a:xfrm>
            <a:prstGeom prst="rect">
              <a:avLst/>
            </a:prstGeom>
            <a:noFill/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22"/>
            <p:cNvSpPr/>
            <p:nvPr/>
          </p:nvSpPr>
          <p:spPr>
            <a:xfrm>
              <a:off x="6119640" y="3657600"/>
              <a:ext cx="255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verse Model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3"/>
          <p:cNvGrpSpPr/>
          <p:nvPr/>
        </p:nvGrpSpPr>
        <p:grpSpPr>
          <a:xfrm>
            <a:off x="5943600" y="5638680"/>
            <a:ext cx="2819160" cy="914400"/>
            <a:chOff x="5943600" y="5638680"/>
            <a:chExt cx="2819160" cy="914400"/>
          </a:xfrm>
        </p:grpSpPr>
        <p:sp>
          <p:nvSpPr>
            <p:cNvPr id="117" name="Rectangle 24"/>
            <p:cNvSpPr/>
            <p:nvPr/>
          </p:nvSpPr>
          <p:spPr>
            <a:xfrm>
              <a:off x="5943600" y="5638680"/>
              <a:ext cx="2819160" cy="914400"/>
            </a:xfrm>
            <a:prstGeom prst="rect">
              <a:avLst/>
            </a:prstGeom>
            <a:noFill/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5"/>
            <p:cNvSpPr/>
            <p:nvPr/>
          </p:nvSpPr>
          <p:spPr>
            <a:xfrm>
              <a:off x="6119640" y="5790960"/>
              <a:ext cx="255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Slide Number Placeholder 2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6C48-07D2-407D-BADB-5928182D1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455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queous Model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C004-C087-49FC-A438-1A79310E3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674360"/>
            <a:ext cx="7772400" cy="441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tzer specific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ionic str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odynamic consistency for mixtures of electrol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tle if any red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add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queous Model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E1EFE-E4F5-4151-9942-6102B7FE4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5800" y="1523520"/>
            <a:ext cx="7772400" cy="4419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possibility for higher ionic strength than ion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fewer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n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or results for gypsum/NaCl in my limited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 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stenc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5781960" cy="432432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hreeqcI: SOLUTION Data Block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7640" y="1981080"/>
            <a:ext cx="1600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5"/>
          <p:cNvSpPr/>
          <p:nvPr/>
        </p:nvSpPr>
        <p:spPr>
          <a:xfrm>
            <a:off x="2590920" y="2438280"/>
            <a:ext cx="30456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FD5E-7C97-4AA5-BD58-701AA041D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7617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Number, pH, pe, Temperature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6095880" y="289548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4962240" cy="4687920"/>
          </a:xfrm>
          <a:prstGeom prst="rect">
            <a:avLst/>
          </a:prstGeom>
          <a:ln w="0">
            <a:noFill/>
          </a:ln>
        </p:spPr>
      </p:pic>
      <p:sp>
        <p:nvSpPr>
          <p:cNvPr id="212" name="Oval 5"/>
          <p:cNvSpPr/>
          <p:nvPr/>
        </p:nvSpPr>
        <p:spPr>
          <a:xfrm>
            <a:off x="1981080" y="1828800"/>
            <a:ext cx="13716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85A2-5EF2-4CA5-B5FB-BA4D5695B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5010120" cy="5410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olution Composi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552720" y="137124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ni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ault is mmol/kg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5"/>
          <p:cNvSpPr/>
          <p:nvPr/>
        </p:nvSpPr>
        <p:spPr>
          <a:xfrm>
            <a:off x="1447920" y="1523880"/>
            <a:ext cx="13716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6"/>
          <p:cNvSpPr/>
          <p:nvPr/>
        </p:nvSpPr>
        <p:spPr>
          <a:xfrm>
            <a:off x="3657600" y="5867280"/>
            <a:ext cx="99072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6553080" y="556272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when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8"/>
          <p:cNvSpPr/>
          <p:nvPr/>
        </p:nvSpPr>
        <p:spPr>
          <a:xfrm>
            <a:off x="4038480" y="4343400"/>
            <a:ext cx="609840" cy="38088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6553080" y="3962520"/>
            <a:ext cx="2514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concent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”, special un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0"/>
          <p:cNvSpPr/>
          <p:nvPr/>
        </p:nvSpPr>
        <p:spPr>
          <a:xfrm>
            <a:off x="685800" y="2133720"/>
            <a:ext cx="5410080" cy="13716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6553080" y="2514600"/>
            <a:ext cx="2590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lide Number Placeholder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4259-5DA0-4A5E-B305-A8DAA28F71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5781600" cy="43243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2" descr=""/>
          <p:cNvPicPr/>
          <p:nvPr/>
        </p:nvPicPr>
        <p:blipFill>
          <a:blip r:embed="rId2"/>
          <a:stretch/>
        </p:blipFill>
        <p:spPr>
          <a:xfrm>
            <a:off x="3282840" y="3733920"/>
            <a:ext cx="4667400" cy="255276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un Speciation Calcula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553080" y="1142640"/>
            <a:ext cx="990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6"/>
          <p:cNvSpPr/>
          <p:nvPr/>
        </p:nvSpPr>
        <p:spPr>
          <a:xfrm>
            <a:off x="2895480" y="1600200"/>
            <a:ext cx="381240" cy="30492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7"/>
          <p:cNvSpPr/>
          <p:nvPr/>
        </p:nvSpPr>
        <p:spPr>
          <a:xfrm>
            <a:off x="6477120" y="4267080"/>
            <a:ext cx="380880" cy="30492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8"/>
          <p:cNvSpPr/>
          <p:nvPr/>
        </p:nvSpPr>
        <p:spPr>
          <a:xfrm>
            <a:off x="6477120" y="4724280"/>
            <a:ext cx="380880" cy="30492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9"/>
          <p:cNvSpPr/>
          <p:nvPr/>
        </p:nvSpPr>
        <p:spPr>
          <a:xfrm>
            <a:off x="5486400" y="5257800"/>
            <a:ext cx="13716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6934320" y="4038480"/>
            <a:ext cx="106668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553080" y="30481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1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1920-BE4C-49E7-8002-EBBC0A492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on Association Model Resul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1440000" y="1371600"/>
            <a:ext cx="6476760" cy="5249880"/>
          </a:xfrm>
          <a:prstGeom prst="rect">
            <a:avLst/>
          </a:prstGeom>
          <a:ln w="0">
            <a:noFill/>
          </a:ln>
        </p:spPr>
      </p:pic>
      <p:sp>
        <p:nvSpPr>
          <p:cNvPr id="23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7703-525A-4FBD-A88B-7F7F78E44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2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3581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Helvetic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hreeqc.dat to run a speciation calculation for sea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Helvetic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itzer.d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input to a new buff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-a (select al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-c (cop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-&gt;new or ctrl-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ew input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rl-v (pas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3944880" y="1836720"/>
          <a:ext cx="4284720" cy="4572000"/>
        </p:xfrm>
        <a:graphic>
          <a:graphicData uri="http://schemas.openxmlformats.org/drawingml/2006/table">
            <a:tbl>
              <a:tblPr/>
              <a:tblGrid>
                <a:gridCol w="2303640"/>
                <a:gridCol w="198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itu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kalinity as HCO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9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.6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Text Box 15"/>
          <p:cNvSpPr/>
          <p:nvPr/>
        </p:nvSpPr>
        <p:spPr>
          <a:xfrm>
            <a:off x="4572000" y="10666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Units are pp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lide Number Placeholder 1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B00C3-49AF-44EA-8943-8BEC909BD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020000" cy="475776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sults of 2 Speciation Calculation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1676520" y="1828800"/>
            <a:ext cx="533160" cy="38088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2517840" y="1143000"/>
            <a:ext cx="6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8"/>
          <p:cNvSpPr/>
          <p:nvPr/>
        </p:nvSpPr>
        <p:spPr>
          <a:xfrm flipH="1">
            <a:off x="2133720" y="1447920"/>
            <a:ext cx="380880" cy="38088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A1CB-2B74-4F91-840C-52DECB6EE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Initial Solution 2. Question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the mass-balance equation for calcium in seawater for each datab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fraction of the total is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 for each datab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fraction of the total is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 for each datab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log activity and log activity coefficient of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databas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saturation index of calcite for each databa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533520" y="4876920"/>
            <a:ext cx="8001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068F-1AA1-4A28-AEB1-43DBF333F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600200" y="1371600"/>
          <a:ext cx="4284720" cy="4572000"/>
        </p:xfrm>
        <a:graphic>
          <a:graphicData uri="http://schemas.openxmlformats.org/drawingml/2006/table">
            <a:tbl>
              <a:tblPr/>
              <a:tblGrid>
                <a:gridCol w="2303640"/>
                <a:gridCol w="1981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itu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kalinity as HCO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9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.68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Text Box 55"/>
          <p:cNvSpPr/>
          <p:nvPr/>
        </p:nvSpPr>
        <p:spPr>
          <a:xfrm>
            <a:off x="1219320" y="38088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eawater: Units are pp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1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8404A-D557-455D-890D-808AAC584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2a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mass-action equation for the reaction:   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= H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e mass-action equation for question 1 in log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the equilibrium constant by using the log activities from the speciation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what pH will activity  [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 equal activity [H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4CB0-51A8-49DF-BEAA-238E0BE7B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Initial Solution 2. Answer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) indicates mol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a. Ca(total)= 1.066e-2 = (Ca+2) + (CaSO4) + (CaHCO3+) + (CaCO3) + (CaOH+) + (CaHSO4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b. Ca(total) = 1.066e-2 = (Ca+2) + (CaCO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a. 9.5/10.7 ~ 0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b. 1.063/1.066 ~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a. 3.509e-019 / 3.711e-008 ~ 1e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b. No Fe+3 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a. log activity CO3-2 = -5.099; log gamma CO3-2 = -0.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b. log activity CO3-2 = -5.091; log gamma CO3-2 = -1.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a. SI(calcite) = 0.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b. SI(calcite) = 0.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A76A-485A-4917-8BB8-C5F87F0CF7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2a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= [HCO3-][H+]/([CO2][H2O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 K = log([HCO3-]) + log([H+]) - log([CO2]) + log([H2O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 K = -2.99 + (-8.22) - (- 4.849) - (-0.009) = -6.3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pH 6.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DB1E-000D-495F-93B3-B757218D8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ore on Solution Definition</a:t>
            </a:r>
            <a:br>
              <a:rPr sz="4400"/>
            </a:b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, Carbon, Alkali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7D12-B06C-4658-AC31-84F859C18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What is pH?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848720" cy="3124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Ques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How does the pH change when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gasses during an alkalinity titr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ow does pH change when plankton respire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How does pH change when calcite dissolv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1295280" y="1523880"/>
            <a:ext cx="640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 =        6.3 + log[(H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/(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"/>
          <p:cNvSpPr/>
          <p:nvPr/>
        </p:nvSpPr>
        <p:spPr>
          <a:xfrm>
            <a:off x="1295280" y="2209680"/>
            <a:ext cx="6400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 =        10.3 + log[(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/(H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32FC-6A75-4A28-9187-B4FA4E5DD3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209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Alkalinity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ly, the alkalinity is the number of equivalents of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eeded to convert all of the inorganic carbon to             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q or 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kalinity is independent of P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685800" y="5335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otal Inorganic Carb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685800" y="1371600"/>
            <a:ext cx="77724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moles of carbon of valenc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2189-2916-462A-8EA2-403AA1F7D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14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8663040" cy="249408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OLUTION_SPREAD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9" name="Oval 8"/>
          <p:cNvSpPr/>
          <p:nvPr/>
        </p:nvSpPr>
        <p:spPr>
          <a:xfrm>
            <a:off x="1828800" y="2590920"/>
            <a:ext cx="457200" cy="6858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9"/>
          <p:cNvSpPr/>
          <p:nvPr/>
        </p:nvSpPr>
        <p:spPr>
          <a:xfrm>
            <a:off x="1752480" y="4876920"/>
            <a:ext cx="5105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ELECTED_OUT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3886200" y="3276720"/>
            <a:ext cx="4572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1"/>
          <p:cNvSpPr/>
          <p:nvPr/>
        </p:nvSpPr>
        <p:spPr>
          <a:xfrm flipH="1">
            <a:off x="2285640" y="1066680"/>
            <a:ext cx="762120" cy="144792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2"/>
          <p:cNvSpPr/>
          <p:nvPr/>
        </p:nvSpPr>
        <p:spPr>
          <a:xfrm flipV="1">
            <a:off x="3276720" y="3809520"/>
            <a:ext cx="685800" cy="1143000"/>
          </a:xfrm>
          <a:prstGeom prst="line">
            <a:avLst/>
          </a:prstGeom>
          <a:ln w="572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4CAF-CD7C-4A10-A7ED-3100B0A6A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OLUTION_SPREAD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86" name="Picture 8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496120" cy="5200560"/>
          </a:xfrm>
          <a:prstGeom prst="rect">
            <a:avLst/>
          </a:prstGeom>
          <a:ln w="0">
            <a:noFill/>
          </a:ln>
        </p:spPr>
      </p:pic>
      <p:sp>
        <p:nvSpPr>
          <p:cNvPr id="287" name="Oval 4"/>
          <p:cNvSpPr/>
          <p:nvPr/>
        </p:nvSpPr>
        <p:spPr>
          <a:xfrm>
            <a:off x="1523880" y="1600200"/>
            <a:ext cx="1219320" cy="53352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9"/>
          <p:cNvSpPr/>
          <p:nvPr/>
        </p:nvSpPr>
        <p:spPr>
          <a:xfrm>
            <a:off x="5943600" y="4876920"/>
            <a:ext cx="1219320" cy="53316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B274-1915-4D22-A985-8AA8CE081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16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010120" cy="542916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LECTED_OUTPU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2" name="Text Box 12"/>
          <p:cNvSpPr/>
          <p:nvPr/>
        </p:nvSpPr>
        <p:spPr>
          <a:xfrm>
            <a:off x="6248520" y="4419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Reset all to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3"/>
          <p:cNvSpPr/>
          <p:nvPr/>
        </p:nvSpPr>
        <p:spPr>
          <a:xfrm>
            <a:off x="6324480" y="2057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4"/>
          <p:cNvSpPr/>
          <p:nvPr/>
        </p:nvSpPr>
        <p:spPr>
          <a:xfrm>
            <a:off x="6248520" y="5257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et pH to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5"/>
          <p:cNvSpPr/>
          <p:nvPr/>
        </p:nvSpPr>
        <p:spPr>
          <a:xfrm>
            <a:off x="609480" y="1549440"/>
            <a:ext cx="762120" cy="38088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17"/>
          <p:cNvSpPr/>
          <p:nvPr/>
        </p:nvSpPr>
        <p:spPr>
          <a:xfrm>
            <a:off x="2590920" y="3352680"/>
            <a:ext cx="1143000" cy="38124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8"/>
          <p:cNvSpPr/>
          <p:nvPr/>
        </p:nvSpPr>
        <p:spPr>
          <a:xfrm>
            <a:off x="1295280" y="1905120"/>
            <a:ext cx="838440" cy="38088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9"/>
          <p:cNvSpPr/>
          <p:nvPr/>
        </p:nvSpPr>
        <p:spPr>
          <a:xfrm>
            <a:off x="4419720" y="4495680"/>
            <a:ext cx="914400" cy="38124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1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7831-7A4F-413C-A3BA-35BE71925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9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5915160" cy="542952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ELECTED_OUTPUT--Molalitie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2" name="Oval 5"/>
          <p:cNvSpPr/>
          <p:nvPr/>
        </p:nvSpPr>
        <p:spPr>
          <a:xfrm>
            <a:off x="1905120" y="1447920"/>
            <a:ext cx="685800" cy="45720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6"/>
          <p:cNvSpPr/>
          <p:nvPr/>
        </p:nvSpPr>
        <p:spPr>
          <a:xfrm>
            <a:off x="304920" y="2514600"/>
            <a:ext cx="761760" cy="45720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7"/>
          <p:cNvSpPr/>
          <p:nvPr/>
        </p:nvSpPr>
        <p:spPr>
          <a:xfrm>
            <a:off x="3352680" y="2629080"/>
            <a:ext cx="609840" cy="38088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6248520" y="28195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C596-92BB-44FE-9521-D1B167104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1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pproximate molality of 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pproximate alkalinity in meq/kg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alkalinity concentration in mg/kgs as Ca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ffect does density have on the calculated mola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762120" y="5105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HREEQC results are always moles or mola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C73D-C0F8-4459-9EAF-406C9A879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480" y="322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4a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609480" y="1008000"/>
          <a:ext cx="2514600" cy="3379680"/>
        </p:xfrm>
        <a:graphic>
          <a:graphicData uri="http://schemas.openxmlformats.org/drawingml/2006/table">
            <a:tbl>
              <a:tblPr/>
              <a:tblGrid>
                <a:gridCol w="1182960"/>
                <a:gridCol w="1331640"/>
              </a:tblGrid>
              <a:tr h="36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9" name="Text Box 215"/>
          <p:cNvSpPr/>
          <p:nvPr/>
        </p:nvSpPr>
        <p:spPr>
          <a:xfrm>
            <a:off x="3429000" y="10843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 in mmol/kg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302"/>
          <p:cNvSpPr/>
          <p:nvPr/>
        </p:nvSpPr>
        <p:spPr>
          <a:xfrm>
            <a:off x="0" y="4513320"/>
            <a:ext cx="8915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speciation calculations for these 9 solution compositions with SOLUTION _SP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a table of pH, (CO2), (HCO3-), (CO3-2) with SELECTED_OUTPUT. Plot pH vs. concentrations in Ex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4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6D29-F9BD-4C07-AF85-60AB1F666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4b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609480" y="1066680"/>
          <a:ext cx="2514600" cy="2373480"/>
        </p:xfrm>
        <a:graphic>
          <a:graphicData uri="http://schemas.openxmlformats.org/drawingml/2006/table">
            <a:tbl>
              <a:tblPr/>
              <a:tblGrid>
                <a:gridCol w="1182960"/>
                <a:gridCol w="1331640"/>
              </a:tblGrid>
              <a:tr h="36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kalin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Text Box 38"/>
          <p:cNvSpPr/>
          <p:nvPr/>
        </p:nvSpPr>
        <p:spPr>
          <a:xfrm>
            <a:off x="3429000" y="11430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 in meq/kg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9"/>
          <p:cNvSpPr/>
          <p:nvPr/>
        </p:nvSpPr>
        <p:spPr>
          <a:xfrm>
            <a:off x="380880" y="3733920"/>
            <a:ext cx="85345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speciation calculations for these 6 solution compositions with SOLUTION _SP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ELECTED_OUTPUT to make a table of pH, (CO2), (HCO3-), (CO3-2), total C (use TOTALS tab). Plot pH vs. concentrations in Exc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3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9D67-D247-4D8A-91A2-0A4838AEE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4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rite a definition of total carbon(4) (sometimes called total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TDIC) in terms of (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(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(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Write a definition of alkalinity in terms of (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(H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(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Include (O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n your defin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Include (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n your defin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F3CE0-A4F5-4AE5-8978-F2931611F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Fixed Total Carb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57DD-B7AD-46D2-95EC-5DA0AFDD89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5" descr=""/>
          <p:cNvPicPr/>
          <p:nvPr/>
        </p:nvPicPr>
        <p:blipFill>
          <a:blip r:embed="rId1"/>
          <a:stretch/>
        </p:blipFill>
        <p:spPr>
          <a:xfrm>
            <a:off x="1652760" y="1754280"/>
            <a:ext cx="560988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Fixed Alkalinit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EAAA-597C-4D66-ADBA-AB9A3089E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7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49756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4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CO2 = (CO2) + (HCO3-) + (CO3-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kalinity = (HCO3-) + 2(CO3-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kalinity = (HCO3-) + 2(CO3-2) + (OH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kalinity = (HCO3-) + 2(CO3-2) + (OH-) – (H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F974-DED3-4F5C-BA80-3E8478573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ore on Solution Definition</a:t>
            </a:r>
            <a:br>
              <a:rPr sz="4400"/>
            </a:b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ox, 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A1BE-AA87-4E70-BA4D-3015AD590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What is pe?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1295280" y="1676520"/>
            <a:ext cx="7010640" cy="52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+2 = Fe+3 + 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 = log( 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[Fe+3]/[Fe+2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+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- + 4H2O = SO4-2 + 9H+ + 8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 = log( 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[SO4-2]/[HS-]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– 9/8pH + 4.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 + 6H2O = 2NO3- + 12H+ + 10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 = 0.1log( 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[NO3-]</a:t>
            </a:r>
            <a:r>
              <a:rPr b="0" lang="en-US" sz="2400" spc="-1" strike="noStrike" baseline="30000">
                <a:solidFill>
                  <a:srgbClr val="00cc9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/[N2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 –1.2pH + 20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 = 16.9Eh, Eh in volts (platinum electrode measur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BB37-CF1A-413B-BF56-C6A0A8BD7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7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Write an equation for pe from the equation for oxidation of NH4+ to NO3-, log K for reaction is –119.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: Chemical reaction has NH4+ and H2O on the left-hand-side and NO3-, H+, and e- on the right-hand-si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0C0B-F419-4F11-A36E-239052068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7. Answe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H4+ + 3H2O  = NO3- + 10H+ + 8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K = -119.1 = log[NO3-] – 10pH – 8pe – log[NH4+] - 3log[H2O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pe = log[NO3-] – log[NH4+] + 119.1 – 10pH – 3log[H2O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 = 1/8log( [NO3-] / [NH4+] ) – 10/8pH + 14.9 – 3/8log[H2O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D58C-148C-4B9D-9913-80EE0F0BA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1. 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most waters, we can assume most of the mass in solution is water. Mass of water in 1 kg seawater ~ 1 k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12/40 ~ 10 mmol/kgw ~ 0.01 mol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2/61 ~ 2.3 meq/kgw ~ 0.0023 mol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3*50 ~ 116 mg/kgw as CaCO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e, density will only be used when concentration is specified as per li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523A-B444-44EA-B08B-F539FF098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ore on p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queous electrons do not ex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ox reactions are frequently 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es from multiple redox cou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we do not expect to see major inconsistencies—e.g. both D.O. and H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in a single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219C-A7D8-4307-A35F-EEE76915B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dox and pe in SOLUTION Data Block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763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do you need pe for SOL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istribute 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centration of a redox element among redox states [e.g. Fe to Fe(2) and Fe(3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w saturation indices with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dissociation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yr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ve sulf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ganese 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use a redox couple Fe(2)/Fe(3) in place of 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rely, pe = 16.9Eh. (25 C and Eh in Volt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options can only be applied to speciation calculations; thermodynamic pe is used for all other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06C6-18B1-442F-BE07-2F9DDC631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dox Elemen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685800" y="914400"/>
          <a:ext cx="3733920" cy="545616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1430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ox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(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(-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lf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(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(-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S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tro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-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y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-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dro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(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49" name=""/>
          <p:cNvGraphicFramePr/>
          <p:nvPr/>
        </p:nvGraphicFramePr>
        <p:xfrm>
          <a:off x="4724280" y="914400"/>
          <a:ext cx="3962520" cy="5473800"/>
        </p:xfrm>
        <a:graphic>
          <a:graphicData uri="http://schemas.openxmlformats.org/drawingml/2006/table">
            <a:tbl>
              <a:tblPr/>
              <a:tblGrid>
                <a:gridCol w="1617840"/>
                <a:gridCol w="1212840"/>
                <a:gridCol w="11318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ox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(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gane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n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seni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(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(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an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(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(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rom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(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(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+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en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(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(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(-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Se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0" name="Slide Number Placeholder 12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8E5D8-2B62-4653-82E1-16575717A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94920" y="533520"/>
            <a:ext cx="6324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sing Redox Coupl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5880" y="198108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uble click to get list of redox cou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have analyses for chosen redox cou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9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5505480" cy="5200560"/>
          </a:xfrm>
          <a:prstGeom prst="rect">
            <a:avLst/>
          </a:prstGeom>
          <a:ln w="0">
            <a:noFill/>
          </a:ln>
        </p:spPr>
      </p:pic>
      <p:sp>
        <p:nvSpPr>
          <p:cNvPr id="35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87E1-9DA7-4B73-8709-4CEFB6A0D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eawater Initial Solu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 total was entered. How were Fe(3) and Fe(2) concentrations calcul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Object 4"/>
              <p:cNvSpPr txBox="1"/>
              <p:nvPr/>
            </p:nvSpPr>
            <p:spPr>
              <a:xfrm>
                <a:off x="3962520" y="4267080"/>
                <a:ext cx="487656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O</m:t>
                        </m:r>
                      </m:sub>
                    </m:sSub>
                    <m:r>
                      <m:t xml:space="preserve">≠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8" name="Object 5"/>
              <p:cNvSpPr txBox="1"/>
              <p:nvPr/>
            </p:nvSpPr>
            <p:spPr>
              <a:xfrm>
                <a:off x="3962520" y="5318280"/>
                <a:ext cx="48765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5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e</m:t>
                        </m:r>
                      </m:e>
                      <m:sub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6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59" name="Rectangle 6"/>
          <p:cNvSpPr/>
          <p:nvPr/>
        </p:nvSpPr>
        <p:spPr>
          <a:xfrm>
            <a:off x="609480" y="4267080"/>
            <a:ext cx="38102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initial solu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“reac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E080-515D-406B-A8E4-AA7649791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ron Speciation with PhreePlo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8" descr=""/>
          <p:cNvPicPr/>
          <p:nvPr/>
        </p:nvPicPr>
        <p:blipFill>
          <a:blip r:embed="rId1"/>
          <a:stretch/>
        </p:blipFill>
        <p:spPr>
          <a:xfrm>
            <a:off x="266760" y="1295280"/>
            <a:ext cx="4268880" cy="48848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2"/>
          <a:stretch/>
        </p:blipFill>
        <p:spPr>
          <a:xfrm>
            <a:off x="4610160" y="1382760"/>
            <a:ext cx="4244760" cy="4786200"/>
          </a:xfrm>
          <a:prstGeom prst="rect">
            <a:avLst/>
          </a:prstGeom>
          <a:ln w="0">
            <a:noFill/>
          </a:ln>
        </p:spPr>
      </p:pic>
      <p:sp>
        <p:nvSpPr>
          <p:cNvPr id="365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2F6F-2675-4E45-9CB1-88F3030B2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8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990720" y="1827360"/>
          <a:ext cx="6858000" cy="3321000"/>
        </p:xfrm>
        <a:graphic>
          <a:graphicData uri="http://schemas.openxmlformats.org/drawingml/2006/table">
            <a:tbl>
              <a:tblPr/>
              <a:tblGrid>
                <a:gridCol w="2361960"/>
                <a:gridCol w="914400"/>
                <a:gridCol w="990720"/>
                <a:gridCol w="990720"/>
                <a:gridCol w="1600200"/>
              </a:tblGrid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itu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o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(2)/Fe(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, mmol/kg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(2) , mmol/kg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(3) , mmol/kg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8" name="Text Box 117"/>
          <p:cNvSpPr/>
          <p:nvPr/>
        </p:nvSpPr>
        <p:spPr>
          <a:xfrm>
            <a:off x="3962520" y="1219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5409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SOLUTIONs and run calcul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5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3A19-725B-4EEB-B807-2FE7C40D3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8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609480" y="1827360"/>
          <a:ext cx="7543800" cy="3321000"/>
        </p:xfrm>
        <a:graphic>
          <a:graphicData uri="http://schemas.openxmlformats.org/drawingml/2006/table">
            <a:tbl>
              <a:tblPr/>
              <a:tblGrid>
                <a:gridCol w="3429000"/>
                <a:gridCol w="1067040"/>
                <a:gridCol w="990360"/>
                <a:gridCol w="990720"/>
                <a:gridCol w="1066680"/>
              </a:tblGrid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i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ferrous i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ferric i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 from Fe(3)/Fe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 Index Fe(OH)3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 Index Goeth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3" name="Text Box 53"/>
          <p:cNvSpPr/>
          <p:nvPr/>
        </p:nvSpPr>
        <p:spPr>
          <a:xfrm>
            <a:off x="4724280" y="1219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5409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863C-C54F-4653-98FD-9AC5CBAE4A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8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For each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00"/>
              </a:buClr>
              <a:buFont typeface="Helvetic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distribution of Fe between Fe(2) and Fe(3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499"/>
              </a:spcBef>
              <a:buClr>
                <a:srgbClr val="000000"/>
              </a:buClr>
              <a:buFont typeface="Helvetica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equation is used for goethite SI:                                              FeOOH + 3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F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2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                                                        Explain why the goethite saturation index is present or ab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What pe is calculated for solution 4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In solution 4, given the following equation, why is the pe not 13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 = log( [Fe+3]/[Fe+2]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+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For pH &gt; 5, it is a good assumption that the measured iron concentration is nearly all Fe(2) (ferrous). How can you ensure that the speciation calculation is consistent with this assump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FF66A-7C67-41D2-9777-3B43C27CA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8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609480" y="1827360"/>
          <a:ext cx="7543800" cy="3321000"/>
        </p:xfrm>
        <a:graphic>
          <a:graphicData uri="http://schemas.openxmlformats.org/drawingml/2006/table">
            <a:tbl>
              <a:tblPr/>
              <a:tblGrid>
                <a:gridCol w="3429000"/>
                <a:gridCol w="1067040"/>
                <a:gridCol w="990360"/>
                <a:gridCol w="990720"/>
                <a:gridCol w="1066680"/>
              </a:tblGrid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i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ferrous i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ferric ir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e-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 from Fe(3)/Fe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 Index Fe(OH)3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 Index Goeth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1" name="Text Box 47"/>
          <p:cNvSpPr/>
          <p:nvPr/>
        </p:nvSpPr>
        <p:spPr>
          <a:xfrm>
            <a:off x="4724280" y="1219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5409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5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8129-F4CE-4438-8BFB-3E1E40AD3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olu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for all PHREEQC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and SOLUTION _SP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uration ind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min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potential reac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F424-3D0E-4845-A5C3-907E66910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Initial Solution 8. Answer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Fe distributed by using pe 0, Fe(2) and Fe(3) defi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Fe(3) is defined, goethite SI can be calcul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Fe(2) is defined to be 1 mmol/kg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(3) is undefi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Fe(3) is not defined, goethite SI can not be calcul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Fe(2) is undefi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(3) is defined to be 1 mmol/kg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Fe(3) is defined, goethite SI can be calcul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4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Fe(2) and Fe(3) defin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Fe(3) is defined, goethite SI can be calcula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pe from Fe(2)/Fe(3) couple is 4.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The equation is for the activity of Fe+3 and Fe+2 ions. In solution, we defined the sum of the molalities of the Fe(3) and Fe(2) species. Fe(2) is predominantly (Fe+2) ion, but Fe(OH)3 and Fe(OH)2+ are the predominant Fe(3) species. (Fe+3) is 8 orders of magnitude less than the predominant spec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Define iron as Fe(2) or adjust pe sufficiently low to produce mostly Fe(2). Note: goethite SI will not be calculated in the first case and will be completely dependent on your choice of pe for the seco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A069-A093-4FAE-B95E-622C971C5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Final thoughts on p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is used to distribute total redox element concentration among redox states, but often not nee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measurements of total concentrations of redox element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, always Fe(2) except at low 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, always Mn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, consider other redox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, consider other redox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, probably U(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, probably V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70509-A6A1-4DFC-A887-689067EDE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Final thoughts on p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ouples where availab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0)/O(-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(5)/N(-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(6)/S(-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(3)/Fe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(5)/As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91EE-DA4C-458A-8DB8-531573407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Berner’s Redox Environmen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ox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lfid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a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4" descr=""/>
          <p:cNvPicPr/>
          <p:nvPr/>
        </p:nvPicPr>
        <p:blipFill>
          <a:blip r:embed="rId1"/>
          <a:stretch/>
        </p:blipFill>
        <p:spPr>
          <a:xfrm>
            <a:off x="3200400" y="1600200"/>
            <a:ext cx="4903920" cy="510552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5"/>
          <p:cNvSpPr/>
          <p:nvPr/>
        </p:nvSpPr>
        <p:spPr>
          <a:xfrm>
            <a:off x="174600" y="540216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rstenson (198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507B-9C7F-4418-A9B3-05A6F460C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99" name="Object 8"/>
          <p:cNvGraphicFramePr/>
          <p:nvPr/>
        </p:nvGraphicFramePr>
        <p:xfrm>
          <a:off x="609480" y="600120"/>
          <a:ext cx="8229600" cy="584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00120"/>
                    <a:ext cx="8229600" cy="58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CA67-7EF3-4360-8C1A-2CF342920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5" descr=""/>
          <p:cNvPicPr/>
          <p:nvPr/>
        </p:nvPicPr>
        <p:blipFill>
          <a:blip r:embed="rId1"/>
          <a:stretch/>
        </p:blipFill>
        <p:spPr>
          <a:xfrm>
            <a:off x="3849840" y="0"/>
            <a:ext cx="5294160" cy="685800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4"/>
          <p:cNvSpPr/>
          <p:nvPr/>
        </p:nvSpPr>
        <p:spPr>
          <a:xfrm>
            <a:off x="152280" y="685800"/>
            <a:ext cx="41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khurst and others (199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A246-D5D7-4079-9D95-88C02218A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HREEQC Program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PHREEQC Vers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 Phreeq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I Phreeqc For Windows (Vincent P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PHAST Vers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F2CE-0F91-4059-9DAE-8D54D633C6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Future PHREEQC Program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REEQC Version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ch with Charting (d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PhreeqcI with Cha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hreeqc: scriptable (d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al (d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transport and chemistry (d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PHAST for 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MOD-Watershed reactive trans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C115-CE0C-4792-AA05-31F698B65A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ore on Solution Definition</a:t>
            </a:r>
            <a:br>
              <a:rPr sz="4400"/>
            </a:b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ge Balance and Adjustment to Phase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76C4-74F4-42E2-A5EC-BF61BB8A0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harge Balance Op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most analyses, just lea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 the major anion or 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2405-0AB7-4664-A015-C4ECE5B22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eriodic_table.bmp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0" y="1274760"/>
            <a:ext cx="9144000" cy="5583240"/>
          </a:xfrm>
          <a:prstGeom prst="rect">
            <a:avLst/>
          </a:prstGeom>
          <a:ln w="0">
            <a:noFill/>
          </a:ln>
        </p:spPr>
      </p:pic>
      <p:sp>
        <p:nvSpPr>
          <p:cNvPr id="13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553D-D40C-464F-BFBC-3CB467744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9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5505480" cy="520056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OLUTION Charge Balanc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324480" y="1752480"/>
            <a:ext cx="2362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pH or major 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way to specify cation or a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Oval 5"/>
          <p:cNvSpPr/>
          <p:nvPr/>
        </p:nvSpPr>
        <p:spPr>
          <a:xfrm>
            <a:off x="2971800" y="1905120"/>
            <a:ext cx="2514600" cy="152388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Oval 7"/>
          <p:cNvSpPr/>
          <p:nvPr/>
        </p:nvSpPr>
        <p:spPr>
          <a:xfrm>
            <a:off x="990720" y="1600200"/>
            <a:ext cx="129528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9DD2-2E30-465C-9684-2F275C787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10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4" name="Text Box 30"/>
          <p:cNvSpPr/>
          <p:nvPr/>
        </p:nvSpPr>
        <p:spPr>
          <a:xfrm>
            <a:off x="380880" y="1523880"/>
            <a:ext cx="8534520" cy="37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 solution made by adding 1 mmol of Na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1 mmol 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a kilogram of water. What is the pH of the sol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nt: The solution definition contains Na and C(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 solution made by adding 1 mmol of Na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1 mmol 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a kilogram of water that was then titrated to pH 7 with pure HCl. How much chloride was add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nt: The solution definition contains Na, C, and 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2B52-8485-4B03-B887-EB61719A4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10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= 10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 = 1.35 mm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7D594-792F-4864-9A25-5AC6670C1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djustments to Phase Equilibrium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most analyses, don’t d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are reason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st concentrations to equilibrium with atmosphere (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st pH to calcite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e aluminum concentration by equilibrium with gibbsite or kaolin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FDC5-2525-4E74-A4FA-14D83BB972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8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5505480" cy="520056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Adjusting to Phase Equilibrium with SOLU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7146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saturation index for mineral, log partial pressure for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5"/>
          <p:cNvSpPr/>
          <p:nvPr/>
        </p:nvSpPr>
        <p:spPr>
          <a:xfrm>
            <a:off x="762120" y="1600200"/>
            <a:ext cx="1295280" cy="53352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6"/>
          <p:cNvSpPr/>
          <p:nvPr/>
        </p:nvSpPr>
        <p:spPr>
          <a:xfrm>
            <a:off x="2209680" y="4521240"/>
            <a:ext cx="1905120" cy="38088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4762-E5A9-4C9E-B979-5ECDF0F266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10" descr=""/>
          <p:cNvPicPr/>
          <p:nvPr/>
        </p:nvPicPr>
        <p:blipFill>
          <a:blip r:embed="rId1"/>
          <a:stretch/>
        </p:blipFill>
        <p:spPr>
          <a:xfrm>
            <a:off x="304920" y="1380960"/>
            <a:ext cx="5495760" cy="5400720"/>
          </a:xfrm>
          <a:prstGeom prst="rect">
            <a:avLst/>
          </a:prstGeom>
          <a:ln w="0">
            <a:noFill/>
          </a:ln>
        </p:spPr>
      </p:pic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Adjusting to Phase Equilibrium with SOLUTION_SPREAD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47676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SI or log partial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5"/>
          <p:cNvSpPr/>
          <p:nvPr/>
        </p:nvSpPr>
        <p:spPr>
          <a:xfrm>
            <a:off x="2895480" y="3581280"/>
            <a:ext cx="2210040" cy="38124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6"/>
          <p:cNvSpPr/>
          <p:nvPr/>
        </p:nvSpPr>
        <p:spPr>
          <a:xfrm>
            <a:off x="2743200" y="2209680"/>
            <a:ext cx="2362320" cy="121932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7"/>
          <p:cNvSpPr/>
          <p:nvPr/>
        </p:nvSpPr>
        <p:spPr>
          <a:xfrm>
            <a:off x="1066680" y="1600200"/>
            <a:ext cx="6858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0CA1-7A16-4C15-AF96-67AFA8157B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8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4800600" cy="471780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NITS in SOLUTION_SPREAD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172200" y="2361960"/>
            <a:ext cx="2743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orget to set the uni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Oval 5"/>
          <p:cNvSpPr/>
          <p:nvPr/>
        </p:nvSpPr>
        <p:spPr>
          <a:xfrm>
            <a:off x="1295280" y="2057400"/>
            <a:ext cx="9144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6"/>
          <p:cNvSpPr/>
          <p:nvPr/>
        </p:nvSpPr>
        <p:spPr>
          <a:xfrm>
            <a:off x="533520" y="2895480"/>
            <a:ext cx="1143000" cy="30492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3829-1242-4E87-8AE5-8C35ACD72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11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5409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alculate the carbon concentration that would be in equilibrium with the atmosphere (log P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3.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762120" y="1600200"/>
          <a:ext cx="7391160" cy="3627360"/>
        </p:xfrm>
        <a:graphic>
          <a:graphicData uri="http://schemas.openxmlformats.org/drawingml/2006/table">
            <a:tbl>
              <a:tblPr/>
              <a:tblGrid>
                <a:gridCol w="1987560"/>
                <a:gridCol w="1428480"/>
                <a:gridCol w="2546640"/>
                <a:gridCol w="14284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itu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itu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u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8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(6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-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(4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4" name="Text Box 182"/>
          <p:cNvSpPr/>
          <p:nvPr/>
        </p:nvSpPr>
        <p:spPr>
          <a:xfrm>
            <a:off x="2214360" y="838080"/>
            <a:ext cx="47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nwater, Concentration in mg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4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C1CF-3E6D-4BFB-B0CF-EB7A25833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11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nswe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carbon concentration that would be in equilibrium with the atmosphere (log P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3.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1e-5 mol C per kilogram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B2AD-33EB-44A9-9755-DDAD5AEB5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12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 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0" name="Rectangle 4"/>
          <p:cNvSpPr/>
          <p:nvPr/>
        </p:nvSpPr>
        <p:spPr>
          <a:xfrm>
            <a:off x="685800" y="236232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pH and TDIC of a solution in equilibrium with th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O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ir (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3.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t 25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pH and TDIC of a solution in equilibrium with a soil-zon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O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.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25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the pH and TDIC of a solution in equilibrium with a soil-zon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O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.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10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4887-52D9-4580-9703-B85BA232D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Default Gram Formula Mas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609480" y="1600200"/>
          <a:ext cx="8153640" cy="3657600"/>
        </p:xfrm>
        <a:graphic>
          <a:graphicData uri="http://schemas.openxmlformats.org/drawingml/2006/table">
            <a:tbl>
              <a:tblPr/>
              <a:tblGrid>
                <a:gridCol w="2971800"/>
                <a:gridCol w="51818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ment/Redox St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ault “as” phreeqc.dat/wateq4f.d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kalin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O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, C(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CO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3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4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O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Text Box 64"/>
          <p:cNvSpPr/>
          <p:nvPr/>
        </p:nvSpPr>
        <p:spPr>
          <a:xfrm>
            <a:off x="457200" y="54990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 GFW is defined in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eld of SOLUTION_MASTER_SPECIES in database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737F-277F-4337-9E03-82319C63A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12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nswers 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3" name="Rectangle 4"/>
          <p:cNvSpPr/>
          <p:nvPr/>
        </p:nvSpPr>
        <p:spPr>
          <a:xfrm>
            <a:off x="76212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8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pH = 5.66, TDIC =  13 umol/kg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pH = 4.91, TDIC = 353 umol/kg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pH = 4.87, TDIC = 552 umol/kg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5DF3-4D1F-4D07-B8DD-0A16FF1073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ATURATION INDEX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hermodynamic state of a mineral relative to a solution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AB46-A4AA-4712-BF61-133125E69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Object 5"/>
              <p:cNvSpPr txBox="1"/>
              <p:nvPr/>
            </p:nvSpPr>
            <p:spPr>
              <a:xfrm>
                <a:off x="2759040" y="2011320"/>
                <a:ext cx="362592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IAP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8" name="TextBox 6"/>
          <p:cNvSpPr/>
          <p:nvPr/>
        </p:nvSpPr>
        <p:spPr>
          <a:xfrm>
            <a:off x="609480" y="274320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on activity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equilibrium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Object 6"/>
              <p:cNvSpPr txBox="1"/>
              <p:nvPr/>
            </p:nvSpPr>
            <p:spPr>
              <a:xfrm>
                <a:off x="1646280" y="3948120"/>
                <a:ext cx="585144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lcit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Ca</m:t>
                    </m:r>
                    <m:r>
                      <m:t xml:space="preserve">]</m:t>
                    </m:r>
                    <m:r>
                      <m:t xml:space="preserve">[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bSup>
                    <m:f>
                      <m:fPr>
                        <m:type m:val="lin"/>
                      </m:fPr>
                      <m:num>
                        <m:r>
                          <m:t xml:space="preserve">]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lcite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7"/>
              <p:cNvSpPr txBox="1"/>
              <p:nvPr/>
            </p:nvSpPr>
            <p:spPr>
              <a:xfrm>
                <a:off x="419040" y="5029200"/>
                <a:ext cx="830592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lcite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Ca</m:t>
                    </m:r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r>
                      <m:t xml:space="preserve">[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bSup>
                    <m:r>
                      <m:t xml:space="preserve">]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alcite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ATURATION INDEX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&lt; 0, Mineral should disso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&gt; 0, Mineral should precipi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~ 0, Mineral reacts fast enough to maintain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FE4F3-3623-48FD-9C61-47D964036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ules for Saturation Indic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eral cannot dissolve if it is not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I &lt; 0 and mineral is present—the mineral could dissolve, but not precipi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I &gt; 0—the mineral could precipitate, but not dissol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I ~ 0—the mineral could dissolve or precipitate to maintain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C4E6-6B59-45FF-998F-CAD2F76561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ncertainties in SI: Analytical data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% uncertainty in element concentration is .02 units in S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5 pH unit uncertainty is 0.5 units in SI of calcite, 1.0 unit in dolom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99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pe or pH unit uncertainty is 8 units in SI of FeS for the following equ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(FeS) = log[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+log[SO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-8pH-8pe-log K(F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F2B8-9C94-4D9B-95AA-C3139F947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ncertainties in SI: Equa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99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ch smaller uncertainty for SI(FeS) with the following e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(FeS) = log[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+log[H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+pH-log K(F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99"/>
              </a:buClr>
              <a:buSzPct val="120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minerals with redox elements, uncertainties are much smaller if the valence states of the elements in solution are measu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24FF-3BC0-49B3-B8FC-1252A335E2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ncertainties in SI: Log K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atite from Stumm and Morg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H) = 5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3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tite from Wateq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K = -55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Log Ks especially uncertain for aluminosil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Object 4"/>
              <p:cNvSpPr txBox="1"/>
              <p:nvPr/>
            </p:nvSpPr>
            <p:spPr>
              <a:xfrm>
                <a:off x="685800" y="2971800"/>
                <a:ext cx="82789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55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33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57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Object 5"/>
              <p:cNvSpPr txBox="1"/>
              <p:nvPr/>
            </p:nvSpPr>
            <p:spPr>
              <a:xfrm>
                <a:off x="757080" y="3621240"/>
                <a:ext cx="366732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patit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ΔG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</m:num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R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5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7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AB5D-9A78-4B6C-ACE1-B2901FB1A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seful Mineral List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als that may react to equilibrium relatively quickly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489" name="Object 58"/>
          <p:cNvGraphicFramePr/>
          <p:nvPr/>
        </p:nvGraphicFramePr>
        <p:xfrm>
          <a:off x="685800" y="2219400"/>
          <a:ext cx="7848720" cy="43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0" name="Object 5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19400"/>
                    <a:ext cx="784872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CF3B-61D5-4B64-B383-F96DD982BC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nitial Solution 13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solution compositions in spreadsheet “solution_spread.xl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saturation indices us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hreeqc.d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y out RunPhreeqc macro or copy/paste into Phreeq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can you infer about the hydrologic setting, mineralogy, and possible reactions for these wat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8CE6-AAD0-439D-BC76-FAF2C60E6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olution_spread.xls + is13.xl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4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6858000" cy="5468760"/>
          </a:xfrm>
          <a:prstGeom prst="rect">
            <a:avLst/>
          </a:prstGeom>
          <a:ln w="0">
            <a:noFill/>
          </a:ln>
        </p:spPr>
      </p:pic>
      <p:sp>
        <p:nvSpPr>
          <p:cNvPr id="49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BDB6A-D357-4435-BE13-0526E2D13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067" descr=""/>
          <p:cNvPicPr/>
          <p:nvPr/>
        </p:nvPicPr>
        <p:blipFill>
          <a:blip r:embed="rId1"/>
          <a:stretch/>
        </p:blipFill>
        <p:spPr>
          <a:xfrm>
            <a:off x="228600" y="1352520"/>
            <a:ext cx="6477120" cy="48513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hanging Databa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0" y="1676520"/>
            <a:ext cx="228600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time you r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-&gt;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put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base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s-&gt;Set default 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066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4343400" cy="2374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065" descr=""/>
          <p:cNvPicPr/>
          <p:nvPr/>
        </p:nvPicPr>
        <p:blipFill>
          <a:blip r:embed="rId3"/>
          <a:stretch/>
        </p:blipFill>
        <p:spPr>
          <a:xfrm>
            <a:off x="3048120" y="4122720"/>
            <a:ext cx="3809880" cy="2430360"/>
          </a:xfrm>
          <a:prstGeom prst="rect">
            <a:avLst/>
          </a:prstGeom>
          <a:ln w="0">
            <a:noFill/>
          </a:ln>
        </p:spPr>
      </p:pic>
      <p:sp>
        <p:nvSpPr>
          <p:cNvPr id="146" name="Oval 2068"/>
          <p:cNvSpPr/>
          <p:nvPr/>
        </p:nvSpPr>
        <p:spPr>
          <a:xfrm>
            <a:off x="1905120" y="1523880"/>
            <a:ext cx="533160" cy="45720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069"/>
          <p:cNvSpPr/>
          <p:nvPr/>
        </p:nvSpPr>
        <p:spPr>
          <a:xfrm>
            <a:off x="3200400" y="3581280"/>
            <a:ext cx="533520" cy="45720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4A36-DA05-427B-A6BC-EF3C0C336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queous speciation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-balance equations—Sum of species containing Ca equals total analyzed 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queous mass-action equations—Activity  of products over reactants equal a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coefficient mo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association with individual activity coeffic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tzer specific interaction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=log(IAP/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D0C8-E856-4F17-B0C3-D3300FB6E3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and SOLUTION _SP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—ratio of H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—ratio of oxidized/reduced valenc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uration ind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certain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min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potential reac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B502-6CD2-4775-B0E8-D01BFDC49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17:52:05Z</dcterms:created>
  <dc:creator>dlpark</dc:creator>
  <dc:description/>
  <dc:language>en-US</dc:language>
  <cp:lastModifiedBy>OED</cp:lastModifiedBy>
  <dcterms:modified xsi:type="dcterms:W3CDTF">2011-03-15T21:49:26Z</dcterms:modified>
  <cp:revision>536</cp:revision>
  <dc:subject/>
  <dc:title>Defining Solutions</dc:title>
</cp:coreProperties>
</file>