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94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65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7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10.png" ContentType="image/png"/>
  <Override PartName="/ppt/media/image28.wmf" ContentType="image/x-wmf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31.wmf" ContentType="image/x-wmf"/>
  <Override PartName="/ppt/media/image6.wmf" ContentType="image/x-wmf"/>
  <Override PartName="/ppt/media/image30.jpeg" ContentType="image/jpeg"/>
  <Override PartName="/ppt/media/image35.wmf" ContentType="image/x-wmf"/>
  <Override PartName="/ppt/media/image15.png" ContentType="image/png"/>
  <Override PartName="/ppt/media/image32.png" ContentType="image/png"/>
  <Override PartName="/ppt/media/image7.png" ContentType="image/png"/>
  <Override PartName="/ppt/media/image12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AD66511-50D4-44C6-B8F8-0122AFDB0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107.xml"/><Relationship Id="rId4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71.xml"/><Relationship Id="rId4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5.wmf"/><Relationship Id="rId3" Type="http://schemas.openxmlformats.org/officeDocument/2006/relationships/slide" Target="../slides/slide98.xml"/><Relationship Id="rId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558E30-C66E-468A-984E-E1B417408E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BCB1AC6-3985-4AAC-8E49-1D672389E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B6E277-4E3C-46D0-BC10-5C0718DCB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1E3FA6-819F-4190-A8F4-3EEEFD4B18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963D7A-F635-4B47-9CAE-A35D587D0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22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bbsite 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aolinite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-Montmorillonite    0 Anorthite 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north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ibbs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aolin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-Montmorillonite 0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202F21-0B6B-41B0-9C07-37F3C6097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22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ibbsite requires the least amount of Anorthite to dissolve to become saturated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, anorthite, gibbsite, kaolinite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artz is undersaturated in all calculation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76" name="Object 4"/>
          <p:cNvGraphicFramePr/>
          <p:nvPr/>
        </p:nvGraphicFramePr>
        <p:xfrm>
          <a:off x="1073160" y="785016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85016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4111524-F7B5-4A27-846A-BEBCFDC71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EAB28F5-32AC-49BD-BC85-BBFCC521F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25. TES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(NH3)0.1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mo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 mmol C(-4) (methane); 25 mmol C(4) (20 mmol CO2, 5 mmol HCO3-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mmonium bicarbonate water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as bubble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4540B4-C528-47BC-95FF-5B783F1E9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26 Gas Pha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(NH3)0.1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mo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AS_PHA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4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70% CH4, 30%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8 liter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8B12C50-319B-4351-A59E-4ED3B5902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81459B-8ADB-4BE4-93F8-177388FB9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7FD021D-F0A4-4E40-B03C-F86F92E30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418C878-B06D-4656-BFB0-16842EAC5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5148E05-0C28-457A-B6FE-98339DF32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369E8C1-0D52-4EA0-95C2-745796079B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955E5B-DF69-494E-AC48-5019F72A4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1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   mg/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5FFAC34-70DE-4020-8CA1-F6F4F64EB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2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Initial solu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500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216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000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6.373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375e-00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781e-00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692e-00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177e-0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126e-0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(-3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485e-00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0e+00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he differences are caused entirely by redox equilibration. Initial solution is in redox disequilibrium, the reaction solution is in redox equilibrium. In the reaction solution, N(-3) has been oxidized to N(5) and N(0). O(0) has been reduced in the process of oxidizing N(-3). Oxidation tends to decrease pH. Redox is defined by O(0)/O(-2) and N(5)/N(0) redox couples, both will give the same pe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5F4649C-6F0B-4D5C-B606-DA51F4F14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0B16C5-7B90-4A5D-976D-D54DCFBD6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645989-BAB3-4036-8ED7-2D6CFA4FE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38E29C-8EF8-4D91-B218-E40E38302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E7365F4-2846-468F-BFAC-51582CE60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4F0EC0-0B0C-4C95-AD43-746B1C867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8D5E74-DF01-4E75-A551-B6E5D646F7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88B34AB-D744-45F6-A885-784A8A1CB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D669A67-AE0D-4BC7-8C9A-8C24DE8C2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84C453-2AEE-40F1-AE08-E2D8B8968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11B9AD-3E33-466A-9D72-13EB64272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3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F44789-9D1C-48BE-8082-7BE1F6FBC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4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 Rainwa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2 Rainwater, redox equilibrium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3 Solution 2 + equilibrium with CO2 and 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4 Solution 3 + Reaction + equilibrium with 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50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49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2.00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.65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hase               SI log IAP  log KT    Initial      Final      Delta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alcite           0.00   -8.48   -8.48 1.000e+001 9.998e+000 -1.749e-00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2(g)           -2.00  -20.15  -18.15 1.000e+001 9.998e+000 -1.774e-003</a:t>
            </a:r>
            <a:endParaRPr b="0" lang="en-US" sz="9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74 mmol calcite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77 mmol CO2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    Initial      Final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1.000e+001 9.999e+000 -5.76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58 millimoles of calcite dissolv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EE6B393-BD7C-4BF3-9A0E-0A5E511E1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place the MIX step with the following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mplete file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5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3.5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0E8B1D1-0BA0-48E9-8A19-CA3EBB69E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put file: C:\NTC\07\Tuesday.working\r5.pqi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utput file: C:\NTC\07\Tuesday.working\r5.pq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atabase file: C:\Program Files\USGS\Phreeqc Interactive 2.13.2\phreeqc.da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data base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T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O(0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C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M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K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C(4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N(5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CO2(g) -3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ainwater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38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4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14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3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3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1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3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20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initial solu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solu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Rainwater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 1.092e-005  1.092e-005  Equilibrium with CO2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3.840e-004  3.8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2.360e-004  2.3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3.600e-005  3.6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4.300e-005  4.3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 2.080e-004  2.08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 2.370e-004  2.37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1.410e-004  1.41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 5.109e-004  5.109e-004  Equilibrium with O2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 1.300e-003  1.3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4.5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 4.000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1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3.66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-3.657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1.09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1.79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3.7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0133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51266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5)           9.2674      0.548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-2)/O(0)          16.1219      0.953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3.359e-005  3.162e-005    -4.474    -4.500    -0.02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3.383e-010  3.166e-010    -9.471    -9.50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1.000e+000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1.09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076e-005  1.077e-005    -4.968    -4.968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614e-007  1.514e-007    -6.792    -6.820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332e-010  5.000e-010    -9.273    -9.30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375e-011  5.034e-011   -10.270   -10.29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119e-011  1.120e-011   -10.951   -10.9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902e-013  2.246e-013   -12.537   -12.649    -0.11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9.756e-014  9.764e-014   -13.011   -13.01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6.083e-015  6.088e-015   -14.216   -14.21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871e-016  5.498e-016   -15.231   -15.26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3.84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3.347e-004  2.588e-004    -3.475    -3.587    -0.1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4.931e-005  4.936e-005    -4.307    -4.307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9.764e-009  9.143e-009    -8.010    -8.039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332e-010  5.000e-010    -9.273    -9.30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1.451e-012  1.358e-012   -11.838   -11.86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9.756e-014  9.764e-014   -13.011   -13.01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2.36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2.360e-004  2.209e-004    -3.627    -3.65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1.415e-0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7.073e-021  7.079e-021   -20.150   -20.15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3.6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3.576e-005  3.347e-005    -4.447    -4.475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2.400e-007  2.247e-007    -6.620    -6.64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3.666e-015  3.669e-015   -14.436   -14.435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4.300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3.664e-005  2.841e-005    -4.436    -4.546    -0.1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6.360e-006  6.365e-006    -5.197    -5.19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375e-011  5.034e-011   -10.270   -10.29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3.483e-012  3.262e-012   -11.458   -11.48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6.083e-015  6.088e-015   -14.216   -14.21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2.08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2.055e-004  1.920e-004    -3.687    -3.717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2.525e-006  2.364e-006    -5.598    -5.62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3.458e-009  3.461e-009    -8.461    -8.46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2.37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2.370e-004  2.216e-004    -3.625    -3.654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1.41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1.403e-004  1.315e-004    -3.853    -3.881    -0.02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725e-007  6.297e-007    -6.172    -6.201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119e-011  1.120e-011   -10.951   -10.95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2.745e-014  2.747e-014   -13.562   -13.561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871e-016  5.498e-016   -15.231   -15.260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5.109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2.554e-004  2.556e-004    -3.593    -3.592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1.3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238e-003  9.556e-004    -2.907    -3.020    -0.1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4.931e-005  4.936e-005    -4.307    -4.307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6.360e-006  6.365e-006    -5.197    -5.196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3.137e-006  2.938e-006    -5.503    -5.532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2.525e-006  2.364e-006    -5.598    -5.626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6.725e-007  6.297e-007    -6.172    -6.201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2.400e-007  2.247e-007    -6.620    -6.648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9.764e-009  9.143e-009    -8.010    -8.039    -0.0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2.25   -6.61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7.90  -16.24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-7.76  -16.24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50   -4.9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-16.34  -33.43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2.03   -6.61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17.00  -20.15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9.12   -7.54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10.23   -8.46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0.70   -3.59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IX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   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55.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9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3.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mix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ixture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2.000e+001 Solution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Rainwater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rreversible reaction defined in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1.900e+001 moles of the following reaction have been added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ant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55.5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 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                  11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                   55.5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   -3.50   -4.97   -1.47   1.000e+001  1.000e+001  2.077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1.062e-005  1.065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7.663e-003  7.68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10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2.534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7.496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5.82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-6.46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1.06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52.1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3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5280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3.447e-003  2.922e-003    -2.463    -2.534    -0.07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4.272e-012  3.423e-012   -11.369   -11.466    -0.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2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40.824  -140.81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1.062e-0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1.062e-005  1.077e-005    -4.974    -4.96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1.996e-009  1.637e-009    -8.700    -8.7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008e-011  4.107e-011   -10.300   -10.3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4.942e-012  4.016e-012   -11.306   -11.396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998e-012  2.025e-012   -11.699   -11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8.565e-017  8.680e-017   -16.067   -16.0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5.808e-017  2.628e-017   -16.236   -16.580    -0.3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5.187e-018  5.257e-018   -17.285   -17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1.325e-018  1.076e-018   -17.878   -17.968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7.6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4.326e-003  1.966e-003    -2.364    -2.706    -0.34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3.267e-003  3.311e-003    -2.486    -2.48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6.974e-005  5.667e-005    -4.157    -4.247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5.008e-011  4.107e-011   -10.300   -10.386    -0.08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1.373e-013  1.116e-013   -12.862   -12.952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8.565e-017  8.680e-017   -16.067   -16.0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1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10e-003  3.781e-003    -2.327    -2.422    -0.0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3.216   -43.21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86e-004  5.449e-004    -3.168    -3.264    -0.0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3.976e-005  3.231e-005    -4.401    -4.49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6.374e-016  6.460e-016   -15.196   -15.19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89e-004  2.096e-004    -3.348    -3.679    -0.33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92e-004  4.147e-004    -3.388    -3.38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4.942e-012  4.016e-012   -11.306   -11.396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3.202e-013  2.602e-013   -12.495   -12.58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5.187e-018  5.257e-018   -17.285   -17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48.428   -48.531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49.405   -49.49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5.247   -55.24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299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2.044e-01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2.044e-014  1.626e-014   -13.690   -13.789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6e-003  5.025e-003    -2.200    -2.299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9e-003  2.199e-003    -2.569    -2.658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45e-004  9.303e-005    -3.941    -4.03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1.998e-012  2.025e-012   -11.699   -11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4.903e-015  4.969e-015   -14.310   -14.30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1.325e-018  1.076e-018   -17.878   -17.968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2.164e-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1.082e-006  1.097e-006    -5.966    -5.96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6.797  -126.79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31.102  -131.198    -0.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41.230  -141.582    -0.35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1.909e-002  8.440e-003    -1.719    -2.074    -0.35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3.267e-003  3.311e-003    -2.486    -2.48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2.951e-003  2.398e-003    -2.530    -2.620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92e-004  4.147e-004    -3.388    -3.38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45e-004  9.303e-005    -3.941    -4.03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6.974e-005  5.667e-005    -4.157    -4.247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3.976e-005  3.231e-005    -4.401    -4.491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49.405   -49.495    -0.09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42   -4.78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-10.95  -19.29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-10.81  -19.29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37.96 -140.82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3.50   -4.9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-22.46  -39.55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-0.20   -4.78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40.06  -43.21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5.79 -126.79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6   -5.08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7.01  -55.24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3.07   -5.96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1.61  -86.73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3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-2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solution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after simulation 2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2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   0.00   -8.48   -8.48   1.000e+001  9.996e+000 -4.452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   -2.00   -3.47   -1.47   1.000e+001  1.000e+001  1.7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2.744e-003  2.75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210e-002  1.213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09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7.094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2.024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339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2.416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2.74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9.9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6273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561e-007  1.241e-007    -6.807    -6.90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9.543e-008  8.057e-008    -7.020    -7.094    -0.07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1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32.024  -132.01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2.74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2.303e-003  1.878e-003    -2.638    -2.726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3.355e-004  3.405e-004    -3.474    -3.46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8.905e-005  7.261e-005    -4.050    -4.139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523e-006  4.461e-006    -5.258    -5.35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4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473e-006  1.093e-006    -5.607    -5.961    -0.35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2.270e-006  2.303e-006    -5.644    -5.63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2.087e-007  2.118e-007    -6.680    -6.67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496e-008  4.439e-008    -7.260    -7.35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21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6.824e-003  3.031e-003    -2.166    -2.518    -0.35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186e-003  5.262e-003    -2.285    -2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8.905e-005  7.261e-005    -4.050    -4.139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4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7.722e-009  6.237e-009    -8.112    -8.2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3.075e-009  2.484e-009    -8.512    -8.6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0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09e-003  3.754e-003    -2.327    -2.42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1.392   -41.38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75e-004  5.400e-004    -3.169    -3.268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88e-005  3.302e-005    -4.388    -4.48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2.288e-011  2.322e-011   -10.640   -10.63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41e-004  2.030e-004    -3.352    -3.692    -0.3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82e-004  4.142e-004    -3.389    -3.38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5.523e-006  4.461e-006    -5.258    -5.35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2.087e-007  2.118e-007    -6.680    -6.67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1.132e-008  9.141e-009    -7.946    -8.039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50.246   -50.353    -0.1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210   -51.30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2.509   -52.50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300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1.367e-0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1.367e-012  1.079e-012   -11.864   -11.967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7e-003  4.986e-003    -2.200    -2.302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4e-003  2.181e-003    -2.570    -2.661    -0.0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78e-004  9.513e-005    -3.929    -4.02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2.270e-006  2.303e-006    -5.644    -5.63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496e-008  4.439e-008    -7.260    -7.35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1.761e-010  1.787e-010    -9.754    -9.74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4.834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2.417e-010  2.453e-010    -9.617    -9.61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28.344  -128.443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8.602  -128.59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33.905  -134.268    -0.36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2.019e-002  8.702e-003    -1.695    -2.060    -0.3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186e-003  5.262e-003    -2.285    -2.279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82e-004  4.142e-004    -3.389    -3.383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78e-004  9.513e-005    -3.929    -4.02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88e-005  3.302e-005    -4.388    -4.481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8.440e-008  6.817e-008    -7.074    -7.166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3.075e-009  2.484e-009    -8.512    -8.605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210   -51.30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22   -4.58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0.14   -8.48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29.16 -132.02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2.00   -3.47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-1.04  -18.13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 0.00   -4.58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8.24  -41.39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7.60 -128.60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7   -5.09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4.27  -52.50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6.72   -9.61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5.24  -90.36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4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 milli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Beginning of batch-reaction calculations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step 1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solution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after simulation 3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pure phase assemblage 3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ing 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ion 1.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rreversible reaction defined in simulation 4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.000e-003 moles of the following reaction have been added: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ctant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lativ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      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    1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                    2.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Phase assemblage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oles in assembla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   SI log IAP  log KT      Initial       Final       Delt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   0.00   -8.48   -8.48   1.000e+001  9.999e+000 -5.728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Solution composition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ments           Molality       Mol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     4.313e-003  4.32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 1.268e-002  1.27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 4.709e-003  4.7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 7.184e-004  7.2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 8.581e-004  8.600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                8.880e-003  8.90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 2.814e-003  2.820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     2.594e-002  2.600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escription of solution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=   6.906      Charge balanc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=  12.249      Adjusted to redox equilibriu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ctivity of water  =   0.9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onic strength  =  6.433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ass of water (kg)  =  1.002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alkalinity (eq/kg)  =  3.55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CO2 (mol/kg)  =  4.3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erature (deg C)  =  25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lectrical balance (eq)  = -3.595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rcent error, 100*(Cat-|An|)/(Cat+|An|)  = -48.8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terations  =   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H  = 1.112660e+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otal O  = 5.576644e+00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Distribution of species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       Log         Log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pecies                 Molality    Activity  Molality  Activity     Gamma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+                    1.472e-007  1.242e-007    -6.832    -6.906    -0.07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H-                   1.014e-007  8.052e-008    -6.994    -7.094    -0.1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                   5.551e+001  9.991e-001     1.744    -0.000     0.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                   0.000e+000  0.000e+000  -131.968  -131.9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4)            4.31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CO3-                 3.394e-003  2.765e-003    -2.469    -2.558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                   7.614e-004  7.728e-004    -3.118    -3.11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1.374e-004  1.119e-004    -3.862    -3.951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8.150e-006  6.576e-006    -5.089    -5.18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3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3.338e-006  3.388e-006    -5.476    -5.47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3-2                 2.372e-006  1.044e-006    -5.625    -5.981    -0.35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1.995e-007  2.025e-007    -6.700    -6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250e-008  4.236e-008    -7.280    -7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    1.268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+2                  7.173e-003  3.173e-003    -2.144    -2.498    -0.35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360e-003  5.440e-003    -2.271    -2.26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CO3+               1.374e-004  1.119e-004    -3.862    -3.951    -0.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CO3                 5.483e-006  5.565e-006    -5.261    -5.25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OH+                 5.250e-009  4.236e-009    -8.280    -8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4.906e-009  3.958e-009    -8.309    -8.40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    4.709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-                   4.709e-003  3.749e-003    -2.327    -2.426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(0) 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                    0.000e+000  0.000e+000   -41.467   -41.46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      7.184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+                    6.780e-004  5.397e-004    -3.169    -3.268    -0.09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38e-005  3.258e-005    -4.394    -4.487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OH                   1.483e-011  1.505e-011   -10.829   -10.822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    8.581e-0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+2                  4.463e-004  2.033e-004    -3.350    -3.692    -0.34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34e-004  4.094e-004    -3.394    -3.38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HCO3+               8.150e-006  6.576e-006    -5.089    -5.18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CO3                 1.995e-007  2.025e-007    -6.700    -6.69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OH+                 7.358e-009  5.937e-009    -8.133    -8.226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+                  0.000e+000  0.000e+000   -50.170   -50.277    -0.10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140   -51.23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                   0.000e+000  0.000e+000   -52.622   -52.61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            2.563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                    1.282e-003  1.301e-003    -2.892    -2.88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3)            1.150e-0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2-                  1.150e-012  9.065e-013   -11.939   -12.043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5)            6.317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O3-                  6.317e-003  4.979e-003    -2.200    -2.303    -0.1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    2.814e-00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+                   2.694e-003  2.179e-003    -2.570    -2.662    -0.0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63e-004  9.384e-005    -3.934    -4.028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HCO3                3.338e-006  3.388e-006    -5.476    -5.470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CO3-                5.250e-008  4.236e-008    -7.280    -7.37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OH                  1.141e-010  1.158e-010    -9.943    -9.936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0)            6.825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                    3.412e-010  3.463e-010    -9.467    -9.461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           0.000e+0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-                   0.000e+000  0.000e+000  -128.461  -128.561    -0.1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                   0.000e+000  0.000e+000  -128.531  -128.525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-2                   0.000e+000  0.000e+000  -134.208  -134.573    -0.36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      2.594e-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4-2                 2.002e-002  8.592e-003    -1.699    -2.066    -0.36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SO4                 5.360e-003  5.440e-003    -2.271    -2.264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SO4                 4.034e-004  4.094e-004    -3.394    -3.388     0.00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SO4-                1.163e-004  9.384e-005    -3.934    -4.028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SO4-                 4.038e-005  3.258e-005    -4.394    -4.487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SO4-                 1.286e-007  1.038e-007    -6.891    -6.984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HSO4+               4.906e-009  3.958e-009    -8.309    -8.402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4SO4-               0.000e+000  0.000e+000   -51.140   -51.233    -0.09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Saturation indices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               SI log IAP  log K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nhydrite        -0.20   -4.56   -4.36  CaSO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agonite        -0.14   -8.48   -8.34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  0.00   -8.48   -8.48  Ca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4(g)         -129.10 -131.96   -2.86  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 -1.64   -3.11   -1.47  C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 -1.06  -18.15  -17.09  CaMg(CO3)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Gypsum            0.02   -4.57   -4.58  CaSO4:2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(g)           -38.31  -41.46   -3.15  H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           -1.51   -0.00    1.51  H2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S(g)         -127.53 -128.52   -1.00  H2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alite           -6.67   -5.09    1.58  NaC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2(g)             0.37   -2.89   -3.26  N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H3(g)          -54.39  -52.62    1.77  NH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2(g)            -6.57   -9.46   -2.89  O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lfur          -95.10  -90.21    4.88  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simulatio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ading input data for simulation 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 of run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A7DA672-D82E-4CB0-A0B5-AB8517D86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DB213C-D5F3-4CEB-8098-FCF2BF16D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8D48A47-F645-47E5-81A2-94FBC13F0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6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2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050 in 5 ste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 0 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  0 1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VERSE_MODELING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solutions 2 3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phase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Anhydr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FDA5AF7-E398-48B7-919B-E32EC4B53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7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crease in SO4, increase in Ca and Mg, constant or decrease in HCO3, decrease in pH, SI’s near zero for calcite and dolomi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ou do not get a Mg+2 SO4-2 water composition. Ratio of Ca/Mg is approximately constant and near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o get to the final water composition, the net reaction is approximately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7CaSO4 + 16CaMg(CO3)2 = 32CaCO3 + 21Ca+2 + 16Mg+2 + 37SO4-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ystem has reached equilibrium and does not change. However, it is not quite an invariant poin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B46835C-AE77-46C1-A786-B9327A354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D4B1745-E2C7-4986-ACF3-6F50D72A1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8. Questions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Yes, Increase in Ca, Mg, SO4; decrease in pH; not much change in alkalinity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crease in sulfate (number 4 to number 6) and H2S indicate sulfate reduction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and Cl indicate mixing with sea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97BAC1D-FE0A-412A-BAAA-1CEB45062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2E8C37-FB7A-48C2-8E51-5C35BD18D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9. Extra credit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2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10 dissolve_onl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0 10 dissolve_onl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7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.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 .7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94EAD3-AB3D-4F5C-85AB-ADE3A3548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9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 precipitates; dolomite does not react, but should precipitate. Seawater mixing zones have been suggested as a place where dolomitization could occur, but there is little evidence for present-day dolomitization. Apparently kinetics of dolomite formation are too slow, even though it should form according to thermodynamic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 is always supersaturated and is not allowed to form by the problem definition. Calcite dissolves at the .75 ground-water mixing fraction and precipitates at .5 and .25. Saturation indices of mixtures are non-linear. Even though the ground water is saturated and seawater is supersaturated with calcite, 0.75 g-w mixture is undersaturated with calcite. In this case, it is an activity coefficient effect; the effect of the decrease in activity coefficients of the mixture is larger than the effect of the increase in concentration, which results in a negative saturation index for calcite and dissolution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8C39EC-2036-476E-A483-3805C685C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0551A80-B996-405A-9C76-9563EF449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9AFC810-7A66-4197-85AB-EA8892BFB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11FEFB4-347C-4108-80B5-F62B65B8D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6CA85A9-EF3F-42C2-AF5A-9FBDC5B66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0D5E407-FC58-4FBF-98EE-E8ED6361D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lysulfides in llnl.dat make S(-2)/S(6) look wrong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5B22E80-41B9-4C3B-84E1-7CE6C5074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R.11a. Exerci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1 Pure 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       8.2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e        8.4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IX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.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 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r1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x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als  O(0) C(4) C(-4) Fe(3) Fe(2) S(6) S(-2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ium_phase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ckinaw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e(OH)3(a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ckinawite 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2O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0 millimoles in 50 step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913A25-129F-474A-844E-671E3F08A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1a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, Fe(OH)3(a), SO4, CH2O (-&gt; CH4 + CO2)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3) is not important anywhere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 See plot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4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ventually, the reacted carbon is split between CO2 and CH4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5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(OH)3 dissolves as pe decreases. Fe is no longer being sequestered in mackinawite (FeS)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6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pends on the depth of water, but certainly at atmospheric pressure a bubble will form. At the end of the reaction (50 mmol CH2O reacted) the partial pressure of methane is 10^.66 = 4.6 atmospheres. So if the ambient pressure is less than 4.6 atmospheres (&lt; ~35 m water depth), bubbles should form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7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crease in sulfate, increase in alkalinity and pH. Usually, H2S does not accumulate in solution, but precipitates as FeS or escapes as a gas. pH changes are sensitive to Fe and S(-2) reactions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18" name="Object 4"/>
          <p:cNvGraphicFramePr/>
          <p:nvPr/>
        </p:nvGraphicFramePr>
        <p:xfrm>
          <a:off x="1608120" y="984564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8120" y="984564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206CB33-533D-4016-B307-B050148BB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.11b.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stio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lfate decreases, alkalinity increases, pH increases, ammonium increase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(-2) is significant, Fe is negligible. pH 7.5 not 9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B7017DF-F9D3-499F-9638-77A5D54A1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14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ar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2O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7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225B11-5175-4C76-99EB-193FDD4F5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5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.32*137 = 43 mg/L Ba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2 mmol/kgw methane was generated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tion exchange is a possibility. With much larger TDIC, witherite (BaCO3) is a possibility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B4D2F8B-3940-4015-BC81-6E80074FF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4935C7-A8F0-46BB-A100-423F1D679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29179F-07DF-4F6D-AAD8-E9C67E21E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B48BEF9-F4EC-4C1E-B0AA-B52F09AA2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marL="190440" indent="0">
              <a:lnSpc>
                <a:spcPct val="6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6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--------------------------------Redox couples---------------------------------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couple             pe  Eh (volts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(-2)/O(0)          12.9447      0.765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0)/N(5)           11.7378      0.694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r(3)/Cr(6)          7.0462      0.41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5)           6.1349      0.362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2)/Fe(3)          4.3348      0.256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s(3)/As(5)         -0.1501     -0.008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(4)/U(6)           -1.0821     -0.064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(3)/V(5)           -2.2557     -0.133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(-3)/N(0)          -3.2032     -0.189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-2)/S(6)          -3.6279     -0.214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(-4)/C(4)          -4.0436     -0.239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0">
              <a:lnSpc>
                <a:spcPct val="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a) increase in iron concentration should occur first if ferric oxyhydroxides are in the system. Equal Fe(2)/Fe(3) at pe ~ 4, Equal U(4)/U(6) at pe ~ -1.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marL="190440" indent="-190440">
              <a:spcBef>
                <a:spcPts val="374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O3- in oxic water, NH4+ in methanic water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CA8BBF-78E4-4BD3-AE3D-941EDB510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A72BB41-4B89-49C8-A892-4E557074EF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6ACEB69-F23F-4C51-B6E9-6424CBD59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18. 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ckinaw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hale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6106BE2-1106-48BF-BC8B-62E982939F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18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S2 + xO2 + yH2O -&gt; Fe+3 + 2SO4-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 addition, ferric iron hydrolizes to make additional H+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+3 + H2O = FeOH+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th net acid production to give pH 2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Mackinaw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S + 2.25O2 + H+ -&gt; Fe+3 + SO4-2 + .5H2O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ut ferric iron hydroliz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e+3 + H2O = FeOH+2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ith a net acid production that give pH 4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phalerite oxidation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nS + 2O2 -&gt; Zn+2 + SO4-2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inc hydrolosis is minima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Zn+2 + H2O = FeOH+ + 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Net result is pH 7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. HSO4-/SO4-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3. Iron oxyhydroxides, goethite (and often Fe(OH)3(a)) and  jarosite. There is also a potassium jarosite and other solid solutions of jarosites. Aluminum has analogous minerals named aluni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D39615-6F0D-4F7C-8412-13F4BF441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 R.2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xerci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yr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mmo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AV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 2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2(g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0.7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oethit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0.0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0709DB-6033-4809-AB9B-864873A6C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body"/>
          </p:nvPr>
        </p:nvSpPr>
        <p:spPr>
          <a:xfrm>
            <a:off x="934920" y="4414680"/>
            <a:ext cx="5176800" cy="418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.20.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s 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1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FeS2 + 75O2 = 19FeOOH + .8Fe(+3) + 27HSO4- + 12SO4-2 + 50H+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2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.4 and 5.8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Question 3: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Gypsum is supersaturated, and probably would precipitate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CO2 is 1 atmosphere. If O2 reacts to equilibrium with the atmosphere, logically, CO2 would also.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graphicFrame>
        <p:nvGraphicFramePr>
          <p:cNvPr id="759" name="Object 4"/>
          <p:cNvGraphicFramePr/>
          <p:nvPr/>
        </p:nvGraphicFramePr>
        <p:xfrm>
          <a:off x="1073160" y="7850160"/>
          <a:ext cx="4424400" cy="28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7850160"/>
                    <a:ext cx="4424400" cy="28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1DD-F2F3-407A-9461-927AF29A5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8CEE-A14E-4A87-AE36-53D32991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BBE0-A159-4548-88B5-3DFF518B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2754-2AEE-41BE-B170-6042F314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962A-9FF1-4EE2-BD41-53E9B8BEB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1151-080D-4D5C-BEBF-6DE84937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645C-1329-4E4C-8944-12915560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CF58-E989-4613-B42B-5602A529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5285-A423-4EFC-9E36-48D8723A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9E28-BCA4-49AD-8096-66BF5935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2EBEB-F9C9-40A6-B79E-59DF5585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6D32-3AFF-4F72-BDBD-09A31F2C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6BB6-B3CD-4475-AF39-99BBEFA3F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E98C-290F-4C3C-8455-19746E0B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0181-1A4B-41E2-9ED9-73ADEAE3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E119-38B8-4FBE-9DA9-7ACA5D98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A919-B827-4F95-848F-993631BD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4B8-DBCC-4B6D-9A75-58998DE93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020-B8C6-497A-BAF5-786B50FC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08A9-8681-47B8-A999-E3AD860B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8D6-37E6-4CD9-BCDA-9244B60C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D82-CA40-43FE-8788-43F7FB57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791-296B-4B38-9713-06A34A8C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C5B5-89A5-48EB-A1D2-AB85AFEB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DD86-1BD3-488B-93B6-71E0AE10DD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BD0D-DA84-4550-A933-E82F211C3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uesda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 in PHREE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REEQC mechan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geochemical reactions discussion and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organic carb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py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7FFC-D42D-4DA4-938B-771B3806A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SURFACE Data Block Definition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6868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name—Hfo is Hydrous Ferric Ox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surfac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composition of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URFACE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w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sO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.00005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fo_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01 moles, Equilibrium with 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7FB7-79C0-4248-8536-9F825A2BB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cher Oklahoma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bandoned Pb/Zn Mine</a:t>
            </a:r>
            <a:br>
              <a:rPr sz="4400"/>
            </a:b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/L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7720" y="4267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s are sub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on oxidizes in 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1028"/>
          <p:cNvGraphicFramePr/>
          <p:nvPr/>
        </p:nvGraphicFramePr>
        <p:xfrm>
          <a:off x="304920" y="2533680"/>
          <a:ext cx="8610480" cy="128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33680"/>
                    <a:ext cx="86104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B8CC-E49D-4CA8-AFD8-6D782B461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yrite Oxida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685440" y="182880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ite/Marca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rihydrite/Goethite, jarosite, alu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ypsum if calcite i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por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side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gene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ite &gt; FeS &gt; Z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2AD6-13E2-4FAF-B12C-9BD2C496F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9FA3-EC56-494D-A72C-E533AD2C49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luminosilicate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1760" y="3352680"/>
            <a:ext cx="2971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l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xene (augi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hibole (hornblen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otite 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609480" y="175248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eminated calcite important in silicate ter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685800" y="2666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wen/Goldich reaction 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1"/>
          <p:cNvGrpSpPr/>
          <p:nvPr/>
        </p:nvGrpSpPr>
        <p:grpSpPr>
          <a:xfrm>
            <a:off x="4035960" y="3276720"/>
            <a:ext cx="459720" cy="2514600"/>
            <a:chOff x="4035960" y="3276720"/>
            <a:chExt cx="459720" cy="2514600"/>
          </a:xfrm>
        </p:grpSpPr>
        <p:sp>
          <p:nvSpPr>
            <p:cNvPr id="532" name="Text Box 7"/>
            <p:cNvSpPr/>
            <p:nvPr/>
          </p:nvSpPr>
          <p:spPr>
            <a:xfrm rot="5400000">
              <a:off x="3160800" y="41515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re sta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8"/>
            <p:cNvSpPr/>
            <p:nvPr/>
          </p:nvSpPr>
          <p:spPr>
            <a:xfrm>
              <a:off x="4267080" y="5181480"/>
              <a:ext cx="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Rectangle 10"/>
          <p:cNvSpPr/>
          <p:nvPr/>
        </p:nvSpPr>
        <p:spPr>
          <a:xfrm>
            <a:off x="5334120" y="327672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gio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Feldsp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cov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1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EE99-3ADF-47CE-9AD5-BD2068308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luminosilicat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minerals react to form gibbsite, kaolinite, smectite, zeolites,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modynamic data is not rel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al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ge of st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measure alumi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s are sl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69D6-3B7A-485C-B7EA-A867C8426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5162400" cy="512424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dd Reactant to Phase Boundary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714640" y="1980720"/>
            <a:ext cx="3429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dded (or removed) until gibbsite equilibrium is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is target SI for Gib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is amount of  KAl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5"/>
          <p:cNvSpPr/>
          <p:nvPr/>
        </p:nvSpPr>
        <p:spPr>
          <a:xfrm>
            <a:off x="2971800" y="3962520"/>
            <a:ext cx="11430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3"/>
          <p:cNvSpPr/>
          <p:nvPr/>
        </p:nvSpPr>
        <p:spPr>
          <a:xfrm>
            <a:off x="685800" y="3962520"/>
            <a:ext cx="18288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A266-D7E3-453C-9349-762E9511B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22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ercise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Use phreeqc.d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(CaA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o come to equilibrium with gibbs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to come to equilibrium with kaoli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just enough Anorthite to come to equilibrium with Ca-Montmorillon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solve Anorthite to equilibrium, allow gibbsite, kaolinite, and Ca-Montmorillonite to precipit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1946-FFEC-4F7C-8280-DAB8E410C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2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the thermodynamic data, which mineral should precipitate firs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stable phase assemblage in a water/anorthite syst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quartz need to be included in this calcul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320F-3EC1-4971-B799-E71095D4A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2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bbsite requires the least amount of Anorthite to dissolve to become satu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, anorthite, gibbsite, kaolinite?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rtz is undersaturated in all calcul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B8E0-3764-46F6-952F-5C05F14EA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erra Nevada Springs</a:t>
            </a:r>
            <a:br>
              <a:rPr sz="4400"/>
            </a:b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mol/kgw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Ca, Alkalinity,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ght increase in Mg, K, Cl, 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4"/>
          <p:cNvGraphicFramePr/>
          <p:nvPr/>
        </p:nvGraphicFramePr>
        <p:xfrm>
          <a:off x="76320" y="2590920"/>
          <a:ext cx="8839080" cy="66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590920"/>
                    <a:ext cx="88390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7281-7990-4F18-AFF9-694FBBCDC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960" y="847800"/>
            <a:ext cx="897228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INETICS—Nonequilibrium Reaction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an affect any chemical constituen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396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d Ki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active dec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licate hydro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B679-AC44-4D55-8A9A-CE301C8D13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uesday 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57DCD-C65D-4C86-98B0-204593740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 minerals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electron acceptors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OOH,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D791-23A2-4FEF-8A0B-92652CFD1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ex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_PHASE (opt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C8E3-93ED-4CCE-8028-DD2466068E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4. TES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oil zone, carbonate ground water, log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-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trate the water with by addition of HCl (use RE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H vs acid added, assuming equilibrium with atmospheric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 pH vs acid added, assuming no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scapes from the s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D52A-E2F3-41E9-9DC6-B250290128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ple plus head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UZ water and 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e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ke sedi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ll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B619-35E4-4413-B36F-7BEF1C904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V = nRT Ideal ga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nry’s 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 K = [CO2]/P(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pressure—Volume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volume—Pressure v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FFCC-8C0E-413A-B1A2-B9978DF29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7" name="Object 5"/>
          <p:cNvGraphicFramePr/>
          <p:nvPr/>
        </p:nvGraphicFramePr>
        <p:xfrm>
          <a:off x="304920" y="2819520"/>
          <a:ext cx="8610480" cy="850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819520"/>
                    <a:ext cx="8610480" cy="85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9" name="Rectangle 6"/>
          <p:cNvSpPr/>
          <p:nvPr/>
        </p:nvSpPr>
        <p:spPr>
          <a:xfrm>
            <a:off x="762120" y="990720"/>
            <a:ext cx="78483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Blue Plains, Washington D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Potomac River Sediment Por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76212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tha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1860-A6EA-4040-A87B-026FFCCC1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AS_PHA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gas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moles in the gas phase are calculated ideal gas law usin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essures of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4" descr=""/>
          <p:cNvPicPr/>
          <p:nvPr/>
        </p:nvPicPr>
        <p:blipFill>
          <a:blip r:embed="rId1"/>
          <a:stretch/>
        </p:blipFill>
        <p:spPr>
          <a:xfrm>
            <a:off x="4343400" y="685800"/>
            <a:ext cx="4552920" cy="5429160"/>
          </a:xfrm>
          <a:prstGeom prst="rect">
            <a:avLst/>
          </a:prstGeom>
          <a:ln w="0">
            <a:noFill/>
          </a:ln>
        </p:spPr>
      </p:pic>
      <p:sp>
        <p:nvSpPr>
          <p:cNvPr id="58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044C-8736-46BF-9C45-F74799368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5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 water with 50 mmol of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0.1 in freshwater sed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is the reacted carbon distributed in the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classify the water in terms of cations and an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processes should we consid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2EF1-9A72-422E-BDA0-44667156D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5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mmol C(-4) (methane); 25 mmol C(4) (20 mmol CO2, 5 mmol HCO3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monium bicarbonate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236C-E979-4C2D-AF17-F497822068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914400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KINETICS and RATES Data Block Defini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94920" y="1740960"/>
            <a:ext cx="7162920" cy="473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 reaction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ichiometry of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expression (RA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Kinetics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_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 -1 CH2O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Rate = 0.01*TOT(“Doc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AVE rate*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6F5BC-B92B-46BA-A90A-E2146BE13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6. Gas pha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a gas phase in the last sim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artial pressure of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partial pressure of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 pressure is 1.0 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composition of the gas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volume of the gas pha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5CD7-E725-4995-B619-CFA52F1C2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CH4, 30% CO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83 li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8A67-607C-43F0-B972-6181EA047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394920"/>
            <a:ext cx="7924680" cy="21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OLID_SOLUTIONS—Composition of one or more solid solutions</a:t>
            </a:r>
            <a:br>
              <a:rPr sz="3600"/>
            </a:br>
            <a:br>
              <a:rPr sz="36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race elements and isotop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2784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f solid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s of each soli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SOLID_SOLUTION 2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 soli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[13C]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O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B9EC-D5C6-4D61-949F-F50080F40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000" y="847800"/>
            <a:ext cx="869004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GAS_PHASE—Finite gas phase in equilibrium with solution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3960" y="266688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that g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 bubbles that fill a finite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AD83-F79A-4834-B59B-E2373074EA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395280"/>
            <a:ext cx="7924680" cy="19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AS_PHASE—Composition of the gas phas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 Fixed volume or Fixed press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784240"/>
            <a:ext cx="8229600" cy="353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essure of each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GAS_PHAS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2(g)  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4(g)  0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D0D6-809F-4A51-AE6C-A4AE5B188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Reacta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 data blocks defin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s—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reaction—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minerals and gases—EQUILIBRIUM_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rs—EXCH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s—SURFA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reactions—KINETICS and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id solutions—SOLID_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reactants on shelves by type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0FDC-28D6-4738-BAD5-A741C16B9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5244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PHREEQC—Reaction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388880"/>
            <a:ext cx="3211560" cy="51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sh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nc_u1buw[1]"/>
          <p:cNvPicPr/>
          <p:nvPr/>
        </p:nvPicPr>
        <p:blipFill>
          <a:blip r:embed="rId1"/>
          <a:stretch/>
        </p:blipFill>
        <p:spPr>
          <a:xfrm>
            <a:off x="457200" y="2133720"/>
            <a:ext cx="3211560" cy="34462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_qgd_eaj[1]"/>
          <p:cNvPicPr/>
          <p:nvPr/>
        </p:nvPicPr>
        <p:blipFill>
          <a:blip r:embed="rId2"/>
          <a:stretch/>
        </p:blipFill>
        <p:spPr>
          <a:xfrm>
            <a:off x="5410080" y="2362320"/>
            <a:ext cx="3452760" cy="344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6"/>
          <p:cNvSpPr/>
          <p:nvPr/>
        </p:nvSpPr>
        <p:spPr>
          <a:xfrm>
            <a:off x="4229280" y="3868560"/>
            <a:ext cx="685800" cy="855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410080" y="1389240"/>
            <a:ext cx="3211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be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41D2-8102-4309-83A9-F14F3BD5D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_SOLU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_PHAS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_PH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"/>
          <p:cNvSpPr/>
          <p:nvPr/>
        </p:nvSpPr>
        <p:spPr>
          <a:xfrm>
            <a:off x="3276720" y="2286000"/>
            <a:ext cx="1600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3FA65-8075-47F3-8BFF-3FB089945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030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N-EQUILIBRIUM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38095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5"/>
          <p:cNvSpPr/>
          <p:nvPr/>
        </p:nvSpPr>
        <p:spPr>
          <a:xfrm>
            <a:off x="3581280" y="2666880"/>
            <a:ext cx="1143000" cy="38124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6"/>
          <p:cNvSpPr/>
          <p:nvPr/>
        </p:nvSpPr>
        <p:spPr>
          <a:xfrm>
            <a:off x="5562720" y="2666880"/>
            <a:ext cx="38088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4A68-443F-47DD-AF1B-A13348FF9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96" name="Group 46"/>
          <p:cNvGrpSpPr/>
          <p:nvPr/>
        </p:nvGrpSpPr>
        <p:grpSpPr>
          <a:xfrm>
            <a:off x="152280" y="1905120"/>
            <a:ext cx="1067040" cy="1066680"/>
            <a:chOff x="152280" y="1905120"/>
            <a:chExt cx="1067040" cy="1066680"/>
          </a:xfrm>
        </p:grpSpPr>
        <p:sp>
          <p:nvSpPr>
            <p:cNvPr id="97" name="AutoShape 23"/>
            <p:cNvSpPr/>
            <p:nvPr/>
          </p:nvSpPr>
          <p:spPr>
            <a:xfrm>
              <a:off x="1522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Text Box 24"/>
            <p:cNvSpPr/>
            <p:nvPr/>
          </p:nvSpPr>
          <p:spPr>
            <a:xfrm>
              <a:off x="1522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68"/>
          <p:cNvGrpSpPr/>
          <p:nvPr/>
        </p:nvGrpSpPr>
        <p:grpSpPr>
          <a:xfrm>
            <a:off x="3657600" y="1905120"/>
            <a:ext cx="1219320" cy="1066680"/>
            <a:chOff x="3657600" y="1905120"/>
            <a:chExt cx="1219320" cy="1066680"/>
          </a:xfrm>
        </p:grpSpPr>
        <p:sp>
          <p:nvSpPr>
            <p:cNvPr id="100" name="AutoShape 48"/>
            <p:cNvSpPr/>
            <p:nvPr/>
          </p:nvSpPr>
          <p:spPr>
            <a:xfrm>
              <a:off x="373392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49"/>
            <p:cNvSpPr/>
            <p:nvPr/>
          </p:nvSpPr>
          <p:spPr>
            <a:xfrm>
              <a:off x="3657600" y="213372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LIBRIUM_PH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50"/>
          <p:cNvGrpSpPr/>
          <p:nvPr/>
        </p:nvGrpSpPr>
        <p:grpSpPr>
          <a:xfrm>
            <a:off x="4800600" y="1905120"/>
            <a:ext cx="1066680" cy="1066680"/>
            <a:chOff x="4800600" y="1905120"/>
            <a:chExt cx="1066680" cy="1066680"/>
          </a:xfrm>
        </p:grpSpPr>
        <p:sp>
          <p:nvSpPr>
            <p:cNvPr id="103" name="AutoShape 51"/>
            <p:cNvSpPr/>
            <p:nvPr/>
          </p:nvSpPr>
          <p:spPr>
            <a:xfrm>
              <a:off x="480060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52"/>
            <p:cNvSpPr/>
            <p:nvPr/>
          </p:nvSpPr>
          <p:spPr>
            <a:xfrm>
              <a:off x="480060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53"/>
          <p:cNvGrpSpPr/>
          <p:nvPr/>
        </p:nvGrpSpPr>
        <p:grpSpPr>
          <a:xfrm>
            <a:off x="5867280" y="1905120"/>
            <a:ext cx="1067040" cy="1066680"/>
            <a:chOff x="5867280" y="1905120"/>
            <a:chExt cx="1067040" cy="1066680"/>
          </a:xfrm>
        </p:grpSpPr>
        <p:sp>
          <p:nvSpPr>
            <p:cNvPr id="106" name="AutoShape 54"/>
            <p:cNvSpPr/>
            <p:nvPr/>
          </p:nvSpPr>
          <p:spPr>
            <a:xfrm>
              <a:off x="58672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55"/>
            <p:cNvSpPr/>
            <p:nvPr/>
          </p:nvSpPr>
          <p:spPr>
            <a:xfrm>
              <a:off x="58672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6"/>
          <p:cNvGrpSpPr/>
          <p:nvPr/>
        </p:nvGrpSpPr>
        <p:grpSpPr>
          <a:xfrm>
            <a:off x="6934320" y="1905120"/>
            <a:ext cx="1066680" cy="1066680"/>
            <a:chOff x="6934320" y="1905120"/>
            <a:chExt cx="1066680" cy="1066680"/>
          </a:xfrm>
        </p:grpSpPr>
        <p:sp>
          <p:nvSpPr>
            <p:cNvPr id="109" name="AutoShape 57"/>
            <p:cNvSpPr/>
            <p:nvPr/>
          </p:nvSpPr>
          <p:spPr>
            <a:xfrm>
              <a:off x="693432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58"/>
            <p:cNvSpPr/>
            <p:nvPr/>
          </p:nvSpPr>
          <p:spPr>
            <a:xfrm>
              <a:off x="693432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INE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9"/>
          <p:cNvGrpSpPr/>
          <p:nvPr/>
        </p:nvGrpSpPr>
        <p:grpSpPr>
          <a:xfrm>
            <a:off x="1219320" y="1905120"/>
            <a:ext cx="1066680" cy="1066680"/>
            <a:chOff x="1219320" y="1905120"/>
            <a:chExt cx="1066680" cy="1066680"/>
          </a:xfrm>
        </p:grpSpPr>
        <p:sp>
          <p:nvSpPr>
            <p:cNvPr id="112" name="AutoShape 60"/>
            <p:cNvSpPr/>
            <p:nvPr/>
          </p:nvSpPr>
          <p:spPr>
            <a:xfrm>
              <a:off x="1219320" y="1905120"/>
              <a:ext cx="990360" cy="1066680"/>
            </a:xfrm>
            <a:prstGeom prst="downArrowCallout">
              <a:avLst>
                <a:gd name="adj1" fmla="val 25188"/>
                <a:gd name="adj2" fmla="val 29546"/>
                <a:gd name="adj3" fmla="val 16704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61"/>
            <p:cNvSpPr/>
            <p:nvPr/>
          </p:nvSpPr>
          <p:spPr>
            <a:xfrm>
              <a:off x="1219320" y="213336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5"/>
          <p:cNvGrpSpPr/>
          <p:nvPr/>
        </p:nvGrpSpPr>
        <p:grpSpPr>
          <a:xfrm>
            <a:off x="2666880" y="1905120"/>
            <a:ext cx="1067040" cy="1066680"/>
            <a:chOff x="2666880" y="1905120"/>
            <a:chExt cx="1067040" cy="1066680"/>
          </a:xfrm>
        </p:grpSpPr>
        <p:sp>
          <p:nvSpPr>
            <p:cNvPr id="115" name="AutoShape 66"/>
            <p:cNvSpPr/>
            <p:nvPr/>
          </p:nvSpPr>
          <p:spPr>
            <a:xfrm>
              <a:off x="266688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7"/>
            <p:cNvSpPr/>
            <p:nvPr/>
          </p:nvSpPr>
          <p:spPr>
            <a:xfrm>
              <a:off x="2666880" y="213336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 Box 70"/>
          <p:cNvSpPr/>
          <p:nvPr/>
        </p:nvSpPr>
        <p:spPr>
          <a:xfrm>
            <a:off x="457200" y="3200400"/>
            <a:ext cx="8305920" cy="157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ATION RE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2"/>
          <p:cNvSpPr/>
          <p:nvPr/>
        </p:nvSpPr>
        <p:spPr>
          <a:xfrm>
            <a:off x="228600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73"/>
          <p:cNvSpPr/>
          <p:nvPr/>
        </p:nvSpPr>
        <p:spPr>
          <a:xfrm>
            <a:off x="4419720" y="480060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86"/>
          <p:cNvGrpSpPr/>
          <p:nvPr/>
        </p:nvGrpSpPr>
        <p:grpSpPr>
          <a:xfrm>
            <a:off x="762120" y="5486400"/>
            <a:ext cx="1295280" cy="762120"/>
            <a:chOff x="762120" y="5486400"/>
            <a:chExt cx="1295280" cy="762120"/>
          </a:xfrm>
        </p:grpSpPr>
        <p:sp>
          <p:nvSpPr>
            <p:cNvPr id="121" name="Rectangle 78"/>
            <p:cNvSpPr/>
            <p:nvPr/>
          </p:nvSpPr>
          <p:spPr>
            <a:xfrm>
              <a:off x="76212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74"/>
            <p:cNvSpPr/>
            <p:nvPr/>
          </p:nvSpPr>
          <p:spPr>
            <a:xfrm>
              <a:off x="914400" y="57150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85"/>
          <p:cNvGrpSpPr/>
          <p:nvPr/>
        </p:nvGrpSpPr>
        <p:grpSpPr>
          <a:xfrm>
            <a:off x="2343240" y="5486400"/>
            <a:ext cx="1295280" cy="762120"/>
            <a:chOff x="2343240" y="5486400"/>
            <a:chExt cx="1295280" cy="762120"/>
          </a:xfrm>
        </p:grpSpPr>
        <p:sp>
          <p:nvSpPr>
            <p:cNvPr id="124" name="Rectangle 80"/>
            <p:cNvSpPr/>
            <p:nvPr/>
          </p:nvSpPr>
          <p:spPr>
            <a:xfrm>
              <a:off x="234324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5"/>
            <p:cNvSpPr/>
            <p:nvPr/>
          </p:nvSpPr>
          <p:spPr>
            <a:xfrm>
              <a:off x="2343240" y="5627880"/>
              <a:ext cx="12952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QUILIBRIUM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A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84"/>
          <p:cNvGrpSpPr/>
          <p:nvPr/>
        </p:nvGrpSpPr>
        <p:grpSpPr>
          <a:xfrm>
            <a:off x="3924360" y="5486400"/>
            <a:ext cx="1371600" cy="762120"/>
            <a:chOff x="3924360" y="5486400"/>
            <a:chExt cx="1371600" cy="762120"/>
          </a:xfrm>
        </p:grpSpPr>
        <p:sp>
          <p:nvSpPr>
            <p:cNvPr id="127" name="Rectangle 81"/>
            <p:cNvSpPr/>
            <p:nvPr/>
          </p:nvSpPr>
          <p:spPr>
            <a:xfrm>
              <a:off x="392436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76"/>
            <p:cNvSpPr/>
            <p:nvPr/>
          </p:nvSpPr>
          <p:spPr>
            <a:xfrm>
              <a:off x="4000320" y="571500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XCHAN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83"/>
          <p:cNvGrpSpPr/>
          <p:nvPr/>
        </p:nvGrpSpPr>
        <p:grpSpPr>
          <a:xfrm>
            <a:off x="5581800" y="5486400"/>
            <a:ext cx="1295280" cy="762120"/>
            <a:chOff x="5581800" y="5486400"/>
            <a:chExt cx="1295280" cy="762120"/>
          </a:xfrm>
        </p:grpSpPr>
        <p:sp>
          <p:nvSpPr>
            <p:cNvPr id="130" name="Rectangle 82"/>
            <p:cNvSpPr/>
            <p:nvPr/>
          </p:nvSpPr>
          <p:spPr>
            <a:xfrm>
              <a:off x="558180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77"/>
            <p:cNvSpPr/>
            <p:nvPr/>
          </p:nvSpPr>
          <p:spPr>
            <a:xfrm>
              <a:off x="5734080" y="57150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94"/>
          <p:cNvGrpSpPr/>
          <p:nvPr/>
        </p:nvGrpSpPr>
        <p:grpSpPr>
          <a:xfrm>
            <a:off x="7924680" y="1905120"/>
            <a:ext cx="1219320" cy="1066680"/>
            <a:chOff x="7924680" y="1905120"/>
            <a:chExt cx="1219320" cy="1066680"/>
          </a:xfrm>
        </p:grpSpPr>
        <p:sp>
          <p:nvSpPr>
            <p:cNvPr id="133" name="AutoShape 88"/>
            <p:cNvSpPr/>
            <p:nvPr/>
          </p:nvSpPr>
          <p:spPr>
            <a:xfrm>
              <a:off x="8001000" y="1905120"/>
              <a:ext cx="990720" cy="1066680"/>
            </a:xfrm>
            <a:prstGeom prst="downArrowCallout">
              <a:avLst>
                <a:gd name="adj1" fmla="val 25188"/>
                <a:gd name="adj2" fmla="val 29546"/>
                <a:gd name="adj3" fmla="val 16698"/>
                <a:gd name="adj4" fmla="val 6550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89"/>
            <p:cNvSpPr/>
            <p:nvPr/>
          </p:nvSpPr>
          <p:spPr>
            <a:xfrm>
              <a:off x="7924680" y="2133720"/>
              <a:ext cx="12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S_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93"/>
          <p:cNvGrpSpPr/>
          <p:nvPr/>
        </p:nvGrpSpPr>
        <p:grpSpPr>
          <a:xfrm>
            <a:off x="7162920" y="5486400"/>
            <a:ext cx="1371600" cy="762120"/>
            <a:chOff x="7162920" y="5486400"/>
            <a:chExt cx="1371600" cy="762120"/>
          </a:xfrm>
        </p:grpSpPr>
        <p:sp>
          <p:nvSpPr>
            <p:cNvPr id="136" name="Rectangle 91"/>
            <p:cNvSpPr/>
            <p:nvPr/>
          </p:nvSpPr>
          <p:spPr>
            <a:xfrm>
              <a:off x="7162920" y="5486400"/>
              <a:ext cx="1295280" cy="762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92"/>
            <p:cNvSpPr/>
            <p:nvPr/>
          </p:nvSpPr>
          <p:spPr>
            <a:xfrm>
              <a:off x="7162920" y="5715000"/>
              <a:ext cx="137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AS_PHA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Slide Number Placeholder 4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E5E7-E0A9-4478-8D9F-F17652810B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ONCEPTUAL MODE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—SOLUTION or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irreversible react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reversible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_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S_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e new com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ompositions if nee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4A8F-0FD1-4588-9920-0D27C577D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day’s Geochemical Reac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organic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ation of py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osilicate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7D9F-5136-4BDE-A467-19E002D50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oday’s PHREEQC Data Block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and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GAS_PHA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893A-DDBC-4491-88E5-AD51C71E2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5049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 redox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5D51-20BC-4234-872E-C82BC7F2D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4429080" cy="44197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IX: One or more SOLU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409720" y="2285640"/>
            <a:ext cx="35053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solution num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mixing 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895480" y="2971800"/>
            <a:ext cx="1752840" cy="10666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30C7-413F-4F86-BB0C-9EFD03D4EC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3416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1. Exercise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Implicit Redox Reactions</a:t>
            </a:r>
            <a:br>
              <a:rPr sz="3600"/>
            </a:br>
            <a:br>
              <a:rPr sz="24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g/L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240" y="266652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ainwater as SOLUTION 1 with log partial pressure of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0.7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-3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MIX by using solution 1 and mixing fraction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Object 4"/>
          <p:cNvGraphicFramePr/>
          <p:nvPr/>
        </p:nvGraphicFramePr>
        <p:xfrm>
          <a:off x="114480" y="1752480"/>
          <a:ext cx="8877240" cy="5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1752480"/>
                    <a:ext cx="88772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587E-939F-42F9-A570-A6608B22B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1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xplain the differences between the initial solution composition and the reaction (“mixed”) solution composition, particularly pH, pe, N(5), N(0), and     N(-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4020A-3306-4427-B2C2-7F119C8BF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solu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500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216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000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.373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375e-00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781e-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5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692e-0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177e-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0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126e-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-3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485e-0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differences are caused entirely by redox equilibration. Initial solution is in redox disequilibrium, the reaction solution is in redox equilibrium. In the reaction solu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(-3) has been oxidized to N(5) and N(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(0) has been reduced in the process of oxidizing N(-3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idation tends to decrease pH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ox is defined by O(0)/O(-2) and N(5)/N(0) redox couples, both will give the same 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0DEB-4BBA-4F70-91C0-A4F980C04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Calcul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redox disequilib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N(5), N(-3), O(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 calc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e aqueous redox 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redefine “elements” for dis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, N(5), N(3), N(0), N(-3), Ngas, 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CF83-3790-4363-A387-F9CC8BD965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255A-CEA3-4CFA-8995-E7E7775B8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566280"/>
            <a:ext cx="822636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OLUTION—Chemical Composition of a Wat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22000"/>
            <a:ext cx="8229600" cy="27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mical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elements Ca, Mg, Na, K, Alkalinity, Cl,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c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1137-E98E-4E0E-94ED-AC7F2D73E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943600" cy="22701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AVE and U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373356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results of reactio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viously defined SOLUTIONs, EQUILIBRIUM_PHASES, REACTIONs, et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reviously SAVEd SOLUTIONS, EQUILBRIUM_PHAS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5257800" y="2286000"/>
            <a:ext cx="457200" cy="38088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5105520" y="2666880"/>
            <a:ext cx="380880" cy="30492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CE07-C24E-4390-A8BB-70D34DC32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4257720" cy="372420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AVE results from a “Reaction Calculation”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541008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SOLUTION defines an “initial solution” calculation, which is automatically sav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5"/>
          <p:cNvSpPr/>
          <p:nvPr/>
        </p:nvSpPr>
        <p:spPr>
          <a:xfrm>
            <a:off x="2971800" y="251460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400800" y="1981080"/>
            <a:ext cx="2362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 are used to keep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 do not need to be sequ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F0F8-9093-4037-AC2B-3E229FBD0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: Previously defined or SAVEd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724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ncludes KINETICS, MIX, REACTION, and REACTION_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previously SAVEd EQUILIBRIUM_PHASES, EXCHANGE, SOLID_SOLUTION, SOLUTION, SURFACE, or GAS_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380880" y="1952640"/>
            <a:ext cx="3981600" cy="3990960"/>
          </a:xfrm>
          <a:prstGeom prst="rect">
            <a:avLst/>
          </a:prstGeom>
          <a:ln w="0">
            <a:noFill/>
          </a:ln>
        </p:spPr>
      </p:pic>
      <p:sp>
        <p:nvSpPr>
          <p:cNvPr id="250" name="Oval 5"/>
          <p:cNvSpPr/>
          <p:nvPr/>
        </p:nvSpPr>
        <p:spPr>
          <a:xfrm>
            <a:off x="3581280" y="365760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9E1F-F695-4323-AAA9-533C294683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itial Solution” and “Reaction” Calcul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772040" y="1981080"/>
            <a:ext cx="68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1"/>
          <a:stretch/>
        </p:blipFill>
        <p:spPr>
          <a:xfrm>
            <a:off x="533520" y="1181160"/>
            <a:ext cx="7924680" cy="5280120"/>
          </a:xfrm>
          <a:prstGeom prst="rect">
            <a:avLst/>
          </a:prstGeom>
          <a:ln w="0">
            <a:noFill/>
          </a:ln>
        </p:spPr>
      </p:pic>
      <p:sp>
        <p:nvSpPr>
          <p:cNvPr id="25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A5B7-2212-40EE-B615-C26CEC332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4851360" cy="49435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: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ants and stoichiome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866920" y="2438280"/>
            <a:ext cx="3048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phase or type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elative stoichio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charge bala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5"/>
          <p:cNvSpPr/>
          <p:nvPr/>
        </p:nvSpPr>
        <p:spPr>
          <a:xfrm>
            <a:off x="431640" y="1854360"/>
            <a:ext cx="99072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6"/>
          <p:cNvSpPr/>
          <p:nvPr/>
        </p:nvSpPr>
        <p:spPr>
          <a:xfrm>
            <a:off x="2895480" y="3048120"/>
            <a:ext cx="2133720" cy="76176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7455-C65F-4FCC-BE0E-B19CF4F8C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5000760" cy="5095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: Reaction amou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866920" y="1981080"/>
            <a:ext cx="3124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are a number of equal inc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 are a specified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5"/>
          <p:cNvSpPr/>
          <p:nvPr/>
        </p:nvSpPr>
        <p:spPr>
          <a:xfrm>
            <a:off x="533520" y="3048120"/>
            <a:ext cx="990360" cy="12952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6"/>
          <p:cNvSpPr/>
          <p:nvPr/>
        </p:nvSpPr>
        <p:spPr>
          <a:xfrm>
            <a:off x="1295280" y="1676520"/>
            <a:ext cx="11430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7"/>
          <p:cNvSpPr/>
          <p:nvPr/>
        </p:nvSpPr>
        <p:spPr>
          <a:xfrm>
            <a:off x="1828800" y="3429000"/>
            <a:ext cx="2819520" cy="7621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139C-7A80-4B5B-AFD0-5E1A3EC09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_PHASE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562720" y="18284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y of minerals/gases that react to equilibrium or zero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/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saturation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5162400" cy="512460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6A66-611E-4D39-BE50-BAA1D5257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Initial Solution” and “Reaction” Calculation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2040" y="1981080"/>
            <a:ext cx="68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743880" cy="5145120"/>
          </a:xfrm>
          <a:prstGeom prst="rect">
            <a:avLst/>
          </a:prstGeom>
          <a:ln w="0">
            <a:noFill/>
          </a:ln>
        </p:spPr>
      </p:pic>
      <p:sp>
        <p:nvSpPr>
          <p:cNvPr id="27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218C-FDB6-4129-A83E-AFA6F949C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142920" y="1523880"/>
            <a:ext cx="4124160" cy="49532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Initial Solution” and Reaction Calculatio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statemen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343400" y="167616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—defines a “Simul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a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SOLUTION results in an initial solution calculation (unique ind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 calculation—SOLUTION + one of each reactant type befor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can be keyword b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ants be defined by U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speciation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action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transport calc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5"/>
          <p:cNvSpPr/>
          <p:nvPr/>
        </p:nvSpPr>
        <p:spPr>
          <a:xfrm>
            <a:off x="1981080" y="337824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6"/>
          <p:cNvSpPr/>
          <p:nvPr/>
        </p:nvSpPr>
        <p:spPr>
          <a:xfrm>
            <a:off x="609480" y="327672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7"/>
          <p:cNvSpPr/>
          <p:nvPr/>
        </p:nvSpPr>
        <p:spPr>
          <a:xfrm>
            <a:off x="609480" y="380988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"/>
          <p:cNvSpPr/>
          <p:nvPr/>
        </p:nvSpPr>
        <p:spPr>
          <a:xfrm>
            <a:off x="609480" y="434340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9"/>
          <p:cNvSpPr/>
          <p:nvPr/>
        </p:nvSpPr>
        <p:spPr>
          <a:xfrm>
            <a:off x="609480" y="5029200"/>
            <a:ext cx="83844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10"/>
          <p:cNvSpPr/>
          <p:nvPr/>
        </p:nvSpPr>
        <p:spPr>
          <a:xfrm>
            <a:off x="1981080" y="392436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Oval 11"/>
          <p:cNvSpPr/>
          <p:nvPr/>
        </p:nvSpPr>
        <p:spPr>
          <a:xfrm>
            <a:off x="1981080" y="472428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Oval 12"/>
          <p:cNvSpPr/>
          <p:nvPr/>
        </p:nvSpPr>
        <p:spPr>
          <a:xfrm>
            <a:off x="1981080" y="5791320"/>
            <a:ext cx="533520" cy="22860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1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05B3-2EAE-40D2-B268-188D36964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Speciation and Reaction Calculation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igmatic END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352680" y="1523880"/>
            <a:ext cx="55627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tion calculation solu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c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QUILIBRIUM_PHASE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CTION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peciation calc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action calculation—No Reactant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1"/>
          <a:stretch/>
        </p:blipFill>
        <p:spPr>
          <a:xfrm>
            <a:off x="152280" y="1409760"/>
            <a:ext cx="3029040" cy="499104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42B2-9346-4D0A-877C-9CAECACA8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566280"/>
            <a:ext cx="822636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(Irreversible) REACTION—Add/Remove elements to water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2236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a solution 1 m NaCl and 2 m KB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Cl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r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5E29-7784-420A-B668-056D7636D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3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equential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n unsaturated zone water. Build on previous exercise with rainwater. Add SAVE solution 2 after MIX step and before EN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 END, add USE solution 2 and equilibrate (EQUILIBRIUM_PHASES)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log partial pressure –2, and calcite (SI = 0), save solution as solution 3. 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lution 3, add 1 mmol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REACTION), equilibrate with calcite (EQUILIBRIUM_PHASES), save as solution 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73BF-B5B4-487A-A22A-A6AAF4A7F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3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log p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rainwater, rainwater, in redox equilibrium (the mixture), the mixture equilibrated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alcite, and after reaction with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alc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illimoles of calcite and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cted to make solu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millimoles of calcite reacted to make solution 4 from solution 3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C652-D065-4568-957B-0349A0BCD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R3.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Answers</a:t>
            </a:r>
            <a:endParaRPr b="0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1 Rainwa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2 Rainwater, redox equilibr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3 Solution 2 + equilibrium with CO2 and 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4 Solution 3 + Reaction + equilibrium with Calc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(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.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3.4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2.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1.6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              SI log IAP  log KT    Initial      Final      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te           0.00    -8.48     -8.48  1.000e+001 9.998e+000 -1.749e-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2(g)           -2.00  -20.15  -18.15 1.000e+001 9.998e+000 -1.774e-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4 mmol calcite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77 mmol CO2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ion 3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e               SI log IAP  log KT    Initial      Final      De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cite           0.00   -8.48   -8.48 1.000e+001 9.999e+000 -5.767e-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58 millimoles of calcite dissol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D002-958F-43A6-8DB0-C8D0087EF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5. Extra Credit Exerci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IX and REACTION to evaporate rainwater 20 fold (at constant p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before reaction with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alcite. Hint: You  must remove water and water has 55.5 mol per k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9123-D836-4EA2-B35E-340110D10C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5. Answer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_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em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O(0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C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2(g) -0.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2(g) -3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nwa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4.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38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04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1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0.03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9 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(g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lu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(g)    -2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olution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     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llim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ILIBRIUM_PHASES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te   0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VE solution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0F9C3-B328-40AC-8A79-1C6EE1109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 in PHREEQC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-solu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 calculation includes any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/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066680" y="2743200"/>
            <a:ext cx="3657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_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4267080" y="2743200"/>
            <a:ext cx="4343400" cy="15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LIBRIUM_PH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SOLID_SOLUTION GAS_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A702-BE8F-452B-845C-BE18E9488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8D0C-5296-4B9D-8295-A3F2D66AA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edolomitiz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hydrite dis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lomite dis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1A5D-E2EC-4547-9963-97FA22647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6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ground water with log pCO2 = -2, equilibrium with calcite and dolo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50 mmol of anhydrite (CaSO4) in increments of 10 mmol. Maintain equilibrium with calcite and dolomite, allow anhydrite to precipitate if it becomes satu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need to use these data blocks: SOLUTION, EQUILIBRIUM_PHASES, REACTION, USE, SAVE in two simul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C1D8-73AD-40F5-9A79-A168E8AB5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6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rends do you expect in water composition with anhydrite-driven dedolomit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is the following reaction misl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O4 + CaMg(CO3)2 = 2CaCO3 + Mg+2 + SO4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How does the water composition change from step 4 to step 5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3889-D060-47CC-95A6-0DFA263D0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344160"/>
            <a:ext cx="8226360" cy="18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QUILIBRIUM_PHASES—Assemblage of Minerals and Gases that react to equilibrium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579400"/>
            <a:ext cx="82296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= [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[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A926-B91D-4357-AA86-77C6F5B16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26" name="Object 3"/>
          <p:cNvGraphicFramePr/>
          <p:nvPr/>
        </p:nvGraphicFramePr>
        <p:xfrm>
          <a:off x="995400" y="1981080"/>
          <a:ext cx="7151760" cy="411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5400" y="1981080"/>
                    <a:ext cx="7151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2419D-5F2C-470D-9913-314BEA7B2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6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nswers </a:t>
            </a:r>
            <a:br>
              <a:rPr sz="4000"/>
            </a:b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in SO4, increase in Ca and Mg, constant or decrease in HCO3, decrease in pH, SI’s near zero for calcite and dolom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o not get a Mg+2 SO4-2 water composition. Ratio of Mg/Ca is approximately constant at .3 to 1 (depending on K for dolomi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et to the final water composition, the net reaction is approximat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CaSO4 + 16CaMg(CO3)2 = 32CaCO3 + 21Ca+2 + 16Mg+2 + 37SO4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has reached equilibrium and does not change. However, it is not quite an invariant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9BAF-350B-4117-91F2-64ABE4E12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4248000" cy="16002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3" descr=""/>
          <p:cNvPicPr/>
          <p:nvPr/>
        </p:nvPicPr>
        <p:blipFill>
          <a:blip r:embed="rId2"/>
          <a:stretch/>
        </p:blipFill>
        <p:spPr>
          <a:xfrm>
            <a:off x="3657600" y="1219320"/>
            <a:ext cx="5010120" cy="542916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6324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_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5" name="Oval 5"/>
          <p:cNvSpPr/>
          <p:nvPr/>
        </p:nvSpPr>
        <p:spPr>
          <a:xfrm>
            <a:off x="7543800" y="4419720"/>
            <a:ext cx="914400" cy="6858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Oval 6"/>
          <p:cNvSpPr/>
          <p:nvPr/>
        </p:nvSpPr>
        <p:spPr>
          <a:xfrm>
            <a:off x="5867280" y="3429000"/>
            <a:ext cx="106704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7"/>
          <p:cNvSpPr/>
          <p:nvPr/>
        </p:nvSpPr>
        <p:spPr>
          <a:xfrm>
            <a:off x="4419720" y="1941480"/>
            <a:ext cx="76176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8"/>
          <p:cNvSpPr/>
          <p:nvPr/>
        </p:nvSpPr>
        <p:spPr>
          <a:xfrm>
            <a:off x="304920" y="45720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set all to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304920" y="28195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0"/>
          <p:cNvSpPr/>
          <p:nvPr/>
        </p:nvSpPr>
        <p:spPr>
          <a:xfrm>
            <a:off x="304920" y="5334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et pH to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11"/>
          <p:cNvSpPr/>
          <p:nvPr/>
        </p:nvSpPr>
        <p:spPr>
          <a:xfrm>
            <a:off x="3733920" y="1650960"/>
            <a:ext cx="78732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2"/>
          <p:cNvSpPr/>
          <p:nvPr/>
        </p:nvSpPr>
        <p:spPr>
          <a:xfrm>
            <a:off x="304920" y="5943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et Reactio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13"/>
          <p:cNvSpPr/>
          <p:nvPr/>
        </p:nvSpPr>
        <p:spPr>
          <a:xfrm>
            <a:off x="5638680" y="3962520"/>
            <a:ext cx="129564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>
            <a:off x="3124080" y="4800600"/>
            <a:ext cx="4343400" cy="763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5"/>
          <p:cNvSpPr/>
          <p:nvPr/>
        </p:nvSpPr>
        <p:spPr>
          <a:xfrm>
            <a:off x="304920" y="3429000"/>
            <a:ext cx="304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Set file name (default selected.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6"/>
          <p:cNvSpPr/>
          <p:nvPr/>
        </p:nvSpPr>
        <p:spPr>
          <a:xfrm>
            <a:off x="2819520" y="2057400"/>
            <a:ext cx="457200" cy="38088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1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B768-3B94-44FE-A3C2-C26206BAC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: Total Molalitie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715000" y="1981080"/>
            <a:ext cx="2743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4587840" cy="4972320"/>
          </a:xfrm>
          <a:prstGeom prst="rect">
            <a:avLst/>
          </a:prstGeom>
          <a:ln w="0">
            <a:noFill/>
          </a:ln>
        </p:spPr>
      </p:pic>
      <p:sp>
        <p:nvSpPr>
          <p:cNvPr id="351" name="Oval 5"/>
          <p:cNvSpPr/>
          <p:nvPr/>
        </p:nvSpPr>
        <p:spPr>
          <a:xfrm>
            <a:off x="2666880" y="1905120"/>
            <a:ext cx="78768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1FD0-5565-4E30-B910-B2D44CC3B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7029360" cy="4983120"/>
          </a:xfrm>
          <a:prstGeom prst="rect">
            <a:avLst/>
          </a:prstGeom>
          <a:ln w="0">
            <a:noFill/>
          </a:ln>
        </p:spPr>
      </p:pic>
      <p:sp>
        <p:nvSpPr>
          <p:cNvPr id="356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CBD1-D458-41F3-BE2E-2E871DC6F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elected Output Fil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32004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with Exc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e/plo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FW has built-in plotting cap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303880" cy="64008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D813-A0CC-4C1E-9913-E27E3CE50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REACTION 8. Questions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lummer and Sprinkle, 2001</a:t>
            </a:r>
            <a:br>
              <a:rPr sz="3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s are mg/L, S(-2) as H2S</a:t>
            </a: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365760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re these the trends of dedolomitiz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nything el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5"/>
          <p:cNvGraphicFramePr/>
          <p:nvPr/>
        </p:nvGraphicFramePr>
        <p:xfrm>
          <a:off x="152280" y="2362320"/>
          <a:ext cx="8809200" cy="657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362320"/>
                    <a:ext cx="880920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70CA-03A3-447C-9CCE-64F0B4CA37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8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Increase in Ca, Mg, SO4; decrease in pH; not much change in alkali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rease in sulfate (number 4 to number 6) and H2S indicate sulfate re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 and Cl indicate mixing with sea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3A86-2BF8-408B-A6AD-E0D8488ADF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1"/>
          <a:stretch/>
        </p:blipFill>
        <p:spPr>
          <a:xfrm>
            <a:off x="304920" y="1731960"/>
            <a:ext cx="4876560" cy="48402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QUILIBRIUM_PHASE: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Dissolve Onl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638680" y="2971800"/>
            <a:ext cx="33530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ce mineral not to precip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5"/>
          <p:cNvSpPr/>
          <p:nvPr/>
        </p:nvSpPr>
        <p:spPr>
          <a:xfrm>
            <a:off x="3809880" y="4267080"/>
            <a:ext cx="9144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F5FA-429A-4D96-A14D-54CEFB40A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9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a ground water with log pCO2 = -2, equilibrium with calcite and dolom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ate seawater (major ions only) with calcite and dolomite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dolomite only to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ground water with seawater in fractions of .25, 0.5, .75. Maintain equilibrium with calcite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ow dolomite only to dissol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9EC6-95C1-428D-9B4B-C87D44FE5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544320"/>
            <a:ext cx="914400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QUILIBRIUM_PHASES Data Block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or 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io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EQUILIBRIUM_PHASES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P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2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lom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(OH)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libri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5954-95A6-4554-9855-66337B74B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9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action is calculated for seawater equilibration with calcite and dolomit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eactions are calculated for a carbonate reactions for the ground-water/seawater mixtu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D2A64-8740-436C-90A7-BB2C3ED62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9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 precipitates; dolomite does not react, but should precipitate. Seawater mixing zones have been suggested as a place where dolomitization could occur, but there is little evidence for present-day dolomitization. Apparently kinetics of dolomite formation are too slow, even though it should form according to thermodynamic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e is always supersaturated and is not allowed to form by the problem definition. Calcite dissolves at the .75 ground-water mixing fraction and precipitates at .5 and .25. Saturation indices of mixtures are non-linear. Even though the ground water is saturated and seawater is supersaturated with calcite, 0.75 g-w mixture is undersaturated with calcite. In this case, it is an activity coefficient effect; the effect of the decrease in activity coefficients of the mixture is larger than the effect of the increase in concentration, which results in a negative saturation index for calcite and dis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39C2-0355-420F-930E-071CE4D68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arbonate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447920" y="1447920"/>
            <a:ext cx="6400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bonate grou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1 to -3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, or calcite and dolom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pply in the U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olom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hydrite dis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ite precipi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e dis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ex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lom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water mixing can dissolve calc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31E6-127C-4CC8-B835-C59704638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decompos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3D98-3C33-4E70-BDBD-1CF8CDCDF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c Decompos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removal of electron acceptors, usually in the seque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(OH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carb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13C1-14E9-479C-B013-AF62E3E9F2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c—Dissolved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-oxic—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M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Fe(OH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4Fe(OH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7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4F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8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3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fidic—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+ 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2H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anic—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=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3137-4DED-4666-85F8-B04174316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dox Environ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396" name="Object 4"/>
          <p:cNvGraphicFramePr/>
          <p:nvPr/>
        </p:nvGraphicFramePr>
        <p:xfrm>
          <a:off x="838080" y="1219320"/>
          <a:ext cx="7239240" cy="5394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19320"/>
                    <a:ext cx="7239240" cy="53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D08F-612D-4EAE-A824-8129B4C23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dox Sequence at pH 7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2362320" y="1066680"/>
          <a:ext cx="4267080" cy="5546880"/>
        </p:xfrm>
        <a:graphic>
          <a:graphicData uri="http://schemas.openxmlformats.org/drawingml/2006/table">
            <a:tbl>
              <a:tblPr/>
              <a:tblGrid>
                <a:gridCol w="3011400"/>
                <a:gridCol w="1255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cou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/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/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/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/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/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/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3)/V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/S(6)* (wateq4f.d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/C(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1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FE7A-B136-4EA4-B907-A9A60651E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ganic decomposition REAC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47560" y="2209680"/>
            <a:ext cx="2819160" cy="42674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WRONG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4-2  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CO3- 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2S     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1884600" y="1523880"/>
            <a:ext cx="537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CH2O + SO4-2  = 2HCO3- + H2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5029200" y="2209680"/>
            <a:ext cx="2819520" cy="426744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RIGH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perhap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2O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    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m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B63E-3D13-47B1-AC7B-8E89D622D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Organic Decomposition in PHREEQC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 balance of C incr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 and O mole balances increase too, but equivalent to adding H2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re are electron acceptors, C ends up as CO3-2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on acceptor effectively gives up O and assumes the more reduced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oice of electron acceptor is thermo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F22E-4902-411E-9A45-79326BF94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736200"/>
            <a:ext cx="91440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CHANGE—Cation Exchange Composit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able cations in interlayers of c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NaX = Ca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libriu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3505320" y="4724280"/>
                <a:ext cx="3809880" cy="13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NaX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ACE7-2BE3-40A8-8ADD-20A552B2B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1a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lute seawater by 50 percent, equilibrate with atmospheric 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 diluted seawater with 50 mmol of CH2O in 50 steps of 1 mmol. Equilibrate with .1 moles of Fe(OH)3(a) and 0.0 mol of mackinawi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 moles of reaction (-rxn) and total concentrations of O(0), C(4), C(-4), Fe(2), Fe(3), S(6), S(-2) (-totals) and mackinawite (-equi) to the selected-output file (SELECTED_OUTPU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E1BF-F1E5-4631-9DC9-05686D1EF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11a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equence of electron acceptors is us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is Fe(3)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Excel to plot the concentrations in the selected-output file (rxn is the x variable, set first line rxn from –99 to 0, omit d_mackinawite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is C(4) not a straight 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Fe(2) increase after 30 mmol of CH2O is rea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a gas bubble for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rends are observed for sulfate re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A546-CD92-42AB-BDAE-0DDD608FE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a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17" name="Object 15"/>
          <p:cNvGraphicFramePr/>
          <p:nvPr/>
        </p:nvGraphicFramePr>
        <p:xfrm>
          <a:off x="838080" y="1676520"/>
          <a:ext cx="7620120" cy="462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8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76520"/>
                    <a:ext cx="7620120" cy="46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D552-B71D-451B-A467-3001F62114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11a. Answer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2, Fe(OH)3(a), SO4, CH2O (-&gt; CH4 + CO2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(3) is not important anywhe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pl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, the reacted carbon is split between CO2 and CH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(OH)3 dissolves as pe decreases. Fe is no longer being sequestered in mackinawite (F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the depth of water, but certainly at atmospheric pressure a bubble will form. At the end of the reaction (50 mmol CH2O reacted) the partial pressure of methane is 10^.66 = 4.6 atmospheres. So if the ambient pressure is less than 4.6 atmospheres (&lt; ~35 m water depth), bubbles should 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rease in sulfate, increase in alkalinity and pH. Usually, H2S does not accumulate in solution, but precipitates as FeS or escapes as a gas. pH changes are sensitive to Fe and S(-2)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79D11-BF5F-4949-8A63-41F9141BA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b. Questions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otomac Estuary Sedimen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34290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are these analyses similar to the sulfate reduction simulation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these analyses differ from the simulation res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5"/>
          <p:cNvGraphicFramePr/>
          <p:nvPr/>
        </p:nvGraphicFramePr>
        <p:xfrm>
          <a:off x="304920" y="2590920"/>
          <a:ext cx="8488080" cy="549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488080" cy="54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Rectangle 4"/>
          <p:cNvSpPr/>
          <p:nvPr/>
        </p:nvSpPr>
        <p:spPr>
          <a:xfrm>
            <a:off x="3276720" y="20574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s are mmol/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7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D1ED-FD12-40DA-9CEF-FFF02C313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1b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ate decreases, alkalinity increases, pH increases, ammonium incre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(-2) is significant, Fe is negligible. pH 7.5 not 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5C68-18C5-4B62-8BCC-16A38AF92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happen if organic matter oxidizes in the presence of bar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 reaction simulation  assuming 1 mmol of organic carbon re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1FCE-0448-4BA7-BBF1-0F78C64D6D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barium concentration in mg/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there reactions other than sulfate re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other reactions could affect barium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EE3C-1AE5-410C-90BC-18758962F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4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32*137 = 43 mg/L 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.2 mmol/kgw methane was gener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 exchange is a possibility. With much larger TDIC, witherite (BaCO3) is a poss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A6DE-3F6D-4A38-AE47-72E1AC1DF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lfate Reduction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Norman Landfill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ium concentration appears insignificant unless barium is lost to cation exchange or mineral precipit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4"/>
          <p:cNvGraphicFramePr/>
          <p:nvPr/>
        </p:nvGraphicFramePr>
        <p:xfrm>
          <a:off x="533520" y="2209680"/>
          <a:ext cx="752940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09680"/>
                    <a:ext cx="75294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8D43-689B-4BA3-8B53-676DBE5C3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91440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EXCHANGE Data Block Defin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6808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er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exchange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composition of 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EXCHANGE 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X2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moles (X is defined in 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m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5 moles, Equilibrium with solu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A084-9352-405D-849A-BFE19D5AB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ape Cod Sewage Plume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ulf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Object 1029"/>
          <p:cNvGraphicFramePr/>
          <p:nvPr/>
        </p:nvGraphicFramePr>
        <p:xfrm>
          <a:off x="228600" y="762120"/>
          <a:ext cx="8717040" cy="79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9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71704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0" name="Object 1031"/>
          <p:cNvGraphicFramePr/>
          <p:nvPr/>
        </p:nvGraphicFramePr>
        <p:xfrm>
          <a:off x="304920" y="4114800"/>
          <a:ext cx="8610480" cy="851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1" name="Object 10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114800"/>
                    <a:ext cx="86104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2" name="Rectangle 1032"/>
          <p:cNvSpPr/>
          <p:nvPr/>
        </p:nvSpPr>
        <p:spPr>
          <a:xfrm>
            <a:off x="838080" y="2971800"/>
            <a:ext cx="7848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Blue Plains, Washington D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otomac River Sediment Por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33"/>
          <p:cNvSpPr/>
          <p:nvPr/>
        </p:nvSpPr>
        <p:spPr>
          <a:xfrm>
            <a:off x="762120" y="51814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or sulfate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se methanogen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29E5-AF1D-4C13-B2A5-58115826D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entral Oklahom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6" name="Rectangle 551"/>
          <p:cNvSpPr/>
          <p:nvPr/>
        </p:nvSpPr>
        <p:spPr>
          <a:xfrm>
            <a:off x="-3492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57200" y="2057400"/>
          <a:ext cx="7885080" cy="1951200"/>
        </p:xfrm>
        <a:graphic>
          <a:graphicData uri="http://schemas.openxmlformats.org/drawingml/2006/table">
            <a:tbl>
              <a:tblPr/>
              <a:tblGrid>
                <a:gridCol w="1057320"/>
                <a:gridCol w="471600"/>
                <a:gridCol w="528480"/>
                <a:gridCol w="528480"/>
                <a:gridCol w="532080"/>
                <a:gridCol w="528480"/>
                <a:gridCol w="530280"/>
                <a:gridCol w="528480"/>
                <a:gridCol w="532080"/>
                <a:gridCol w="528480"/>
                <a:gridCol w="530280"/>
                <a:gridCol w="528480"/>
                <a:gridCol w="532080"/>
                <a:gridCol w="528480"/>
              </a:tblGrid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units mg/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m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(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kalin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(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(-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CaC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 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ty of Jones 13N-01W-34 C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Rectangle 698"/>
          <p:cNvSpPr/>
          <p:nvPr/>
        </p:nvSpPr>
        <p:spPr>
          <a:xfrm>
            <a:off x="-34920" y="466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56"/>
          <p:cNvSpPr/>
          <p:nvPr/>
        </p:nvSpPr>
        <p:spPr>
          <a:xfrm>
            <a:off x="685800" y="47242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rganic matter or reduced 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8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F92A-8499-479E-9A39-BDF3341C9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Organic Decomposi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tmosphere, DO negli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Atmosphere, ag chemic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(3)—Iron oxyhyd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eawater, atmosphere, gyp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arbon—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c carbon can be ab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9122-A22A-42CA-AFB9-1ED6E47D1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dox Sequence at pH 7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2362320" y="1066680"/>
          <a:ext cx="4267080" cy="5546880"/>
        </p:xfrm>
        <a:graphic>
          <a:graphicData uri="http://schemas.openxmlformats.org/drawingml/2006/table">
            <a:tbl>
              <a:tblPr/>
              <a:tblGrid>
                <a:gridCol w="3011400"/>
                <a:gridCol w="1255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ox cou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-2)/O(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0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4)/Se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(3)/Cr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(2)/Fe(3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(-2)/Se(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(4)/U(6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(3)/As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(3)/V(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(-3)/N(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-2)/S(6)* (wateq4f.d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(-4)/C(4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6" name="Slide Number Placeholder 5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A3F0-5985-49FB-BA94-BA7FFEB3E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6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ould you make the redox table of the previous sl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on is soluble as reduced ferrous iron, uranium is soluble as oxidized U(6). As organic carbon reacts, which would you observe first: (a) increase in iron, (b) decrease in uraniu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dynamically, which nitrogen species do you expect to see in an oxygenated ground water? In a methanic wa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ABAA-048A-4309-800E-2B17E7C48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6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equal amounts (1 umol/kgw) of each redox state Se(6), Se(4); As(5), As(3); etc. in SOLUTION with pH 7. Look at pe table that is pri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) increase in iron concentration should occur first if ferric oxyhydroxides are in the system. Equal Fe(2)/Fe(3) at pe ~ 4, Equal U(4)/U(6) at pe ~ -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3- in oxic water, NH4+ in methanic water. However, NO3- generally is reduced to 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nitrification), not 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itrify to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E784-F2E7-42A2-970F-5B9913A01E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ox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753E-4231-4279-B3AB-F692BB2DBF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5" descr="stkev_minedump2"/>
          <p:cNvPicPr/>
          <p:nvPr/>
        </p:nvPicPr>
        <p:blipFill>
          <a:blip r:embed="rId1"/>
          <a:stretch/>
        </p:blipFill>
        <p:spPr>
          <a:xfrm>
            <a:off x="752400" y="933480"/>
            <a:ext cx="7639200" cy="4991040"/>
          </a:xfrm>
          <a:prstGeom prst="rect">
            <a:avLst/>
          </a:prstGeom>
          <a:ln w="0">
            <a:noFill/>
          </a:ln>
        </p:spPr>
      </p:pic>
      <p:sp>
        <p:nvSpPr>
          <p:cNvPr id="47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6B2F-D2E1-43C9-B345-2CDFB653E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ulfide Oxid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yrite/Marcasite are most important reac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Pyrite, Oxygen, Water, and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xidation of pyrite and formation of ferric hydroxide complexes and minerals generates acidic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87FC-A503-494D-A362-1E066FACD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Iron Mountain, Californi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lfide deposits at the top of a 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precip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aturated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nnels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6461-2C51-4B45-AEB5-C41269C00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226360" cy="14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URFACE—Surface Composition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ce elements Zn, Cd, Pb, As, P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rption onto the surfaces of minerals and organic matter, usually hydrous ferric ox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OH + 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oOHA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4"/>
              <p:cNvSpPr txBox="1"/>
              <p:nvPr/>
            </p:nvSpPr>
            <p:spPr>
              <a:xfrm>
                <a:off x="2971800" y="4842000"/>
                <a:ext cx="457200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foOH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foO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sO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4FD6-004A-40DB-BD29-3DC73BD9CD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icher, Oklahoma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t top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s 200 to 500 ft below land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ed after dewatering c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 off the supply of 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7131-269E-4C67-8FFF-E06396618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Simplified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4HCO3- = Fe(OH)3 + 2SO4-2 + 4CO2 + 1/2H2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7/2H2O = Fe(OH)3 + 2SO4-2 + 4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1/2H2O = Fe+3 + SO4-2 + HSO4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E679-48CA-4DF6-AE99-EE01B5BDB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ditional reac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us ferric 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rrihyd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et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ro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minum hydrox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n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bo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yp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4795-765A-4A19-A544-9F8315927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odeling Pyrite Oxida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2 + 15/4O2 + 7/2H2O = Fe(OH)3 + 2SO4-2 + 4H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 the irreversible reactant: O2 or Fe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xygen rich environment of a tailings p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going to react up to 50 mmol Fe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librium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CEF2-E378-4D4E-B1F9-BB1BE70E7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Exercis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pyr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mackinaw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10 mmol of sphalerite, maintaining equilibrium with atmospheric oxy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36DF-A035-41B2-9159-6951E4F13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qualitative reactions that explain the pH of the 3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H buffer starts to operate at pHs below 3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 the input file with wateq4f.dat database. What minerals may precipitate during pyrite oxid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AF24-F375-4CF9-B22F-767257C700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18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estio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yr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S2 + xO2 + yH2O -&gt; Fe+3 + 2SO4-2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addition,  a little ferric iron hydrolizes to make additional H+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+3 + H2O = FeOH+2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net acid production to give pH 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kinaw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S + 2.25O2 + H+ -&gt; Fe+3 + SO4-2 + .5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t a majority ferric iron hydrol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+3 + xH2O = Fe(OH)x+y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 net acid production that give pH 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halerite oxida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nS + 2O2 -&gt; Zn+2 + SO4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nc hydrolosis is mini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n+2 + H2O = ZnOH+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 result is pH 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HSO4-/SO4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Iron oxyhydroxides, goethite (and often Fe(OH)3(a)) and  jarosite. There is also a potassium jarosite and other solid solutions of jarosites. Aluminum has analogous minerals named alun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88B7-742F-4E8D-9DB9-E5D1266E2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EACTION 20.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Extra Credit Exercise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t the pure water with 20 mmol of pyrite, maintaining equilibrium with atmospheric oxygen and goeth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id mine drainage is usually treated with limestone. Use the results of part 1 and equilibrate with O2, goethite, and calc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36F6-3321-4F56-9320-C21EE6574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0.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a net reaction for the PHREEQC results for the low-pH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 pH values with and without calcite equilibr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ing at the results of the calcite-equilibrated simulation, what additional reactions should be conside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7C1C-01DE-4760-9D51-52B307654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Reaction 20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Fe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75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9FeOOH + .8Fe(+3) + 27H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2S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50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s are 1.4 and 5.8 without and with calcite equilib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psum is supersaturated, and probably would precipi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1 atmosphere. If 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acts to equilibrium with the atmosphere, logically, C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ould al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8F22-39EB-4E26-B45B-3D5CE25C7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5T21:18:34Z</dcterms:modified>
  <cp:revision>69</cp:revision>
  <dc:subject/>
  <dc:title>Defining Solutions</dc:title>
</cp:coreProperties>
</file>