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CA75123-5987-42CE-99A3-9C4B9AA80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" Target="../slides/slide20.xml"/><Relationship Id="rId8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76EA0B-D44F-4D6A-B2B9-B7D2D220F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9902F0F-FCF4-43A3-959B-BD966A4F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A2C8AD3-D042-4389-BB7E-A48F7E0AF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xercise T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 + H+ = SurfOH2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7.29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= SurfO- + 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8.9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3H+ = SurfH2AsO4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9.3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+ 2H+ = SurfHAsO4- + H2O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23.5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OH + AsO4-3 = SurfOHAsO4-3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0.58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MASTER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s       H3AsO4        -1.0     74.9216         74.921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3AsO4 primary master specie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H3AsO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0.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2AsO4-             48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3AsO4 = AsO4-3 + 3H+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-20.7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HAsO4-2                483     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+ + AsO4-3 = HAsO4-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11.5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AsO4-3              484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H+ + AsO4-3 = H2AsO4-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og_k           18.4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brin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A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uMol/kgw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brin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7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465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60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5.40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6.64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39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047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Define 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brine with calcite and dolomit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solutions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 equilibrium_phases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initial exchange and 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TLE Initial exchange and surfac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CHANG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      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ACE 1-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quilibrate with solution 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urf   0.07   600    3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Define 20xRainwater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units mmol/kgw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emp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pH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p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Mg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Na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Cl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C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O2(g) -0.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charge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0xRainwater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.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9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3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13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01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.23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Equilibrate rainwater with calcite, dolomite, CO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Save as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Advect reacted rainwater through colum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   5 shift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file t1.sel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olu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alkalinity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mol   NaX CaX2 MgX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tot   Cl Na Ca Mg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headings As(ug/L)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tar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0 PUNCH TOT("As")*1e6*74.92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cells 10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shifts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rint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punch_frequency 5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-warnings true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73F054-1E1D-4803-AC10-5E76B4315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A2. Questions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. Cl is a square wave, low concentrations in first 75 cells, high concentrations in last 25 cell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. pH ~7.5 in first cell, pH is &gt; 9 for 50 cells, decreases to &lt; 5.5 by cell 70, up to constant 5.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3. Arsenic &gt; 10 ug/L when pH is above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horide is a square-wave front because only advection is simulated. The front has moved 5 cells because there have been 5 shifts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H decreases from pH 9 to pH 6 from cell 2 to cell 6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  <a:p>
            <a:pPr marL="2286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ell 3 has pH 8.5, but little arsenic. Cell 2 has pH 9 and 100 ug/L As. So greater than pH 8.5.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3743280" y="4425840"/>
          <a:ext cx="2827440" cy="154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3280" y="4425840"/>
                    <a:ext cx="2827440" cy="15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"/>
          <p:cNvGraphicFramePr/>
          <p:nvPr/>
        </p:nvGraphicFramePr>
        <p:xfrm>
          <a:off x="917640" y="4425840"/>
          <a:ext cx="2833560" cy="154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425840"/>
                    <a:ext cx="2833560" cy="154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6"/>
          <p:cNvGraphicFramePr/>
          <p:nvPr/>
        </p:nvGraphicFramePr>
        <p:xfrm>
          <a:off x="917640" y="6029280"/>
          <a:ext cx="2833560" cy="1544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2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7640" y="6029280"/>
                    <a:ext cx="283356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82A49F-84F2-499B-AAC8-CF75EC9F1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6977A92-6B83-4A7B-A3A5-37712D754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FCF8-98A9-4D59-9C41-7F7E79522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1173-2829-40EC-990B-ABB3A8E1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1882-4778-4728-9390-8930155AB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F6E0-4CF7-4562-836E-D16320E6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AA48-D106-48B9-9DF5-675E5A88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CEED-6954-4101-8D45-242FEB57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8C38-707A-40F7-BBDD-A3F39594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54AD7-DBF1-4B21-BFAD-CD6AB47EB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954D-DD18-4596-B7C7-848E166BB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2CCCA-723A-4086-8175-48B7AFF5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18B63-568F-4102-83DF-B5DA9D12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7336-83B2-44B9-804A-3A1AF069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7157-8F68-4BEC-A4F1-3FFC1A16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E4D6-2E1D-4E99-BEEE-09F920EB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70B-78E9-4CE0-81AA-7DF1F37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53476-830B-4FBC-BAC2-1A4D3AF9F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6A03-EC1E-474E-A902-537868341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791E5-4197-4254-ADED-E1F38FC9C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FA11F-B132-4789-A56A-D1F1C075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FC82C-1FF9-4774-834A-1E18DD6E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B5DF-9A5B-4CF0-B6B2-E2885143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856AE-2D17-4ED8-8F7E-5300595CF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27C4-2FE3-442C-8BEF-CC55C6DE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E12F-FA41-498F-ABFC-D154D0A2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DDF2D-A599-45F6-AF5D-FED95AD6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BDD2C-274C-4FE7-936D-F74FE727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B6549-334C-4810-9B24-0226C765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504DB-5A0D-4463-BA00-746C37F6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97589-BCB2-486B-AFFC-C51FFA6CB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D2471-7BD3-48DA-8A00-C78D014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1C8B-20DB-46CA-9478-5F9E14B3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F6CC-84DD-4790-8F90-7DF6E6CB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72B-FCF8-4DCC-BD05-1667E6D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B39-F721-453E-BD35-5943F676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1A9-7262-4892-AD90-54F83001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E3CC-D950-43B1-A737-F3D8EA28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7A51-ADEC-48E7-A77E-56C65709E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3A0A-E9B0-4671-A5C8-3D13003E2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3" descr="Image of small USGS Identifier"/>
          <p:cNvPicPr/>
          <p:nvPr/>
        </p:nvPicPr>
        <p:blipFill>
          <a:blip r:embed="rId3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4082-1A07-4167-AB8F-B81D6317F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hursday Afterno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D reactive transport with PHEEQ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MOD—Watershed modeling with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shif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kinetics—time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4496040" cy="5019840"/>
          </a:xfrm>
          <a:prstGeom prst="rect">
            <a:avLst/>
          </a:prstGeom>
          <a:ln w="0">
            <a:noFill/>
          </a:ln>
        </p:spPr>
      </p:pic>
      <p:sp>
        <p:nvSpPr>
          <p:cNvPr id="237" name="Oval 5"/>
          <p:cNvSpPr/>
          <p:nvPr/>
        </p:nvSpPr>
        <p:spPr>
          <a:xfrm>
            <a:off x="304920" y="1523880"/>
            <a:ext cx="838080" cy="38124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ed-outpu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o 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4495680" cy="5019840"/>
          </a:xfrm>
          <a:prstGeom prst="rect">
            <a:avLst/>
          </a:prstGeom>
          <a:ln w="0">
            <a:noFill/>
          </a:ln>
        </p:spPr>
      </p:pic>
      <p:sp>
        <p:nvSpPr>
          <p:cNvPr id="241" name="Oval 5"/>
          <p:cNvSpPr/>
          <p:nvPr/>
        </p:nvSpPr>
        <p:spPr>
          <a:xfrm>
            <a:off x="838080" y="1600200"/>
            <a:ext cx="83844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9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782040" cy="49244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 Range of Numb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5"/>
          <p:cNvSpPr/>
          <p:nvPr/>
        </p:nvSpPr>
        <p:spPr>
          <a:xfrm>
            <a:off x="4038480" y="3276720"/>
            <a:ext cx="8384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6"/>
          <p:cNvSpPr/>
          <p:nvPr/>
        </p:nvSpPr>
        <p:spPr>
          <a:xfrm>
            <a:off x="2895480" y="4191120"/>
            <a:ext cx="15242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7"/>
          <p:cNvSpPr/>
          <p:nvPr/>
        </p:nvSpPr>
        <p:spPr>
          <a:xfrm>
            <a:off x="2895480" y="4648320"/>
            <a:ext cx="129564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Oval 8"/>
          <p:cNvSpPr/>
          <p:nvPr/>
        </p:nvSpPr>
        <p:spPr>
          <a:xfrm>
            <a:off x="2819520" y="5334120"/>
            <a:ext cx="1143000" cy="30456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676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plotting results. You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reeqcI and Excel (with SELECTED_OUTP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reeqc for Windows and USER_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. Phreeqcpp in ChartPhreeqc directory also will plot with USER_GRAPH, but is not interactive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DVECTION 1. Exercise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Oklahoma transport simu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aqueous model and sorption model for arsenic from Dzombak and Morel, 1990 (Cut and paste from Power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457200" y="2286000"/>
            <a:ext cx="441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   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ACE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 + H+ = SurfOH2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7.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= SurfO- + 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8.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3H+ = SurfH2AsO4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9.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+ 2H+ = SurfHAsO4- + H2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23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rfOH + AsO4-3 = SurfOH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0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MASTER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      H3AsO4        -1.0     74.9216    74.92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5715000" y="2286000"/>
            <a:ext cx="2895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3AsO4 primary master spe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H3AsO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0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3AsO4 = AsO4-3 + 3H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-20.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+ + AsO4-3 = HAsO4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11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#AsO4-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H+ + AsO4-3 = H2AsO4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g_k           18.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 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78483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Initial conditions for cells 1-100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Define SOLUTION 1 with the brine composition. (It is possible to cut and paste into PhreeqcI or Phreeqc for Window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Define EQUILIBRIUM_PHASES 1-100 with 0.1 mol calcite and 1.6 mol dolom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React solution 1 with equilibirum phases 1 (USE) and SAVE resultomg solution in cells 1-1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. Define EXCHANGE 1-100 to have 1 mol of exchanger X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 Define SURFACE 1-100 to have 0.07 mol of surface complexation sites (Hfo), 600 m^2/g specific surface area, 30 grams of sorbent, and to be in equilibrium with solution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609480" y="1066680"/>
          <a:ext cx="8001000" cy="87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66680"/>
                    <a:ext cx="80010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Define infilling solution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efine the evaporated rainwater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React solution 0 with EQUILIBRIUM_PHASES 0 that has calcite, dolomite, and pCO2= 10^-1.5. SAVE resulting solution as solution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5"/>
          <p:cNvGraphicFramePr/>
          <p:nvPr/>
        </p:nvGraphicFramePr>
        <p:xfrm>
          <a:off x="685800" y="1447920"/>
          <a:ext cx="7226280" cy="83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2262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ADVECTION 1. Exercise—Continued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09480" y="1676520"/>
            <a:ext cx="80773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Define advection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Use ADVECTION data bloc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ch_frequency 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SELECTED_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, Cl, Na, Ca, NaX, CaX2 (mol/kgw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USER_P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(ug/kgw)  (gram formula mass is 75 g/m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lot Advection Result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 selected output file into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py input file into Phreeqc for Windows and add USER_GRAPH (next pa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SER_GRAPH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48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R_GRA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headings Cell_number Cl Na Ca NaX CaX2 As(ug/L) p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titles "Cell_number“ "Log Concentration"  "pH"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x-axis, y-axis, s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hart_title "Oklahoma Advection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connect_simulations tru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true/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x_axis 0 100 50 10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y_axis -6 3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min, max, major,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axis_scale sy_axis 0 10 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secondary y-ax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plot_concentration_vs x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 distance p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st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 graph_x d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 graph_y  log10(TOT("Cl")), log10(TOT("Na")), log10(TOT("Ca"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0 graph_y  log10(MOL("NaX")), log10(MOL("CaX2")), log10(TOT("As")*1e6*7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0 graph_sy -la("H+"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1D Solute Transport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609480" y="28195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change wit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/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cil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819520" y="1695600"/>
                <a:ext cx="29304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D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DVECTION 1. Question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Cl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pH profile in the column at the end of the simul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H at which arsenic appears to become a probl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41907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, Mg exchange for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te, dolomite dis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&gt;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&gt; 100 ug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Object 8"/>
          <p:cNvGraphicFramePr/>
          <p:nvPr/>
        </p:nvGraphicFramePr>
        <p:xfrm>
          <a:off x="685800" y="3733920"/>
          <a:ext cx="3697200" cy="246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733920"/>
                    <a:ext cx="3697200" cy="24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9"/>
          <p:cNvGraphicFramePr/>
          <p:nvPr/>
        </p:nvGraphicFramePr>
        <p:xfrm>
          <a:off x="5092560" y="1295280"/>
          <a:ext cx="3619800" cy="2414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2560" y="1295280"/>
                    <a:ext cx="3619800" cy="24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7" name="Picture 7" descr=""/>
          <p:cNvPicPr/>
          <p:nvPr/>
        </p:nvPicPr>
        <p:blipFill>
          <a:blip r:embed="rId5"/>
          <a:stretch/>
        </p:blipFill>
        <p:spPr>
          <a:xfrm>
            <a:off x="5041800" y="3940200"/>
            <a:ext cx="3713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 For Window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600200" y="1465200"/>
            <a:ext cx="681048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HREEQCPP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1486080" y="1371600"/>
            <a:ext cx="61722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 1. Answer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Cl is a square wave, low concentrations in first 75 cells, high concentrations in last 25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pH ~7.5 in first cell, pH is &gt; 9 for 50 cells, decreases to &lt; 5.5 by cell 70, up to constant 5.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rsenic &gt; 10 ug/L when pH is above 8.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87656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leng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=length/time ste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ers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7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505040" cy="5029200"/>
          </a:xfrm>
          <a:prstGeom prst="rect">
            <a:avLst/>
          </a:prstGeom>
          <a:ln w="0">
            <a:noFill/>
          </a:ln>
        </p:spPr>
      </p:pic>
      <p:sp>
        <p:nvSpPr>
          <p:cNvPr id="291" name="Oval 8"/>
          <p:cNvSpPr/>
          <p:nvPr/>
        </p:nvSpPr>
        <p:spPr>
          <a:xfrm>
            <a:off x="762120" y="1828800"/>
            <a:ext cx="914400" cy="38088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8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undary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usion co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7"/>
          <p:cNvSpPr/>
          <p:nvPr/>
        </p:nvSpPr>
        <p:spPr>
          <a:xfrm>
            <a:off x="1523880" y="1752480"/>
            <a:ext cx="1447920" cy="53352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05520" y="198108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gnant cells/dual poro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e stagnan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ultiple stagnan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7"/>
          <p:cNvSpPr/>
          <p:nvPr/>
        </p:nvSpPr>
        <p:spPr>
          <a:xfrm>
            <a:off x="2971800" y="1828800"/>
            <a:ext cx="1600200" cy="457200"/>
          </a:xfrm>
          <a:prstGeom prst="ellipse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TRANSPORT—Charge-Balanced Diffusion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51920" y="2438280"/>
            <a:ext cx="38862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multi_d true 1e-9 0.3 0.05 1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H+ = H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log_k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-gamma  9.0     0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    9.31e-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038480" y="1981080"/>
            <a:ext cx="48769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component diffusion—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ault tracer diffusion coefficient—1e-9 m2/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osity—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imum porosity—0.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Diffusion stops when the porosity reaches the porosity limi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onent of porosity (n) –1.0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Effective diffusion coefficient–De = Dw * porosity^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dw is tracer diffusion coefficient in SOLUTION_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ield-Scale Examples </a:t>
            </a:r>
            <a:br>
              <a:rPr sz="4000"/>
            </a:b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oncentration Profi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tical and two finite-difference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1371600" y="2276640"/>
            <a:ext cx="668664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REEQC Transport Calculation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44" name="Group 108"/>
          <p:cNvGrpSpPr/>
          <p:nvPr/>
        </p:nvGrpSpPr>
        <p:grpSpPr>
          <a:xfrm>
            <a:off x="3048120" y="1523880"/>
            <a:ext cx="4876200" cy="685800"/>
            <a:chOff x="3048120" y="1523880"/>
            <a:chExt cx="4876200" cy="685800"/>
          </a:xfrm>
        </p:grpSpPr>
        <p:sp>
          <p:nvSpPr>
            <p:cNvPr id="145" name="Rectangle 87"/>
            <p:cNvSpPr/>
            <p:nvPr/>
          </p:nvSpPr>
          <p:spPr>
            <a:xfrm>
              <a:off x="30481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88"/>
            <p:cNvSpPr/>
            <p:nvPr/>
          </p:nvSpPr>
          <p:spPr>
            <a:xfrm>
              <a:off x="36810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89"/>
            <p:cNvSpPr/>
            <p:nvPr/>
          </p:nvSpPr>
          <p:spPr>
            <a:xfrm>
              <a:off x="431460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90"/>
            <p:cNvSpPr/>
            <p:nvPr/>
          </p:nvSpPr>
          <p:spPr>
            <a:xfrm>
              <a:off x="494784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91"/>
            <p:cNvSpPr/>
            <p:nvPr/>
          </p:nvSpPr>
          <p:spPr>
            <a:xfrm>
              <a:off x="55810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92"/>
            <p:cNvSpPr/>
            <p:nvPr/>
          </p:nvSpPr>
          <p:spPr>
            <a:xfrm>
              <a:off x="621468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99"/>
            <p:cNvSpPr/>
            <p:nvPr/>
          </p:nvSpPr>
          <p:spPr>
            <a:xfrm>
              <a:off x="7544520" y="1893240"/>
              <a:ext cx="379800" cy="316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00"/>
            <p:cNvSpPr/>
            <p:nvPr/>
          </p:nvSpPr>
          <p:spPr>
            <a:xfrm>
              <a:off x="330120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03"/>
            <p:cNvSpPr/>
            <p:nvPr/>
          </p:nvSpPr>
          <p:spPr>
            <a:xfrm>
              <a:off x="39344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04"/>
            <p:cNvSpPr/>
            <p:nvPr/>
          </p:nvSpPr>
          <p:spPr>
            <a:xfrm>
              <a:off x="456804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5"/>
            <p:cNvSpPr/>
            <p:nvPr/>
          </p:nvSpPr>
          <p:spPr>
            <a:xfrm>
              <a:off x="52009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06"/>
            <p:cNvSpPr/>
            <p:nvPr/>
          </p:nvSpPr>
          <p:spPr>
            <a:xfrm>
              <a:off x="58345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AutoShape 107"/>
            <p:cNvSpPr/>
            <p:nvPr/>
          </p:nvSpPr>
          <p:spPr>
            <a:xfrm>
              <a:off x="7164720" y="1523880"/>
              <a:ext cx="506520" cy="349560"/>
            </a:xfrm>
            <a:custGeom>
              <a:avLst/>
              <a:gdLst>
                <a:gd name="textAreaLeft" fmla="*/ 88560 w 506520"/>
                <a:gd name="textAreaRight" fmla="*/ 367200 w 506520"/>
                <a:gd name="textAreaTop" fmla="*/ 46800 h 349560"/>
                <a:gd name="textAreaBottom" fmla="*/ 302760 h 34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 Box 109"/>
          <p:cNvSpPr/>
          <p:nvPr/>
        </p:nvSpPr>
        <p:spPr>
          <a:xfrm>
            <a:off x="7621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8"/>
          <p:cNvSpPr/>
          <p:nvPr/>
        </p:nvSpPr>
        <p:spPr>
          <a:xfrm>
            <a:off x="762120" y="3200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49"/>
          <p:cNvGrpSpPr/>
          <p:nvPr/>
        </p:nvGrpSpPr>
        <p:grpSpPr>
          <a:xfrm>
            <a:off x="3048120" y="2971800"/>
            <a:ext cx="4876560" cy="1066680"/>
            <a:chOff x="3048120" y="2971800"/>
            <a:chExt cx="4876560" cy="1066680"/>
          </a:xfrm>
        </p:grpSpPr>
        <p:grpSp>
          <p:nvGrpSpPr>
            <p:cNvPr id="161" name="Group 148"/>
            <p:cNvGrpSpPr/>
            <p:nvPr/>
          </p:nvGrpSpPr>
          <p:grpSpPr>
            <a:xfrm>
              <a:off x="3048120" y="3341520"/>
              <a:ext cx="4876560" cy="316080"/>
              <a:chOff x="3048120" y="3341520"/>
              <a:chExt cx="4876560" cy="316080"/>
            </a:xfrm>
          </p:grpSpPr>
          <p:sp>
            <p:nvSpPr>
              <p:cNvPr id="162" name="Rectangle 125"/>
              <p:cNvSpPr/>
              <p:nvPr/>
            </p:nvSpPr>
            <p:spPr>
              <a:xfrm>
                <a:off x="304812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26"/>
              <p:cNvSpPr/>
              <p:nvPr/>
            </p:nvSpPr>
            <p:spPr>
              <a:xfrm>
                <a:off x="36813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27"/>
              <p:cNvSpPr/>
              <p:nvPr/>
            </p:nvSpPr>
            <p:spPr>
              <a:xfrm>
                <a:off x="431496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28"/>
              <p:cNvSpPr/>
              <p:nvPr/>
            </p:nvSpPr>
            <p:spPr>
              <a:xfrm>
                <a:off x="49482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29"/>
              <p:cNvSpPr/>
              <p:nvPr/>
            </p:nvSpPr>
            <p:spPr>
              <a:xfrm>
                <a:off x="558180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30"/>
              <p:cNvSpPr/>
              <p:nvPr/>
            </p:nvSpPr>
            <p:spPr>
              <a:xfrm>
                <a:off x="62150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1"/>
              <p:cNvSpPr/>
              <p:nvPr/>
            </p:nvSpPr>
            <p:spPr>
              <a:xfrm>
                <a:off x="7545240" y="3341520"/>
                <a:ext cx="379440" cy="316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139"/>
            <p:cNvGrpSpPr/>
            <p:nvPr/>
          </p:nvGrpSpPr>
          <p:grpSpPr>
            <a:xfrm>
              <a:off x="3301920" y="2971800"/>
              <a:ext cx="4368960" cy="349200"/>
              <a:chOff x="3301920" y="2971800"/>
              <a:chExt cx="4368960" cy="349200"/>
            </a:xfrm>
          </p:grpSpPr>
          <p:sp>
            <p:nvSpPr>
              <p:cNvPr id="170" name="AutoShape 132"/>
              <p:cNvSpPr/>
              <p:nvPr/>
            </p:nvSpPr>
            <p:spPr>
              <a:xfrm>
                <a:off x="330192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133"/>
              <p:cNvSpPr/>
              <p:nvPr/>
            </p:nvSpPr>
            <p:spPr>
              <a:xfrm>
                <a:off x="3935520" y="297180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AutoShape 134"/>
              <p:cNvSpPr/>
              <p:nvPr/>
            </p:nvSpPr>
            <p:spPr>
              <a:xfrm>
                <a:off x="45687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AutoShape 135"/>
              <p:cNvSpPr/>
              <p:nvPr/>
            </p:nvSpPr>
            <p:spPr>
              <a:xfrm>
                <a:off x="52005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136"/>
              <p:cNvSpPr/>
              <p:nvPr/>
            </p:nvSpPr>
            <p:spPr>
              <a:xfrm>
                <a:off x="5834160" y="2971800"/>
                <a:ext cx="507960" cy="349200"/>
              </a:xfrm>
              <a:custGeom>
                <a:avLst/>
                <a:gdLst>
                  <a:gd name="textAreaLeft" fmla="*/ 88920 w 507960"/>
                  <a:gd name="textAreaRight" fmla="*/ 36828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AutoShape 137"/>
              <p:cNvSpPr/>
              <p:nvPr/>
            </p:nvSpPr>
            <p:spPr>
              <a:xfrm>
                <a:off x="7164360" y="2971800"/>
                <a:ext cx="506520" cy="349200"/>
              </a:xfrm>
              <a:custGeom>
                <a:avLst/>
                <a:gdLst>
                  <a:gd name="textAreaLeft" fmla="*/ 88560 w 506520"/>
                  <a:gd name="textAreaRight" fmla="*/ 36720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147"/>
            <p:cNvGrpSpPr/>
            <p:nvPr/>
          </p:nvGrpSpPr>
          <p:grpSpPr>
            <a:xfrm>
              <a:off x="3309480" y="3689280"/>
              <a:ext cx="4310280" cy="349200"/>
              <a:chOff x="3309480" y="3689280"/>
              <a:chExt cx="4310280" cy="349200"/>
            </a:xfrm>
          </p:grpSpPr>
          <p:sp>
            <p:nvSpPr>
              <p:cNvPr id="177" name="AutoShape 141"/>
              <p:cNvSpPr/>
              <p:nvPr/>
            </p:nvSpPr>
            <p:spPr>
              <a:xfrm flipH="1" flipV="1">
                <a:off x="584280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AutoShape 142"/>
              <p:cNvSpPr/>
              <p:nvPr/>
            </p:nvSpPr>
            <p:spPr>
              <a:xfrm flipH="1" flipV="1">
                <a:off x="5210280" y="3689280"/>
                <a:ext cx="506160" cy="349200"/>
              </a:xfrm>
              <a:custGeom>
                <a:avLst/>
                <a:gdLst>
                  <a:gd name="textAreaLeft" fmla="*/ 88560 w 506160"/>
                  <a:gd name="textAreaRight" fmla="*/ 367200 w 5061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AutoShape 143"/>
              <p:cNvSpPr/>
              <p:nvPr/>
            </p:nvSpPr>
            <p:spPr>
              <a:xfrm flipH="1" flipV="1">
                <a:off x="457596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44"/>
              <p:cNvSpPr/>
              <p:nvPr/>
            </p:nvSpPr>
            <p:spPr>
              <a:xfrm flipH="1" flipV="1">
                <a:off x="39427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AutoShape 145"/>
              <p:cNvSpPr/>
              <p:nvPr/>
            </p:nvSpPr>
            <p:spPr>
              <a:xfrm flipH="1" flipV="1">
                <a:off x="3309120" y="3689280"/>
                <a:ext cx="507960" cy="349200"/>
              </a:xfrm>
              <a:custGeom>
                <a:avLst/>
                <a:gdLst>
                  <a:gd name="textAreaLeft" fmla="*/ 88560 w 507960"/>
                  <a:gd name="textAreaRight" fmla="*/ 367920 w 50796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AutoShape 146"/>
              <p:cNvSpPr/>
              <p:nvPr/>
            </p:nvSpPr>
            <p:spPr>
              <a:xfrm flipH="1" flipV="1">
                <a:off x="7112880" y="3689280"/>
                <a:ext cx="506520" cy="349200"/>
              </a:xfrm>
              <a:custGeom>
                <a:avLst/>
                <a:gdLst>
                  <a:gd name="textAreaLeft" fmla="*/ 88200 w 506520"/>
                  <a:gd name="textAreaRight" fmla="*/ 366840 w 506520"/>
                  <a:gd name="textAreaTop" fmla="*/ 46800 h 349200"/>
                  <a:gd name="textAreaBottom" fmla="*/ 302400 h 349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150"/>
          <p:cNvSpPr/>
          <p:nvPr/>
        </p:nvSpPr>
        <p:spPr>
          <a:xfrm>
            <a:off x="762120" y="4952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197"/>
          <p:cNvGrpSpPr/>
          <p:nvPr/>
        </p:nvGrpSpPr>
        <p:grpSpPr>
          <a:xfrm>
            <a:off x="3048120" y="4572000"/>
            <a:ext cx="4876560" cy="837720"/>
            <a:chOff x="3048120" y="4572000"/>
            <a:chExt cx="4876560" cy="837720"/>
          </a:xfrm>
        </p:grpSpPr>
        <p:grpSp>
          <p:nvGrpSpPr>
            <p:cNvPr id="185" name="Group 152"/>
            <p:cNvGrpSpPr/>
            <p:nvPr/>
          </p:nvGrpSpPr>
          <p:grpSpPr>
            <a:xfrm>
              <a:off x="3048120" y="5094000"/>
              <a:ext cx="4876560" cy="315720"/>
              <a:chOff x="3048120" y="5094000"/>
              <a:chExt cx="4876560" cy="315720"/>
            </a:xfrm>
          </p:grpSpPr>
          <p:sp>
            <p:nvSpPr>
              <p:cNvPr id="186" name="Rectangle 153"/>
              <p:cNvSpPr/>
              <p:nvPr/>
            </p:nvSpPr>
            <p:spPr>
              <a:xfrm>
                <a:off x="304812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154"/>
              <p:cNvSpPr/>
              <p:nvPr/>
            </p:nvSpPr>
            <p:spPr>
              <a:xfrm>
                <a:off x="36813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155"/>
              <p:cNvSpPr/>
              <p:nvPr/>
            </p:nvSpPr>
            <p:spPr>
              <a:xfrm>
                <a:off x="431496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156"/>
              <p:cNvSpPr/>
              <p:nvPr/>
            </p:nvSpPr>
            <p:spPr>
              <a:xfrm>
                <a:off x="49482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157"/>
              <p:cNvSpPr/>
              <p:nvPr/>
            </p:nvSpPr>
            <p:spPr>
              <a:xfrm>
                <a:off x="558180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158"/>
              <p:cNvSpPr/>
              <p:nvPr/>
            </p:nvSpPr>
            <p:spPr>
              <a:xfrm>
                <a:off x="62150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159"/>
              <p:cNvSpPr/>
              <p:nvPr/>
            </p:nvSpPr>
            <p:spPr>
              <a:xfrm>
                <a:off x="7545240" y="5094000"/>
                <a:ext cx="379440" cy="315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96"/>
            <p:cNvGrpSpPr/>
            <p:nvPr/>
          </p:nvGrpSpPr>
          <p:grpSpPr>
            <a:xfrm>
              <a:off x="3048120" y="4572000"/>
              <a:ext cx="4799880" cy="380880"/>
              <a:chOff x="3048120" y="4572000"/>
              <a:chExt cx="4799880" cy="380880"/>
            </a:xfrm>
          </p:grpSpPr>
          <p:grpSp>
            <p:nvGrpSpPr>
              <p:cNvPr id="194" name="Group 177"/>
              <p:cNvGrpSpPr/>
              <p:nvPr/>
            </p:nvGrpSpPr>
            <p:grpSpPr>
              <a:xfrm>
                <a:off x="3048120" y="4572000"/>
                <a:ext cx="304560" cy="380880"/>
                <a:chOff x="3048120" y="4572000"/>
                <a:chExt cx="304560" cy="380880"/>
              </a:xfrm>
            </p:grpSpPr>
            <p:sp>
              <p:nvSpPr>
                <p:cNvPr id="195" name="AutoShape 175"/>
                <p:cNvSpPr/>
                <p:nvPr/>
              </p:nvSpPr>
              <p:spPr>
                <a:xfrm>
                  <a:off x="304812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AutoShape 176"/>
                <p:cNvSpPr/>
                <p:nvPr/>
              </p:nvSpPr>
              <p:spPr>
                <a:xfrm flipV="1">
                  <a:off x="321048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178"/>
              <p:cNvGrpSpPr/>
              <p:nvPr/>
            </p:nvGrpSpPr>
            <p:grpSpPr>
              <a:xfrm>
                <a:off x="3733560" y="4572000"/>
                <a:ext cx="304560" cy="380880"/>
                <a:chOff x="3733560" y="4572000"/>
                <a:chExt cx="304560" cy="380880"/>
              </a:xfrm>
            </p:grpSpPr>
            <p:sp>
              <p:nvSpPr>
                <p:cNvPr id="198" name="AutoShape 179"/>
                <p:cNvSpPr/>
                <p:nvPr/>
              </p:nvSpPr>
              <p:spPr>
                <a:xfrm>
                  <a:off x="37335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AutoShape 180"/>
                <p:cNvSpPr/>
                <p:nvPr/>
              </p:nvSpPr>
              <p:spPr>
                <a:xfrm flipV="1">
                  <a:off x="38959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181"/>
              <p:cNvGrpSpPr/>
              <p:nvPr/>
            </p:nvGrpSpPr>
            <p:grpSpPr>
              <a:xfrm>
                <a:off x="4343040" y="4572000"/>
                <a:ext cx="304560" cy="380880"/>
                <a:chOff x="4343040" y="4572000"/>
                <a:chExt cx="304560" cy="380880"/>
              </a:xfrm>
            </p:grpSpPr>
            <p:sp>
              <p:nvSpPr>
                <p:cNvPr id="201" name="AutoShape 182"/>
                <p:cNvSpPr/>
                <p:nvPr/>
              </p:nvSpPr>
              <p:spPr>
                <a:xfrm>
                  <a:off x="43430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183"/>
                <p:cNvSpPr/>
                <p:nvPr/>
              </p:nvSpPr>
              <p:spPr>
                <a:xfrm flipV="1">
                  <a:off x="45054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184"/>
              <p:cNvGrpSpPr/>
              <p:nvPr/>
            </p:nvGrpSpPr>
            <p:grpSpPr>
              <a:xfrm>
                <a:off x="5028840" y="4572000"/>
                <a:ext cx="304560" cy="380880"/>
                <a:chOff x="5028840" y="4572000"/>
                <a:chExt cx="304560" cy="380880"/>
              </a:xfrm>
            </p:grpSpPr>
            <p:sp>
              <p:nvSpPr>
                <p:cNvPr id="204" name="AutoShape 185"/>
                <p:cNvSpPr/>
                <p:nvPr/>
              </p:nvSpPr>
              <p:spPr>
                <a:xfrm>
                  <a:off x="50288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186"/>
                <p:cNvSpPr/>
                <p:nvPr/>
              </p:nvSpPr>
              <p:spPr>
                <a:xfrm flipV="1">
                  <a:off x="51912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187"/>
              <p:cNvGrpSpPr/>
              <p:nvPr/>
            </p:nvGrpSpPr>
            <p:grpSpPr>
              <a:xfrm>
                <a:off x="5638680" y="4572000"/>
                <a:ext cx="304200" cy="380880"/>
                <a:chOff x="5638680" y="4572000"/>
                <a:chExt cx="304200" cy="380880"/>
              </a:xfrm>
            </p:grpSpPr>
            <p:sp>
              <p:nvSpPr>
                <p:cNvPr id="207" name="AutoShape 188"/>
                <p:cNvSpPr/>
                <p:nvPr/>
              </p:nvSpPr>
              <p:spPr>
                <a:xfrm>
                  <a:off x="5638680" y="459432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AutoShape 189"/>
                <p:cNvSpPr/>
                <p:nvPr/>
              </p:nvSpPr>
              <p:spPr>
                <a:xfrm flipV="1">
                  <a:off x="5801040" y="4572000"/>
                  <a:ext cx="141840" cy="358560"/>
                </a:xfrm>
                <a:custGeom>
                  <a:avLst/>
                  <a:gdLst>
                    <a:gd name="textAreaLeft" fmla="*/ 18720 w 141840"/>
                    <a:gd name="textAreaRight" fmla="*/ 123120 w 14184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190"/>
              <p:cNvGrpSpPr/>
              <p:nvPr/>
            </p:nvGrpSpPr>
            <p:grpSpPr>
              <a:xfrm>
                <a:off x="6248160" y="4572000"/>
                <a:ext cx="304560" cy="380880"/>
                <a:chOff x="6248160" y="4572000"/>
                <a:chExt cx="304560" cy="380880"/>
              </a:xfrm>
            </p:grpSpPr>
            <p:sp>
              <p:nvSpPr>
                <p:cNvPr id="210" name="AutoShape 191"/>
                <p:cNvSpPr/>
                <p:nvPr/>
              </p:nvSpPr>
              <p:spPr>
                <a:xfrm>
                  <a:off x="624816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AutoShape 192"/>
                <p:cNvSpPr/>
                <p:nvPr/>
              </p:nvSpPr>
              <p:spPr>
                <a:xfrm flipV="1">
                  <a:off x="641052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193"/>
              <p:cNvGrpSpPr/>
              <p:nvPr/>
            </p:nvGrpSpPr>
            <p:grpSpPr>
              <a:xfrm>
                <a:off x="7543440" y="4572000"/>
                <a:ext cx="304560" cy="380880"/>
                <a:chOff x="7543440" y="4572000"/>
                <a:chExt cx="304560" cy="380880"/>
              </a:xfrm>
            </p:grpSpPr>
            <p:sp>
              <p:nvSpPr>
                <p:cNvPr id="213" name="AutoShape 194"/>
                <p:cNvSpPr/>
                <p:nvPr/>
              </p:nvSpPr>
              <p:spPr>
                <a:xfrm>
                  <a:off x="7543440" y="459432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11880"/>
                      </a:lnTo>
                      <a:arcTo wR="21600" hR="7560" stAng="10800000" swAng="-2682637"/>
                      <a:lnTo>
                        <a:pt x="14400" y="21168"/>
                      </a:lnTo>
                      <a:lnTo>
                        <a:pt x="21600" y="17280"/>
                      </a:lnTo>
                      <a:lnTo>
                        <a:pt x="14400" y="12528"/>
                      </a:lnTo>
                      <a:lnTo>
                        <a:pt x="14400" y="14688"/>
                      </a:lnTo>
                      <a:arcTo wR="21600" hR="7560" stAng="8117363" swAng="2325203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  <a:path fill="darkenLess" w="21600" h="21600">
                      <a:moveTo>
                        <a:pt x="21600" y="0"/>
                      </a:moveTo>
                      <a:arcTo wR="21600" hR="7560" stAng="-5400000" swAng="-5400000"/>
                      <a:lnTo>
                        <a:pt x="0" y="7560"/>
                      </a:lnTo>
                      <a:arcTo wR="21600" hR="7560" stAng="10800000" swAng="-357435"/>
                      <a:lnTo>
                        <a:pt x="900" y="9720"/>
                      </a:lnTo>
                      <a:arcTo wR="21600" hR="7560" stAng="-10442565" swAng="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195"/>
                <p:cNvSpPr/>
                <p:nvPr/>
              </p:nvSpPr>
              <p:spPr>
                <a:xfrm flipV="1">
                  <a:off x="7705800" y="4572000"/>
                  <a:ext cx="142200" cy="358560"/>
                </a:xfrm>
                <a:custGeom>
                  <a:avLst/>
                  <a:gdLst>
                    <a:gd name="textAreaLeft" fmla="*/ 19080 w 142200"/>
                    <a:gd name="textAreaRight" fmla="*/ 123120 w 142200"/>
                    <a:gd name="textAreaTop" fmla="*/ 62640 h 358560"/>
                    <a:gd name="textAreaBottom" fmla="*/ 259920 h 358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2682637"/>
                      <a:lnTo>
                        <a:pt x="7200" y="21168"/>
                      </a:lnTo>
                      <a:lnTo>
                        <a:pt x="0" y="17280"/>
                      </a:lnTo>
                      <a:lnTo>
                        <a:pt x="7200" y="12528"/>
                      </a:lnTo>
                      <a:lnTo>
                        <a:pt x="7200" y="14688"/>
                      </a:lnTo>
                      <a:arcTo wR="21600" hR="7560" stAng="2682637" swAng="-2325203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  <a:path fill="darkenLess" w="21600" h="21600">
                      <a:moveTo>
                        <a:pt x="0" y="0"/>
                      </a:moveTo>
                      <a:arcTo wR="21600" hR="7560" stAng="-5400000" swAng="5400000"/>
                      <a:lnTo>
                        <a:pt x="21600" y="11880"/>
                      </a:lnTo>
                      <a:arcTo wR="21600" hR="7560" stAng="0" swAng="-357435"/>
                      <a:lnTo>
                        <a:pt x="20700" y="9720"/>
                      </a:lnTo>
                      <a:arcTo wR="21600" hR="7560" stAng="-357435" swAng="-5042565"/>
                      <a:close/>
                    </a:path>
                  </a:pathLst>
                </a:custGeom>
                <a:solidFill>
                  <a:srgbClr val="3333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"/>
          <p:cNvPicPr/>
          <p:nvPr/>
        </p:nvPicPr>
        <p:blipFill>
          <a:blip r:embed="rId1"/>
          <a:stretch/>
        </p:blipFill>
        <p:spPr>
          <a:xfrm>
            <a:off x="1752480" y="1635120"/>
            <a:ext cx="5762880" cy="2403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4419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9"/>
          <p:cNvSpPr/>
          <p:nvPr/>
        </p:nvSpPr>
        <p:spPr>
          <a:xfrm>
            <a:off x="6438960" y="266688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81080" y="3657240"/>
            <a:ext cx="51055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nant z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omponent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ayer diffusion in c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676520" y="1066680"/>
            <a:ext cx="5762520" cy="2403720"/>
          </a:xfrm>
          <a:prstGeom prst="rect">
            <a:avLst/>
          </a:prstGeom>
          <a:ln w="0">
            <a:noFill/>
          </a:ln>
        </p:spPr>
      </p:pic>
      <p:sp>
        <p:nvSpPr>
          <p:cNvPr id="222" name="Oval 5"/>
          <p:cNvSpPr/>
          <p:nvPr/>
        </p:nvSpPr>
        <p:spPr>
          <a:xfrm>
            <a:off x="6654960" y="2108160"/>
            <a:ext cx="380880" cy="762120"/>
          </a:xfrm>
          <a:prstGeom prst="ellipse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8760" y="1036800"/>
            <a:ext cx="4326120" cy="101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Arsenic in the Central Oklahoma Aquif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97000" y="2684160"/>
            <a:ext cx="4325760" cy="33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mostly in confined part of aqui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senic associated with high p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on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as"/>
          <p:cNvPicPr/>
          <p:nvPr/>
        </p:nvPicPr>
        <p:blipFill>
          <a:blip r:embed="rId1"/>
          <a:stretch/>
        </p:blipFill>
        <p:spPr>
          <a:xfrm>
            <a:off x="4621320" y="136440"/>
            <a:ext cx="4370400" cy="6629400"/>
          </a:xfrm>
          <a:prstGeom prst="rect">
            <a:avLst/>
          </a:prstGeom>
          <a:ln w="34920">
            <a:solidFill>
              <a:srgbClr val="00cc99"/>
            </a:solidFill>
            <a:miter/>
          </a:ln>
        </p:spPr>
      </p:pic>
      <p:sp>
        <p:nvSpPr>
          <p:cNvPr id="226" name="AutoShape 5"/>
          <p:cNvSpPr/>
          <p:nvPr/>
        </p:nvSpPr>
        <p:spPr>
          <a:xfrm>
            <a:off x="5486400" y="30481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 flipV="1">
            <a:off x="5334120" y="220896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160 h 838440"/>
              <a:gd name="textAreaBottom" fmla="*/ 60768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D46F-B32D-497F-927C-E9BF7903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Reactions 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e initially fills the aqui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ite and dolomite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ion exchan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C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Ca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NaX +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Mg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N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fo-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O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HfoOH + HAsO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E48D-D8EC-4384-BAA6-8F1946D73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ADVEC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 are numbered from 1 to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ex numbers (of SOLUTION, EQUILIBRIUM_PHASES, etc) are used to define the solution and reactants in each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0 (or N+1) enters the colu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s “shifted” from one cell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OED</cp:lastModifiedBy>
  <dcterms:modified xsi:type="dcterms:W3CDTF">2011-03-17T14:40:08Z</dcterms:modified>
  <cp:revision>169</cp:revision>
  <dc:subject/>
  <dc:title>Defining Solutions</dc:title>
</cp:coreProperties>
</file>