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2EB5-B6D0-49E8-939C-3CA6E90D0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CCD8-B783-4307-A57E-75742A55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4407-7BAE-4998-A251-46E753C3D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9B19-2275-4FA3-BD04-045B00B9D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8415-100A-4510-B588-9CE881E0B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6D54-FD49-455A-8B6B-9E1664A9D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51C3-C35A-4699-90B8-F298BC9C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75240-0050-4345-9BA9-1863A598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FE5E-47B5-490A-AB29-F7728CA5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5827-9353-449D-BCB7-85DB100C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3C8E-9AFA-4BAB-B685-8980BF32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F2D2-8357-4677-98F3-A1E50008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4304-56C6-457E-85F8-7CAAFF02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323B-2C34-4353-ACE1-A5443041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326E-4D02-46FD-8EE0-09C54416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846D-ED51-42F6-96FA-BA3B28578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D8CF-8BA1-4CEE-91F9-7443E530F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1302-5A66-47DA-A49B-450430FD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0545-D37E-4A23-95AF-36862FFA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539D-C44B-4725-8D75-A3C02078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C6F0-2DCD-45C8-87E4-7954421DC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993B-EB47-4564-8818-D0F9D6EC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0697-22C5-4CD1-A372-2FC73498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64CE-1854-41A6-886F-5DF68055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D3DE0-3EAD-4538-B0B2-E0C10FA1328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" name="" descr="Image of small USGS Identifier"/>
          <p:cNvPicPr/>
          <p:nvPr/>
        </p:nvPicPr>
        <p:blipFill>
          <a:blip r:embed="rId2">
            <a:lum bright="100000"/>
          </a:blip>
          <a:stretch/>
        </p:blipFill>
        <p:spPr>
          <a:xfrm>
            <a:off x="457200" y="6400800"/>
            <a:ext cx="1143000" cy="4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9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77F6-2CA7-42D6-86F2-D61A2F9F36F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Image of small USGS Identifier"/>
          <p:cNvPicPr/>
          <p:nvPr/>
        </p:nvPicPr>
        <p:blipFill>
          <a:blip r:embed="rId2">
            <a:lum bright="100000"/>
          </a:blip>
          <a:stretch/>
        </p:blipFill>
        <p:spPr>
          <a:xfrm>
            <a:off x="457200" y="6095880"/>
            <a:ext cx="1143000" cy="4208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990360"/>
            <a:ext cx="883944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cc"/>
                </a:solidFill>
                <a:latin typeface="Arial"/>
              </a:rPr>
              <a:t>Ground-Water Flow and Solute Transport for the PHAST Simulator:</a:t>
            </a:r>
            <a:r>
              <a:rPr b="0" lang="en-US" sz="47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4700"/>
            </a:br>
            <a:r>
              <a:rPr b="0" lang="en-US" sz="4700" spc="-1" strike="noStrike">
                <a:solidFill>
                  <a:srgbClr val="ffffcc"/>
                </a:solidFill>
                <a:latin typeface="Arial"/>
              </a:rPr>
              <a:t>Numerical Considerations</a:t>
            </a:r>
            <a:endParaRPr b="0" lang="en-US" sz="4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723920"/>
            <a:ext cx="7238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3657600"/>
            <a:ext cx="7696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ontrolling Numerical Oscillat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6095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riteri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entered-in-space differencing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entered-in-time differencing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097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where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523880" y="2743200"/>
                <a:ext cx="274320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l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Δx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x</m:t>
                        </m:r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523880" y="4419720"/>
                <a:ext cx="308304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Δt</m:t>
                        </m:r>
                      </m:num>
                      <m:den>
                        <m:sSup>
                          <m:e>
                            <m:r>
                              <m:t xml:space="preserve">Δ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αvΔt</m:t>
                        </m:r>
                      </m:num>
                      <m:den>
                        <m:sSup>
                          <m:e>
                            <m:r>
                              <m:t xml:space="preserve">Δ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ell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514600" y="5468760"/>
                <a:ext cx="106668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vΔt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ontrolling Numerical Dispers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pstream-in-space differencing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ackward-in-time differenc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ccuracy requirem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          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imensionless accuracy requirement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      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r                                                                                             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477800" y="1633680"/>
                <a:ext cx="160020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m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spac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Δ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581280" y="1633680"/>
                <a:ext cx="147492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m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spac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477800" y="3048120"/>
                <a:ext cx="160020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m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Δ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595680" y="3048120"/>
                <a:ext cx="147492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m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Δt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477800" y="4400640"/>
                <a:ext cx="324648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m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spac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m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952880" y="5367240"/>
                <a:ext cx="160200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ll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lt;&lt;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477800" y="5367240"/>
                <a:ext cx="278316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el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vΔx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&lt;&lt;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vΔt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5318280" y="4400640"/>
                <a:ext cx="31399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m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spac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um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&lt;&lt;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ross-Flow Dispersion Discretization truncation erro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olute transport equation in 2-dimensions, steady flow at angle </a:t>
            </a:r>
            <a:r>
              <a:rPr b="0" i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to coordinat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5334120" cy="6620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52280" y="28195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Backwards-in-time and upstream-in-space differencing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runcation error leading terms; numerical dispers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43434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Numerical dispers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angential is minimum at </a:t>
            </a:r>
            <a:r>
              <a:rPr b="0" lang="en-US" sz="1800" spc="-1" strike="noStrike">
                <a:solidFill>
                  <a:srgbClr val="eaeaea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= </a:t>
            </a:r>
            <a:r>
              <a:rPr b="0" lang="en-US" sz="1800" spc="-1" strike="noStrike">
                <a:solidFill>
                  <a:srgbClr val="eaeaea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/4; maximum at </a:t>
            </a:r>
            <a:r>
              <a:rPr b="0" lang="en-US" sz="1800" spc="-1" strike="noStrike">
                <a:solidFill>
                  <a:srgbClr val="eaeaea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= 0, </a:t>
            </a:r>
            <a:r>
              <a:rPr b="0" lang="en-US" sz="1800" spc="-1" strike="noStrike">
                <a:solidFill>
                  <a:srgbClr val="eaeaea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/2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Normal is maximum at </a:t>
            </a:r>
            <a:r>
              <a:rPr b="0" lang="en-US" sz="1800" spc="-1" strike="noStrike">
                <a:solidFill>
                  <a:srgbClr val="eaeaea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= </a:t>
            </a:r>
            <a:r>
              <a:rPr b="0" lang="en-US" sz="1800" spc="-1" strike="noStrike">
                <a:solidFill>
                  <a:srgbClr val="eaeaea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/4; minimum at </a:t>
            </a:r>
            <a:r>
              <a:rPr b="0" lang="en-US" sz="1800" spc="-1" strike="noStrike">
                <a:solidFill>
                  <a:srgbClr val="eaeaea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 = 0, </a:t>
            </a:r>
            <a:r>
              <a:rPr b="0" lang="en-US" sz="1800" spc="-1" strike="noStrike">
                <a:solidFill>
                  <a:srgbClr val="eaeaea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/2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752480" y="3524400"/>
            <a:ext cx="5715000" cy="6188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52280" y="54100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medie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Refine grid and reduce time step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Other remedies not available in PHAS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Field-Scale Example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lute Slug in 2 Dimensio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niform properti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teady flow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ydraulic paramete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low-path length: 100 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orosity: 0.1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spersivity: 0.012 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Ground-water velocit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terstitial velocity: 1.97 m/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arcy velocity: 0.197 m/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spersion coefficient: 0.024 m2/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lug duration: 10 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2280" y="277560"/>
            <a:ext cx="3276720" cy="36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ield-Scale Exampl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3885840"/>
            <a:ext cx="2743200" cy="22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924360" y="298440"/>
            <a:ext cx="5067360" cy="29527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172200" y="3741840"/>
            <a:ext cx="2666880" cy="25826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444600" y="3429000"/>
            <a:ext cx="510516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perator Splitting Erro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915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rder </a:t>
            </a:r>
            <a:r>
              <a:rPr b="0" i="1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inear equilibrium sorp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inear kinetic mass transfer or linear deca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medi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se small time step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ther remedies not available in PHAS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Negative Intermediate Concentration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auses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patial discretization (centered-in-space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emporal discretization (centered-in-time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ross-dispersion terms with strong diagonal flow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Operator splitting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e.g.Linear equilibrium sorption chemistry, SNlA method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where R is the retardation factor, R &gt; 1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Overshoot and undershoot may occur with strong sorption, strong partitioning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ffect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ailure of the chemical reaction calculat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362320" y="3666960"/>
            <a:ext cx="259056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Negative Intermediate Concentration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medie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mall </a:t>
            </a:r>
            <a:r>
              <a:rPr b="0" i="1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x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mall </a:t>
            </a:r>
            <a:r>
              <a:rPr b="0" i="1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odify or ignore cross-dispersion term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HAST limits </a:t>
            </a: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c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o positive value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Gain of mas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ther remedies not available in PHAS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utomatic Time-Step Algorithm for Steady-State Flow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ntrols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aximum change in head over time step; </a:t>
            </a:r>
            <a:r>
              <a:rPr b="0" i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h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ime-step limits; </a:t>
            </a:r>
            <a:r>
              <a:rPr b="0" i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t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Verdana"/>
              </a:rPr>
              <a:t>min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, </a:t>
            </a:r>
            <a:r>
              <a:rPr b="0" i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t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Verdana"/>
              </a:rPr>
              <a:t>max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bjective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djust time step to achieve target </a:t>
            </a:r>
            <a:r>
              <a:rPr b="0" i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h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ethod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tart each cycle with </a:t>
            </a:r>
            <a:r>
              <a:rPr b="0" i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t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Verdana"/>
              </a:rPr>
              <a:t>mi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djust time step as necessary for targe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duce time step if solver convergence failur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ossible difficulties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t</a:t>
            </a:r>
            <a:r>
              <a:rPr b="0" lang="en-US" sz="2000" spc="-1" strike="noStrike" baseline="-25000">
                <a:solidFill>
                  <a:srgbClr val="eaeaea"/>
                </a:solidFill>
                <a:latin typeface="Verdana"/>
              </a:rPr>
              <a:t>min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incompatible with </a:t>
            </a:r>
            <a:r>
              <a:rPr b="0" i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h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</a:t>
            </a:r>
            <a:r>
              <a:rPr b="0" i="1" lang="en-US" sz="2000" spc="-1" strike="noStrike">
                <a:solidFill>
                  <a:srgbClr val="eaeaea"/>
                </a:solidFill>
                <a:latin typeface="Verdana"/>
              </a:rPr>
              <a:t>h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compatible with b.c. and i.c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olving the Linear Equation System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parse; small fraction of non-zero elemen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ructured; 7 diagona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ymmetric for flow equa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Unsymmetric for transport equat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3565440" y="1676520"/>
            <a:ext cx="222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Verdana"/>
              </a:rPr>
              <a:t>Ax = b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umerical implementa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umerical oscillation and dispers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perator splitting erro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egative concentra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utomatic time step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inear equation solve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iagnosis of difficulti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inear Equation Solver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irect Solv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ased on Gaussian elimination without pivot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o user paramete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est for smaller problems (few thousand node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inear Equation Solver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terative solv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reconditioned restarted Orthomin metho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Based on adjusting the solution to minimize the residual using a set of conjugate, orthogonal direction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reconditioning used to accelerate convergenc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everal user parameter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onvergence toleranc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estart interva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teration count limi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eeded for larger problems (tens of thousands of nodes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Iterative Linear Equation Solver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caling the equa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ows and columns can be scale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here </a:t>
            </a: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R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nd </a:t>
            </a: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C</a:t>
            </a: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re diagonal scaling matric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cale factors calculated to make the maximum element in each row and column of A equal to on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nables a single value of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to apply to flow and all transport equation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nly row scaling is implement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473120" y="2349360"/>
            <a:ext cx="2286000" cy="4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Iterative Linear Equation Solver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tting Orthomin iteration paramete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topping toleran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efault: 1x10</a:t>
            </a:r>
            <a:r>
              <a:rPr b="0" lang="en-US" sz="2000" spc="-1" strike="noStrike" baseline="30000">
                <a:solidFill>
                  <a:srgbClr val="eaeaea"/>
                </a:solidFill>
                <a:latin typeface="Verdana"/>
              </a:rPr>
              <a:t>-1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Vary </a:t>
            </a:r>
            <a:r>
              <a:rPr b="0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and observe change in solut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Want changes to be in insignificant digit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aximum number of itera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efault: 50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crease if necessary; usually indicates another problem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start interval (number of saved search directions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efault: 20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crease if necessary to avoid non-convergenc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Computational Procedure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09760" y="1294920"/>
            <a:ext cx="6400800" cy="838440"/>
          </a:xfrm>
          <a:prstGeom prst="rect">
            <a:avLst/>
          </a:prstGeom>
          <a:noFill/>
          <a:ln w="38160">
            <a:solidFill>
              <a:srgbClr val="eec85e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Governing partial differential equa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nd boundary condi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3238560" y="2610000"/>
            <a:ext cx="2743200" cy="457200"/>
          </a:xfrm>
          <a:prstGeom prst="rect">
            <a:avLst/>
          </a:prstGeom>
          <a:noFill/>
          <a:ln w="381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scretiz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3543480"/>
            <a:ext cx="8153280" cy="457200"/>
          </a:xfrm>
          <a:prstGeom prst="rect">
            <a:avLst/>
          </a:prstGeom>
          <a:noFill/>
          <a:ln w="381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ystem of flow and transport algebraic equatio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62040" y="4476600"/>
            <a:ext cx="6096240" cy="457200"/>
          </a:xfrm>
          <a:prstGeom prst="rect">
            <a:avLst/>
          </a:prstGeom>
          <a:noFill/>
          <a:ln w="381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quation solv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57480" y="5410080"/>
            <a:ext cx="6705360" cy="457200"/>
          </a:xfrm>
          <a:prstGeom prst="rect">
            <a:avLst/>
          </a:prstGeom>
          <a:noFill/>
          <a:ln w="38160">
            <a:solidFill>
              <a:srgbClr val="eec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pproximate numerical sol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10160" y="2143080"/>
            <a:ext cx="0" cy="457200"/>
          </a:xfrm>
          <a:prstGeom prst="line">
            <a:avLst/>
          </a:prstGeom>
          <a:ln w="38160">
            <a:solidFill>
              <a:srgbClr val="eec85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10160" y="3076560"/>
            <a:ext cx="0" cy="457200"/>
          </a:xfrm>
          <a:prstGeom prst="line">
            <a:avLst/>
          </a:prstGeom>
          <a:ln w="38160">
            <a:solidFill>
              <a:srgbClr val="eec85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10160" y="4010040"/>
            <a:ext cx="0" cy="457200"/>
          </a:xfrm>
          <a:prstGeom prst="line">
            <a:avLst/>
          </a:prstGeom>
          <a:ln w="38160">
            <a:solidFill>
              <a:srgbClr val="eec85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10160" y="4943520"/>
            <a:ext cx="0" cy="457200"/>
          </a:xfrm>
          <a:prstGeom prst="line">
            <a:avLst/>
          </a:prstGeom>
          <a:ln w="38160">
            <a:solidFill>
              <a:srgbClr val="eec85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mputational mathematics is mainly based on two ideas: Taylor series and linear algebra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--L.N. Trefethen (1998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Finite Difference Discretization 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1D Solute Transport, Steady Flow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8120" y="1409760"/>
            <a:ext cx="2514600" cy="7556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09480" y="2133720"/>
            <a:ext cx="6019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patial discretiza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erm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entered-in-space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runcation error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498680" y="2577960"/>
            <a:ext cx="407880" cy="457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419720" y="3298680"/>
            <a:ext cx="914400" cy="4352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09480" y="3809880"/>
            <a:ext cx="6553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erm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entered-in-space;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runcation error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Possible oscilla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Upstream-in-spac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Truncation error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ispers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1490760" y="3797280"/>
            <a:ext cx="338040" cy="457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4419720" y="4508640"/>
            <a:ext cx="838080" cy="398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419720" y="5613480"/>
                <a:ext cx="60948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Δ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Finite Difference Discretization </a:t>
            </a:r>
            <a:br>
              <a:rPr sz="3600"/>
            </a:b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1D Solute Transport, Steady Flow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048120" y="1530360"/>
            <a:ext cx="2514600" cy="7556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609480" y="2362320"/>
            <a:ext cx="6019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emporal discretiz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er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entered-in-tim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runcation error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ossible oscil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ackward-in-t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runcation error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ispers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523880" y="2819520"/>
            <a:ext cx="373320" cy="5331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613400" y="3767040"/>
            <a:ext cx="657000" cy="347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13400" y="4970520"/>
                <a:ext cx="574560" cy="2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Δ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77560"/>
            <a:ext cx="75438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Finite Difference Discretization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90920" y="1130400"/>
            <a:ext cx="3429000" cy="9205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914400" y="2362320"/>
            <a:ext cx="6019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Variable grid spac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er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017000" indent="-2034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entered-in-spac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424160" indent="-20340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runcation error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803240" y="2933640"/>
            <a:ext cx="408240" cy="457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914400" y="4191120"/>
            <a:ext cx="6553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er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entered-in-space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runcation error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ntrol error by limiting changes in adjacent 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x</a:t>
            </a:r>
            <a:r>
              <a:rPr b="1" i="1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o factor of 1.25 to 2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803240" y="4127400"/>
            <a:ext cx="403560" cy="5461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4952880" y="3733920"/>
            <a:ext cx="1498680" cy="349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4952880" y="5111640"/>
            <a:ext cx="1498680" cy="3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Field-Scale Example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lute Slug in 1 Dimens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niform properti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teady flow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ydraulic paramete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low-path length: 100 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orosity: 0.1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spersivity: 0.012 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Ground-water velocit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terstitial velocity: 1.97 m/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arcy velocity: 0.197 m/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ispersion coefficient: 0.024 m2/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lug duration: 10 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Field-Scale Examples </a:t>
            </a:r>
            <a:br>
              <a:rPr sz="40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ncentration Profil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nalytical and two finite-difference solu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905120" y="2276640"/>
            <a:ext cx="66862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6T14:35:18Z</dcterms:created>
  <dc:creator>Dave Parkhurst</dc:creator>
  <dc:description/>
  <dc:language>en-US</dc:language>
  <cp:lastModifiedBy>dlpark</cp:lastModifiedBy>
  <dcterms:modified xsi:type="dcterms:W3CDTF">2009-03-05T18:04:52Z</dcterms:modified>
  <cp:revision>72</cp:revision>
  <dc:subject/>
  <dc:title>Using WPHAST to Model the Central Oklahoma Aquifer</dc:title>
</cp:coreProperties>
</file>