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D3943A5-FA86-4E68-93DB-9773B3163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3AC8691-45D2-46FA-B6E7-DF30FEB2AB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BA9-394C-46A9-A2F9-AD8650AEE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2E08-0474-41FB-A517-84DDA481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3450-CF05-4C31-BA13-ADFCFC8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DC4D-5714-40A5-9F11-82DE93D3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774CE-943D-40B8-BFA1-851B4E85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B716-C823-4914-9ADB-195828EA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8553-CEE8-463D-82C8-DDEE2D45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117C-5DD9-4D86-9E49-A9BE491B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C3A3-74AF-4022-BBBE-EF65F9689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6794C-23F6-4ADE-961A-053FDFD9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7719-B3D9-48DB-ABA7-257537A8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EFF3-A175-4E73-9735-6D2BFEC6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6F4E-B447-400E-B2D3-04014875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68CA-6970-4482-93FF-E7251AC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58C91-9258-4136-9764-B1E4E807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AE76-0BA6-4979-B16D-0B69377C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BBF5-79B7-4958-9036-34C12C0B9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EFD2-D9FF-4460-B3A1-2350AF25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6102-EC24-4D21-B23F-391D6847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C094-F56E-4562-B8E9-8527421F1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DF03-0407-4B17-B560-29FAC843E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8C3-8629-4142-BD8C-CED3A9E0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09C-60DB-40E7-BCBA-92F3033A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AF53-ECC6-44D5-B3C8-735EBA602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FD5B-5A9C-43C4-B697-893C9D19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152280" y="6361200"/>
            <a:ext cx="1143000" cy="42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74" name="Picture 23" descr="Image of small USGS Identifier"/>
          <p:cNvPicPr/>
          <p:nvPr/>
        </p:nvPicPr>
        <p:blipFill>
          <a:blip r:embed="rId2">
            <a:lum bright="100000"/>
          </a:blip>
          <a:stretch/>
        </p:blipFill>
        <p:spPr>
          <a:xfrm>
            <a:off x="457200" y="6095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2DC03-49F9-4891-983F-F008B536592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98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ffcc"/>
                </a:solidFill>
                <a:latin typeface="Arial"/>
              </a:rPr>
              <a:t>The PHAST 3D Reactive-Transport Simulator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673200" y="34290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David Parkhurst, Ken Kipp, and Scott Charlt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D77A-7683-4D00-9473-11668584E38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2971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x—Rectangular brick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edge—Right triangular wedg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s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eri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169" name="Oval 7"/>
          <p:cNvSpPr/>
          <p:nvPr/>
        </p:nvSpPr>
        <p:spPr>
          <a:xfrm>
            <a:off x="548640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3505320" y="4356000"/>
            <a:ext cx="4800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op, Bottom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raster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c shape + attribut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XYZ file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2588-003D-41E5-BBC0-3AF8826C878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66800" y="38160"/>
            <a:ext cx="25909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erimet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67080" y="1219320"/>
            <a:ext cx="1600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op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67160" y="2819520"/>
            <a:ext cx="2057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otto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8" descr=""/>
          <p:cNvPicPr/>
          <p:nvPr/>
        </p:nvPicPr>
        <p:blipFill>
          <a:blip r:embed="rId1"/>
          <a:stretch/>
        </p:blipFill>
        <p:spPr>
          <a:xfrm>
            <a:off x="0" y="3816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2"/>
          <a:stretch/>
        </p:blipFill>
        <p:spPr>
          <a:xfrm>
            <a:off x="0" y="2819520"/>
            <a:ext cx="3505320" cy="2625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"/>
          <p:cNvPicPr/>
          <p:nvPr/>
        </p:nvPicPr>
        <p:blipFill>
          <a:blip r:embed="rId3"/>
          <a:stretch/>
        </p:blipFill>
        <p:spPr>
          <a:xfrm>
            <a:off x="5638680" y="1219320"/>
            <a:ext cx="3505320" cy="262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"/>
          <p:cNvPicPr/>
          <p:nvPr/>
        </p:nvPicPr>
        <p:blipFill>
          <a:blip r:embed="rId4"/>
          <a:stretch/>
        </p:blipFill>
        <p:spPr>
          <a:xfrm>
            <a:off x="5638680" y="4232160"/>
            <a:ext cx="3505320" cy="26258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3886200" y="423216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Prism</a:t>
            </a:r>
            <a:endParaRPr b="1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Slide Number Placeholder 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7C758-188B-44A9-BED2-ADF89DFEA3F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polation for Top and Bottom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Data are treated as scattered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tural neighbor interpolation (NNI) is used if possi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fines a continuous surface except at data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NI is not simply the closest neighbo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rea weights by nearest poin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s closest neighbor interpolation (CNI) if NNI fai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 continuou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outside convex hul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30A7-87F0-469F-9FA4-13BDEB22496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wo Coordinate Syste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Map—State plane, UT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rid—Local coordinate syste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ot quite finish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oday, map =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5A40-9CD6-47AC-BC18-766F8CF9B6B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ssigning Properties to a Zon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near in X, Y, or Z direc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s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 File—Values at set of X,Y,Z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YZT File—Boundary conditions onl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,Y,Z,T,P: property at location and tim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3B43-129A-4954-9EC4-40A92FA87AE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Interpolation from Poin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ies are assigned from the closest of the set of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duces a volume with constant property around each poi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4F6-BCFB-4C2C-BCA7-1E6D2546B46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Spatially Distributed Properties Are Overlayed in Zone Sequenc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4648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green followed by brow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operty P defined by brown followed by green zon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5334120" y="1838160"/>
            <a:ext cx="2057400" cy="1219320"/>
          </a:xfrm>
          <a:prstGeom prst="rect">
            <a:avLst/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6553080" y="2219400"/>
            <a:ext cx="1828800" cy="457200"/>
          </a:xfrm>
          <a:prstGeom prst="rect">
            <a:avLst/>
          </a:prstGeom>
          <a:solidFill>
            <a:srgbClr val="aa845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5486400" y="1990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6934320" y="22575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6553080" y="4867200"/>
            <a:ext cx="1905120" cy="457200"/>
          </a:xfrm>
          <a:prstGeom prst="rect">
            <a:avLst/>
          </a:prstGeom>
          <a:solidFill>
            <a:srgbClr val="aa845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334120" y="4486320"/>
            <a:ext cx="2057400" cy="1219320"/>
          </a:xfrm>
          <a:prstGeom prst="rect">
            <a:avLst/>
          </a:prstGeom>
          <a:solidFill>
            <a:srgbClr val="339966">
              <a:alpha val="83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5867280" y="48909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1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Text Box 11"/>
          <p:cNvSpPr/>
          <p:nvPr/>
        </p:nvSpPr>
        <p:spPr>
          <a:xfrm>
            <a:off x="7391520" y="48769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P = 20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3" name="Slide Number Placeholder 1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7108-7F8C-4BCF-AE4F-BBDA6F4CBDB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257800" y="152280"/>
            <a:ext cx="2819520" cy="758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Zone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837720"/>
            <a:ext cx="44197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edia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itial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oundary condi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one flow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5715000" cy="3735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429080" cy="2452680"/>
          </a:xfrm>
          <a:prstGeom prst="rect">
            <a:avLst/>
          </a:prstGeom>
          <a:ln w="0">
            <a:noFill/>
          </a:ln>
        </p:spPr>
      </p:pic>
      <p:sp>
        <p:nvSpPr>
          <p:cNvPr id="208" name="Oval 6"/>
          <p:cNvSpPr/>
          <p:nvPr/>
        </p:nvSpPr>
        <p:spPr>
          <a:xfrm>
            <a:off x="1905120" y="457200"/>
            <a:ext cx="736560" cy="487440"/>
          </a:xfrm>
          <a:prstGeom prst="ellipse">
            <a:avLst/>
          </a:prstGeom>
          <a:noFill/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097-5960-4F37-8919-82CCEBB2817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edia Propert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c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x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ros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pecific stora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ongitudinal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rizont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Vertical component transverse dispersivit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46EA-FF1B-4E9B-A4BF-E4BBEDF9D96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ad I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efine head distribution for zon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onsta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inear in X, Y, or Z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XYZ file with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689-43C7-4203-A3A9-0CB1ECFAEB59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82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troduction to PHA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view of geochemical reac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hast4Window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ive-transport modeling exercis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5949-0912-42D9-9600-B62328724C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ecified Head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me grid dependence because a specified head applies to entire cel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5725-CD80-4EA4-A3CD-C6ECEDE4F63A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eaky (Head dependent) BC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over area defined by zone (partial cell faces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exterior fac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Z face—water goes to first active cell or water tab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60EB-8CCD-415D-8259-53F9A05DC8F5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743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ux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724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ies only to area of cell face intersected by the zon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5253120" y="228600"/>
            <a:ext cx="3890880" cy="3760920"/>
          </a:xfrm>
          <a:prstGeom prst="rect">
            <a:avLst/>
          </a:prstGeom>
          <a:ln w="0">
            <a:noFill/>
          </a:ln>
        </p:spPr>
      </p:pic>
      <p:sp>
        <p:nvSpPr>
          <p:cNvPr id="22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836B-5F0D-4091-9902-96939FC70CB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Overlapping BC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flux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uplicate leaky areas are remov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eaky and flux can coexist on a cell fac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Neither Leaky nor flux can coexist with specified hea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Last defined takes precedence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5BA6-6672-451E-A50C-48269AB47270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12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s &amp; Drai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ries of X,Y poi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id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hydraulic conductivit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d thickn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levation of be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ime-dependent values (Rivers only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ead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ution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arameters and time-dependent value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ust define for first and last poin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f not defined at intermediate points, interpolation by river dista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B6F-CE40-4714-BE85-C470640640F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River  and Drain User Defini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1600200" y="1227240"/>
            <a:ext cx="5638680" cy="544176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C074-1121-464A-85D2-5E7A1D1D2B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iver  and Drain Process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688080" cy="5533920"/>
          </a:xfrm>
          <a:prstGeom prst="rect">
            <a:avLst/>
          </a:prstGeom>
          <a:ln w="0">
            <a:noFill/>
          </a:ln>
        </p:spPr>
      </p:pic>
      <p:sp>
        <p:nvSpPr>
          <p:cNvPr id="238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D3D-14DF-47BB-9CD7-6B91DCE9FFF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35053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e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X, Y loc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iame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loc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pen interva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ime-dependent paramet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umping/injection rat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 numb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5029200" y="228600"/>
            <a:ext cx="3957480" cy="411480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1E2E-87A7-4FE9-B23D-3DD2FF97252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 (PHREEQC)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queous model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eq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LN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itz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IT (Specific ion Interaction Theory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actant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18B4-268E-4E87-85CB-28F9724CD8C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ransport and Chemist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646280"/>
            <a:ext cx="89154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low and transport data file (.trans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hemistry data file (.chem.dat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neral equilibriu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on exchang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olid solu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inetic reactions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25CD-411F-49CC-97F5-D7A79B2D8E6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0" y="109440"/>
            <a:ext cx="9144000" cy="6639120"/>
          </a:xfrm>
          <a:prstGeom prst="rect">
            <a:avLst/>
          </a:prstGeom>
          <a:ln w="0">
            <a:noFill/>
          </a:ln>
        </p:spPr>
      </p:pic>
      <p:sp>
        <p:nvSpPr>
          <p:cNvPr id="13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9193-EF43-4DED-9927-A650199BC17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ineral Assemblage in .chem.d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solidFill>
            <a:srgbClr val="000000"/>
          </a:solidFill>
          <a:ln w="28440">
            <a:solidFill>
              <a:srgbClr val="eaeaea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QUILIBRIUM_PHASES 11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alcit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.3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lomite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.2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228600" y="4267080"/>
            <a:ext cx="8915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dentified by an integer (11)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to a zone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A64F-1715-478E-9FF5-A4EA8E5AEE6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hemistry-Transport Connection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D numbers for reactants in .chem.da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QUILIBRIUM_PHASES—Minerals  and gase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URFACE—Surface complexation sit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CHANGE—Ion exchang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OLID_SOLUTIONS—Solid soluti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KINETICS—Kinetic reaction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d in .trans.dat fi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MISTRY_IC (all reactants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Boundary conditions (solutions only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pecified hea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Leak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ux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Riv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Wel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C7D4-9D58-4152-927F-FE722F6DC37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processor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 and 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passed using MPI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10-30 processor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p to 500,000? no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ours of CPU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5842080" y="52959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5842080" y="44197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Line 7"/>
          <p:cNvSpPr/>
          <p:nvPr/>
        </p:nvSpPr>
        <p:spPr>
          <a:xfrm>
            <a:off x="6718320" y="4897440"/>
            <a:ext cx="0" cy="38088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5842080" y="133020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6718320" y="181944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Text Box 12"/>
          <p:cNvSpPr/>
          <p:nvPr/>
        </p:nvSpPr>
        <p:spPr>
          <a:xfrm>
            <a:off x="4519440" y="212580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66" name="Group 13"/>
          <p:cNvGrpSpPr/>
          <p:nvPr/>
        </p:nvGrpSpPr>
        <p:grpSpPr>
          <a:xfrm>
            <a:off x="4432320" y="2603520"/>
            <a:ext cx="4572000" cy="1676160"/>
            <a:chOff x="4432320" y="2603520"/>
            <a:chExt cx="4572000" cy="1676160"/>
          </a:xfrm>
        </p:grpSpPr>
        <p:grpSp>
          <p:nvGrpSpPr>
            <p:cNvPr id="267" name="Group 14"/>
            <p:cNvGrpSpPr/>
            <p:nvPr/>
          </p:nvGrpSpPr>
          <p:grpSpPr>
            <a:xfrm>
              <a:off x="4432320" y="2908080"/>
              <a:ext cx="4572000" cy="685800"/>
              <a:chOff x="4432320" y="2908080"/>
              <a:chExt cx="4572000" cy="685800"/>
            </a:xfrm>
          </p:grpSpPr>
          <p:sp>
            <p:nvSpPr>
              <p:cNvPr id="268" name="AutoShape 15"/>
              <p:cNvSpPr/>
              <p:nvPr/>
            </p:nvSpPr>
            <p:spPr>
              <a:xfrm>
                <a:off x="44323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69" name="AutoShape 16"/>
              <p:cNvSpPr/>
              <p:nvPr/>
            </p:nvSpPr>
            <p:spPr>
              <a:xfrm>
                <a:off x="540396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0" name="AutoShape 17"/>
              <p:cNvSpPr/>
              <p:nvPr/>
            </p:nvSpPr>
            <p:spPr>
              <a:xfrm>
                <a:off x="637560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1" name="AutoShape 18"/>
              <p:cNvSpPr/>
              <p:nvPr/>
            </p:nvSpPr>
            <p:spPr>
              <a:xfrm>
                <a:off x="831852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2" name="AutoShape 19"/>
              <p:cNvSpPr/>
              <p:nvPr/>
            </p:nvSpPr>
            <p:spPr>
              <a:xfrm>
                <a:off x="7346880" y="290808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73" name="Group 20"/>
            <p:cNvGrpSpPr/>
            <p:nvPr/>
          </p:nvGrpSpPr>
          <p:grpSpPr>
            <a:xfrm>
              <a:off x="4737240" y="2603520"/>
              <a:ext cx="3962160" cy="304560"/>
              <a:chOff x="4737240" y="2603520"/>
              <a:chExt cx="3962160" cy="304560"/>
            </a:xfrm>
          </p:grpSpPr>
          <p:sp>
            <p:nvSpPr>
              <p:cNvPr id="274" name="Line 21"/>
              <p:cNvSpPr/>
              <p:nvPr/>
            </p:nvSpPr>
            <p:spPr>
              <a:xfrm>
                <a:off x="47372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5" name="Line 22"/>
              <p:cNvSpPr/>
              <p:nvPr/>
            </p:nvSpPr>
            <p:spPr>
              <a:xfrm>
                <a:off x="57276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6" name="Line 23"/>
              <p:cNvSpPr/>
              <p:nvPr/>
            </p:nvSpPr>
            <p:spPr>
              <a:xfrm>
                <a:off x="671832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7" name="Line 24"/>
              <p:cNvSpPr/>
              <p:nvPr/>
            </p:nvSpPr>
            <p:spPr>
              <a:xfrm>
                <a:off x="770904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78" name="Line 25"/>
              <p:cNvSpPr/>
              <p:nvPr/>
            </p:nvSpPr>
            <p:spPr>
              <a:xfrm>
                <a:off x="8699400" y="260352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279" name="Line 26"/>
            <p:cNvSpPr/>
            <p:nvPr/>
          </p:nvSpPr>
          <p:spPr>
            <a:xfrm>
              <a:off x="4813200" y="359388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0" name="Line 27"/>
            <p:cNvSpPr/>
            <p:nvPr/>
          </p:nvSpPr>
          <p:spPr>
            <a:xfrm>
              <a:off x="576576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1" name="Line 28"/>
            <p:cNvSpPr/>
            <p:nvPr/>
          </p:nvSpPr>
          <p:spPr>
            <a:xfrm flipH="1">
              <a:off x="7023240" y="359388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 flipH="1">
              <a:off x="6870240" y="359388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6718320" y="359388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284" name="Slide Number Placeholder 29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4AC9-8390-4C3E-B525-7013DDBB20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506268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New Paralleliz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2280" y="1098360"/>
            <a:ext cx="4934160" cy="46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Sing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ranspor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-329040">
              <a:lnSpc>
                <a:spcPct val="12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Verdana"/>
              </a:rPr>
              <a:t>Multiple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cessors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29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mistry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5842080" y="598176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1330200"/>
            <a:ext cx="4343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Transport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5842080" y="533520"/>
            <a:ext cx="175248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Flow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0" name="Line 10"/>
          <p:cNvSpPr/>
          <p:nvPr/>
        </p:nvSpPr>
        <p:spPr>
          <a:xfrm>
            <a:off x="6718320" y="1014480"/>
            <a:ext cx="0" cy="311040"/>
          </a:xfrm>
          <a:prstGeom prst="line">
            <a:avLst/>
          </a:prstGeom>
          <a:ln w="284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4519440" y="3687840"/>
            <a:ext cx="4397400" cy="459720"/>
          </a:xfrm>
          <a:prstGeom prst="rect">
            <a:avLst/>
          </a:prstGeom>
          <a:noFill/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ec85e"/>
                </a:solidFill>
                <a:latin typeface="Times New Roman"/>
              </a:rPr>
              <a:t>Chemistry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32320" y="4165560"/>
            <a:ext cx="4572000" cy="1676160"/>
            <a:chOff x="4432320" y="4165560"/>
            <a:chExt cx="4572000" cy="1676160"/>
          </a:xfrm>
        </p:grpSpPr>
        <p:grpSp>
          <p:nvGrpSpPr>
            <p:cNvPr id="293" name="Group 14"/>
            <p:cNvGrpSpPr/>
            <p:nvPr/>
          </p:nvGrpSpPr>
          <p:grpSpPr>
            <a:xfrm>
              <a:off x="4432320" y="4470120"/>
              <a:ext cx="4572000" cy="685800"/>
              <a:chOff x="4432320" y="4470120"/>
              <a:chExt cx="4572000" cy="685800"/>
            </a:xfrm>
          </p:grpSpPr>
          <p:sp>
            <p:nvSpPr>
              <p:cNvPr id="294" name="AutoShape 15"/>
              <p:cNvSpPr/>
              <p:nvPr/>
            </p:nvSpPr>
            <p:spPr>
              <a:xfrm>
                <a:off x="44323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5" name="AutoShape 16"/>
              <p:cNvSpPr/>
              <p:nvPr/>
            </p:nvSpPr>
            <p:spPr>
              <a:xfrm>
                <a:off x="540396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6" name="AutoShape 17"/>
              <p:cNvSpPr/>
              <p:nvPr/>
            </p:nvSpPr>
            <p:spPr>
              <a:xfrm>
                <a:off x="637560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7" name="AutoShape 18"/>
              <p:cNvSpPr/>
              <p:nvPr/>
            </p:nvSpPr>
            <p:spPr>
              <a:xfrm>
                <a:off x="831852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298" name="AutoShape 19"/>
              <p:cNvSpPr/>
              <p:nvPr/>
            </p:nvSpPr>
            <p:spPr>
              <a:xfrm>
                <a:off x="7346880" y="447012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ells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299" name="Group 20"/>
            <p:cNvGrpSpPr/>
            <p:nvPr/>
          </p:nvGrpSpPr>
          <p:grpSpPr>
            <a:xfrm>
              <a:off x="4737240" y="4165560"/>
              <a:ext cx="3962160" cy="304560"/>
              <a:chOff x="4737240" y="4165560"/>
              <a:chExt cx="3962160" cy="304560"/>
            </a:xfrm>
          </p:grpSpPr>
          <p:sp>
            <p:nvSpPr>
              <p:cNvPr id="300" name="Line 21"/>
              <p:cNvSpPr/>
              <p:nvPr/>
            </p:nvSpPr>
            <p:spPr>
              <a:xfrm>
                <a:off x="47372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1" name="Line 22"/>
              <p:cNvSpPr/>
              <p:nvPr/>
            </p:nvSpPr>
            <p:spPr>
              <a:xfrm>
                <a:off x="57276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2" name="Line 23"/>
              <p:cNvSpPr/>
              <p:nvPr/>
            </p:nvSpPr>
            <p:spPr>
              <a:xfrm>
                <a:off x="671832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3" name="Line 24"/>
              <p:cNvSpPr/>
              <p:nvPr/>
            </p:nvSpPr>
            <p:spPr>
              <a:xfrm>
                <a:off x="770904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04" name="Line 25"/>
              <p:cNvSpPr/>
              <p:nvPr/>
            </p:nvSpPr>
            <p:spPr>
              <a:xfrm>
                <a:off x="8699400" y="416556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05" name="Line 26"/>
            <p:cNvSpPr/>
            <p:nvPr/>
          </p:nvSpPr>
          <p:spPr>
            <a:xfrm>
              <a:off x="4813200" y="51559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6" name="Line 27"/>
            <p:cNvSpPr/>
            <p:nvPr/>
          </p:nvSpPr>
          <p:spPr>
            <a:xfrm>
              <a:off x="576576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7" name="Line 28"/>
            <p:cNvSpPr/>
            <p:nvPr/>
          </p:nvSpPr>
          <p:spPr>
            <a:xfrm flipH="1">
              <a:off x="7023240" y="5155920"/>
              <a:ext cx="167616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8" name="Line 29"/>
            <p:cNvSpPr/>
            <p:nvPr/>
          </p:nvSpPr>
          <p:spPr>
            <a:xfrm flipH="1">
              <a:off x="6870240" y="5155920"/>
              <a:ext cx="80028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09" name="Line 30"/>
            <p:cNvSpPr/>
            <p:nvPr/>
          </p:nvSpPr>
          <p:spPr>
            <a:xfrm>
              <a:off x="6718320" y="5155920"/>
              <a:ext cx="0" cy="6098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310" name="Group 47"/>
          <p:cNvGrpSpPr/>
          <p:nvPr/>
        </p:nvGrpSpPr>
        <p:grpSpPr>
          <a:xfrm>
            <a:off x="4457880" y="1828800"/>
            <a:ext cx="4572000" cy="1676520"/>
            <a:chOff x="4457880" y="1828800"/>
            <a:chExt cx="4572000" cy="1676520"/>
          </a:xfrm>
        </p:grpSpPr>
        <p:grpSp>
          <p:nvGrpSpPr>
            <p:cNvPr id="311" name="Group 14"/>
            <p:cNvGrpSpPr/>
            <p:nvPr/>
          </p:nvGrpSpPr>
          <p:grpSpPr>
            <a:xfrm>
              <a:off x="4457880" y="2133360"/>
              <a:ext cx="4572000" cy="685800"/>
              <a:chOff x="4457880" y="2133360"/>
              <a:chExt cx="4572000" cy="685800"/>
            </a:xfrm>
          </p:grpSpPr>
          <p:sp>
            <p:nvSpPr>
              <p:cNvPr id="312" name="AutoShape 15"/>
              <p:cNvSpPr/>
              <p:nvPr/>
            </p:nvSpPr>
            <p:spPr>
              <a:xfrm>
                <a:off x="44578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Na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3" name="AutoShape 16"/>
              <p:cNvSpPr/>
              <p:nvPr/>
            </p:nvSpPr>
            <p:spPr>
              <a:xfrm>
                <a:off x="542952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Cl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4" name="AutoShape 17"/>
              <p:cNvSpPr/>
              <p:nvPr/>
            </p:nvSpPr>
            <p:spPr>
              <a:xfrm>
                <a:off x="640116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H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5" name="AutoShape 18"/>
              <p:cNvSpPr/>
              <p:nvPr/>
            </p:nvSpPr>
            <p:spPr>
              <a:xfrm>
                <a:off x="834408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+/-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6" name="AutoShape 19"/>
              <p:cNvSpPr/>
              <p:nvPr/>
            </p:nvSpPr>
            <p:spPr>
              <a:xfrm>
                <a:off x="7372440" y="2133360"/>
                <a:ext cx="685800" cy="685800"/>
              </a:xfrm>
              <a:prstGeom prst="flowChartMagneticDisk">
                <a:avLst/>
              </a:prstGeom>
              <a:noFill/>
              <a:ln w="381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eec85e"/>
                    </a:solidFill>
                    <a:latin typeface="Times New Roman"/>
                  </a:rPr>
                  <a:t>O</a:t>
                </a:r>
                <a:endParaRPr b="1" lang="en-US" sz="24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317" name="Group 20"/>
            <p:cNvGrpSpPr/>
            <p:nvPr/>
          </p:nvGrpSpPr>
          <p:grpSpPr>
            <a:xfrm>
              <a:off x="4762440" y="1828800"/>
              <a:ext cx="3962160" cy="304560"/>
              <a:chOff x="4762440" y="1828800"/>
              <a:chExt cx="3962160" cy="304560"/>
            </a:xfrm>
          </p:grpSpPr>
          <p:sp>
            <p:nvSpPr>
              <p:cNvPr id="318" name="Line 21"/>
              <p:cNvSpPr/>
              <p:nvPr/>
            </p:nvSpPr>
            <p:spPr>
              <a:xfrm>
                <a:off x="47624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19" name="Line 22"/>
              <p:cNvSpPr/>
              <p:nvPr/>
            </p:nvSpPr>
            <p:spPr>
              <a:xfrm>
                <a:off x="57528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0" name="Line 23"/>
              <p:cNvSpPr/>
              <p:nvPr/>
            </p:nvSpPr>
            <p:spPr>
              <a:xfrm>
                <a:off x="674352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1" name="Line 24"/>
              <p:cNvSpPr/>
              <p:nvPr/>
            </p:nvSpPr>
            <p:spPr>
              <a:xfrm>
                <a:off x="773424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322" name="Line 25"/>
              <p:cNvSpPr/>
              <p:nvPr/>
            </p:nvSpPr>
            <p:spPr>
              <a:xfrm>
                <a:off x="8724600" y="1828800"/>
                <a:ext cx="0" cy="304560"/>
              </a:xfrm>
              <a:prstGeom prst="line">
                <a:avLst/>
              </a:prstGeom>
              <a:ln w="28440">
                <a:solidFill>
                  <a:srgbClr val="ffff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323" name="Line 26"/>
            <p:cNvSpPr/>
            <p:nvPr/>
          </p:nvSpPr>
          <p:spPr>
            <a:xfrm>
              <a:off x="4838760" y="2819520"/>
              <a:ext cx="160020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4" name="Line 27"/>
            <p:cNvSpPr/>
            <p:nvPr/>
          </p:nvSpPr>
          <p:spPr>
            <a:xfrm>
              <a:off x="579132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5" name="Line 28"/>
            <p:cNvSpPr/>
            <p:nvPr/>
          </p:nvSpPr>
          <p:spPr>
            <a:xfrm flipH="1">
              <a:off x="7048440" y="2819520"/>
              <a:ext cx="1676520" cy="68580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6" name="Line 29"/>
            <p:cNvSpPr/>
            <p:nvPr/>
          </p:nvSpPr>
          <p:spPr>
            <a:xfrm flipH="1">
              <a:off x="6896160" y="2819520"/>
              <a:ext cx="79992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27" name="Line 30"/>
            <p:cNvSpPr/>
            <p:nvPr/>
          </p:nvSpPr>
          <p:spPr>
            <a:xfrm>
              <a:off x="6743880" y="2819520"/>
              <a:ext cx="0" cy="6094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328" name="Slide Number Placeholder 4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E54C-6030-41F5-9CB5-D070C7A79BD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8760" y="485280"/>
            <a:ext cx="4326120" cy="101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97000" y="2133720"/>
            <a:ext cx="4325760" cy="33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mostly in confined part of aquif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rsenic associated with high pH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low: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Confined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Unconfined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331" name="Picture 4" descr="as"/>
          <p:cNvPicPr/>
          <p:nvPr/>
        </p:nvPicPr>
        <p:blipFill>
          <a:blip r:embed="rId1"/>
          <a:stretch/>
        </p:blipFill>
        <p:spPr>
          <a:xfrm>
            <a:off x="4670280" y="136440"/>
            <a:ext cx="4370400" cy="6629400"/>
          </a:xfrm>
          <a:prstGeom prst="rect">
            <a:avLst/>
          </a:prstGeom>
          <a:ln w="0">
            <a:noFill/>
          </a:ln>
        </p:spPr>
      </p:pic>
      <p:sp>
        <p:nvSpPr>
          <p:cNvPr id="332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3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4" name="Slide Number Placeholder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84A0F-4F1C-4C01-879C-2A7A8547047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rine initially fills the aquif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lcite and dolomite equilibrium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ation exchang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C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Ca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2NaX + Mg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MgX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2N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+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urface complex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fo-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+ OH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= HfoOH + HAsO4</a:t>
            </a:r>
            <a:r>
              <a:rPr b="0" lang="en-US" sz="2800" spc="-1" strike="noStrike" baseline="30000">
                <a:solidFill>
                  <a:srgbClr val="eaeaea"/>
                </a:solidFill>
                <a:latin typeface="Verdana"/>
              </a:rPr>
              <a:t>-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sorption at pH &gt; 8.5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2CFBF-3673-4250-9B60-AB06AB2D45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736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rsenic Concentrations over Geologic Tim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9" name="ok.as.avi" descr=""/>
          <p:cNvPicPr/>
          <p:nvPr/>
        </p:nvPicPr>
        <p:blipFill>
          <a:blip r:embed="rId1"/>
          <a:stretch/>
        </p:blipFill>
        <p:spPr>
          <a:xfrm>
            <a:off x="457200" y="1233360"/>
            <a:ext cx="8039160" cy="5453280"/>
          </a:xfrm>
          <a:prstGeom prst="rect">
            <a:avLst/>
          </a:prstGeom>
          <a:ln w="0">
            <a:noFill/>
          </a:ln>
        </p:spPr>
      </p:pic>
      <p:sp>
        <p:nvSpPr>
          <p:cNvPr id="340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242E-0CC6-440A-BEAE-F5EBA823D483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100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3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12760"/>
            <a:ext cx="8226360" cy="668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52280" y="942480"/>
            <a:ext cx="9010800" cy="59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HAST is a 3D reactive-transport mod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Field-scale problems with limita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ata requiremen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ield—Aquifer tests, tracer tests, logging, chemical samp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aboratory—column experiments, extractions, mineralog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deling results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nderstanding natural system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igning engineered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dicting long-term effec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02F7-7B2D-4617-87D5-43F1419B6AC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3D Reactive-Transport Modeling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29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Three simultaneous processes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Flow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Transport</a:t>
            </a: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hemical reac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7BC4-C77D-43CA-A678-9938D8CCD89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19120" y="633240"/>
            <a:ext cx="395280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HA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6400800" cy="38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ST3D—Flow and transpo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REEQC—Chemistr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perator splitting—Sequential Non-Iterative Approac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HT3D is a 3D reactive transport model built on MODFLOW, MT3DMS, and PHREEQC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6915240" y="457200"/>
            <a:ext cx="1752480" cy="2577960"/>
            <a:chOff x="6915240" y="457200"/>
            <a:chExt cx="1752480" cy="2577960"/>
          </a:xfrm>
        </p:grpSpPr>
        <p:sp>
          <p:nvSpPr>
            <p:cNvPr id="139" name="Text Box 5"/>
            <p:cNvSpPr/>
            <p:nvPr/>
          </p:nvSpPr>
          <p:spPr>
            <a:xfrm>
              <a:off x="6915240" y="2514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0" name="Text Box 6"/>
            <p:cNvSpPr/>
            <p:nvPr/>
          </p:nvSpPr>
          <p:spPr>
            <a:xfrm>
              <a:off x="6915240" y="148608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1" name="Text Box 7"/>
            <p:cNvSpPr/>
            <p:nvPr/>
          </p:nvSpPr>
          <p:spPr>
            <a:xfrm>
              <a:off x="6915240" y="4572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7791480" y="1058760"/>
              <a:ext cx="0" cy="38124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3" name="Line 9"/>
            <p:cNvSpPr/>
            <p:nvPr/>
          </p:nvSpPr>
          <p:spPr>
            <a:xfrm>
              <a:off x="7791480" y="2087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44" name="Group 10"/>
          <p:cNvGrpSpPr/>
          <p:nvPr/>
        </p:nvGrpSpPr>
        <p:grpSpPr>
          <a:xfrm>
            <a:off x="6915240" y="3733920"/>
            <a:ext cx="1752480" cy="2730240"/>
            <a:chOff x="6915240" y="3733920"/>
            <a:chExt cx="1752480" cy="2730240"/>
          </a:xfrm>
        </p:grpSpPr>
        <p:sp>
          <p:nvSpPr>
            <p:cNvPr id="145" name="Text Box 11"/>
            <p:cNvSpPr/>
            <p:nvPr/>
          </p:nvSpPr>
          <p:spPr>
            <a:xfrm>
              <a:off x="6915240" y="594360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Chemistry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6" name="Text Box 12"/>
            <p:cNvSpPr/>
            <p:nvPr/>
          </p:nvSpPr>
          <p:spPr>
            <a:xfrm>
              <a:off x="6915240" y="483876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Transport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7" name="Text Box 13"/>
            <p:cNvSpPr/>
            <p:nvPr/>
          </p:nvSpPr>
          <p:spPr>
            <a:xfrm>
              <a:off x="6915240" y="3733920"/>
              <a:ext cx="1752480" cy="520560"/>
            </a:xfrm>
            <a:prstGeom prst="rect">
              <a:avLst/>
            </a:prstGeom>
            <a:noFill/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eec85e"/>
                  </a:solidFill>
                  <a:latin typeface="Times New Roman"/>
                </a:rPr>
                <a:t>Flow</a:t>
              </a:r>
              <a:endParaRPr b="1" lang="en-US" sz="2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8" name="Line 14"/>
            <p:cNvSpPr/>
            <p:nvPr/>
          </p:nvSpPr>
          <p:spPr>
            <a:xfrm>
              <a:off x="7791480" y="437364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9" name="Line 15"/>
            <p:cNvSpPr/>
            <p:nvPr/>
          </p:nvSpPr>
          <p:spPr>
            <a:xfrm>
              <a:off x="7791480" y="5478480"/>
              <a:ext cx="0" cy="380880"/>
            </a:xfrm>
            <a:prstGeom prst="line">
              <a:avLst/>
            </a:prstGeom>
            <a:ln w="2844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50" name="AutoShape 16"/>
          <p:cNvSpPr/>
          <p:nvPr/>
        </p:nvSpPr>
        <p:spPr>
          <a:xfrm>
            <a:off x="7448400" y="317340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Slide Number Placeholder 1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E3B1-C7CC-4993-8D06-1FF5CC4BE6C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503280"/>
            <a:ext cx="8226360" cy="6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low and Transpor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609560"/>
            <a:ext cx="8458200" cy="44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temperatu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onstant density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ngle phase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aturated confined or unconfined flow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oint-distributed finite-difference gri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oundary condition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pecified, leaky, flux, rivers, drains, well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B653-FF2A-4344-978D-E11D62D942B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Elemen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710424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4ABFF-0C88-4350-B782-5A801A9D9CFE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Grid Cell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2268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B691A-01E6-4886-8262-FD122DAE074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Full Cell Has Parts of 8 Element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ell Properties do not change abruptly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dia properties weighted by volum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ductances weighted by facial area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228600" y="3429000"/>
            <a:ext cx="8763120" cy="2841480"/>
          </a:xfrm>
          <a:prstGeom prst="rect">
            <a:avLst/>
          </a:prstGeom>
          <a:ln w="0">
            <a:noFill/>
          </a:ln>
        </p:spPr>
      </p:pic>
      <p:sp>
        <p:nvSpPr>
          <p:cNvPr id="165" name="Slide Number Placeholder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C3EA-2721-4E16-B332-698CB2E609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4:35:18Z</dcterms:created>
  <dc:creator>Dave Parkhurst</dc:creator>
  <dc:description/>
  <dc:language>en-US</dc:language>
  <cp:lastModifiedBy>dlpark</cp:lastModifiedBy>
  <dcterms:modified xsi:type="dcterms:W3CDTF">2011-03-04T19:55:14Z</dcterms:modified>
  <cp:revision>117</cp:revision>
  <dc:subject/>
  <dc:title>Using WPHAST to Model the Central Oklahoma Aquifer</dc:title>
</cp:coreProperties>
</file>