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8080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9039E7-3AE5-488B-98A7-0A3854A8C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FDE4D3-AA89-4767-89C0-C4B645FD4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BE64606-D1C9-4309-B54C-AAD2E7C2B7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FC20C9-49C0-4D43-8DE7-B5853E321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90F911D-A2C1-4771-AB16-D5AA65F77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E3353EC-253E-45B1-AC69-411819AD8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837-4738-4AC6-80A4-3595152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8BE-D900-4799-BEA2-5F95F995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83A0-7DE7-4211-B3EC-1B86AB71D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5AC5-0C3D-42F4-B858-27C818EB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97C0-5DE8-4E8D-96DB-9081993D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E5FAA-79AB-47EE-8A95-E7FC125B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4DF2-1738-4EE8-81D5-577BDCF0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5879-52F6-49DA-AAF1-239E7426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A6E2-388A-425E-AC02-63CE74628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93185-FDD3-40CF-A661-49BB664B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4FE4-2F17-453C-A093-8C880970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647C-6D0E-435B-8974-52BCAC40E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E842-9FE6-4BDA-BF00-AC837070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D7D6-6A45-4907-8932-794B1EB2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EBC9-EE71-4F7E-BB49-B26227DB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CBF9-0734-4402-B3D1-F924CA759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D927-6F1E-42DD-9E18-B88525D7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D539-F76A-4B0F-BD79-6A544A65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628-D408-43B1-9FDB-79AFA2FE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2EFC-C447-49A1-8633-4066892A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3644-874A-4299-B216-6DF731F9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6F0E-CDF8-4FEC-BD1E-8E1391E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6CE4-8037-4359-9E25-E0C14D1A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0DE-5C00-4F7D-B9B3-75FBCEDF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282C-0637-4431-9DC3-CF5A3A188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3" descr="Image of small USGS Identifier"/>
          <p:cNvPicPr/>
          <p:nvPr/>
        </p:nvPicPr>
        <p:blipFill>
          <a:blip r:embed="rId2"/>
          <a:stretch/>
        </p:blipFill>
        <p:spPr>
          <a:xfrm>
            <a:off x="152280" y="6284880"/>
            <a:ext cx="1143000" cy="420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B557-5BB0-4399-89EE-40AB75FEE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120" y="1066320"/>
            <a:ext cx="57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4-18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Parkhu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Gly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y John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A032-94CD-4D76-B632-B093C0638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aj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371600" y="2019240"/>
            <a:ext cx="611172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Carbonate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Organic carbon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itr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on oxyhydroxid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ate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anogen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Gypsum dis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yrite o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eawater eva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ilicate weath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5650-6467-4710-B4C5-5DEA97783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Processes that Control Minor Element Chemistry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371600" y="2019240"/>
            <a:ext cx="6111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Redo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Surface complex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sph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a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 me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olid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4F35-17C6-485A-9F9E-A03B3947A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0" name="Text Box 23"/>
          <p:cNvSpPr/>
          <p:nvPr/>
        </p:nvSpPr>
        <p:spPr>
          <a:xfrm>
            <a:off x="1371600" y="2133720"/>
            <a:ext cx="611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stry of w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 solu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face complex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ox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etic re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D867-2524-4B18-86C6-201F40AF2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371600" y="2228760"/>
            <a:ext cx="611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ing water-rock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v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AF39-2C7B-453E-A2DC-4D5CA9510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Geochemistry and PHREEQC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77960"/>
            <a:ext cx="8229600" cy="24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days to learn PHREEQ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takes a few years to learn geochemi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substitute for study and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1B5D-C0BC-4DE6-96FD-81F01CFF5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Geochemistry for Ground-Water System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533520" y="1066680"/>
            <a:ext cx="83818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day: The chemistry of solutions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: Forward modeling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er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dnesda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exchange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rface complexation—Pier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inetics—R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rsda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e modeling—Pierre, Montezuma wells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D Reactive transport—David p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shed modeling—Ri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D reactive transport—Dav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1131-B01B-41A9-8DBD-B6BA77DED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17:52:05Z</dcterms:created>
  <dc:creator>dlpark</dc:creator>
  <dc:description/>
  <dc:language>en-US</dc:language>
  <cp:lastModifiedBy>dlpark</cp:lastModifiedBy>
  <dcterms:modified xsi:type="dcterms:W3CDTF">2011-03-04T21:49:06Z</dcterms:modified>
  <cp:revision>43</cp:revision>
  <dc:subject/>
  <dc:title>Defining Solutions</dc:title>
</cp:coreProperties>
</file>