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E73EEE3-CAF3-463A-BFC2-5436BBA8F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3AD5A5-78AE-4237-8079-DE2C1FD5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IS.2 Seawater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  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  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  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dox     p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  ppm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nsity  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412.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1291.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107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         399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0.0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141.682 as HCO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1935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(6)      271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water    1 # kg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H2O = 0.5 CO2 + 0.5CH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   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_SPREA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its    mmol/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umber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Temp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pH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O(0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Mg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Na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K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Alkalinity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C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6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Fe(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S(-2)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N(-3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eq/l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1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16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6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57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1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9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1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3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V6, 5 cm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2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7.4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4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.2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190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5.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2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223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0.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0.005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3.4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2.2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VERSE_MODELING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olutions      10        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uncertainty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has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yr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(OH)3(a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2O(g)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OC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X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X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balanc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lkalinity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Fe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    0.05     0.0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tolerance         1e-01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mineral_water    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051ED4-884A-4AC8-9B8D-0ECB0DFD38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olu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actio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2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mmol in 100 step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quilibrium_phases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lc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olomit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file pco2-gw.sel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rxn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-heading pCO2 Ca Mg C pH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10 punch si("CO2(g)")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20 punch tot("Ca")*1000, tot("Mg")*1000, tot("C")*1000, -la("H+")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2F9D205-244E-4382-9677-228D27739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ITLE Example 14.--Transport with equilibrium_phases, exchange, and surface reaction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LEASE NOTE: This problem requires database file wateq4f.dat!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rsenic data of Archer and Nordstrom (2002) included in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wateq4f.dat (PHREEQC Version 2.8)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Results differ from WRIR 99-4259 because of revised data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***********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_SPECIES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Mg+2 = Hfo_wOMg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OH + Ca+2 = Hfo_wOCa+ + H+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log_k -1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1 Brin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5.713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465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1609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5.402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6.642  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03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0047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s      .05 u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prints initial condition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ELECTED_OUTPU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file ex14.sel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rese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SER_PUNC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head  m_Ca m_Mg m_Na umol_As pH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10 PUNCH TOT("Ca"), TOT("Mg"), TOT("Na"), TOT("As")*1e6, -LA("H+") 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skips print of initial exchange and initial surface to the selected-output fil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fals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XCHANG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with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X       1.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URFACE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equil solution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# assumes 1/10 of iron is HFO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Hfo_w           0.07    600.    3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OLUTION 0 20 x precipita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H      4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e      4.0     O2(g)   -0.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emp    25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units   mmol/kgw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      .191625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Mg      .035797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Na      .122668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l      .133704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       .0109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       .235153         charg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QUILIBRIUM_PHASES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Dolomite        0.0     1.6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alcite         0.0     0.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CO2(g)          -1.5    10.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SAVE solution 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PRINT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elected_out true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ADVECTION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cells 1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shifts 20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-print_frequency 20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B03-0AF1-46ED-9714-F82BC447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377A-9A00-4CE3-9B91-DD5C81E6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F7B8-9172-4188-8FFF-AF9D87A1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5625-DD10-4DB9-9AD6-DCDD92FBB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F8F5-BF75-4CC6-85EE-AFE5F9CC9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4279-DC91-4F12-AE30-493EA9C6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F79B-2407-413D-8FFD-4853AB47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58F8-D5E5-48B3-BC7E-CA056F7E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137-B5AC-4843-8E67-CB3CA71D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EBB-565E-4A28-8BBF-DE9DFEC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E706-CE69-4683-A0FE-3AC1259B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DFFE-6424-4424-9993-D2DC7312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CED0-FCF9-4D7B-AFDE-F7B873684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Modeling Workshop, March 2011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3D REACTIVE-TRANSPORT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nd-water flow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ndary condition water com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chemical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3733920" cy="571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3D REACTIVE-TRANSPORT--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PO</a:t>
            </a:r>
            <a:r>
              <a:rPr b="0" lang="en-US" sz="4400" spc="-1" strike="noStrike" baseline="-25000">
                <a:solidFill>
                  <a:srgbClr val="3333cc"/>
                </a:solidFill>
                <a:latin typeface="Arial"/>
              </a:rPr>
              <a:t>4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at Cape Cod Sewage Plum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4160880" y="380880"/>
            <a:ext cx="470700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cal Tool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ation Indices—PhreeqcI, NET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e modeling—PhreeqcI, NETPATH (isotope fraction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modeling—Phreeq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D Reactive-transport modeling—PhreeqcI, 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D Reacive-transport modeling--PH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esentation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question are you trying to answ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need geochemical model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types of modeling are appropria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the necessary dat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FIELD WORK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41907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tr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c constitu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: CFC, No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isotopes:           D, 18O, 13C, 34S, 87S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table isotopes : N, Ca, B, Pb, 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oisotopes:        T/He, 14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495680" y="1828800"/>
            <a:ext cx="4267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, optical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topi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le r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ext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HASES OF GEOCHEMICAL MODELING—TREND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ff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ots of concentration against Cl,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uration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s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INVERSE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know sequence of water 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duce chemical reactions affecting major elements in water and r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effective for trace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INVERSE MODELING—Estuarine Pore Water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5960" y="2362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olution fractions:  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a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4.160e-001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re wat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1.000e+000     0.000e+000     0.000e+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hase mole transfers:                 Minimum        Maxim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yrite    -3.803e-003     0.000e+000     0.000e+000   Fe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e(OH)3(a)     3.808e-003     0.000e+000     0.000e+000   Fe(OH)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2O(g)     3.240e+001     0.000e+000     0.000e+000   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lcite     1.049e-003     0.000e+000     0.000e+000   CaCO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rganic carbon     2.116e-002     0.000e+000     0.000e+000   CH2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aX2    -1.019e-003     0.000e+000     0.000e+000   CaX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NaX     2.039e-003     0.000e+000     0.000e+000   Na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PHASES OF GEOCHEMICAL MODELING—FORWARD MODELING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458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ch reaction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 and 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equilibr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versible reac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FORWARD MODELING—TRENDS IN CARBONATE GW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graphicFrame>
        <p:nvGraphicFramePr>
          <p:cNvPr id="63" name="Object 7"/>
          <p:cNvGraphicFramePr/>
          <p:nvPr/>
        </p:nvGraphicFramePr>
        <p:xfrm>
          <a:off x="1371600" y="1900080"/>
          <a:ext cx="67057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0080"/>
                    <a:ext cx="67057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-Transport Modeling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know re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1D REACTIVE TRANSPORT—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arbonates, ion exchange, surface complatio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76520" y="1600200"/>
            <a:ext cx="5943600" cy="49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8T17:30:26Z</dcterms:modified>
  <cp:revision>35</cp:revision>
  <dc:subject/>
  <dc:title>Defining Solutions</dc:title>
</cp:coreProperties>
</file>