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7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0.png" ContentType="image/png"/>
  <Override PartName="/ppt/media/image28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30.jpeg" ContentType="image/jpeg"/>
  <Override PartName="/ppt/media/image35.wmf" ContentType="image/x-wmf"/>
  <Override PartName="/ppt/media/image15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C1657F-19DE-49A2-A407-FB3FE116B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107.xml"/><Relationship Id="rId4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71.xml"/><Relationship Id="rId4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9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287CD8-72BA-4A76-B5F0-5F09AC01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2764B6-CA08-4C08-86E9-587C2311E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69AEB3-F15B-44B1-AA93-E205C24D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5F10F5-E72D-468F-B6AC-CB80E1DE2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5E11AA-0C3B-4E08-B430-551075EC4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2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 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orth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27AD81-9D17-415C-A130-1B432734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2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ibbsite requires the least amount of Anorthite to dissolve to become satu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, anorthite, gibbsite, kaolinit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artz is undersaturated in all calcula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76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FEC36A-AE4B-4924-B74F-86DE00149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9890E5-4786-42FE-B7EA-DDBD5EFA7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5. TES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 mmol C(-4) (methane); 25 mmol C(4) (20 mmol CO2, 5 mmol HCO3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monium bicarbonate wa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 bubb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09C89B-D165-4FD8-89D1-067484EBC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6 Gas 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_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4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0% CH4, 30%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8 liter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D22C24-6D62-4DF5-8A17-E8B5626F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0A35AE-66E4-4A7F-9D42-0AAA974E8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49AA73-B479-413C-BC3B-10516544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67DAAD-2364-4BEC-A74F-C1262239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D0D4C1-CCC1-48A4-90A0-544CEEC1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7228EA-C065-4C8B-A5C1-B27AAC445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6D368A-961D-4316-B425-148D0BEC8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DDA4BA-490D-4C63-B36F-AAB3ABC3A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solu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5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216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0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6.373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375e-00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781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692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177e-0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126e-0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485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ifferences are caused entirely by redox equilibration. Initial solution is in redox disequilibrium, the reaction solution is in redox equilibrium. In the reaction solution, N(-3) has been oxidized to N(5) and N(0). O(0) has been reduced in the process of oxidizing N(-3). Oxidation tends to decrease pH. Redox is defined by O(0)/O(-2) and N(5)/N(0) redox couples, both will give the same p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9B2CC1-360E-421F-B240-7CF0B043A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614F15-B89D-4B9D-B0D3-AB9094339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82FE46-5AB9-44FA-A520-A15F7603F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4B80AC-8E85-4302-B38A-167898B0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68DBCB-47C2-4D9D-B2D3-78F66836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495737-44EB-4BF0-8274-CEDE0BE3C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F1C5E6-4B6E-47BF-A1F7-DD7B97BF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070377-7D77-4883-BE81-7D3F1199B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205654-B34E-4905-90ED-FAC9547EE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09E7F9-63B4-47D9-BE1D-B0939B52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8C7977-A140-457F-878E-E392E23DB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3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1AACAB-9A65-43C8-A4B4-04C9D056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Rain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 Rainwater, redox equilibriu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 Solution 2 + equilibrium with CO2 and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 Solution 3 + Reaction + equilibrium with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49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.65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8e+000 -1.749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2(g)           -2.00  -20.15  -18.15 1.000e+001 9.998e+000 -1.774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4 mmol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7 mmol CO2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9e+000 -5.7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58 millimoles of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5EBB68-52C8-4B2B-9E21-ED5A561D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place the MIX step with the following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plete file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5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D192CA-D96D-4C86-AFC0-B77672191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Tuesday.working\r5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Tuesday.working\r5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 1.092e-005  1.092e-005  Equilibrium with C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3.840e-004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2.360e-004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3.600e-005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4.300e-005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 2.080e-004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 2.370e-004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1.410e-004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 5.109e-004  5.109e-004  Equilibrium with 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1.300e-003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4.5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4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3.66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3.657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1.7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3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33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1266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9.2674      0.548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6.1219      0.9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359e-005  3.162e-005    -4.474    -4.500    -0.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3.383e-010  3.166e-010    -9.471    -9.50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76e-005  1.077e-005    -4.968    -4.968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614e-007  1.514e-007    -6.792    -6.820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902e-013  2.246e-013   -12.537   -12.649    -0.1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3.347e-004  2.588e-004    -3.475    -3.587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451e-012  1.358e-012   -11.838   -11.86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2.360e-004  2.209e-004    -3.627    -3.65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3e-021  7.079e-021   -20.150   -20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3.576e-005  3.347e-005    -4.447    -4.475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666e-015  3.669e-015   -14.436   -14.43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3.664e-005  2.841e-005    -4.436    -4.546    -0.1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483e-012  3.262e-012   -11.458   -11.48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2.055e-004  1.920e-004    -3.687    -3.71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3.458e-009  3.461e-009    -8.461    -8.4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2.370e-004  2.216e-004    -3.625    -3.654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1.403e-004  1.315e-004    -3.853    -3.88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2.745e-014  2.747e-014   -13.562   -13.5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5.109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554e-004  2.556e-004    -3.593    -3.59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238e-003  9.556e-004    -2.907    -3.020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3.137e-006  2.938e-006    -5.503    -5.532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2.25   -6.61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7.90  -16.24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-7.76  -16.24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16.34  -33.4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2.03   -6.6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7.00  -20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9.12   -7.54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10.23   -8.46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0.70   -3.59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mix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tur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.000e+001 Solution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900e+001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                  11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3.50   -4.97   -1.47   1.000e+001  1.000e+001  2.07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1.062e-005  1.065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7.663e-003  7.68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10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2.53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7.496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5.82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6.46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52.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3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52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447e-003  2.922e-003    -2.463    -2.534    -0.07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4.272e-012  3.423e-012   -11.369   -11.466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2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40.824  -140.81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62e-005  1.077e-005    -4.974    -4.9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996e-009  1.637e-009    -8.700    -8.7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5.808e-017  2.628e-017   -16.236   -16.58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7.6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4.326e-003  1.966e-003    -2.364    -2.706    -0.34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373e-013  1.116e-013   -12.862   -12.95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1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10e-003  3.781e-003    -2.327    -2.422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3.216   -43.2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6e-004  5.449e-004    -3.168    -3.264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6.374e-016  6.460e-016   -15.196   -15.19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89e-004  2.096e-004    -3.348    -3.679    -0.33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202e-013  2.602e-013   -12.495   -12.58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48.428   -48.531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5.247   -55.24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299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2.044e-01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2.044e-014  1.626e-014   -13.690   -13.78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6e-003  5.025e-003    -2.200    -2.29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9e-003  2.199e-003    -2.569    -2.6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4.903e-015  4.969e-015   -14.310   -14.30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2.164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1.082e-006  1.097e-006    -5.966    -5.9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6.797  -126.79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31.102  -131.198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41.230  -141.582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909e-002  8.440e-003    -1.719    -2.074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951e-003  2.398e-003    -2.530    -2.620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42   -4.7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-10.95  -19.29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-10.81  -19.29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37.96 -140.8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22.46  -39.5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20   -4.7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40.06  -43.21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5.79 -126.79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6   -5.08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7.01  -55.24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3.07   -5.9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1.61  -86.73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6e+000 -4.45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2.00   -3.47   -1.47   1.000e+001  1.000e+001  1.7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2.744e-003  2.75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10e-002  1.21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9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024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339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4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9.9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273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561e-007  1.241e-007    -6.807    -6.90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9.543e-008  8.057e-008    -7.020    -7.094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2.024  -132.01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2.303e-003  1.878e-003    -2.638    -2.726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3.355e-004  3.405e-004    -3.474    -3.4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473e-006  1.093e-006    -5.607    -5.961    -0.3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1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6.824e-003  3.031e-003    -2.166    -2.518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7.722e-009  6.237e-009    -8.112    -8.2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54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392   -41.38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75e-004  5.400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2.288e-011  2.322e-011   -10.640   -10.63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41e-004  2.030e-004    -3.352    -3.692    -0.3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132e-008  9.141e-009    -7.946    -8.039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246   -50.353    -0.1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509   -52.50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0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367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367e-012  1.079e-012   -11.864   -11.967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86e-003    -2.200    -2.302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81e-003    -2.570    -2.661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761e-010  1.787e-010    -9.754    -9.74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4.834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417e-010  2.453e-010    -9.617    -9.6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344  -128.443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602  -128.59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3.905  -134.268    -0.3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19e-002  8.702e-003    -1.695    -2.060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8.440e-008  6.817e-008    -7.074    -7.16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2   -4.5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6 -132.0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2.00   -3.4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4  -18.1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0   -4.5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24  -41.3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60 -128.60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27  -52.50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72   -9.61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24  -90.36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.000e-003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 2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9e+000 -5.728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4.313e-003  4.3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68e-002  1.27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6.906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249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43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3.55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8.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644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472e-007  1.242e-007    -6.832    -6.906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4e-007  8.052e-008    -6.994    -7.094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1.968  -131.9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3.394e-003  2.765e-003    -2.469    -2.5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7.614e-004  7.728e-004    -3.118    -3.11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372e-006  1.044e-006    -5.625    -5.981    -0.3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6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7.173e-003  3.173e-003    -2.144    -2.498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5.250e-009  4.236e-009    -8.280    -8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49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467   -41.4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0e-004  5.397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1.483e-011  1.505e-011   -10.829   -10.82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63e-004  2.033e-004    -3.350    -3.692    -0.34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7.358e-009  5.937e-009    -8.133    -8.22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170   -50.277    -0.1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622   -52.61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1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150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150e-012  9.065e-013   -11.939   -12.04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79e-003    -2.200    -2.30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79e-003    -2.570    -2.662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141e-010  1.158e-010    -9.943    -9.93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825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412e-010  3.463e-010    -9.467    -9.4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461  -128.561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531  -128.52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4.208  -134.573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02e-002  8.592e-003    -1.699    -2.066    -0.3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1.286e-007  1.038e-007    -6.891    -6.984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0   -4.56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0 -131.96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1.64   -3.11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6  -18.1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2   -4.57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31  -41.4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53 -128.52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39  -52.62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57   -9.4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10  -90.21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FFBCF4-9C12-48A9-8BF8-F81E5326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30EC66-28B9-4EB1-A459-31A16DCBF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F6CD4E-4CBE-4B5F-9F01-05307B27D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6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050 in 5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 0 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VERSE_MODELING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solutions 2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phase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A7F649-1C0D-4464-82CD-9048AF9A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7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crease in SO4, increase in Ca and Mg, constant or decrease in HCO3, decrease in pH, SI’s near zero for calcite and dolom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do not get a Mg+2 SO4-2 water composition. Ratio of Ca/Mg is approximately constant and near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 get to the final water composition, the net reaction is approximately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CaSO4 + 16CaMg(CO3)2 = 32CaCO3 + 21Ca+2 + 16Mg+2 + 37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has reached equilibrium and does not change. However, it is not quite an invariant poin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9A5C1A-FA03-484D-B16A-EA4C7AD4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9BD408-03C9-4CB7-B736-BE3998173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8. 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es, Increase in Ca, Mg, SO4; decrease in pH; not much change in alkalinity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crease in sulfate (number 4 to number 6) and H2S indicate sulfate reduc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and Cl indicate mixing with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D84A67-261E-4DF9-9C6D-7639C554A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EA6562-DC9F-43A7-B326-4962AC33D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9. Extra credit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0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D29D40-5AF4-47E2-BD8C-F1289DA3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9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B57F50-A2A0-4D31-A73B-AC35F4C7E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1EF137-1296-4C33-9AEF-E1B4905C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BCC5D1-2C3E-46F4-AD16-C95EE3D0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2362D6-3484-43B7-8C47-E1BFF3E1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B144BA-8404-44D2-9AAE-82B37D18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7CE783-AF51-4D81-800A-26C456E34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lysulfides in llnl.dat make S(-2)/S(6) look wron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FACC0A-49BE-4D1F-9066-41E33CC3E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1a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r1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O(0) C(4) C(-4) Fe(3) Fe(2) S(6) S(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ium_phas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illimoles in 50 step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7DE0EA-27F9-4167-B6E4-FD0357A4F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1a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, Fe(OH)3(a), SO4, CH2O (-&gt; CH4 + CO2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 is not important anywher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See plo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4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entually, the reacted carbon is split between CO2 and CH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5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OH)3 dissolves as pe decreases. Fe is no longer being sequestered in mackinawite (FeS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6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7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18" name="Object 4"/>
          <p:cNvGraphicFramePr/>
          <p:nvPr/>
        </p:nvGraphicFramePr>
        <p:xfrm>
          <a:off x="1608120" y="984564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84564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CECC93-C722-4948-98F4-A0B45CB11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11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lfate decreases, alkalinity increases, pH increases, ammonium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-2) is significant, Fe is negligible. pH 7.5 not 9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488347-02AA-44EF-8290-CA16A23CC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4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a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8F38AD-60FE-4A4A-BF1A-437446B8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5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32*137 = 43 mg/L Ba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2 mmol/kgw methane was gene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tion exchange is a possibility. With much larger TDIC, witherite (BaCO3) is a possibility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AB2F9C-D49A-4F6D-A785-ECB76F37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A4FBFD-94AD-4AB6-99B6-975F6FD98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1C6CE1-BA51-4146-9E3D-DDC48DCB3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46BC82-5A89-4BE5-AE52-D098574DC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6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2.9447      0.765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/N(5)           11.7378      0.69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(3)/Cr(6)          7.0462      0.41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6.1349      0.36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3348      0.256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(3)/As(5)         -0.1501     -0.0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(4)/U(6)           -1.0821     -0.06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(3)/V(5)           -2.2557     -0.133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0)          -3.2032     -0.18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/S(6)          -3.6279     -0.214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/C(4)          -4.0436     -0.23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) increase in iron concentration should occur first if ferric oxyhydroxides are in the system. Equal Fe(2)/Fe(3) at pe ~ 4, Equal U(4)/U(6) at pe ~ -1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3- in oxic water, NH4+ in methanic water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4AC43A-E9C2-450B-839C-DAA410A6C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1089ED-90AB-473C-B6D0-0AABE3428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432A6E-85AF-41A3-BBF8-DFDC2727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8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A259F7-D611-445C-A447-29D8B97AD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8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2 + xO2 + yH2O -&gt; Fe+3 + 2SO4-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addition, ferric iron hydrolizes to make additional H+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net acid production to give pH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 + 2.25O2 + H+ -&gt; Fe+3 + SO4-2 + .5H2O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t ferric iron hydroliz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a net acid production that give pH 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S + 2O2 -&gt; Zn+2 + SO4-2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inc hydrolosis is minima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+2 + H2O = FeOH+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t result is pH 7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 HSO4-/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648B93-BC4C-4F85-BBF2-9AA35DA2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6BF32C-46AB-4C87-9826-886810F7E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FeS2 + 75O2 = 19FeOOH + .8Fe(+3) + 27HSO4- + 12SO4-2 + 50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4 and 5.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ypsum is supersaturated, and probably would precipita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CO2 is 1 atmosphere. If O2 reacts to equilibrium with the atmosphere, logically, CO2 would also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59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7E0-C187-4527-9CD4-477CCF42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084-17B2-4B93-B6B5-EBCB6980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F19-3F51-499A-9916-3F02F19F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C88-0EE9-496B-AE01-D60A3B3A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5A16-33C4-4270-9DE7-A68D34FB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C283-26E8-48E4-A42A-4F1F9DDF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8DF7-CD7E-4087-A260-DC05B192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EA04-FCDA-4B40-9D67-B6C4E046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B124-5045-4A33-BB42-A98766A4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F2B1-35A1-476C-A190-8F375E2F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B746-FB28-471D-9916-8A7CE04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A55-2019-4D39-A042-B2FBD8CF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EBE-53CA-4840-AD5E-DE9C7E42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B2EC-BBE6-4F8D-8A54-154DFDD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3BF1-948B-413E-B0CC-89DED94A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633E-16B6-4B67-8322-EBFC5A3C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89D4-5034-414C-A9A9-2C62F8CB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B8C-44B8-4EE0-B101-DF9BD71E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5DF-AA1F-450D-AC69-A3472F8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E6D-6A12-49D8-A640-69F60D6D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342-CCE1-4834-84F1-9ACE8019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FA1-276E-4DB4-8F13-3E796732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306-257A-439B-A695-DF14FD3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4D7-7425-48FF-9C57-083B020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8AA0-EAB2-47DA-BF30-238978CB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8544-E1F2-48AD-A02C-907F57980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in PHR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EEQC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geochemical reactions discussion and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9D14-9717-4FEA-96E7-4DFCFA639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SURFACE Data Block Definition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name—Hfo is Hydrous Ferric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urfac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URFACE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s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000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1B44-F9AB-4215-BC18-E7255DE0D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 Oklahom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bandoned Pb/Zn Mine</a:t>
            </a:r>
            <a:br>
              <a:rPr sz="4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4267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are 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xidizes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028"/>
          <p:cNvGraphicFramePr/>
          <p:nvPr/>
        </p:nvGraphicFramePr>
        <p:xfrm>
          <a:off x="304920" y="2533680"/>
          <a:ext cx="8610480" cy="12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33680"/>
                    <a:ext cx="86104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C3E-C795-4778-BB0E-F7709BA1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yrite Oxida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/Marca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rihydrite/Goethite, jarosite, al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psum if calcite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sid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 &gt; FeS &gt; 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CF58-1130-4A59-8D0D-507C44E9D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7884-6613-44BF-92B0-1E3A521D5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(aug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ibole (hornblen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d calcite important in silicate ter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68580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en/Goldich reaction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1"/>
          <p:cNvGrpSpPr/>
          <p:nvPr/>
        </p:nvGrpSpPr>
        <p:grpSpPr>
          <a:xfrm>
            <a:off x="4035960" y="3276720"/>
            <a:ext cx="459720" cy="2514600"/>
            <a:chOff x="4035960" y="3276720"/>
            <a:chExt cx="459720" cy="2514600"/>
          </a:xfrm>
        </p:grpSpPr>
        <p:sp>
          <p:nvSpPr>
            <p:cNvPr id="532" name="Text Box 7"/>
            <p:cNvSpPr/>
            <p:nvPr/>
          </p:nvSpPr>
          <p:spPr>
            <a:xfrm rot="5400000">
              <a:off x="3160800" y="41515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re s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>
              <a:off x="4267080" y="5181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Rectangle 10"/>
          <p:cNvSpPr/>
          <p:nvPr/>
        </p:nvSpPr>
        <p:spPr>
          <a:xfrm>
            <a:off x="5334120" y="327672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3FFB-B14B-4462-9E22-318AF6193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minerals react to form gibbsite, kaolinite, smectite, zeolites,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dynamic data is not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al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st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easure alum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 are s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EBB3-6376-4300-9FD5-16F9A5066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62400" cy="51242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d Reactant to Phase Boundar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714640" y="198072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dded (or removed) until gibbsite equilibrium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s target SI for Gib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s amount of  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971800" y="3962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685800" y="3962520"/>
            <a:ext cx="1828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3DA7-63E8-459C-9E12-8EFDB73FF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e phreeqc.d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(Ca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come to equilibrium with gibb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kaoli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Ca-Montmorillo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Anorthite to equilibrium, allow gibbsite, kaolinite, and Ca-Montmorillonite to precip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4203-9F0D-4687-A9E9-2B3A7EBA8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thermodynamic data, which mineral should precipitate fir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table phase assemblage in a water/anorthit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quartz need to be included in this calc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28D-0741-428B-8328-AEA76350B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site requires the least amount of Anorthite to dissolve to become satu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, anorthite, gibbsite, kaolinite?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is undersaturated in all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BAEB-7EDF-4E3C-9841-7E05F0CAC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erra Nevada Springs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ol/kg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Ca, Alkalinity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increase in Mg, K, Cl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4"/>
          <p:cNvGraphicFramePr/>
          <p:nvPr/>
        </p:nvGraphicFramePr>
        <p:xfrm>
          <a:off x="76320" y="2590920"/>
          <a:ext cx="8839080" cy="6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90920"/>
                    <a:ext cx="8839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F3FA-C352-47BF-860F-AAC753CE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960" y="847800"/>
            <a:ext cx="897228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—Nonequilibrium Reactio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n affect any chemical constitu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d 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ate hydro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979F-547F-4D03-A198-88B0DB66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 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3ABB-DC55-4F3D-A214-818768C4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 minerals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lectron acceptor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OOH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7ABA-E932-4461-93EC-8D63C7995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_PHAS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4A17-F209-415F-A05E-F5473A551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4. TES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il zone, carbonate ground water, log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rate the water with by addition of HCl (use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equilibrium with atmospheric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n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capes from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C3A-FE77-482D-B350-22FE01AE7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lus hea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UZ water and 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ke se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AC75-6A52-4429-811A-403F71C37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 = nRT Ideal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[CO2]/P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—Volum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—Pressur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97D5-B3F0-402C-AC32-7C4B3675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5"/>
          <p:cNvGraphicFramePr/>
          <p:nvPr/>
        </p:nvGraphicFramePr>
        <p:xfrm>
          <a:off x="304920" y="2819520"/>
          <a:ext cx="8610480" cy="85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610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6"/>
          <p:cNvSpPr/>
          <p:nvPr/>
        </p:nvSpPr>
        <p:spPr>
          <a:xfrm>
            <a:off x="762120" y="9907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6212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17B4-E6C9-474B-813F-4F38CCCDE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ga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oles in the gas phase are calculated ideal gas law us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4552920" cy="54291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8AC-C07B-44E2-AFFD-89C3F31DC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water with 50 mmol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0.1 in freshwater sed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reacted carbon distributed in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classify the water in terms of cations and an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should we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77FC-C1C1-4C65-8803-BBACD918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mol C(-4) (methane); 25 mmol C(4) (20 mmol CO2, 5 mmol HCO3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monium bicarbonat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0AA0-2FB9-4E2F-8F28-9F38DCA2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91440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 and RATES Data Block Defini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740960"/>
            <a:ext cx="71629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reactio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y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xpression (RA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Kinetics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_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-1 CH2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ate = 0.01*TOT(“Doc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AVE rate*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CA87-8988-4FF1-8237-58F34E47E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Gas 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gas phase in the last sim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ressure is 1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mposition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E15-83C0-4485-A1A5-640A37981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CH4, 30%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3 l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D333-5425-4346-B999-74DD815A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394920"/>
            <a:ext cx="792468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ID_SOLUTIONS—Composition of one or more solid solution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ce elements and isotop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soli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each soli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OLID_SOLUTION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 soli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[13C]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2F4A-D496-4DFB-A8F4-3BBDE3C6A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000" y="847800"/>
            <a:ext cx="869004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AS_PHASE—Finite gas phase in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fill a finit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4EF9-F29C-48AB-87FF-C688FA2FC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792468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S_PHASE—Composition of the gas phas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Fixed volume or Fixed press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 of each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GAS_PH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2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4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60AF-14AC-40D0-BA69-900AC851D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Reacta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data blocks defin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—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ion—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minerals and gases—EQUILIBRIUM_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rs—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s—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—KINETICS an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solutions—SOLID_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reactants on shelves by type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D298-8080-4AF7-986F-37AF845FD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PHREEQC—Reaction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88880"/>
            <a:ext cx="32115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nc_u1buw[1]"/>
          <p:cNvPicPr/>
          <p:nvPr/>
        </p:nvPicPr>
        <p:blipFill>
          <a:blip r:embed="rId1"/>
          <a:stretch/>
        </p:blipFill>
        <p:spPr>
          <a:xfrm>
            <a:off x="457200" y="2133720"/>
            <a:ext cx="3211560" cy="34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_qgd_eaj[1]"/>
          <p:cNvPicPr/>
          <p:nvPr/>
        </p:nvPicPr>
        <p:blipFill>
          <a:blip r:embed="rId2"/>
          <a:stretch/>
        </p:blipFill>
        <p:spPr>
          <a:xfrm>
            <a:off x="5410080" y="2362320"/>
            <a:ext cx="3452760" cy="344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6"/>
          <p:cNvSpPr/>
          <p:nvPr/>
        </p:nvSpPr>
        <p:spPr>
          <a:xfrm>
            <a:off x="4229280" y="3868560"/>
            <a:ext cx="685800" cy="855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410080" y="1389240"/>
            <a:ext cx="3211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FE9-63E2-4397-90A6-E73E3347F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_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_PHA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76720" y="22860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380C-EF77-4943-AD19-C145EDE08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3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N-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581280" y="2666880"/>
            <a:ext cx="114300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5562720" y="2666880"/>
            <a:ext cx="3808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DEE-090E-43F2-B73A-A19A09E1A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46"/>
          <p:cNvGrpSpPr/>
          <p:nvPr/>
        </p:nvGrpSpPr>
        <p:grpSpPr>
          <a:xfrm>
            <a:off x="152280" y="1905120"/>
            <a:ext cx="1067040" cy="1066680"/>
            <a:chOff x="152280" y="1905120"/>
            <a:chExt cx="1067040" cy="1066680"/>
          </a:xfrm>
        </p:grpSpPr>
        <p:sp>
          <p:nvSpPr>
            <p:cNvPr id="97" name="AutoShape 23"/>
            <p:cNvSpPr/>
            <p:nvPr/>
          </p:nvSpPr>
          <p:spPr>
            <a:xfrm>
              <a:off x="152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4"/>
            <p:cNvSpPr/>
            <p:nvPr/>
          </p:nvSpPr>
          <p:spPr>
            <a:xfrm>
              <a:off x="152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8"/>
          <p:cNvGrpSpPr/>
          <p:nvPr/>
        </p:nvGrpSpPr>
        <p:grpSpPr>
          <a:xfrm>
            <a:off x="3657600" y="1905120"/>
            <a:ext cx="1219320" cy="1066680"/>
            <a:chOff x="3657600" y="1905120"/>
            <a:chExt cx="1219320" cy="1066680"/>
          </a:xfrm>
        </p:grpSpPr>
        <p:sp>
          <p:nvSpPr>
            <p:cNvPr id="100" name="AutoShape 48"/>
            <p:cNvSpPr/>
            <p:nvPr/>
          </p:nvSpPr>
          <p:spPr>
            <a:xfrm>
              <a:off x="373392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9"/>
            <p:cNvSpPr/>
            <p:nvPr/>
          </p:nvSpPr>
          <p:spPr>
            <a:xfrm>
              <a:off x="3657600" y="21337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50"/>
          <p:cNvGrpSpPr/>
          <p:nvPr/>
        </p:nvGrpSpPr>
        <p:grpSpPr>
          <a:xfrm>
            <a:off x="4800600" y="1905120"/>
            <a:ext cx="1066680" cy="1066680"/>
            <a:chOff x="4800600" y="1905120"/>
            <a:chExt cx="1066680" cy="1066680"/>
          </a:xfrm>
        </p:grpSpPr>
        <p:sp>
          <p:nvSpPr>
            <p:cNvPr id="103" name="AutoShape 51"/>
            <p:cNvSpPr/>
            <p:nvPr/>
          </p:nvSpPr>
          <p:spPr>
            <a:xfrm>
              <a:off x="480060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2"/>
            <p:cNvSpPr/>
            <p:nvPr/>
          </p:nvSpPr>
          <p:spPr>
            <a:xfrm>
              <a:off x="480060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3"/>
          <p:cNvGrpSpPr/>
          <p:nvPr/>
        </p:nvGrpSpPr>
        <p:grpSpPr>
          <a:xfrm>
            <a:off x="5867280" y="1905120"/>
            <a:ext cx="1067040" cy="1066680"/>
            <a:chOff x="5867280" y="1905120"/>
            <a:chExt cx="1067040" cy="1066680"/>
          </a:xfrm>
        </p:grpSpPr>
        <p:sp>
          <p:nvSpPr>
            <p:cNvPr id="106" name="AutoShape 54"/>
            <p:cNvSpPr/>
            <p:nvPr/>
          </p:nvSpPr>
          <p:spPr>
            <a:xfrm>
              <a:off x="5867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5"/>
            <p:cNvSpPr/>
            <p:nvPr/>
          </p:nvSpPr>
          <p:spPr>
            <a:xfrm>
              <a:off x="5867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6"/>
          <p:cNvGrpSpPr/>
          <p:nvPr/>
        </p:nvGrpSpPr>
        <p:grpSpPr>
          <a:xfrm>
            <a:off x="6934320" y="1905120"/>
            <a:ext cx="1066680" cy="1066680"/>
            <a:chOff x="6934320" y="1905120"/>
            <a:chExt cx="1066680" cy="1066680"/>
          </a:xfrm>
        </p:grpSpPr>
        <p:sp>
          <p:nvSpPr>
            <p:cNvPr id="109" name="AutoShape 57"/>
            <p:cNvSpPr/>
            <p:nvPr/>
          </p:nvSpPr>
          <p:spPr>
            <a:xfrm>
              <a:off x="6934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8"/>
            <p:cNvSpPr/>
            <p:nvPr/>
          </p:nvSpPr>
          <p:spPr>
            <a:xfrm>
              <a:off x="6934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N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9"/>
          <p:cNvGrpSpPr/>
          <p:nvPr/>
        </p:nvGrpSpPr>
        <p:grpSpPr>
          <a:xfrm>
            <a:off x="1219320" y="1905120"/>
            <a:ext cx="1066680" cy="1066680"/>
            <a:chOff x="1219320" y="1905120"/>
            <a:chExt cx="1066680" cy="1066680"/>
          </a:xfrm>
        </p:grpSpPr>
        <p:sp>
          <p:nvSpPr>
            <p:cNvPr id="112" name="AutoShape 60"/>
            <p:cNvSpPr/>
            <p:nvPr/>
          </p:nvSpPr>
          <p:spPr>
            <a:xfrm>
              <a:off x="1219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1"/>
            <p:cNvSpPr/>
            <p:nvPr/>
          </p:nvSpPr>
          <p:spPr>
            <a:xfrm>
              <a:off x="1219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5"/>
          <p:cNvGrpSpPr/>
          <p:nvPr/>
        </p:nvGrpSpPr>
        <p:grpSpPr>
          <a:xfrm>
            <a:off x="2666880" y="1905120"/>
            <a:ext cx="1067040" cy="1066680"/>
            <a:chOff x="2666880" y="1905120"/>
            <a:chExt cx="1067040" cy="1066680"/>
          </a:xfrm>
        </p:grpSpPr>
        <p:sp>
          <p:nvSpPr>
            <p:cNvPr id="115" name="AutoShape 66"/>
            <p:cNvSpPr/>
            <p:nvPr/>
          </p:nvSpPr>
          <p:spPr>
            <a:xfrm>
              <a:off x="26668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7"/>
            <p:cNvSpPr/>
            <p:nvPr/>
          </p:nvSpPr>
          <p:spPr>
            <a:xfrm>
              <a:off x="26668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70"/>
          <p:cNvSpPr/>
          <p:nvPr/>
        </p:nvSpPr>
        <p:spPr>
          <a:xfrm>
            <a:off x="457200" y="3200400"/>
            <a:ext cx="8305920" cy="157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ATION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2286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3"/>
          <p:cNvSpPr/>
          <p:nvPr/>
        </p:nvSpPr>
        <p:spPr>
          <a:xfrm>
            <a:off x="4419720" y="48006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6"/>
          <p:cNvGrpSpPr/>
          <p:nvPr/>
        </p:nvGrpSpPr>
        <p:grpSpPr>
          <a:xfrm>
            <a:off x="762120" y="5486400"/>
            <a:ext cx="1295280" cy="762120"/>
            <a:chOff x="762120" y="5486400"/>
            <a:chExt cx="1295280" cy="762120"/>
          </a:xfrm>
        </p:grpSpPr>
        <p:sp>
          <p:nvSpPr>
            <p:cNvPr id="121" name="Rectangle 78"/>
            <p:cNvSpPr/>
            <p:nvPr/>
          </p:nvSpPr>
          <p:spPr>
            <a:xfrm>
              <a:off x="7621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4"/>
            <p:cNvSpPr/>
            <p:nvPr/>
          </p:nvSpPr>
          <p:spPr>
            <a:xfrm>
              <a:off x="91440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5"/>
          <p:cNvGrpSpPr/>
          <p:nvPr/>
        </p:nvGrpSpPr>
        <p:grpSpPr>
          <a:xfrm>
            <a:off x="2343240" y="5486400"/>
            <a:ext cx="1295280" cy="762120"/>
            <a:chOff x="2343240" y="5486400"/>
            <a:chExt cx="1295280" cy="762120"/>
          </a:xfrm>
        </p:grpSpPr>
        <p:sp>
          <p:nvSpPr>
            <p:cNvPr id="124" name="Rectangle 80"/>
            <p:cNvSpPr/>
            <p:nvPr/>
          </p:nvSpPr>
          <p:spPr>
            <a:xfrm>
              <a:off x="234324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5"/>
            <p:cNvSpPr/>
            <p:nvPr/>
          </p:nvSpPr>
          <p:spPr>
            <a:xfrm>
              <a:off x="2343240" y="5627880"/>
              <a:ext cx="1295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84"/>
          <p:cNvGrpSpPr/>
          <p:nvPr/>
        </p:nvGrpSpPr>
        <p:grpSpPr>
          <a:xfrm>
            <a:off x="3924360" y="5486400"/>
            <a:ext cx="1371600" cy="762120"/>
            <a:chOff x="3924360" y="5486400"/>
            <a:chExt cx="1371600" cy="762120"/>
          </a:xfrm>
        </p:grpSpPr>
        <p:sp>
          <p:nvSpPr>
            <p:cNvPr id="127" name="Rectangle 81"/>
            <p:cNvSpPr/>
            <p:nvPr/>
          </p:nvSpPr>
          <p:spPr>
            <a:xfrm>
              <a:off x="392436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6"/>
            <p:cNvSpPr/>
            <p:nvPr/>
          </p:nvSpPr>
          <p:spPr>
            <a:xfrm>
              <a:off x="4000320" y="5715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5581800" y="5486400"/>
            <a:ext cx="1295280" cy="762120"/>
            <a:chOff x="5581800" y="5486400"/>
            <a:chExt cx="1295280" cy="762120"/>
          </a:xfrm>
        </p:grpSpPr>
        <p:sp>
          <p:nvSpPr>
            <p:cNvPr id="130" name="Rectangle 82"/>
            <p:cNvSpPr/>
            <p:nvPr/>
          </p:nvSpPr>
          <p:spPr>
            <a:xfrm>
              <a:off x="558180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7"/>
            <p:cNvSpPr/>
            <p:nvPr/>
          </p:nvSpPr>
          <p:spPr>
            <a:xfrm>
              <a:off x="573408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4"/>
          <p:cNvGrpSpPr/>
          <p:nvPr/>
        </p:nvGrpSpPr>
        <p:grpSpPr>
          <a:xfrm>
            <a:off x="7924680" y="1905120"/>
            <a:ext cx="1219320" cy="1066680"/>
            <a:chOff x="7924680" y="1905120"/>
            <a:chExt cx="1219320" cy="1066680"/>
          </a:xfrm>
        </p:grpSpPr>
        <p:sp>
          <p:nvSpPr>
            <p:cNvPr id="133" name="AutoShape 88"/>
            <p:cNvSpPr/>
            <p:nvPr/>
          </p:nvSpPr>
          <p:spPr>
            <a:xfrm>
              <a:off x="800100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9"/>
            <p:cNvSpPr/>
            <p:nvPr/>
          </p:nvSpPr>
          <p:spPr>
            <a:xfrm>
              <a:off x="7924680" y="21337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3"/>
          <p:cNvGrpSpPr/>
          <p:nvPr/>
        </p:nvGrpSpPr>
        <p:grpSpPr>
          <a:xfrm>
            <a:off x="7162920" y="5486400"/>
            <a:ext cx="1371600" cy="762120"/>
            <a:chOff x="7162920" y="5486400"/>
            <a:chExt cx="1371600" cy="762120"/>
          </a:xfrm>
        </p:grpSpPr>
        <p:sp>
          <p:nvSpPr>
            <p:cNvPr id="136" name="Rectangle 91"/>
            <p:cNvSpPr/>
            <p:nvPr/>
          </p:nvSpPr>
          <p:spPr>
            <a:xfrm>
              <a:off x="71629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2"/>
            <p:cNvSpPr/>
            <p:nvPr/>
          </p:nvSpPr>
          <p:spPr>
            <a:xfrm>
              <a:off x="7162920" y="57150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Slide Number Placeholder 4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FA9-9ADE-47ED-981A-AD81AF24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CEPTUAL MODE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—SOLUTION or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rreversible reac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eversibl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_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new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ompositions if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D71-CC70-4AA4-A338-EFE1AC28D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Geochemical Reac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AF27-37C8-402B-9267-37897795F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PHREEQC Data Block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S_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6B72-0EC2-422C-8295-11E6298E2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FEC8-13FE-4CAA-8EE8-F32E66A68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429080" cy="441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X: One or more 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09720" y="2285640"/>
            <a:ext cx="3505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solution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mixing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895480" y="2971800"/>
            <a:ext cx="1752840" cy="10666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3B78-FD14-4E2E-87CA-9BCE573B8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1. Exercis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Implicit Redox Reactions</a:t>
            </a:r>
            <a:br>
              <a:rPr sz="36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ainwater as SOLUTION 1 with log partial press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0.7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3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IX by using solution 1 and mixing fracti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14480" y="1752480"/>
          <a:ext cx="8877240" cy="5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52480"/>
                    <a:ext cx="8877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B173-D491-46F5-A0BE-108BB895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differences between the initial solution composition and the reaction (“mixed”) solution composition, particularly pH, pe, N(5), N(0), and     N(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B82B-F8AC-4CAB-9481-96CE65E1B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5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3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75e-0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781e-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692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77e-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26e-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85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fferences are caused entirely by redox equilibration. Initial solution is in redox disequilibrium, the reaction solution is in redox equilibrium. In the reaction 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 has been oxidized to N(5) and N(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 has been reduced in the process of oxidizing N(-3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idation tends to decrease 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ox is defined by O(0)/O(-2) and N(5)/N(0) redox couples, both will give the same 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0335-45AE-4B61-92DB-013EC119E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dox disequilib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(5), N(-3), O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queous redox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define “elements” for dis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N(5), N(3), N(0), N(-3), Ngas, 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698-7268-4EF1-BD81-E88AD0A3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362E-D8BA-4ED7-9CC2-BDA4467A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—Chemical Composition of a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22000"/>
            <a:ext cx="822960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lements Ca, Mg, Na, K, Alkalinity, Cl,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537-82AC-46D1-A143-ED7925EAF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AVE and U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results of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defined SOLUTIONs, EQUILIBRIUM_PHASES, REACTIONs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SAVEd SOLUTIONS, EQUILBRIUM_PHAS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257800" y="2286000"/>
            <a:ext cx="457200" cy="3808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105520" y="2666880"/>
            <a:ext cx="380880" cy="30492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B84E-E033-419A-8EF1-4D85EFAE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4257720" cy="3724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VE results from a “Reaction Calculation”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SOLUTION defines an “initial solution” calculation, which is automatically sa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2971800" y="2514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400800" y="1981080"/>
            <a:ext cx="2362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are used to keep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do not need to be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C5C-F5D5-4BF7-88E4-0743725C0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: Previously defined or SAVE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cludes KINETICS, MIX, REACTION, and 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previously SAVEd EQUILIBRIUM_PHASES, EXCHANGE, SOLID_SOLUTION, SOLUTION, SURFACE, or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0880" y="1952640"/>
            <a:ext cx="3981600" cy="3990960"/>
          </a:xfrm>
          <a:prstGeom prst="rect">
            <a:avLst/>
          </a:prstGeom>
          <a:ln w="0">
            <a:noFill/>
          </a:ln>
        </p:spPr>
      </p:pic>
      <p:sp>
        <p:nvSpPr>
          <p:cNvPr id="250" name="Oval 5"/>
          <p:cNvSpPr/>
          <p:nvPr/>
        </p:nvSpPr>
        <p:spPr>
          <a:xfrm>
            <a:off x="3581280" y="3657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16ED-6B3F-40D9-BF94-2CA2D2920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7924680" cy="528012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F08-8B9E-4D63-BA41-3042CA2C8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851360" cy="49435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ants and stoichiome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66920" y="24382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phase or typ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lative stoichi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harge bal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431640" y="185436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895480" y="3048120"/>
            <a:ext cx="2133720" cy="7617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60CE-F56A-4787-9F9D-9E19A20F6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00760" cy="5095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Reaction amou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number of equal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specifi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533520" y="3048120"/>
            <a:ext cx="990360" cy="12952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295280" y="1676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1828800" y="3429000"/>
            <a:ext cx="2819520" cy="7621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5751-E059-46CC-B677-CE82DE1B2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627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f minerals/gases that react to equilibrium or zer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/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atur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162400" cy="51246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5624-3D8E-4C6B-8C70-7403BE9E8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4388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A175-AA75-413F-A25A-A5A0195B5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42920" y="1523880"/>
            <a:ext cx="4124160" cy="49532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”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state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—defines a “Sim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OLUTION results in an initial solution calculation (unique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 calculation—SOLUTION + one of each reactant type befor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can be keyword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be defined by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pecia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ac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nsport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1981080" y="337824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609480" y="327672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609480" y="380988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609480" y="43434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609480" y="50292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1981080" y="392436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1981080" y="472428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1981080" y="579132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6267-94FE-484E-A164-A87D76E8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peciation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igmatic EN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52680" y="15238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action calculation—No Reactant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3029040" cy="49910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CF3B-8B8B-4BFB-9A45-B3F84565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(Irreversible) REACTION—Add/Remove elements to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2236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lution 1 m NaCl and 2 m K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r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011D-7855-4720-93AC-3BEC48BD8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quenti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unsaturated zone water. Build on previous exercise with rainwater. Add SAVE solution 2 after MIX step and before 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END, add USE solution 2 and equilibrate (EQUILIBRIUM_PHASES)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g partial pressure –2, and calcite (SI = 0), save solution as solution 3.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lution 3, add 1 mmol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ACTION), equilibrate with calcite (EQUILIBRIUM_PHASES), save as solution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0F21-07E4-4271-8EE8-CC4234EA6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3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og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rainwater, rainwater, in redox equilibrium (the mixture), the mixture equilibrated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lcite, and after reaction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ed to make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reacted to make solution 4 from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3E1-35CD-40FC-99FF-8042A5AD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R3.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 Rain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 Rainwater, redox equilib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 Solution 2 + equilibrium with CO2 and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 Solution 3 + Reaction + equilibrium with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4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.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.6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 -8.48     -8.48  1.000e+001 9.998e+000 -1.749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           -2.00  -20.15  -18.15 1.000e+001 9.998e+000 -1.774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4 mmol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7 mmol CO2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-8.48   -8.48 1.000e+001 9.999e+000 -5.767e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8 millimoles of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A40B-E03C-43FE-AD87-D010747B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5. 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IX and REACTION to evaporate rainwater 20 fold (at constant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fore reaction with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lcite. Hint: You  must remove water and water has 55.5 mol per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B11C-3EEC-40C4-AEE4-7D85046CC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5. Answer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2(g) -0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CC88-DFC0-4A11-BB70-F4380B29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 in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-solu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calculation includes any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66680" y="2743200"/>
            <a:ext cx="365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267080" y="2743200"/>
            <a:ext cx="43434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SOLID_SOLUTION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E032-14F2-45C2-95DF-51D5B653D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6BD2-D58F-439D-A4D2-6AC614FD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dolomit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9032-9665-49F1-AEBE-93396E8E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50 mmol of anhydrite (CaSO4) in increments of 10 mmol. Maintain equilibrium with calcite and dolomite, allow anhydrite to precipitate if it becomes satu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use these data blocks: SOLUTION, EQUILIBRIUM_PHASES, REACTION, USE, SAVE in two sim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895F-E57A-41AB-84D4-87FE92C0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rends do you expect in water composition with anhydrite-driven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following reaction mis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4 + CaMg(CO3)2 = 2CaCO3 + Mg+2 + SO4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ow does the water composition change from step 4 to step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C8F0-EAEB-4208-9B0E-77A076BFE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44160"/>
            <a:ext cx="822636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—Assemblage of Minerals and Gases that react to equilibrium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7940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[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F570-88E0-432E-A7B7-7462995B1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995400" y="1981080"/>
          <a:ext cx="715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981080"/>
                    <a:ext cx="715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2B5-7405-4DCD-A188-5BDAA6D58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6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swers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SO4, increase in Ca and Mg, constant or decrease in HCO3, decrease in pH, SI’s near zero for calcite and dolo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get a Mg+2 SO4-2 water composition. Ratio of Mg/Ca is approximately constant at .3 to 1 (depending on K for dolom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to the final water composition, the net reaction is approxim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CaSO4 + 16CaMg(CO3)2 = 32CaCO3 + 21Ca+2 + 16Mg+2 + 37SO4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has reached equilibrium and does not change. However, it is not quite an invarian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AE93-ED57-431A-9A0B-002513B8F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4800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5" name="Oval 5"/>
          <p:cNvSpPr/>
          <p:nvPr/>
        </p:nvSpPr>
        <p:spPr>
          <a:xfrm>
            <a:off x="7543800" y="4419720"/>
            <a:ext cx="9144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"/>
          <p:cNvSpPr/>
          <p:nvPr/>
        </p:nvSpPr>
        <p:spPr>
          <a:xfrm>
            <a:off x="5867280" y="3429000"/>
            <a:ext cx="10670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4419720" y="1941480"/>
            <a:ext cx="7617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049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049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30492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3733920" y="1650960"/>
            <a:ext cx="7873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049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 Reactio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5638680" y="3962520"/>
            <a:ext cx="12956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124080" y="4800600"/>
            <a:ext cx="4343400" cy="763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304920" y="3429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t file name (default selected.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6"/>
          <p:cNvSpPr/>
          <p:nvPr/>
        </p:nvSpPr>
        <p:spPr>
          <a:xfrm>
            <a:off x="2819520" y="2057400"/>
            <a:ext cx="45720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5A42-3B3C-4DD9-B35B-3F57F8EE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: Total Molalit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587840" cy="4972320"/>
          </a:xfrm>
          <a:prstGeom prst="rect">
            <a:avLst/>
          </a:prstGeom>
          <a:ln w="0">
            <a:noFill/>
          </a:ln>
        </p:spPr>
      </p:pic>
      <p:sp>
        <p:nvSpPr>
          <p:cNvPr id="351" name="Oval 5"/>
          <p:cNvSpPr/>
          <p:nvPr/>
        </p:nvSpPr>
        <p:spPr>
          <a:xfrm>
            <a:off x="2666880" y="1905120"/>
            <a:ext cx="78768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64D-9FAB-4F47-8714-F54714790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29360" cy="498312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1E2E-7D91-4940-B702-2753A0E3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 Fi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3200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with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e/plo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W has built-in plott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303880" cy="64008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D939-279D-4837-94AA-8F0858268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8. Question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lummer and Sprinkle, 2001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s are mg/L, S(-2) as H2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re these the trends of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5"/>
          <p:cNvGraphicFramePr/>
          <p:nvPr/>
        </p:nvGraphicFramePr>
        <p:xfrm>
          <a:off x="152280" y="2362320"/>
          <a:ext cx="8809200" cy="65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8092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806A-05D5-471D-B831-86CAC9807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ncrease in Ca, Mg, SO4; decrease in pH; not much change in alkal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sulfate (number 4 to number 6) and H2S indicate sulfate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nd Cl indicate mixing with sea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2D10-66A4-4495-BCB3-ECF0A38CC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304920" y="1731960"/>
            <a:ext cx="4876560" cy="48402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ssolve Onl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38680" y="2971800"/>
            <a:ext cx="3353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ineral not to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809880" y="426708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906-C8AD-434C-8720-7915B40B3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ate seawater (major ions only) with calcite and dolom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ground water with seawater in fractions of .25, 0.5, .75. Maintain equilibrium with calc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C9DA-79BC-4358-A5DF-CBA6898B7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544320"/>
            <a:ext cx="91440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QUILIBRIUM_PHASES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om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751A-9CA1-4784-BC7F-9661899DC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 is calculated for seawater equilibration with calcite and dolomi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s are calculated for a carbonate reactions for the ground-water/seawater mix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6C4B-DB7B-410C-B990-7B92760A7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9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8144-DD9D-469E-86C2-6A17DA58D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arbon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4792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ate grou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 to -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, or calcite and dolo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y in the 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ater mixing can dissolve cal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50C8-95FC-4D00-A06F-1D9B68680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FB0-CF01-4D0E-BE86-B64097AA9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removal of electron acceptors, usually in th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A269-7E57-48A1-99FA-215949E3B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c—Dissolve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oxic—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4Fe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8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idic—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2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ic—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D3F1-10DC-4B42-9AAB-CF2F0BD36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838080" y="1219320"/>
          <a:ext cx="7239240" cy="53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23924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A95-9828-45EC-8A40-2882D1750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D4CC-16BB-4041-A845-F6B868027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REAC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281916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RO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4-2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O3- 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S     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884600" y="1523880"/>
            <a:ext cx="53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H2O + SO4-2  = 2HCO3- + H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029200" y="2209680"/>
            <a:ext cx="281952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ha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 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407-72D9-4531-A5AC-34A46CDE7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in PHREEQ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 balance of C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nd O mole balances increase too, but equivalent to adding 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electron acceptors, C ends up as CO3-2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acceptor effectively gives up O and assumes the more reduc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oice of electron acceptor is thermo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2E83-53DD-455F-B08E-A2B12C949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3620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CHANGE—Cation Exchange Composi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able cations in interlayers of c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X = C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3505320" y="4724280"/>
                <a:ext cx="38098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aX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36E-9F84-4544-BB11-8E4316E1B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eawater by 50 percent, equilibrate with atmospheric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diluted seawater with 50 mmol of CH2O in 50 steps of 1 mmol. Equilibrate with .1 moles of Fe(OH)3(a) and 0.0 mol of mackinaw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moles of reaction (-rxn) and total concentrations of O(0), C(4), C(-4), Fe(2), Fe(3), S(6), S(-2) (-totals) and mackinawite (-equi) to the selected-output file (SELECTED_OUTP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D9CB-8192-4943-A006-FF2A77FD1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quence of electron acceptors is us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Fe(3)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cel to plot the concentrations in the selected-output file (rxn is the x variable, set first line rxn from –99 to 0, omit d_mackinaw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C(4) not a straight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Fe(2) increase after 30 mmol of CH2O is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gas bubble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ends are observed for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B9F2-A258-4EA7-8789-8561968FB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7" name="Object 15"/>
          <p:cNvGraphicFramePr/>
          <p:nvPr/>
        </p:nvGraphicFramePr>
        <p:xfrm>
          <a:off x="838080" y="1676520"/>
          <a:ext cx="7620120" cy="46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2668-477C-4880-B338-30C1BBF87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2, Fe(OH)3(a), SO4, CH2O (-&gt; CH4 + CO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3) is not important anyw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the reacted carbon is split between CO2 and CH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OH)3 dissolves as pe decreases. Fe is no longer being sequestered in mackinawite (F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37D4-4B1B-4705-B85C-7A870542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Question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tomac Estuary Sedi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se analyses similar to the sulfate reduction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analyses differ from the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304920" y="2590920"/>
          <a:ext cx="8488080" cy="54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48808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4"/>
          <p:cNvSpPr/>
          <p:nvPr/>
        </p:nvSpPr>
        <p:spPr>
          <a:xfrm>
            <a:off x="3276720" y="20574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mmol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2895-5B3C-4997-A6A6-C6567857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ate decreases, alkalinity increases, pH increases, ammonium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-2) is significant, Fe is negligible. pH 7.5 no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430B-76CB-480B-8B53-97F334BC8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happen if organic matter oxidizes in the presence of ba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reaction simulation  assuming 1 mmol of organic carbon re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0AAF-A717-4712-88D5-597E2CC3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arium concentration in mg/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reactions other than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reactions could affect bari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BAF4-80B1-4468-A980-A77F37B7E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2*137 = 43 mg/L 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mol/kgw methane was gene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is a possibility. With much larger TDIC, witherite (BaCO3) is a pos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F43-2547-4990-B5FB-F949A3B11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ate Redu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rman Landfi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oncentration appears insignificant unless barium is lost to cation exchange or mineral precip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533520" y="2209680"/>
          <a:ext cx="7529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52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79FC-521A-4EB7-9BE2-C068645C5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CHANGE Data Block Defin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xchang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EXCHANG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X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 (X is defined in 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5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8875-3D71-4AE4-AC10-AE73994F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pe Cod Sewage Plu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1029"/>
          <p:cNvGraphicFramePr/>
          <p:nvPr/>
        </p:nvGraphicFramePr>
        <p:xfrm>
          <a:off x="228600" y="762120"/>
          <a:ext cx="8717040" cy="79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717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031"/>
          <p:cNvGraphicFramePr/>
          <p:nvPr/>
        </p:nvGraphicFramePr>
        <p:xfrm>
          <a:off x="304920" y="4114800"/>
          <a:ext cx="8610480" cy="85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1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14800"/>
                    <a:ext cx="8610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032"/>
          <p:cNvSpPr/>
          <p:nvPr/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33"/>
          <p:cNvSpPr/>
          <p:nvPr/>
        </p:nvSpPr>
        <p:spPr>
          <a:xfrm>
            <a:off x="7621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3617-CC9B-4AD5-A334-88E35B500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ntral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6" name="Rectangle 551"/>
          <p:cNvSpPr/>
          <p:nvPr/>
        </p:nvSpPr>
        <p:spPr>
          <a:xfrm>
            <a:off x="-349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7200" y="2057400"/>
          <a:ext cx="7885080" cy="1951200"/>
        </p:xfrm>
        <a:graphic>
          <a:graphicData uri="http://schemas.openxmlformats.org/drawingml/2006/table">
            <a:tbl>
              <a:tblPr/>
              <a:tblGrid>
                <a:gridCol w="1057320"/>
                <a:gridCol w="471600"/>
                <a:gridCol w="5284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nits 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kali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-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C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 of Jones 13N-01W-34 C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Rectangle 698"/>
          <p:cNvSpPr/>
          <p:nvPr/>
        </p:nvSpPr>
        <p:spPr>
          <a:xfrm>
            <a:off x="-3492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56"/>
          <p:cNvSpPr/>
          <p:nvPr/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rganic matter or reduced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8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32E-CC94-4D00-9229-9F6A095D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DO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ag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—Iron oxy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eawater, atmosphere, 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—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 can be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D98-9A80-461B-A031-471D59DCC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6F68-2707-46F3-9779-C2D4FD62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make the redox table of the previous sl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is soluble as reduced ferrous iron, uranium is soluble as oxidized U(6). As organic carbon reacts, which would you observe first: (a) increase in iron, (b) decrease in uran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dynamically, which nitrogen species do you expect to see in an oxygenated ground water? In a methanic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2A43-7C06-4F9A-8377-EC3CB48E6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qual amounts (1 umol/kgw) of each redox state Se(6), Se(4); As(5), As(3); etc. in SOLUTION with pH 7. Look at pe table that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ncrease in iron concentration should occur first if ferric oxyhydroxides are in the system. Equal Fe(2)/Fe(3) at pe ~ 4, Equal U(4)/U(6) at pe ~ 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3- in oxic water, NH4+ in methanic water. However, NO3- generally is reduced to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nitrification), not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itrify t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9E74-E637-4A8F-B99C-A26AFA84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BDCC-095B-4D03-8377-7038F1B4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stkev_minedump2"/>
          <p:cNvPicPr/>
          <p:nvPr/>
        </p:nvPicPr>
        <p:blipFill>
          <a:blip r:embed="rId1"/>
          <a:stretch/>
        </p:blipFill>
        <p:spPr>
          <a:xfrm>
            <a:off x="752400" y="933480"/>
            <a:ext cx="7639200" cy="499104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6B64-F235-48A6-9E3A-1336521E9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id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ite/Marcasite are most important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Pyrite, Oxygen, Water, and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 and formation of ferric hydroxide complexes and minerals generates acid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E2A-A74D-4203-855B-EA92F5BC0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Mountain, Californi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deposits at the top of a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s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891A-7560-4E90-BD53-F26C41633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6360" cy="14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RFACE—Surface Composit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e elements Zn, Cd, Pb, As, P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ption onto the surfaces of minerals and organic matter, usually hydrous ferric ox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OH + 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971800" y="4842000"/>
                <a:ext cx="4572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foOH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f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25A9-003B-4ED1-94DA-0C305FDAF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,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200 to 500 ft below lan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after dewatering c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the supply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D02E-08DB-4517-9CDE-F4988FEA5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mplified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4HCO3- = Fe(OH)3 + 2SO4-2 + 4CO2 + 1/2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1/2H2O = Fe+3 + SO4-2 + HSO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FD8E-D451-4C5E-8D4E-5BFEB6D90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dition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us ferric 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rihyd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t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D74A-F6AB-4B4F-9C1C-CB1CB2AF7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deling Pyrit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irreversible reactant: O2 or Fe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rich environment of a tailings 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going to react up to 50 mmol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iu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ACB-CE69-45A2-9725-5F81F13AD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py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mackinaw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sphale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355C-AF98-4625-9969-A4D7458B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qualitative reactions that explain the pH of the 3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H buffer starts to operate at pHs below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input file with wateq4f.dat database. What minerals may precipitate during pyrite oxi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DCE7-F989-4E37-B726-F2ADA951F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2 + xO2 + yH2O -&gt; Fe+3 + 2SO4-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,  a little ferric iron hydrolizes to make additional H+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H2O = FeOH+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net acid production to give pH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kinaw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 + 2.25O2 + H+ -&gt; Fe+3 + SO4-2 + .5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a majority ferric iron hydro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xH2O = Fe(OH)x+y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 net acid production that give pH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hale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S + 2O2 -&gt; Zn+2 + SO4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nc hydrolosis is mi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+2 + H2O = ZnOH+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result is pH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SO4-/SO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C1F2-9DA7-48F9-AA74-252FB304E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20 mmol of pyrite, maintaining equilibrium with atmospheric oxygen and goet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mine drainage is usually treated with limestone. Use the results of part 1 and equilibrate with O2, goethite, and calc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5B27-75B9-47DD-B90E-A7C964893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net reaction for the PHREEQC results for the low-pH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H values with and without calcite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the results of the calcite-equilibrated simulation, what additional reactions should be consid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28B0-4D0F-4185-B1C0-D16FBA872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Fe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5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9FeOOH + .8Fe(+3) + 27H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s are 1.4 and 5.8 without and with calcit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psum is supersaturated, and probably would precip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 atmosphere. I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cts to equilibrium with the atmosphere, logically,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D1AB-AECE-46A1-A20A-E05C60E1C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18:34Z</dcterms:modified>
  <cp:revision>69</cp:revision>
  <dc:subject/>
  <dc:title>Defining Solutions</dc:title>
</cp:coreProperties>
</file>