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6DA5C0-3506-4CA1-B017-862266279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slide" Target="../slides/slide20.xml"/><Relationship Id="rId8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956139-DFF9-4E26-9B86-F487B2412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7A53AF-AC81-44E1-86B1-ABF2A429F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xercise T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 + H+ = SurfOH2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7.29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- + 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8.9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3H+ = SurfH2AsO4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9.3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2H+ = SurfHAsO4-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3.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= SurfOHAsO4-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0.5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       H3AsO4        -1.0     74.9216         74.921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3AsO4 primary master 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H3A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2AsO4-             48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AsO4-3 + 3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20.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AsO4-2                483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+ + AsO4-3 = HAsO4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1.5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AsO4-3              48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H+ + AsO4-3 = H2AsO4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18.4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bri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A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in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71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465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60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40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.64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39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47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Define 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brine with calcite and dolom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solution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initial exchange and 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TLE Initial exchange and surfac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CHANG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0.07   600    3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20xRain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x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9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2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3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23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rainwater with calcite, dolomite,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as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       -1.5    10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Advect reacted rainwater through colum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5 shift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t1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alkalin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   NaX CaX2 MgX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   Cl Na Ca M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headings As(ug/L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tar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 PUNCH TOT("As")*1e6*74.9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VE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cells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hifts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rint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unch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rnings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D2F2C8-C538-4EDF-89B7-6214BD88F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xercise T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 + H+ = SurfOH2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7.29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- + 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8.9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3H+ = SurfH2AsO4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9.3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2H+ = SurfHAsO4-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3.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= SurfOHAsO4-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0.5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       H3AsO4        -1.0     74.9216         74.921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3AsO4 primary master 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H3A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2AsO4-             48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AsO4-3 + 3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20.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AsO4-2                483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+ + AsO4-3 = HAsO4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1.5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AsO4-3              48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H+ + AsO4-3 = H2AsO4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18.4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bri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A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in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71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465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60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40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.64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39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47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Define 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brine with calcite and dolom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solution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initial exchange and 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TLE Initial exchange and surfac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CHANG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0.07   600    3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20xRain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x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9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2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3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23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rainwater with calcite, dolomite,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as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       -1.5    10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Advect reacted rainwater through colum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5 shift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t1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alkalin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   NaX CaX2 MgX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   Cl Na Ca M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headings As(ug/L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tar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 PUNCH TOT("As")*1e6*74.9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VE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cells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hifts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rint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unch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rnings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51E907-790E-4793-A205-0EBE76DE4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2. 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Cl is a square wave, low concentrations in first 75 cells, high concentrations in last 25 cell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pH ~7.5 in first cell, pH is &gt; 9 for 50 cells, decreases to &lt; 5.5 by cell 70, up to constant 5.6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Arsenic &gt; 10 ug/L when pH is above 8.5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oride is a square-wave front because only advection is simulated. The front has moved 5 cells because there have been 5 shift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decreases from pH 9 to pH 6 from cell 2 to cell 6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ell 3 has pH 8.5, but little arsenic. Cell 2 has pH 9 and 100 ug/L As. So greater than pH 8.5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3743280" y="4425840"/>
          <a:ext cx="2827440" cy="154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3280" y="4425840"/>
                    <a:ext cx="282744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"/>
          <p:cNvGraphicFramePr/>
          <p:nvPr/>
        </p:nvGraphicFramePr>
        <p:xfrm>
          <a:off x="917640" y="4425840"/>
          <a:ext cx="2833560" cy="154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7640" y="4425840"/>
                    <a:ext cx="28335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6"/>
          <p:cNvGraphicFramePr/>
          <p:nvPr/>
        </p:nvGraphicFramePr>
        <p:xfrm>
          <a:off x="917640" y="6029280"/>
          <a:ext cx="2833560" cy="1544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7640" y="6029280"/>
                    <a:ext cx="28335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B41ED2-EE04-4FEE-A710-98DF31EE0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7234B7-EF0C-402E-856F-C344751C3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095-E983-45B0-B52A-79A64894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C1B-428E-4A89-B11B-4970F62D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D3C-B1EB-46CF-9326-0594E9A1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6CB-F4A5-432F-A4E5-86474963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74F8-926C-46AD-B6D7-5841F593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D589-CFEE-45E2-B1A2-8C37F33B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080B-9806-4020-9BE0-30E8C078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9E14-A4E2-437E-8600-CBBB7DF7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0436-4AA1-46DE-95B0-4203FAA3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2D26-FAC2-43A1-ADE1-92661C2D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937B-CD33-45C2-8462-33B5AC7D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2AB-D172-4EC0-95A6-C1651E14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F8D1-923F-417B-96E0-10FFC88A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AD06-6722-4257-8D33-D52085B9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6C0A-6694-4549-80A9-918EA10E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DE2F-885E-450E-AB33-DE8CE034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2B84-5122-4DA1-97B2-EDE079D9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1F649-82F1-4A03-A2F9-3D251D70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5011E-C6DB-4E05-86C9-3E8F4AE6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3A2EC-D53E-4F5A-AD87-5BC4DDF6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5EBA0-AE32-46EE-B790-D2F1A75C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4288D-FCA2-45A0-AE53-17C92E06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583-4702-46B3-A129-F41F428F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D7393-93C3-4626-98BC-9C0656C3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0D64A-E2D6-451C-8522-AC23A729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4C85A-05A0-4FC7-9C3A-8A0AF337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35158-E4FE-41A5-BE1E-D45E5C32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ABF6-2817-4D07-9F45-9EE21D69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700A3-8405-42C6-AE9E-BF578E39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C545-024D-42B3-A23B-6246229F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21F-CFC8-477F-B432-BF4C97C3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1DC-F721-4402-80BF-F0C33C1C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98B-9288-4940-8DB6-67522B96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476-CB70-43DC-9E08-013598AA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8FC-3AB8-4DE9-B3C1-B121D22A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8CB-51E9-41AE-BCAE-8B593BEC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BA3B-DE4E-4CF0-9FB3-ABAB77BAC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CEA0-7B61-4882-A51F-3EF41479C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99D9-9796-4E14-BF7B-6E182CF2B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hursday Afterno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 reactive transport with PHEEQ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MOD—Watershed modeling with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kinetics—time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496040" cy="5019840"/>
          </a:xfrm>
          <a:prstGeom prst="rect">
            <a:avLst/>
          </a:prstGeom>
          <a:ln w="0">
            <a:noFill/>
          </a:ln>
        </p:spPr>
      </p:pic>
      <p:sp>
        <p:nvSpPr>
          <p:cNvPr id="237" name="Oval 5"/>
          <p:cNvSpPr/>
          <p:nvPr/>
        </p:nvSpPr>
        <p:spPr>
          <a:xfrm>
            <a:off x="304920" y="1523880"/>
            <a:ext cx="838080" cy="38124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-outpu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495680" cy="501984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838080" y="1600200"/>
            <a:ext cx="83844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9244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 Range of Numb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4038480" y="3276720"/>
            <a:ext cx="83844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2895480" y="4191120"/>
            <a:ext cx="152424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2895480" y="4648320"/>
            <a:ext cx="129564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2819520" y="5334120"/>
            <a:ext cx="114300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VECTION 1. Exerci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klahoma transport simul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be plotting results. You ca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reeqcI and Excel (with SELECTED_OUT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reeqc for Windows and USER_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. Phreeqcpp in ChartPhreeqc directory also will plot with USER_GRAPH, but is not interactiv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VECTION 1. Exerci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klahoma transport simul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aqueous model and sorption model for arsenic from Dzombak and Morel, 1990 (Cut and paste from Power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457200" y="2286000"/>
            <a:ext cx="441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_MASTER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    Surf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= Surf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 + H+ = SurfOH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7.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= SurfO-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-8.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+ AsO4-3 + 3H+ = SurfH2AsO4 + H2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29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+ AsO4-3 + 2H+ = SurfHAsO4- + H2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23.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+ AsO4-3 = SurfOHAsO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10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_MASTER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      H3AsO4        -1.0     74.9216    74.9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715000" y="2286000"/>
            <a:ext cx="2895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H3AsO4 primary master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3AsO4 = H3As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       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H2AsO4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3AsO4 = AsO4-3 + 3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-2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HAsO4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+ + AsO4-3 = HAsO4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11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AsO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H+ + AsO4-3 = H2AsO4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        18.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VECTION 1. Exercise—Continued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Initial conditions for cells 1-10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Define SOLUTION 1 with the brine composition. (It is possible to cut and paste into PhreeqcI or Phreeqc for Window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Define EQUILIBRIUM_PHASES 1-100 with 0.1 mol calcite and 1.6 mol dolom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React solution 1 with equilibirum phases 1 (USE) and SAVE resultomg solution in cells 1-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Define EXCHANGE 1-100 to have 1 mol of exchanger X and to be in equilibrium with solution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Define SURFACE 1-100 to have 0.07 mol of surface complexation sites (Hfo), 600 m^2/g specific surface area, 30 grams of sorbent, and to be in equilibrium with solution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609480" y="1066680"/>
          <a:ext cx="8001000" cy="87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0010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VECTION 1. Exercise—Continu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efine infilling solution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efine the evaporated rainwater as SOLUTION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eact solution 0 with EQUILIBRIUM_PHASES 0 that has calcite, dolomite, and pCO2= 10^-1.5. SAVE resulting solution as solution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685800" y="1447920"/>
          <a:ext cx="7226280" cy="8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2262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VECTION 1. Exercise—Continu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0948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fine advection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Use ADVECTION data blo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_frequency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ch_frequency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ELECTED_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, Cl, Na, Ca, NaX, CaX2 (mol/kgw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USER_P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(ug/kgw)  (gram formula mass is 75 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lot Advection Resul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selected output file into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input file into Phreeqc for Windows and add USER_GRAPH (nex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R_GRAPH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_GRA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eadings Cell_number Cl Na Ca NaX CaX2 As(ug/L) 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titles "Cell_number“ "Log Concentration"  "pH"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x-axis, y-axis, sy-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hart_title "Oklahoma Advecti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nnect_simulations tr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true/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scale x_axis 0 100 50 1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min, max, major, mi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scale y_axis -6 3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min, max, major, mi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scale sy_axis 0 10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secondary y-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lot_concentration_vs 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distance p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graph_x d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graph_y  log10(TOT("Cl")), log10(TOT("Na")), log10(TOT("Ca"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 graph_y  log10(MOL("NaX")), log10(MOL("CaX2")), log10(TOT("As")*1e6*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 graph_sy -la("H+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D Solute Transpor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09480" y="28195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change wit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/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cil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2819520" y="1695600"/>
                <a:ext cx="2930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DVECTION 1. Ques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file in the column at the end of the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pH profile in the column at the end of the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H at which arsenic appears to become a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 1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, Mg exchange for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te, dolomite dis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&gt;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&gt; 100 u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8"/>
          <p:cNvGraphicFramePr/>
          <p:nvPr/>
        </p:nvGraphicFramePr>
        <p:xfrm>
          <a:off x="685800" y="3733920"/>
          <a:ext cx="3697200" cy="246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369720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9"/>
          <p:cNvGraphicFramePr/>
          <p:nvPr/>
        </p:nvGraphicFramePr>
        <p:xfrm>
          <a:off x="5092560" y="1295280"/>
          <a:ext cx="3619800" cy="2414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2560" y="1295280"/>
                    <a:ext cx="361980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7" descr=""/>
          <p:cNvPicPr/>
          <p:nvPr/>
        </p:nvPicPr>
        <p:blipFill>
          <a:blip r:embed="rId5"/>
          <a:stretch/>
        </p:blipFill>
        <p:spPr>
          <a:xfrm>
            <a:off x="5041800" y="3940200"/>
            <a:ext cx="3713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For Window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600200" y="1465200"/>
            <a:ext cx="68104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PP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486080" y="1371600"/>
            <a:ext cx="617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 1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l is a square wave, low concentrations in first 75 cells, high concentrations in last 25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 ~7.5 in first cell, pH is &gt; 9 for 50 cells, decreases to &lt; 5.5 by cell 70, up to constant 5.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senic &gt; 10 ug/L when pH is above 8.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l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=length/time ste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7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505040" cy="5029200"/>
          </a:xfrm>
          <a:prstGeom prst="rect">
            <a:avLst/>
          </a:prstGeom>
          <a:ln w="0">
            <a:noFill/>
          </a:ln>
        </p:spPr>
      </p:pic>
      <p:sp>
        <p:nvSpPr>
          <p:cNvPr id="291" name="Oval 8"/>
          <p:cNvSpPr/>
          <p:nvPr/>
        </p:nvSpPr>
        <p:spPr>
          <a:xfrm>
            <a:off x="762120" y="1828800"/>
            <a:ext cx="91440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8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ion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7"/>
          <p:cNvSpPr/>
          <p:nvPr/>
        </p:nvSpPr>
        <p:spPr>
          <a:xfrm>
            <a:off x="1523880" y="1752480"/>
            <a:ext cx="1447920" cy="5335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8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nant cells/dual po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ne stagnan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ultiple stagnan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7"/>
          <p:cNvSpPr/>
          <p:nvPr/>
        </p:nvSpPr>
        <p:spPr>
          <a:xfrm>
            <a:off x="2971800" y="1828800"/>
            <a:ext cx="16002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NSPORT—Charge-Balanced Diffus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1920" y="24382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ulti_d true 1e-9 0.3 0.05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_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H+ =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log_k  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-gamma  9.0    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w     9.31e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38480" y="1981080"/>
            <a:ext cx="48769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omponent diffusion—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tracer diffusion coefficient—1e-9 m2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osity—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porosity—0.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iffusion stops when the porosity reaches the porosity lim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nent of porosity (n) –1.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ffective diffusion coefficient–De = Dw * porosity^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w is tracer diffusion coefficient in SOLUTION_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ield-Scale Examples </a:t>
            </a:r>
            <a:br>
              <a:rPr sz="40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ncentration Profil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and two finite-differenc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371600" y="2276640"/>
            <a:ext cx="668664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HREEQC Transport Calculat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4" name="Group 108"/>
          <p:cNvGrpSpPr/>
          <p:nvPr/>
        </p:nvGrpSpPr>
        <p:grpSpPr>
          <a:xfrm>
            <a:off x="3048120" y="1523880"/>
            <a:ext cx="4876200" cy="685800"/>
            <a:chOff x="3048120" y="1523880"/>
            <a:chExt cx="4876200" cy="685800"/>
          </a:xfrm>
        </p:grpSpPr>
        <p:sp>
          <p:nvSpPr>
            <p:cNvPr id="145" name="Rectangle 87"/>
            <p:cNvSpPr/>
            <p:nvPr/>
          </p:nvSpPr>
          <p:spPr>
            <a:xfrm>
              <a:off x="304812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88"/>
            <p:cNvSpPr/>
            <p:nvPr/>
          </p:nvSpPr>
          <p:spPr>
            <a:xfrm>
              <a:off x="368100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89"/>
            <p:cNvSpPr/>
            <p:nvPr/>
          </p:nvSpPr>
          <p:spPr>
            <a:xfrm>
              <a:off x="431460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0"/>
            <p:cNvSpPr/>
            <p:nvPr/>
          </p:nvSpPr>
          <p:spPr>
            <a:xfrm>
              <a:off x="494784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1"/>
            <p:cNvSpPr/>
            <p:nvPr/>
          </p:nvSpPr>
          <p:spPr>
            <a:xfrm>
              <a:off x="558108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92"/>
            <p:cNvSpPr/>
            <p:nvPr/>
          </p:nvSpPr>
          <p:spPr>
            <a:xfrm>
              <a:off x="621468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99"/>
            <p:cNvSpPr/>
            <p:nvPr/>
          </p:nvSpPr>
          <p:spPr>
            <a:xfrm>
              <a:off x="754452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00"/>
            <p:cNvSpPr/>
            <p:nvPr/>
          </p:nvSpPr>
          <p:spPr>
            <a:xfrm>
              <a:off x="330120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03"/>
            <p:cNvSpPr/>
            <p:nvPr/>
          </p:nvSpPr>
          <p:spPr>
            <a:xfrm>
              <a:off x="393444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04"/>
            <p:cNvSpPr/>
            <p:nvPr/>
          </p:nvSpPr>
          <p:spPr>
            <a:xfrm>
              <a:off x="456804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105"/>
            <p:cNvSpPr/>
            <p:nvPr/>
          </p:nvSpPr>
          <p:spPr>
            <a:xfrm>
              <a:off x="520092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06"/>
            <p:cNvSpPr/>
            <p:nvPr/>
          </p:nvSpPr>
          <p:spPr>
            <a:xfrm>
              <a:off x="583452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07"/>
            <p:cNvSpPr/>
            <p:nvPr/>
          </p:nvSpPr>
          <p:spPr>
            <a:xfrm>
              <a:off x="716472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09"/>
          <p:cNvSpPr/>
          <p:nvPr/>
        </p:nvSpPr>
        <p:spPr>
          <a:xfrm>
            <a:off x="7621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8"/>
          <p:cNvSpPr/>
          <p:nvPr/>
        </p:nvSpPr>
        <p:spPr>
          <a:xfrm>
            <a:off x="76212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49"/>
          <p:cNvGrpSpPr/>
          <p:nvPr/>
        </p:nvGrpSpPr>
        <p:grpSpPr>
          <a:xfrm>
            <a:off x="3048120" y="2971800"/>
            <a:ext cx="4876560" cy="1066680"/>
            <a:chOff x="3048120" y="2971800"/>
            <a:chExt cx="4876560" cy="1066680"/>
          </a:xfrm>
        </p:grpSpPr>
        <p:grpSp>
          <p:nvGrpSpPr>
            <p:cNvPr id="161" name="Group 148"/>
            <p:cNvGrpSpPr/>
            <p:nvPr/>
          </p:nvGrpSpPr>
          <p:grpSpPr>
            <a:xfrm>
              <a:off x="3048120" y="3341520"/>
              <a:ext cx="4876560" cy="316080"/>
              <a:chOff x="3048120" y="3341520"/>
              <a:chExt cx="4876560" cy="316080"/>
            </a:xfrm>
          </p:grpSpPr>
          <p:sp>
            <p:nvSpPr>
              <p:cNvPr id="162" name="Rectangle 125"/>
              <p:cNvSpPr/>
              <p:nvPr/>
            </p:nvSpPr>
            <p:spPr>
              <a:xfrm>
                <a:off x="304812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26"/>
              <p:cNvSpPr/>
              <p:nvPr/>
            </p:nvSpPr>
            <p:spPr>
              <a:xfrm>
                <a:off x="368136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27"/>
              <p:cNvSpPr/>
              <p:nvPr/>
            </p:nvSpPr>
            <p:spPr>
              <a:xfrm>
                <a:off x="431496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28"/>
              <p:cNvSpPr/>
              <p:nvPr/>
            </p:nvSpPr>
            <p:spPr>
              <a:xfrm>
                <a:off x="494820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29"/>
              <p:cNvSpPr/>
              <p:nvPr/>
            </p:nvSpPr>
            <p:spPr>
              <a:xfrm>
                <a:off x="558180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30"/>
              <p:cNvSpPr/>
              <p:nvPr/>
            </p:nvSpPr>
            <p:spPr>
              <a:xfrm>
                <a:off x="621504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1"/>
              <p:cNvSpPr/>
              <p:nvPr/>
            </p:nvSpPr>
            <p:spPr>
              <a:xfrm>
                <a:off x="754524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139"/>
            <p:cNvGrpSpPr/>
            <p:nvPr/>
          </p:nvGrpSpPr>
          <p:grpSpPr>
            <a:xfrm>
              <a:off x="3301920" y="2971800"/>
              <a:ext cx="4368960" cy="349200"/>
              <a:chOff x="3301920" y="2971800"/>
              <a:chExt cx="4368960" cy="349200"/>
            </a:xfrm>
          </p:grpSpPr>
          <p:sp>
            <p:nvSpPr>
              <p:cNvPr id="170" name="AutoShape 132"/>
              <p:cNvSpPr/>
              <p:nvPr/>
            </p:nvSpPr>
            <p:spPr>
              <a:xfrm>
                <a:off x="3301920" y="2971800"/>
                <a:ext cx="506520" cy="349200"/>
              </a:xfrm>
              <a:custGeom>
                <a:avLst/>
                <a:gdLst>
                  <a:gd name="textAreaLeft" fmla="*/ 88560 w 506520"/>
                  <a:gd name="textAreaRight" fmla="*/ 36720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133"/>
              <p:cNvSpPr/>
              <p:nvPr/>
            </p:nvSpPr>
            <p:spPr>
              <a:xfrm>
                <a:off x="3935520" y="2971800"/>
                <a:ext cx="506160" cy="349200"/>
              </a:xfrm>
              <a:custGeom>
                <a:avLst/>
                <a:gdLst>
                  <a:gd name="textAreaLeft" fmla="*/ 88560 w 506160"/>
                  <a:gd name="textAreaRight" fmla="*/ 367200 w 5061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134"/>
              <p:cNvSpPr/>
              <p:nvPr/>
            </p:nvSpPr>
            <p:spPr>
              <a:xfrm>
                <a:off x="4568760" y="2971800"/>
                <a:ext cx="506520" cy="349200"/>
              </a:xfrm>
              <a:custGeom>
                <a:avLst/>
                <a:gdLst>
                  <a:gd name="textAreaLeft" fmla="*/ 88560 w 506520"/>
                  <a:gd name="textAreaRight" fmla="*/ 36720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utoShape 135"/>
              <p:cNvSpPr/>
              <p:nvPr/>
            </p:nvSpPr>
            <p:spPr>
              <a:xfrm>
                <a:off x="5200560" y="2971800"/>
                <a:ext cx="507960" cy="349200"/>
              </a:xfrm>
              <a:custGeom>
                <a:avLst/>
                <a:gdLst>
                  <a:gd name="textAreaLeft" fmla="*/ 88920 w 507960"/>
                  <a:gd name="textAreaRight" fmla="*/ 36828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136"/>
              <p:cNvSpPr/>
              <p:nvPr/>
            </p:nvSpPr>
            <p:spPr>
              <a:xfrm>
                <a:off x="5834160" y="2971800"/>
                <a:ext cx="507960" cy="349200"/>
              </a:xfrm>
              <a:custGeom>
                <a:avLst/>
                <a:gdLst>
                  <a:gd name="textAreaLeft" fmla="*/ 88920 w 507960"/>
                  <a:gd name="textAreaRight" fmla="*/ 36828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137"/>
              <p:cNvSpPr/>
              <p:nvPr/>
            </p:nvSpPr>
            <p:spPr>
              <a:xfrm>
                <a:off x="7164360" y="2971800"/>
                <a:ext cx="506520" cy="349200"/>
              </a:xfrm>
              <a:custGeom>
                <a:avLst/>
                <a:gdLst>
                  <a:gd name="textAreaLeft" fmla="*/ 88560 w 506520"/>
                  <a:gd name="textAreaRight" fmla="*/ 36720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147"/>
            <p:cNvGrpSpPr/>
            <p:nvPr/>
          </p:nvGrpSpPr>
          <p:grpSpPr>
            <a:xfrm>
              <a:off x="3309480" y="3689280"/>
              <a:ext cx="4310280" cy="349200"/>
              <a:chOff x="3309480" y="3689280"/>
              <a:chExt cx="4310280" cy="349200"/>
            </a:xfrm>
          </p:grpSpPr>
          <p:sp>
            <p:nvSpPr>
              <p:cNvPr id="177" name="AutoShape 141"/>
              <p:cNvSpPr/>
              <p:nvPr/>
            </p:nvSpPr>
            <p:spPr>
              <a:xfrm flipH="1" flipV="1">
                <a:off x="5842800" y="3689280"/>
                <a:ext cx="506520" cy="349200"/>
              </a:xfrm>
              <a:custGeom>
                <a:avLst/>
                <a:gdLst>
                  <a:gd name="textAreaLeft" fmla="*/ 88200 w 506520"/>
                  <a:gd name="textAreaRight" fmla="*/ 36684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142"/>
              <p:cNvSpPr/>
              <p:nvPr/>
            </p:nvSpPr>
            <p:spPr>
              <a:xfrm flipH="1" flipV="1">
                <a:off x="5210280" y="3689280"/>
                <a:ext cx="506160" cy="349200"/>
              </a:xfrm>
              <a:custGeom>
                <a:avLst/>
                <a:gdLst>
                  <a:gd name="textAreaLeft" fmla="*/ 88560 w 506160"/>
                  <a:gd name="textAreaRight" fmla="*/ 367200 w 5061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utoShape 143"/>
              <p:cNvSpPr/>
              <p:nvPr/>
            </p:nvSpPr>
            <p:spPr>
              <a:xfrm flipH="1" flipV="1">
                <a:off x="4575960" y="3689280"/>
                <a:ext cx="506520" cy="349200"/>
              </a:xfrm>
              <a:custGeom>
                <a:avLst/>
                <a:gdLst>
                  <a:gd name="textAreaLeft" fmla="*/ 88200 w 506520"/>
                  <a:gd name="textAreaRight" fmla="*/ 36684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44"/>
              <p:cNvSpPr/>
              <p:nvPr/>
            </p:nvSpPr>
            <p:spPr>
              <a:xfrm flipH="1" flipV="1">
                <a:off x="3942720" y="3689280"/>
                <a:ext cx="507960" cy="349200"/>
              </a:xfrm>
              <a:custGeom>
                <a:avLst/>
                <a:gdLst>
                  <a:gd name="textAreaLeft" fmla="*/ 88560 w 507960"/>
                  <a:gd name="textAreaRight" fmla="*/ 36792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145"/>
              <p:cNvSpPr/>
              <p:nvPr/>
            </p:nvSpPr>
            <p:spPr>
              <a:xfrm flipH="1" flipV="1">
                <a:off x="3309120" y="3689280"/>
                <a:ext cx="507960" cy="349200"/>
              </a:xfrm>
              <a:custGeom>
                <a:avLst/>
                <a:gdLst>
                  <a:gd name="textAreaLeft" fmla="*/ 88560 w 507960"/>
                  <a:gd name="textAreaRight" fmla="*/ 36792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146"/>
              <p:cNvSpPr/>
              <p:nvPr/>
            </p:nvSpPr>
            <p:spPr>
              <a:xfrm flipH="1" flipV="1">
                <a:off x="7112880" y="3689280"/>
                <a:ext cx="506520" cy="349200"/>
              </a:xfrm>
              <a:custGeom>
                <a:avLst/>
                <a:gdLst>
                  <a:gd name="textAreaLeft" fmla="*/ 88200 w 506520"/>
                  <a:gd name="textAreaRight" fmla="*/ 36684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150"/>
          <p:cNvSpPr/>
          <p:nvPr/>
        </p:nvSpPr>
        <p:spPr>
          <a:xfrm>
            <a:off x="76212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97"/>
          <p:cNvGrpSpPr/>
          <p:nvPr/>
        </p:nvGrpSpPr>
        <p:grpSpPr>
          <a:xfrm>
            <a:off x="3048120" y="4572000"/>
            <a:ext cx="4876560" cy="837720"/>
            <a:chOff x="3048120" y="4572000"/>
            <a:chExt cx="4876560" cy="837720"/>
          </a:xfrm>
        </p:grpSpPr>
        <p:grpSp>
          <p:nvGrpSpPr>
            <p:cNvPr id="185" name="Group 152"/>
            <p:cNvGrpSpPr/>
            <p:nvPr/>
          </p:nvGrpSpPr>
          <p:grpSpPr>
            <a:xfrm>
              <a:off x="3048120" y="5094000"/>
              <a:ext cx="4876560" cy="315720"/>
              <a:chOff x="3048120" y="5094000"/>
              <a:chExt cx="4876560" cy="315720"/>
            </a:xfrm>
          </p:grpSpPr>
          <p:sp>
            <p:nvSpPr>
              <p:cNvPr id="186" name="Rectangle 153"/>
              <p:cNvSpPr/>
              <p:nvPr/>
            </p:nvSpPr>
            <p:spPr>
              <a:xfrm>
                <a:off x="304812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54"/>
              <p:cNvSpPr/>
              <p:nvPr/>
            </p:nvSpPr>
            <p:spPr>
              <a:xfrm>
                <a:off x="368136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55"/>
              <p:cNvSpPr/>
              <p:nvPr/>
            </p:nvSpPr>
            <p:spPr>
              <a:xfrm>
                <a:off x="431496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56"/>
              <p:cNvSpPr/>
              <p:nvPr/>
            </p:nvSpPr>
            <p:spPr>
              <a:xfrm>
                <a:off x="494820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57"/>
              <p:cNvSpPr/>
              <p:nvPr/>
            </p:nvSpPr>
            <p:spPr>
              <a:xfrm>
                <a:off x="558180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58"/>
              <p:cNvSpPr/>
              <p:nvPr/>
            </p:nvSpPr>
            <p:spPr>
              <a:xfrm>
                <a:off x="621504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59"/>
              <p:cNvSpPr/>
              <p:nvPr/>
            </p:nvSpPr>
            <p:spPr>
              <a:xfrm>
                <a:off x="754524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96"/>
            <p:cNvGrpSpPr/>
            <p:nvPr/>
          </p:nvGrpSpPr>
          <p:grpSpPr>
            <a:xfrm>
              <a:off x="3048120" y="4572000"/>
              <a:ext cx="4799880" cy="380880"/>
              <a:chOff x="3048120" y="4572000"/>
              <a:chExt cx="4799880" cy="380880"/>
            </a:xfrm>
          </p:grpSpPr>
          <p:grpSp>
            <p:nvGrpSpPr>
              <p:cNvPr id="194" name="Group 177"/>
              <p:cNvGrpSpPr/>
              <p:nvPr/>
            </p:nvGrpSpPr>
            <p:grpSpPr>
              <a:xfrm>
                <a:off x="3048120" y="4572000"/>
                <a:ext cx="304560" cy="380880"/>
                <a:chOff x="3048120" y="4572000"/>
                <a:chExt cx="304560" cy="380880"/>
              </a:xfrm>
            </p:grpSpPr>
            <p:sp>
              <p:nvSpPr>
                <p:cNvPr id="195" name="AutoShape 175"/>
                <p:cNvSpPr/>
                <p:nvPr/>
              </p:nvSpPr>
              <p:spPr>
                <a:xfrm>
                  <a:off x="304812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176"/>
                <p:cNvSpPr/>
                <p:nvPr/>
              </p:nvSpPr>
              <p:spPr>
                <a:xfrm flipV="1">
                  <a:off x="321048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178"/>
              <p:cNvGrpSpPr/>
              <p:nvPr/>
            </p:nvGrpSpPr>
            <p:grpSpPr>
              <a:xfrm>
                <a:off x="3733560" y="4572000"/>
                <a:ext cx="304560" cy="380880"/>
                <a:chOff x="3733560" y="4572000"/>
                <a:chExt cx="304560" cy="380880"/>
              </a:xfrm>
            </p:grpSpPr>
            <p:sp>
              <p:nvSpPr>
                <p:cNvPr id="198" name="AutoShape 179"/>
                <p:cNvSpPr/>
                <p:nvPr/>
              </p:nvSpPr>
              <p:spPr>
                <a:xfrm>
                  <a:off x="373356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AutoShape 180"/>
                <p:cNvSpPr/>
                <p:nvPr/>
              </p:nvSpPr>
              <p:spPr>
                <a:xfrm flipV="1">
                  <a:off x="389592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181"/>
              <p:cNvGrpSpPr/>
              <p:nvPr/>
            </p:nvGrpSpPr>
            <p:grpSpPr>
              <a:xfrm>
                <a:off x="4343040" y="4572000"/>
                <a:ext cx="304560" cy="380880"/>
                <a:chOff x="4343040" y="4572000"/>
                <a:chExt cx="304560" cy="380880"/>
              </a:xfrm>
            </p:grpSpPr>
            <p:sp>
              <p:nvSpPr>
                <p:cNvPr id="201" name="AutoShape 182"/>
                <p:cNvSpPr/>
                <p:nvPr/>
              </p:nvSpPr>
              <p:spPr>
                <a:xfrm>
                  <a:off x="434304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183"/>
                <p:cNvSpPr/>
                <p:nvPr/>
              </p:nvSpPr>
              <p:spPr>
                <a:xfrm flipV="1">
                  <a:off x="450540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184"/>
              <p:cNvGrpSpPr/>
              <p:nvPr/>
            </p:nvGrpSpPr>
            <p:grpSpPr>
              <a:xfrm>
                <a:off x="5028840" y="4572000"/>
                <a:ext cx="304560" cy="380880"/>
                <a:chOff x="5028840" y="4572000"/>
                <a:chExt cx="304560" cy="380880"/>
              </a:xfrm>
            </p:grpSpPr>
            <p:sp>
              <p:nvSpPr>
                <p:cNvPr id="204" name="AutoShape 185"/>
                <p:cNvSpPr/>
                <p:nvPr/>
              </p:nvSpPr>
              <p:spPr>
                <a:xfrm>
                  <a:off x="502884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AutoShape 186"/>
                <p:cNvSpPr/>
                <p:nvPr/>
              </p:nvSpPr>
              <p:spPr>
                <a:xfrm flipV="1">
                  <a:off x="519120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187"/>
              <p:cNvGrpSpPr/>
              <p:nvPr/>
            </p:nvGrpSpPr>
            <p:grpSpPr>
              <a:xfrm>
                <a:off x="5638680" y="4572000"/>
                <a:ext cx="304200" cy="380880"/>
                <a:chOff x="5638680" y="4572000"/>
                <a:chExt cx="304200" cy="380880"/>
              </a:xfrm>
            </p:grpSpPr>
            <p:sp>
              <p:nvSpPr>
                <p:cNvPr id="207" name="AutoShape 188"/>
                <p:cNvSpPr/>
                <p:nvPr/>
              </p:nvSpPr>
              <p:spPr>
                <a:xfrm>
                  <a:off x="5638680" y="4594320"/>
                  <a:ext cx="141840" cy="358560"/>
                </a:xfrm>
                <a:custGeom>
                  <a:avLst/>
                  <a:gdLst>
                    <a:gd name="textAreaLeft" fmla="*/ 18720 w 141840"/>
                    <a:gd name="textAreaRight" fmla="*/ 123120 w 14184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AutoShape 189"/>
                <p:cNvSpPr/>
                <p:nvPr/>
              </p:nvSpPr>
              <p:spPr>
                <a:xfrm flipV="1">
                  <a:off x="5801040" y="4572000"/>
                  <a:ext cx="141840" cy="358560"/>
                </a:xfrm>
                <a:custGeom>
                  <a:avLst/>
                  <a:gdLst>
                    <a:gd name="textAreaLeft" fmla="*/ 18720 w 141840"/>
                    <a:gd name="textAreaRight" fmla="*/ 123120 w 14184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190"/>
              <p:cNvGrpSpPr/>
              <p:nvPr/>
            </p:nvGrpSpPr>
            <p:grpSpPr>
              <a:xfrm>
                <a:off x="6248160" y="4572000"/>
                <a:ext cx="304560" cy="380880"/>
                <a:chOff x="6248160" y="4572000"/>
                <a:chExt cx="304560" cy="380880"/>
              </a:xfrm>
            </p:grpSpPr>
            <p:sp>
              <p:nvSpPr>
                <p:cNvPr id="210" name="AutoShape 191"/>
                <p:cNvSpPr/>
                <p:nvPr/>
              </p:nvSpPr>
              <p:spPr>
                <a:xfrm>
                  <a:off x="624816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192"/>
                <p:cNvSpPr/>
                <p:nvPr/>
              </p:nvSpPr>
              <p:spPr>
                <a:xfrm flipV="1">
                  <a:off x="641052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93"/>
              <p:cNvGrpSpPr/>
              <p:nvPr/>
            </p:nvGrpSpPr>
            <p:grpSpPr>
              <a:xfrm>
                <a:off x="7543440" y="4572000"/>
                <a:ext cx="304560" cy="380880"/>
                <a:chOff x="7543440" y="4572000"/>
                <a:chExt cx="304560" cy="380880"/>
              </a:xfrm>
            </p:grpSpPr>
            <p:sp>
              <p:nvSpPr>
                <p:cNvPr id="213" name="AutoShape 194"/>
                <p:cNvSpPr/>
                <p:nvPr/>
              </p:nvSpPr>
              <p:spPr>
                <a:xfrm>
                  <a:off x="754344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195"/>
                <p:cNvSpPr/>
                <p:nvPr/>
              </p:nvSpPr>
              <p:spPr>
                <a:xfrm flipV="1">
                  <a:off x="770580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1752480" y="1635120"/>
            <a:ext cx="5762880" cy="2403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6438960" y="2666880"/>
            <a:ext cx="380880" cy="76212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81080" y="3657240"/>
            <a:ext cx="5105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nant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omponent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ayer diffusion in c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62520" cy="2403720"/>
          </a:xfrm>
          <a:prstGeom prst="rect">
            <a:avLst/>
          </a:prstGeom>
          <a:ln w="0">
            <a:noFill/>
          </a:ln>
        </p:spPr>
      </p:pic>
      <p:sp>
        <p:nvSpPr>
          <p:cNvPr id="222" name="Oval 5"/>
          <p:cNvSpPr/>
          <p:nvPr/>
        </p:nvSpPr>
        <p:spPr>
          <a:xfrm>
            <a:off x="6654960" y="2108160"/>
            <a:ext cx="380880" cy="76212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8760" y="1036800"/>
            <a:ext cx="432612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rsenic in the Central Oklahoma Aquif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7000" y="2684160"/>
            <a:ext cx="4325760" cy="33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senic mostly in confined part of aqui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senic associated with high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as"/>
          <p:cNvPicPr/>
          <p:nvPr/>
        </p:nvPicPr>
        <p:blipFill>
          <a:blip r:embed="rId1"/>
          <a:stretch/>
        </p:blipFill>
        <p:spPr>
          <a:xfrm>
            <a:off x="4621320" y="136440"/>
            <a:ext cx="4370400" cy="6629400"/>
          </a:xfrm>
          <a:prstGeom prst="rect">
            <a:avLst/>
          </a:prstGeom>
          <a:ln w="34920">
            <a:solidFill>
              <a:srgbClr val="00cc99"/>
            </a:solidFill>
            <a:miter/>
          </a:ln>
        </p:spPr>
      </p:pic>
      <p:sp>
        <p:nvSpPr>
          <p:cNvPr id="226" name="AutoShape 5"/>
          <p:cNvSpPr/>
          <p:nvPr/>
        </p:nvSpPr>
        <p:spPr>
          <a:xfrm>
            <a:off x="5486400" y="3048120"/>
            <a:ext cx="609480" cy="83808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 flipV="1">
            <a:off x="5334120" y="2208960"/>
            <a:ext cx="609480" cy="83844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B473-6A0B-45B0-8239-5F10800DC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cal Reactions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e initially fills the aqui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e and dolomite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 ex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aX +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aX + 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g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comple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o-HAsO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foOH + HAsO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1635-93A9-4B8F-ADBA-613B9003D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numbered from 1 to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numbers (of SOLUTION, EQUILIBRIUM_PHASES, etc) are used to define the solution and reactants in each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0 (or N+1) enters the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“shifted” from one cell to th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OED</cp:lastModifiedBy>
  <dcterms:modified xsi:type="dcterms:W3CDTF">2011-03-17T14:40:08Z</dcterms:modified>
  <cp:revision>169</cp:revision>
  <dc:subject/>
  <dc:title>Defining Solutions</dc:title>
</cp:coreProperties>
</file>