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107-7894-48BD-BB1E-87226C70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864-9024-447B-8DE1-CBB34FBB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E19-F395-4B79-9C8E-ABB5A842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A18-5CE2-4C00-A5DA-5829AD3C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2D31-6F61-40E6-84B3-BBEFCCD4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5E07-A557-4E10-AD91-46FEB9D6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6494-67E7-49A0-8151-4E5FE95E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5B7C-F8D1-4F6F-A739-886E554B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5F1F-F501-4CC6-B1F5-97359F6B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914E-272D-4393-AC08-A2A74B4D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A697-5297-47BD-BC95-0814BE68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E88-E1C4-4676-92FA-BD0CB08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D7FD-026C-4F4B-A797-A6ECE27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EBB3-5A34-43B7-956B-1994B97E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3AB2-0DD2-4511-B9E9-B31DE981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A808-7342-4217-85CC-198415BE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80EA-C07C-4EF5-902D-597557A8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98B-A124-440F-95EB-3F8C9B8F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C61-97D1-42DE-BCB5-7C1A7F3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FFC-E2FC-4C8C-93AF-7E371FFF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D33-2555-4C65-B85C-5146B209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A93-0239-4B03-A9DA-5039E50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B90-94C1-43E6-897C-F7106452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33B-B1E5-422A-A495-8357CA68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F9BC-AC07-4DCB-83A9-E2FDFF82676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40080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5959-3745-478F-AB8C-B1FDC9B367A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095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cc"/>
                </a:solidFill>
                <a:latin typeface="Arial"/>
              </a:rPr>
              <a:t>Ground-Water Flow and Solute Transport for the PHAST Simulator:</a:t>
            </a: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700"/>
            </a:b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Numerical Considerations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7239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6576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ling Numerical Oscill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09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iter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differenc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time differenc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r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23880" y="2743200"/>
                <a:ext cx="2743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4419720"/>
                <a:ext cx="3083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Δt</m:t>
                        </m:r>
                      </m:num>
                      <m:den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vΔt</m:t>
                        </m:r>
                      </m:num>
                      <m:den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14600" y="5468760"/>
                <a:ext cx="10666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Δt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ling Numerical Dispers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stream-in-space differencing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ckward-in-time differenc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racy requir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mensionless accuracy requirement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                                     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77800" y="1633680"/>
                <a:ext cx="16002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581280" y="1633680"/>
                <a:ext cx="1474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77800" y="3048120"/>
                <a:ext cx="1600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595680" y="3048120"/>
                <a:ext cx="1474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77800" y="4400640"/>
                <a:ext cx="3246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952880" y="5367240"/>
                <a:ext cx="16020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77800" y="5367240"/>
                <a:ext cx="27831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Δt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18280" y="4400640"/>
                <a:ext cx="313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oss-Flow Dispersion Discretization truncation err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ute transport equation in 2-dimensions, steady flow at angle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o coordin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334120" cy="662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280" y="2819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ackwards-in-time and upstream-in-space differenc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 leading terms; numerical dispers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3434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umerical 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angential is min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4; max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0,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rmal is max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4; min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0,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52480" y="3524400"/>
            <a:ext cx="5715000" cy="618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410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med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fine grid and reduce time ste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e Slug in 2 Dimens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iform prope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eady 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ydraulic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-path length: 100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rosity: 0.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vity: 0.012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nd-water velo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stitial velocity: 1.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rcy velocity: 0.1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on coefficient: 0.024 m2/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 duration: 10 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327672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27432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24360" y="298440"/>
            <a:ext cx="5067360" cy="2952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172200" y="3741840"/>
            <a:ext cx="2666880" cy="2582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44600" y="3429000"/>
            <a:ext cx="5105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rator Splitting Err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der </a:t>
            </a:r>
            <a:r>
              <a:rPr b="0" i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equilibrium sorp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kinetic mass transfer or linear dec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d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small time ste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egative Intermediate Concentrat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us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patial discretization (centered-in-spac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mporal discretization (centered-in-tim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oss-dispersion terms with strong diagonal fl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erator splitt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.g.Linear equilibrium sorption chemistry, SNlA metho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re R is the retardation factor, R &gt; 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vershoot and undershoot may occur with strong sorption, strong partition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ffect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ailure of the chemical reaction calcul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62320" y="3666960"/>
            <a:ext cx="25905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egative Intermediate Concentrat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di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all </a:t>
            </a:r>
            <a:r>
              <a:rPr b="0" i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all </a:t>
            </a:r>
            <a:r>
              <a:rPr b="0" i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dify or ignore cross-dispersion ter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AST limits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c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positive valu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ain of ma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omatic Time-Step Algorithm for Steady-State Flow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ximum change in head over time step;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me-step limits;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bjectiv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just time step to achieve target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thod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rt each cycle with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just time step as necessary for targe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duce time step if solver convergence fail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sible difficulti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compatible with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ompatible with b.c. and i.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he Linear Equation Syste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arse; small fraction of non-zero elem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ructured; 7 diagon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ymmetric for flow equ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symmetric for transport equ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3565440" y="167652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Ax = 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umerical implem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merical oscillation and disper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erator splitting err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gative concentr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time ste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equation solv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agnosis of difficul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near Equation Solv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rect Solv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sed on Gaussian elimination without pivo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user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st for smaller problems (few thousand no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near Equation Solv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erative solv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conditioned restarted Orthomin meth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ased on adjusting the solution to minimize the residual using a set of conjugate, orthogonal direc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conditioning used to accelerate converg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veral user paramet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vergence tolera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tart interv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eration count limi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eded for larger problems (tens of thousands of nod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terative Linear Equation Solver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aling the equ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ws and columns can be scal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ere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 diagonal scaling matri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ale factors calculated to make the maximum element in each row and column of A equal to 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ables a single value of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o apply to flow and all transport equation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ly row scaling is implemen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73120" y="2349360"/>
            <a:ext cx="2286000" cy="4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terative Linear Equation Solver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tting Orthomin iteration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opping toler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1x10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-1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ary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and observe change in solu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ant changes to be in insignificant digi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ximum number of iter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5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if necessary; usually indicates another proble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start interval (number of saved search direc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if necessary to avoid non-converg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mputational Procedur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9760" y="1294920"/>
            <a:ext cx="6400800" cy="83844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verning partial differential equ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boundary condi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238560" y="2610000"/>
            <a:ext cx="274320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cret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543480"/>
            <a:ext cx="815328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ystem of flow and transport algebraic equ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2040" y="4476600"/>
            <a:ext cx="609624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quation sol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7480" y="5410080"/>
            <a:ext cx="670536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roximate numerical sol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10160" y="214308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10160" y="307656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0160" y="401004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494352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utational mathematics is mainly based on two ideas: Taylor series and linear algebr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-L.N. Trefethen (1998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D Solute Transport, Steady Fl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1409760"/>
            <a:ext cx="2514600" cy="755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213372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patial discret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498680" y="257796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98680"/>
            <a:ext cx="914400" cy="435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9480" y="3809880"/>
            <a:ext cx="6553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ed-in-space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ossible oscilla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pstream-in-spa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490760" y="3797280"/>
            <a:ext cx="33804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419720" y="4508640"/>
            <a:ext cx="838080" cy="39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613480"/>
                <a:ext cx="6094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D Solute Transport, Steady Fl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8120" y="1530360"/>
            <a:ext cx="2514600" cy="75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2362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mporal discretiz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tim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sible oscil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ackward-in-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37332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13400" y="3767040"/>
            <a:ext cx="657000" cy="34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13400" y="4970520"/>
                <a:ext cx="5745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75438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90920" y="1130400"/>
            <a:ext cx="3429000" cy="920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236232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ariable grid spac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424160" indent="-2034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803240" y="2933640"/>
            <a:ext cx="408240" cy="45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14400" y="4191120"/>
            <a:ext cx="6553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 error by limiting changes in adjacent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factor of 1.25 to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803240" y="4127400"/>
            <a:ext cx="403560" cy="546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952880" y="3733920"/>
            <a:ext cx="1498680" cy="34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952880" y="5111640"/>
            <a:ext cx="14986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e Slug in 1 Dimen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iform prope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eady 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ydraulic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-path length: 100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rosity: 0.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vity: 0.012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nd-water velo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stitial velocity: 1.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rcy velocity: 0.1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on coefficient: 0.024 m2/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 duration: 10 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s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centration Profi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alytical and two finite-difference solu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5120" y="2276640"/>
            <a:ext cx="66862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35:18Z</dcterms:created>
  <dc:creator>Dave Parkhurst</dc:creator>
  <dc:description/>
  <dc:language>en-US</dc:language>
  <cp:lastModifiedBy>dlpark</cp:lastModifiedBy>
  <dcterms:modified xsi:type="dcterms:W3CDTF">2009-03-05T18:04:52Z</dcterms:modified>
  <cp:revision>72</cp:revision>
  <dc:subject/>
  <dc:title>Using WPHAST to Model the Central Oklahoma Aquifer</dc:title>
</cp:coreProperties>
</file>