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9056632-D9F5-4973-A8A0-CE681701B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2EF0FD1-FF8A-477B-9B7F-726075678A3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927-6B6D-4424-B3F9-E3F46E9D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779-B856-466C-9629-0166E5BD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062-D184-4895-883C-E46111C4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785E-CBE7-4995-A3BD-1BF82E9D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8760-0840-474A-BBF1-E93D378F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15B0-313D-4822-95B8-69A1C4E4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AFBE-5A1E-49A3-9AA5-7E22D97B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23BC-5863-4C33-BFA5-6737CC81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7E99-AD15-4544-AE28-B666B7EE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89A3-A587-4946-B007-2274F5EE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0153-4092-4F73-B6DC-2150982E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E26-A4FD-452E-96CB-A3D4D36B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903C-2A4B-4FC2-B7D6-2389E29D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46A4-9639-42C6-8C75-A5A605F5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AB98-8F03-4C53-8B87-3463E781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5B62-B1AE-4C1E-BFE3-26EA38BC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F9C3-FC2D-445D-BDE3-0F6B7949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B78-F650-4FBF-A8A2-C0117C2F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34A-738F-4E00-8137-87F7AEC1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4A1-3A8C-4CEF-9BC2-7DA95A2C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6AE-DCD2-4F5B-BB95-28B412EF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42B-C67E-4E1F-B22A-BFF8A93E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34B-36D9-486B-A0ED-CB8EEF6C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589-0312-4430-9BE6-84227D53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0C1B-BDCA-4E05-9999-656914C5E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" name="Picture 23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152280" y="6361200"/>
            <a:ext cx="114300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74" name="Picture 23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457200" y="6095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33EE-7C9A-4024-87CC-2908700E18F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The PHAST 3D Reactive-Transport Simulator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73200" y="3429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David Parkhurst, Ken Kipp, and Scott Charlt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E66E-1FFB-4A9E-B8AF-84B01FAC918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971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Zo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x—Rectangular bric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dge—Right triangular wed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is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rime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 sha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YZ fi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i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4429080" cy="2452680"/>
          </a:xfrm>
          <a:prstGeom prst="rect">
            <a:avLst/>
          </a:prstGeom>
          <a:ln w="0">
            <a:noFill/>
          </a:ln>
        </p:spPr>
      </p:pic>
      <p:sp>
        <p:nvSpPr>
          <p:cNvPr id="169" name="Oval 7"/>
          <p:cNvSpPr/>
          <p:nvPr/>
        </p:nvSpPr>
        <p:spPr>
          <a:xfrm>
            <a:off x="5486400" y="457200"/>
            <a:ext cx="736560" cy="48744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505320" y="4356000"/>
            <a:ext cx="4800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p, Bottom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 raster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 shape + attribute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YZ file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ints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7322-C739-4285-8D22-E21875EF390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66800" y="38160"/>
            <a:ext cx="25909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erimete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267080" y="121932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op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467160" y="28195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ottom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0" y="38160"/>
            <a:ext cx="3505320" cy="2627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2"/>
          <a:stretch/>
        </p:blipFill>
        <p:spPr>
          <a:xfrm>
            <a:off x="0" y="2819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3"/>
          <a:stretch/>
        </p:blipFill>
        <p:spPr>
          <a:xfrm>
            <a:off x="5638680" y="1219320"/>
            <a:ext cx="3505320" cy="262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"/>
          <p:cNvPicPr/>
          <p:nvPr/>
        </p:nvPicPr>
        <p:blipFill>
          <a:blip r:embed="rId4"/>
          <a:stretch/>
        </p:blipFill>
        <p:spPr>
          <a:xfrm>
            <a:off x="5638680" y="4232160"/>
            <a:ext cx="3505320" cy="26258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3886200" y="4232160"/>
            <a:ext cx="2057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ism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Slide Number Placeholder 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4C2E-A82D-4B2D-B4C2-1588D2ED0FF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erpolation for Top and Bott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YZ Data are treated as scattered 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atural neighbor interpolation (NNI) is used if possib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fines a continuous surface except at data poi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NI is not simply the closest neighb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ea weights by nearest poi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s closest neighbor interpolation (CNI) if NNI fai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 continuo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d outside convex hul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2ECE-57E2-49F1-936D-2F82243706B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wo Coordinate Syst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p—State plane, U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id—Local coordinate syst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 quite finish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day, map = gri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C5D0-8BC7-4416-9C2E-8820B608B34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signing Properties to a Z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t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inear in X, Y, or Z dir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ints—Values at set of X,Y,Z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YZ File—Values at set of X,Y,Z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YZT File—Boundary conditions on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,Y,Z,T,P: property at location and ti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7238-8D3F-4564-A31F-DD51D056160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D Interpolation from Poi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erties are assigned from the closest of the set of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duces a volume with constant property around each poi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C06E-4BB0-4571-A0A3-744AEDB39D6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patially Distributed Properties Are Overlayed in Zone Sequenc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erty P defined by green followed by brown zo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erty P defined by brown followed by green zo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5334120" y="1838160"/>
            <a:ext cx="2057400" cy="12193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553080" y="2219400"/>
            <a:ext cx="1828800" cy="457200"/>
          </a:xfrm>
          <a:prstGeom prst="rect">
            <a:avLst/>
          </a:prstGeom>
          <a:solidFill>
            <a:srgbClr val="aa8456">
              <a:alpha val="83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5486400" y="199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10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934320" y="2257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20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6553080" y="4867200"/>
            <a:ext cx="1905120" cy="457200"/>
          </a:xfrm>
          <a:prstGeom prst="rect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334120" y="4486320"/>
            <a:ext cx="2057400" cy="1219320"/>
          </a:xfrm>
          <a:prstGeom prst="rect">
            <a:avLst/>
          </a:prstGeom>
          <a:solidFill>
            <a:srgbClr val="339966">
              <a:alpha val="83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5867280" y="4890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10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7391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20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C5BF-F294-4D4C-8AE3-50AE28E1E58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57800" y="152280"/>
            <a:ext cx="281952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Zo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23920" y="837720"/>
            <a:ext cx="44197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d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itial condi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oundary condi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Zone flow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5715000" cy="3735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429080" cy="2452680"/>
          </a:xfrm>
          <a:prstGeom prst="rect">
            <a:avLst/>
          </a:prstGeom>
          <a:ln w="0">
            <a:noFill/>
          </a:ln>
        </p:spPr>
      </p:pic>
      <p:sp>
        <p:nvSpPr>
          <p:cNvPr id="208" name="Oval 6"/>
          <p:cNvSpPr/>
          <p:nvPr/>
        </p:nvSpPr>
        <p:spPr>
          <a:xfrm>
            <a:off x="1905120" y="457200"/>
            <a:ext cx="736560" cy="48744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85F7-7E6A-468C-B911-B7E269CDCB3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dia Propert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tiv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x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z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ros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ecific stora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ngitudinal dispersiv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rizontal component transverse dispersiv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ertical component transverse dispersiv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F81F-F95D-47C6-A41A-31443600479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ad I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fine head distribution for zon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sta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in X, Y, or Z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YZ file with 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4437-F9D2-4DE0-B2E7-DD186ED648E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82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troduction to PHA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view of geochemical reac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hast4Window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 modeling exerci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ctive-transport modeling exerci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4EFE-B674-42BC-804F-09350B0CAD3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ecified Head B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grid dependence because a specified head applies to entire cel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ime-dependent valu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ution numb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B059-85B9-42E0-869C-BB07ED58813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aky (Head dependent) BC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ies only over area defined by zone (partial cell fac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ies only to exterior fa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Z face—water goes to first active cell or water tab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ckne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ydraulic conductiv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me-dependent valu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 numb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0851-275E-4262-AE3D-629AF9C132F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743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lux B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ies only to area of cell face intersected by the z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me-dependent valu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ux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5253120" y="228600"/>
            <a:ext cx="3890880" cy="376092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AE06-0F00-4CD5-A381-FE5ECAEBFB8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verlapping B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plicate flux areas are remov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plicate leaky areas are remov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aky and flux can coexist on a cell fac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ither Leaky nor flux can coexist with specified hea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st defined takes precedenc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AF85-7F68-472E-BC32-C8F6EF3358D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ivers &amp; Drai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ries of X,Y 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d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d hydraulic conductiv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d thickne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levation of b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me-dependent values (Rivers only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ameters and time-dependent valu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st define for first and last poi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f not defined at intermediate points, interpolation by river dist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30BD-39D5-475A-9CF7-5896174502F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iver  and Drain User Defini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1600200" y="1227240"/>
            <a:ext cx="5638680" cy="5441760"/>
          </a:xfrm>
          <a:prstGeom prst="rect">
            <a:avLst/>
          </a:prstGeom>
          <a:ln w="0">
            <a:noFill/>
          </a:ln>
        </p:spPr>
      </p:pic>
      <p:sp>
        <p:nvSpPr>
          <p:cNvPr id="2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815D-3712-4230-BCF0-A7662159338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iver  and Drain Process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688080" cy="5533920"/>
          </a:xfrm>
          <a:prstGeom prst="rect">
            <a:avLst/>
          </a:prstGeom>
          <a:ln w="0">
            <a:noFill/>
          </a:ln>
        </p:spPr>
      </p:pic>
      <p:sp>
        <p:nvSpPr>
          <p:cNvPr id="238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CA1F-7247-4497-AAB9-C4714BD65B0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505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e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, Y loc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amet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loc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pen interva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ime-dependent paramet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umping/injection r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ution numb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029200" y="228600"/>
            <a:ext cx="3957480" cy="411480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743D-B23B-40F0-BADB-8A909B4983C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AST (PHREEQC) Chemist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240" y="1646280"/>
            <a:ext cx="8915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queous mode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teq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LN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itz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T (Specific ion Interaction Theor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cta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ineral equilibri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rface complex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on exchang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id solu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inetic reaction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A6EF-B2A0-4751-AC11-0C579500219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ansport and Chemist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240" y="1646280"/>
            <a:ext cx="8915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low and transport data file (.trans.dat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emistry data file (.chem.dat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u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ineral equilibriu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rface complex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on exchan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id solu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inetic reaction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3610-28FB-4250-9DDF-C9935E80586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63912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0DF8-8D6E-4CCE-839E-1742F353C04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ineral Assemblage in .chem.d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solidFill>
            <a:srgbClr val="000000"/>
          </a:solidFill>
          <a:ln w="2844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EQUILIBRIUM_PHASES 1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Calcite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0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0.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Dolomite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1.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228600" y="42670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dentified by an integer (11)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y to a zone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AC58-D89E-4B9A-929D-0455CC7832A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emistry-Transport Connection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D numbers for reactants in .chem.dat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LU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QUILIBRIUM_PHASES—Minerals  and gase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URFACE—Surface complexation si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CHANGE—Ion exchang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LID_SOLUTIONS—Solid solu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KINETICS—Kinetic reaction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d in .trans.dat fi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EMISTRY_IC (all reactant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oundary conditions (solutions only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pecified hea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eak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lux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iv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el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0F01-6D6E-47C6-BD83-201DB1155D3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06268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ralle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1098360"/>
            <a:ext cx="4934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Single processor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 and transpo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Multiple processor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mist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ta passed using MP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0-30 processo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p to 500,000? no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urs of CP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842080" y="529596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842080" y="441972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6718320" y="4897440"/>
            <a:ext cx="0" cy="38088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5842080" y="133020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5842080" y="53352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6718320" y="1014480"/>
            <a:ext cx="0" cy="311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6718320" y="1819440"/>
            <a:ext cx="0" cy="311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519440" y="2125800"/>
            <a:ext cx="439740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Chemistry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66" name="Group 13"/>
          <p:cNvGrpSpPr/>
          <p:nvPr/>
        </p:nvGrpSpPr>
        <p:grpSpPr>
          <a:xfrm>
            <a:off x="4432320" y="2603520"/>
            <a:ext cx="4572000" cy="1676160"/>
            <a:chOff x="4432320" y="2603520"/>
            <a:chExt cx="4572000" cy="1676160"/>
          </a:xfrm>
        </p:grpSpPr>
        <p:grpSp>
          <p:nvGrpSpPr>
            <p:cNvPr id="267" name="Group 14"/>
            <p:cNvGrpSpPr/>
            <p:nvPr/>
          </p:nvGrpSpPr>
          <p:grpSpPr>
            <a:xfrm>
              <a:off x="4432320" y="2908080"/>
              <a:ext cx="4572000" cy="685800"/>
              <a:chOff x="4432320" y="2908080"/>
              <a:chExt cx="4572000" cy="685800"/>
            </a:xfrm>
          </p:grpSpPr>
          <p:sp>
            <p:nvSpPr>
              <p:cNvPr id="268" name="AutoShape 15"/>
              <p:cNvSpPr/>
              <p:nvPr/>
            </p:nvSpPr>
            <p:spPr>
              <a:xfrm>
                <a:off x="443232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69" name="AutoShape 16"/>
              <p:cNvSpPr/>
              <p:nvPr/>
            </p:nvSpPr>
            <p:spPr>
              <a:xfrm>
                <a:off x="540396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0" name="AutoShape 17"/>
              <p:cNvSpPr/>
              <p:nvPr/>
            </p:nvSpPr>
            <p:spPr>
              <a:xfrm>
                <a:off x="637560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1" name="AutoShape 18"/>
              <p:cNvSpPr/>
              <p:nvPr/>
            </p:nvSpPr>
            <p:spPr>
              <a:xfrm>
                <a:off x="831852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2" name="AutoShape 19"/>
              <p:cNvSpPr/>
              <p:nvPr/>
            </p:nvSpPr>
            <p:spPr>
              <a:xfrm>
                <a:off x="734688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73" name="Group 20"/>
            <p:cNvGrpSpPr/>
            <p:nvPr/>
          </p:nvGrpSpPr>
          <p:grpSpPr>
            <a:xfrm>
              <a:off x="4737240" y="2603520"/>
              <a:ext cx="3962160" cy="304560"/>
              <a:chOff x="4737240" y="2603520"/>
              <a:chExt cx="3962160" cy="304560"/>
            </a:xfrm>
          </p:grpSpPr>
          <p:sp>
            <p:nvSpPr>
              <p:cNvPr id="274" name="Line 21"/>
              <p:cNvSpPr/>
              <p:nvPr/>
            </p:nvSpPr>
            <p:spPr>
              <a:xfrm>
                <a:off x="473724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5" name="Line 22"/>
              <p:cNvSpPr/>
              <p:nvPr/>
            </p:nvSpPr>
            <p:spPr>
              <a:xfrm>
                <a:off x="572760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6" name="Line 23"/>
              <p:cNvSpPr/>
              <p:nvPr/>
            </p:nvSpPr>
            <p:spPr>
              <a:xfrm>
                <a:off x="671832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7" name="Line 24"/>
              <p:cNvSpPr/>
              <p:nvPr/>
            </p:nvSpPr>
            <p:spPr>
              <a:xfrm>
                <a:off x="770904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8" name="Line 25"/>
              <p:cNvSpPr/>
              <p:nvPr/>
            </p:nvSpPr>
            <p:spPr>
              <a:xfrm>
                <a:off x="869940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279" name="Line 26"/>
            <p:cNvSpPr/>
            <p:nvPr/>
          </p:nvSpPr>
          <p:spPr>
            <a:xfrm>
              <a:off x="4813200" y="3593880"/>
              <a:ext cx="160020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0" name="Line 27"/>
            <p:cNvSpPr/>
            <p:nvPr/>
          </p:nvSpPr>
          <p:spPr>
            <a:xfrm>
              <a:off x="5765760" y="359388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1" name="Line 28"/>
            <p:cNvSpPr/>
            <p:nvPr/>
          </p:nvSpPr>
          <p:spPr>
            <a:xfrm flipH="1">
              <a:off x="7023240" y="3593880"/>
              <a:ext cx="167616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 flipH="1">
              <a:off x="6870240" y="359388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6718320" y="3593880"/>
              <a:ext cx="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84" name="Slide Number Placeholder 2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BE85-D973-442D-B51F-886385C01D7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06268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 Paralle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098360"/>
            <a:ext cx="4934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Singl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or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Multipl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or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ranspo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Multipl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or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mist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5842080" y="598176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4572000" y="1330200"/>
            <a:ext cx="434340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5842080" y="53352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6718320" y="1014480"/>
            <a:ext cx="0" cy="311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4519440" y="3687840"/>
            <a:ext cx="439740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Chemistry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92" name="Group 13"/>
          <p:cNvGrpSpPr/>
          <p:nvPr/>
        </p:nvGrpSpPr>
        <p:grpSpPr>
          <a:xfrm>
            <a:off x="4432320" y="4165560"/>
            <a:ext cx="4572000" cy="1676160"/>
            <a:chOff x="4432320" y="4165560"/>
            <a:chExt cx="4572000" cy="1676160"/>
          </a:xfrm>
        </p:grpSpPr>
        <p:grpSp>
          <p:nvGrpSpPr>
            <p:cNvPr id="293" name="Group 14"/>
            <p:cNvGrpSpPr/>
            <p:nvPr/>
          </p:nvGrpSpPr>
          <p:grpSpPr>
            <a:xfrm>
              <a:off x="4432320" y="4470120"/>
              <a:ext cx="4572000" cy="685800"/>
              <a:chOff x="4432320" y="4470120"/>
              <a:chExt cx="4572000" cy="685800"/>
            </a:xfrm>
          </p:grpSpPr>
          <p:sp>
            <p:nvSpPr>
              <p:cNvPr id="294" name="AutoShape 15"/>
              <p:cNvSpPr/>
              <p:nvPr/>
            </p:nvSpPr>
            <p:spPr>
              <a:xfrm>
                <a:off x="443232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5" name="AutoShape 16"/>
              <p:cNvSpPr/>
              <p:nvPr/>
            </p:nvSpPr>
            <p:spPr>
              <a:xfrm>
                <a:off x="540396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6" name="AutoShape 17"/>
              <p:cNvSpPr/>
              <p:nvPr/>
            </p:nvSpPr>
            <p:spPr>
              <a:xfrm>
                <a:off x="637560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7" name="AutoShape 18"/>
              <p:cNvSpPr/>
              <p:nvPr/>
            </p:nvSpPr>
            <p:spPr>
              <a:xfrm>
                <a:off x="831852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8" name="AutoShape 19"/>
              <p:cNvSpPr/>
              <p:nvPr/>
            </p:nvSpPr>
            <p:spPr>
              <a:xfrm>
                <a:off x="734688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99" name="Group 20"/>
            <p:cNvGrpSpPr/>
            <p:nvPr/>
          </p:nvGrpSpPr>
          <p:grpSpPr>
            <a:xfrm>
              <a:off x="4737240" y="4165560"/>
              <a:ext cx="3962160" cy="304560"/>
              <a:chOff x="4737240" y="4165560"/>
              <a:chExt cx="3962160" cy="304560"/>
            </a:xfrm>
          </p:grpSpPr>
          <p:sp>
            <p:nvSpPr>
              <p:cNvPr id="300" name="Line 21"/>
              <p:cNvSpPr/>
              <p:nvPr/>
            </p:nvSpPr>
            <p:spPr>
              <a:xfrm>
                <a:off x="473724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1" name="Line 22"/>
              <p:cNvSpPr/>
              <p:nvPr/>
            </p:nvSpPr>
            <p:spPr>
              <a:xfrm>
                <a:off x="572760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2" name="Line 23"/>
              <p:cNvSpPr/>
              <p:nvPr/>
            </p:nvSpPr>
            <p:spPr>
              <a:xfrm>
                <a:off x="671832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3" name="Line 24"/>
              <p:cNvSpPr/>
              <p:nvPr/>
            </p:nvSpPr>
            <p:spPr>
              <a:xfrm>
                <a:off x="770904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4" name="Line 25"/>
              <p:cNvSpPr/>
              <p:nvPr/>
            </p:nvSpPr>
            <p:spPr>
              <a:xfrm>
                <a:off x="869940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305" name="Line 26"/>
            <p:cNvSpPr/>
            <p:nvPr/>
          </p:nvSpPr>
          <p:spPr>
            <a:xfrm>
              <a:off x="4813200" y="5155920"/>
              <a:ext cx="160020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5765760" y="515592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H="1">
              <a:off x="7023240" y="5155920"/>
              <a:ext cx="167616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 flipH="1">
              <a:off x="6870240" y="515592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6718320" y="5155920"/>
              <a:ext cx="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310" name="Group 47"/>
          <p:cNvGrpSpPr/>
          <p:nvPr/>
        </p:nvGrpSpPr>
        <p:grpSpPr>
          <a:xfrm>
            <a:off x="4457880" y="1828800"/>
            <a:ext cx="4572000" cy="1676520"/>
            <a:chOff x="4457880" y="1828800"/>
            <a:chExt cx="4572000" cy="1676520"/>
          </a:xfrm>
        </p:grpSpPr>
        <p:grpSp>
          <p:nvGrpSpPr>
            <p:cNvPr id="311" name="Group 14"/>
            <p:cNvGrpSpPr/>
            <p:nvPr/>
          </p:nvGrpSpPr>
          <p:grpSpPr>
            <a:xfrm>
              <a:off x="4457880" y="2133360"/>
              <a:ext cx="4572000" cy="685800"/>
              <a:chOff x="4457880" y="2133360"/>
              <a:chExt cx="4572000" cy="685800"/>
            </a:xfrm>
          </p:grpSpPr>
          <p:sp>
            <p:nvSpPr>
              <p:cNvPr id="312" name="AutoShape 15"/>
              <p:cNvSpPr/>
              <p:nvPr/>
            </p:nvSpPr>
            <p:spPr>
              <a:xfrm>
                <a:off x="445788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Na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3" name="AutoShape 16"/>
              <p:cNvSpPr/>
              <p:nvPr/>
            </p:nvSpPr>
            <p:spPr>
              <a:xfrm>
                <a:off x="542952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l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4" name="AutoShape 17"/>
              <p:cNvSpPr/>
              <p:nvPr/>
            </p:nvSpPr>
            <p:spPr>
              <a:xfrm>
                <a:off x="640116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H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5" name="AutoShape 18"/>
              <p:cNvSpPr/>
              <p:nvPr/>
            </p:nvSpPr>
            <p:spPr>
              <a:xfrm>
                <a:off x="834408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+/-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6" name="AutoShape 19"/>
              <p:cNvSpPr/>
              <p:nvPr/>
            </p:nvSpPr>
            <p:spPr>
              <a:xfrm>
                <a:off x="737244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O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317" name="Group 20"/>
            <p:cNvGrpSpPr/>
            <p:nvPr/>
          </p:nvGrpSpPr>
          <p:grpSpPr>
            <a:xfrm>
              <a:off x="4762440" y="1828800"/>
              <a:ext cx="3962160" cy="304560"/>
              <a:chOff x="4762440" y="1828800"/>
              <a:chExt cx="3962160" cy="304560"/>
            </a:xfrm>
          </p:grpSpPr>
          <p:sp>
            <p:nvSpPr>
              <p:cNvPr id="318" name="Line 21"/>
              <p:cNvSpPr/>
              <p:nvPr/>
            </p:nvSpPr>
            <p:spPr>
              <a:xfrm>
                <a:off x="476244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9" name="Line 22"/>
              <p:cNvSpPr/>
              <p:nvPr/>
            </p:nvSpPr>
            <p:spPr>
              <a:xfrm>
                <a:off x="575280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20" name="Line 23"/>
              <p:cNvSpPr/>
              <p:nvPr/>
            </p:nvSpPr>
            <p:spPr>
              <a:xfrm>
                <a:off x="674352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21" name="Line 24"/>
              <p:cNvSpPr/>
              <p:nvPr/>
            </p:nvSpPr>
            <p:spPr>
              <a:xfrm>
                <a:off x="773424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22" name="Line 25"/>
              <p:cNvSpPr/>
              <p:nvPr/>
            </p:nvSpPr>
            <p:spPr>
              <a:xfrm>
                <a:off x="872460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323" name="Line 26"/>
            <p:cNvSpPr/>
            <p:nvPr/>
          </p:nvSpPr>
          <p:spPr>
            <a:xfrm>
              <a:off x="4838760" y="2819520"/>
              <a:ext cx="160020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4" name="Line 27"/>
            <p:cNvSpPr/>
            <p:nvPr/>
          </p:nvSpPr>
          <p:spPr>
            <a:xfrm>
              <a:off x="5791320" y="2819520"/>
              <a:ext cx="79992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5" name="Line 28"/>
            <p:cNvSpPr/>
            <p:nvPr/>
          </p:nvSpPr>
          <p:spPr>
            <a:xfrm flipH="1">
              <a:off x="7048440" y="2819520"/>
              <a:ext cx="167652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6" name="Line 29"/>
            <p:cNvSpPr/>
            <p:nvPr/>
          </p:nvSpPr>
          <p:spPr>
            <a:xfrm flipH="1">
              <a:off x="6896160" y="2819520"/>
              <a:ext cx="79992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7" name="Line 30"/>
            <p:cNvSpPr/>
            <p:nvPr/>
          </p:nvSpPr>
          <p:spPr>
            <a:xfrm>
              <a:off x="6743880" y="2819520"/>
              <a:ext cx="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28" name="Slide Number Placeholder 4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AE3A-D4FD-4A07-8BFC-5929DFB3472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8760" y="485280"/>
            <a:ext cx="4326120" cy="1016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rsenic in the Central Oklahoma Aquife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133720"/>
            <a:ext cx="432576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rsenic mostly in confined part of aquif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rsenic associated with high p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low: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nconfine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nfine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nconfined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Picture 4" descr="as"/>
          <p:cNvPicPr/>
          <p:nvPr/>
        </p:nvPicPr>
        <p:blipFill>
          <a:blip r:embed="rId1"/>
          <a:stretch/>
        </p:blipFill>
        <p:spPr>
          <a:xfrm>
            <a:off x="4670280" y="136440"/>
            <a:ext cx="4370400" cy="66294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5"/>
          <p:cNvSpPr/>
          <p:nvPr/>
        </p:nvSpPr>
        <p:spPr>
          <a:xfrm>
            <a:off x="5486400" y="3048120"/>
            <a:ext cx="609480" cy="83808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AutoShape 6"/>
          <p:cNvSpPr/>
          <p:nvPr/>
        </p:nvSpPr>
        <p:spPr>
          <a:xfrm flipV="1">
            <a:off x="5334120" y="2208960"/>
            <a:ext cx="609480" cy="83844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2D4B-E86E-4C2B-A7DF-4FB9DEFEB75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chemical Reaction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ine initially fills the aquif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lcite and dolomite equilibriu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tion exchang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NaX + C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= Ca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+ 2N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NaX + M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= Mg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+ 2N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rface complex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fo-HAsO4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+ OH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= HfoOH + HAsO4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-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sorption at pH &gt; 8.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6BE2-437F-4CBF-8D68-497DFD8D1E3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rsenic Concentrations over Geologic Tim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39" name="ok.as.avi" descr=""/>
          <p:cNvPicPr/>
          <p:nvPr/>
        </p:nvPicPr>
        <p:blipFill>
          <a:blip r:embed="rId1"/>
          <a:stretch/>
        </p:blipFill>
        <p:spPr>
          <a:xfrm>
            <a:off x="457200" y="1233360"/>
            <a:ext cx="8039160" cy="5453280"/>
          </a:xfrm>
          <a:prstGeom prst="rect">
            <a:avLst/>
          </a:prstGeom>
          <a:ln w="0">
            <a:noFill/>
          </a:ln>
        </p:spPr>
      </p:pic>
      <p:sp>
        <p:nvSpPr>
          <p:cNvPr id="34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3082-F8E0-4912-B9FA-42F424FD8DF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00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12760"/>
            <a:ext cx="8226360" cy="668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HAS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280" y="942480"/>
            <a:ext cx="90108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AST is a 3D reactive-transport mod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eld-scale problems with limit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ta requirement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ield—Aquifer tests, tracer tests, logging, chemical samp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boratory—column experiments, extractions, mineralo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deling result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derstanding natural syste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signing engineere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dicting long-term effec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0702-26CA-4C3B-A798-317B6E92DE3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D Reactive-Transport Mode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9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ree simultaneous processe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Flow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ransport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emical reac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C8AF-EC88-4189-B586-905CB694082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9120" y="633240"/>
            <a:ext cx="395280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A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6400800" cy="38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ST3D—Flow and trans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HREEQC—Chemist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perator splitting—Sequential Non-Iterative Approac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HT3D is a 3D reactive transport model built on MODFLOW, MT3DMS, and PHREEQ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6915240" y="457200"/>
            <a:ext cx="1752480" cy="2577960"/>
            <a:chOff x="6915240" y="457200"/>
            <a:chExt cx="1752480" cy="2577960"/>
          </a:xfrm>
        </p:grpSpPr>
        <p:sp>
          <p:nvSpPr>
            <p:cNvPr id="139" name="Text Box 5"/>
            <p:cNvSpPr/>
            <p:nvPr/>
          </p:nvSpPr>
          <p:spPr>
            <a:xfrm>
              <a:off x="6915240" y="251460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Chemistry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6915240" y="148608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Transport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Text Box 7"/>
            <p:cNvSpPr/>
            <p:nvPr/>
          </p:nvSpPr>
          <p:spPr>
            <a:xfrm>
              <a:off x="6915240" y="45720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Flow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7791480" y="1058760"/>
              <a:ext cx="0" cy="3812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7791480" y="2087640"/>
              <a:ext cx="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44" name="Group 10"/>
          <p:cNvGrpSpPr/>
          <p:nvPr/>
        </p:nvGrpSpPr>
        <p:grpSpPr>
          <a:xfrm>
            <a:off x="6915240" y="3733920"/>
            <a:ext cx="1752480" cy="2730240"/>
            <a:chOff x="6915240" y="3733920"/>
            <a:chExt cx="1752480" cy="2730240"/>
          </a:xfrm>
        </p:grpSpPr>
        <p:sp>
          <p:nvSpPr>
            <p:cNvPr id="145" name="Text Box 11"/>
            <p:cNvSpPr/>
            <p:nvPr/>
          </p:nvSpPr>
          <p:spPr>
            <a:xfrm>
              <a:off x="6915240" y="594360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Chemistry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6915240" y="483876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Transport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6915240" y="373392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Flow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>
              <a:off x="7791480" y="4373640"/>
              <a:ext cx="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>
              <a:off x="7791480" y="5478480"/>
              <a:ext cx="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0" name="AutoShape 16"/>
          <p:cNvSpPr/>
          <p:nvPr/>
        </p:nvSpPr>
        <p:spPr>
          <a:xfrm>
            <a:off x="7448400" y="317340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Slide Number Placeholder 1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02CD-59DD-4A2A-984F-45C203036EB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503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low and Transpo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609560"/>
            <a:ext cx="84582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tant tempera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tant dens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gle phas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turated confined or unconfined flo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int-distributed finite-difference gri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undary condition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pecified, leaky, flux, rivers, drains, we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4721-7FC3-4075-AE2E-CF3AB973285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id El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04240" cy="46483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EC91-979F-485E-8FA9-96990D79D1F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id Cel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2268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CB99-A432-4D40-8B3D-08D999941D8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ull Cell Has Parts of 8 Element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ell Properties do not change abruptly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dia properties weighted by volum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ductances weighted by facial a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8763120" cy="284148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F2B5-452A-451B-84EF-C4E734B1172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35:18Z</dcterms:created>
  <dc:creator>Dave Parkhurst</dc:creator>
  <dc:description/>
  <dc:language>en-US</dc:language>
  <cp:lastModifiedBy>dlpark</cp:lastModifiedBy>
  <dcterms:modified xsi:type="dcterms:W3CDTF">2011-03-04T19:55:14Z</dcterms:modified>
  <cp:revision>117</cp:revision>
  <dc:subject/>
  <dc:title>Using WPHAST to Model the Central Oklahoma Aquifer</dc:title>
</cp:coreProperties>
</file>