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1CF993-9C33-4B2C-96F0-1A15696B2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A9CE54-021B-452F-8D48-940B381E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5A21ED-2C9D-4C53-8A0A-61B080B7B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FD46F3-F270-4614-91A4-1BF8D1886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62BD2A-6A0D-464D-A0EE-F7288249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D5C585-B9DE-4B28-BF3C-7AA53726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643-46E2-46B2-8902-38455A00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E96-70DC-47CC-A2F4-A96A747E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09C-4982-48FE-B8BC-6B88F8A8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7D2-550E-4C03-8DBC-F3371875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2214-EEF2-489B-87D2-3DC32D9D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C4AB-82E7-42DE-9174-833C6747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DA7-DFCA-4423-9923-9772DDDC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AAAB-EAC8-4FB8-B80C-87B37D7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415-DE1E-49AE-B535-93A5FE0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175-6EC2-4B7C-B14E-F1DCA43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A43-8DCB-455B-8098-4630FE8C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183-4AAF-4F40-B5A3-A1EFA921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D363-DDC8-49F1-A5E7-062ACDC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A61-0268-4FC4-AC82-8D9AA83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60CC-4541-4E14-9B9E-252E690E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8336-0C51-48BC-8C9E-35F277DB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E98-2850-4D30-ADB9-381BB32C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767-2355-449C-AE9C-C14B54E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E30-4F61-4466-985D-63D0CE7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14F-E7F5-4F99-B962-AF64E5E6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810-7DE4-4575-B78F-F21A9CD3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65B-C966-473C-A734-1432A8F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72C-F39E-421A-B8D1-1870F09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A9D-8703-4B75-ABC9-FFA6804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BBDD-1613-457F-986B-2706AD2D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0652-4AF6-41F5-9EB7-3E84D5617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4-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91A-933C-4F7A-97E1-1DEF43AE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aj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2019240"/>
            <a:ext cx="611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rbonate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ganic carbon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it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oxyhydroxi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ypsum 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yrite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eawater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licate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029-57D9-4BC2-9CF9-6E199DBC0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in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019240"/>
            <a:ext cx="611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d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rface comple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1B0F-76AF-4E20-AF9F-4C98BF670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71600" y="2133720"/>
            <a:ext cx="61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of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olu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433-18D5-4FA2-A6C3-44DB4E192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71600" y="222876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8E7-DEA9-4B10-A48C-54E01DA7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and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796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days to learn PHREEQ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years to learn g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study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9236-C2B3-408B-998A-A876E9F1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1066680"/>
            <a:ext cx="8381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The chemistry of solutions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Forward modeling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omplexation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modeling—Pierre, Montezuma wells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 Reactive transport—David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modeling—R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reactive transport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80B-D73E-4786-98FF-B7ECD4900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4T21:49:06Z</dcterms:modified>
  <cp:revision>43</cp:revision>
  <dc:subject/>
  <dc:title>Defining Solutions</dc:title>
</cp:coreProperties>
</file>