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FBA212-4C96-49D8-BB53-BECBF4A1E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A99D66-9BB6-4C72-95C5-29FE51BAB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IS.2 Seawater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0.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C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2O = 0.5 CO2 + 0.5CH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_k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units    mmol/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pH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O(0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C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Mg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N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K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Alkalinity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Cl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Fe(2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S(-2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q/l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V6, 1 cm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2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7.2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4.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5.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16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5.9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6.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5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1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009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0.3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V6, 5 cm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2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7.4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4.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2.2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19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5.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2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2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0.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00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3.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2.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VERSE_MODELING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olutions      10        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uncertainty    0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yrit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C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X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X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X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balanc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tolerance         1e-0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mineral_water     tru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76B2F0-1043-4844-B7BB-1A7EBBDA5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mmol in 100 ste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file pco2-gw.se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rx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_punch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heading pCO2 Ca Mg C pH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punch si("CO2(g)")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punch tot("Ca")*1000, tot("Mg")*1000, tot("C")*1000, -la("H+"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57A47A-6710-45A8-A2D6-5D52AF6D4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ITLE Example 14.--Transport with equilibrium_phases, exchange, and surface reaction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***********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LEASE NOTE: This problem requires database file wateq4f.dat!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senic data of Archer and Nordstrom (2002) included in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wateq4f.dat (PHREEQC Version 2.8)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sults differ from WRIR 99-4259 because of revised data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***********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fo_wOH + Mg+2 = Hfo_wOMg+ + H+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_k -1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fo_wOH + Ca+2 = Hfo_wOCa+ + H+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_k -1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 Brin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5.71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4.0     O2(g)   -0.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2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mol/kgw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.465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.160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5.4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6.642           char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.0039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.0047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s      .05 umol/kgw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prints initial condition to the selected-output fil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file ex14.se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ER_PUNC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head  m_Ca m_Mg m_Na umol_As p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0 PUNCH TOT("Ca"), TOT("Mg"), TOT("Na"), TOT("As")*1e6, -LA("H+")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skips print of initial exchange and initial surface to the selected-output fil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elected_out fals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equil with 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X       1.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equil 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assumes 1/10 of iron is HF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fo_w           0.07    600.    30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0 20 x precipitation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4.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4.0     O2(g)   -0.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2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mmol/kgw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.1916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.03579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.1226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.1337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.0109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.235153         char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-1.5    10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elected_out tru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DVECTION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cells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hifts 2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print_frequency 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3A60-8101-49B4-9C3E-360B8AC8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D957-0407-4EF5-A39E-D1277619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452-3C46-4222-83FF-3A4EB5D7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C3AA-B9AB-4E72-A70A-79389F1E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967F-0E61-43A9-A1D2-BAE50F7B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D28-FFC3-4595-AEE3-3F7D6751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A5F-7B98-4481-A700-ED523B2F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E10-9C2F-40FC-AC41-0E8202A3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F7B-6F28-4F5B-9784-BEAF7F48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71C2-B006-42BF-9E33-FDF5D1FD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BA96-E6C9-4A6D-98D1-0CF77E9F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AF1-394C-402D-8075-E6F180D1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3C60-2E77-4736-9D24-C68E4813E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stry Modeling Workshop, March 2011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re Gly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Parkhu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 Joh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3D REACTIVE-TRANSPORT MODEL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nd-water flow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ndary condition water com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3733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3D REACTIVE-TRANSPORT--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PO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at Cape Cod Sewage Plum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4160880" y="380880"/>
            <a:ext cx="470700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cal Tool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ation Indices—PhreeqcI, NET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e modeling—PhreeqcI, NETPATH (isotope fractio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 modeling—Phreeq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Reactive-transport modeling—PhreeqcI, PH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 Reacive-transport modeling--PH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esent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 are you trying to ans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need geochemical mode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ypes of modeling are appropri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have the necessary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ELD WORK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rganic constitu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c constitu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es: CFC, No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isotopes:           D, 18O, 13C, 34S, 87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table isotopes : N, Ca, B, Pb, 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isotopes:        T/He, 14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495680" y="1828800"/>
            <a:ext cx="4267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, optical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i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le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ex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HASES OF GEOCHEMICAL MODELING—TREND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ff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s of concentration against Cl,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HASES OF GEOCHEMICAL MODELING—INVERSE MODEL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know sequence of water 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uce chemical reactions affecting major elements in water and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ffective for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VERSE MODELING—Estuarine Pore Wat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960" y="2362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lution fractions:                   Minimum        Maxim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awa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4.160e-001     0.000e+000     0.000e+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re wa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1.000e+000     0.000e+000     0.000e+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hase mole transfers:                 Minimum        Maxim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yrite    -3.803e-003     0.000e+000     0.000e+000   Fe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e(OH)3(a)     3.808e-003     0.000e+000     0.000e+000   Fe(OH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2O(g)     3.240e+001     0.000e+000     0.000e+000   H2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lcite     1.049e-003     0.000e+000     0.000e+000   CaCO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rganic carbon     2.116e-002     0.000e+000     0.000e+000   CH2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X2    -1.019e-003     0.000e+000     0.000e+000   CaX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X     2.039e-003     0.000e+000     0.000e+000   N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HASES OF GEOCHEMICAL MODELING—FORWARD MODEL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ch reaction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and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versible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ORWARD MODELING—TRENDS IN CARBONATE GW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3" name="Object 7"/>
          <p:cNvGraphicFramePr/>
          <p:nvPr/>
        </p:nvGraphicFramePr>
        <p:xfrm>
          <a:off x="1371600" y="1900080"/>
          <a:ext cx="6705720" cy="49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00080"/>
                    <a:ext cx="670572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1D Reactive-Transport Modeling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know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know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1D REACTIVE TRANSPORT—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rbonates, ion exchange, surface compl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94360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dlpark</cp:lastModifiedBy>
  <dcterms:modified xsi:type="dcterms:W3CDTF">2011-03-08T17:30:26Z</dcterms:modified>
  <cp:revision>35</cp:revision>
  <dc:subject/>
  <dc:title>Defining Solutions</dc:title>
</cp:coreProperties>
</file>