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D7EE9C-3D39-48E6-963C-117307C4F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" Target="../slides/slide40.xml"/><Relationship Id="rId4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" Target="../slides/slide41.xml"/><Relationship Id="rId4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0F47FD-6671-4853-A856-62DA3ACD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C6FB67-351F-4A20-A4E8-A6B704ED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5CE23B-AA02-491E-AC58-C38E4BCC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E32040-57BD-41DD-8170-D45FF904A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A3F6E9-5580-42B3-892F-F1573C99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9649BA-28AA-4EAF-9E76-6E481D735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058027-CC4E-4D6D-9527-EABA88A7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06B471-A07C-442B-8812-D410A52B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04B15E-D57D-431D-9A0F-0E5931BC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15F13-28C6-4CB2-95AD-811E59361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C1123D-8C51-4770-A3F1-A300DFC84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6.0\phreeqd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fic Conductance (uS/cm, 25 oC) = 528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(g/cm3)  =   1.023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0    9.70   43.00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0F74F2-9E6D-4663-B5D0-0CD794BD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279543-B875-4235-B118-655ABA13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4600" y="4414680"/>
            <a:ext cx="62420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data bas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TZ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1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C:\Program Files\USGS\Phreeqc Interactive 2.16.0\pitzer.d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ning of initial solution calculation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olution 1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Solution composition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          Molality       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      2.406e-003  2.406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 1.066e-002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 5.657e-001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 3.711e-008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 1.058e-002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 5.508e-002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 4.854e-001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 2.926e-002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escription of solution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=   8.22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=   8.45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(g/cm3)  =   0.997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ity of water  =   0.98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nic strength  =  7.218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 of water (kg)  =  1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arbon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2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 (deg C)  =  25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ctrical balance (eq)  =  8.294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cent error, 100*(Cat-|An|)/(Cat+|An|)  =   0.0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ions  =  1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mma iterations  =  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motic coefficient  =   0.9034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of water  =   0.997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H  = 1.110144e+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  = 5.562981e+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istribution of species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MacInn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 Log       Log         Log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es                 Molality    Activity  Molality  Activity     Gamm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H-                   3.150e-006  1.636e-006    -5.502    -5.786    -0.28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+                    7.414e-009  6.026e-009    -8.130    -8.220    -0.09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                   5.551e+001  9.813e-001     1.744    -0.008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(4)          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O3-                 1.956e-003  1.067e-003    -2.709    -2.972    -0.26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3-2                 9.885e-005  8.109e-006    -4.005    -5.091    -1.0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                   1.261e-005  1.425e-005    -4.899    -4.846     0.0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+2                  1.063e-002  2.445e-003    -1.973    -2.612    -0.63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-                   5.657e-001  3.524e-001    -0.247    -0.453    -0.2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+2                  3.711e-008  7.959e-009    -7.430    -8.099    -0.66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+                    1.058e-002  6.889e-003    -1.976    -2.162    -0.1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+2                  5.498e-002  1.382e-002    -1.260    -1.860    -0.6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OH+                 3.593e-006  3.493e-006    -5.444    -5.457    -0.0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+                   4.854e-001  3.426e-001    -0.314    -0.465    -0.1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4-2                 2.926e-002  2.534e-003    -1.534    -2.596    -1.06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SO4-                 2.281e-009  1.455e-009    -8.642    -8.837    -0.19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Saturation indices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               SI log IAP  log K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hydrite        -0.85   -5.21   -4.36  C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agonite         0.52   -7.70   -8.22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canite         -5.14   -6.92   -1.78  K2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schofite       -7.27   -2.81    4.46  MgCl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edite         -5.67   -8.02   -2.35  Na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ucite          -2.55  -13.43  -10.88  Mg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rkeite        -12.30  -13.08   -0.77  Na6CO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cite           0.70   -7.70   -8.41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nallite       -9.76   -5.43    4.33  KMgCl3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(g)           -3.38   -4.85   -1.47 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lomite          2.43  -14.65  -17.08  CaMg(CO3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psomite         -2.63   -4.51   -1.88  MgSO4:7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ylussite       -4.34  -13.77   -9.42  CaNa2(CO3)2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erite        -8.34  -12.14   -3.80  NaK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berite       -3.49   -8.73   -5.25  Na2Ca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ypsum           -0.64   -5.22   -4.58  CaSO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(g)           -1.52   -0.01    1.51 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ite           -2.49   -0.92    1.57  Na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xahydrite      -2.87   -4.50   -1.63  MgSO4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inite          -6.90   -7.10   -0.19  KMgClSO4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licinite       -5.41  -15.47  -10.06  K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eserite        -4.34   -4.46   -0.12  MgSO4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bile_S         -6.61  -12.28   -5.67  Na4Ca(SO4)3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hardite      -3.60   -4.49   -0.89  MgSO4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ite          -7.43  -11.41   -3.98  K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nesite         0.88   -6.95   -7.83  Mg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rabilite       -2.40   -3.61   -1.21  Na2SO4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senite        -73.98  -84.79  -10.81  K8H6(SO4)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hcolite        -3.03  -13.78  -10.74  Na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tron           -5.28   -6.10   -0.82  Na2CO3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squehonite     -1.81   -6.98   -5.17  MgCO3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hydrite     -3.21   -4.50   -1.28  MgSO4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rssonite       -4.51  -13.74   -9.23  Na2Ca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halite       -8.06  -21.81  -13.74  K2MgCa2(SO4)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landite      -8.99  -14.18   -5.19  Ca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enite        -7.10  -11.42   -4.33  K2Mg(SO4)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lvite          -3.51   -2.61    0.90  K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ngenite        -4.69  -12.14   -7.45  K2Ca(SO4)2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ona            -8.43  -19.81  -11.38  Na3H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simula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4E5BB9-8EB9-4BB7-BC21-02B43502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a. Ca(total)= 1.066e-2 = (Ca+2) + (CaSO4) + (CaHCO3+) + (CaCO3) + (CaOH+) + (CaHSO4+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b. Ca(total) = 1.066e-2 = (Ca+2) + (CaCO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a. 9.5/10.7 ~ 0.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b. 1.063/1.066 ~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a. 3.509e-019 / 3.711e-008 ~ 1e-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b. No Fe+3 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a. log activity CO3-2 = -5.091; log gamma CO3-2 = -0.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b. Log activity CO3-2 = -5.099; log gamma CO3-2 = -1.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a. SI(calcite) = 0.7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b. SI(calcite) = 0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H:\ntc\07\Solutions.working\is2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H:\ntc\07\Solutions.working\is2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4  -36.4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2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5FBB13-1175-4958-9A01-D4CCD82C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pm, temperature in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/L, temperature 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vs mo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l/kg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gs ~ 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of seawater 1.02; Ppm ~ mg/L; mol/L ~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932383-F250-4255-8814-900461F8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2a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] indicates activ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 K = [HCO3-][H+]/([CO2]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 Log K = log([HCO3-]) + log([H+]) - log([CO2]) + log(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 Log K = -2.99 + (-8.22) – (-4.85) – (–.009) = – 6.3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 pH 6.3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EDA2E9-F48A-40F3-BF40-B0C7D67DE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62544E-49F8-4E48-AF71-22A59764A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IS.3.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O2 de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CO2 increases, pH de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CaCO3 + CO2 + H2O = Ca+2 + 2HCO3-; CO2 decreases, HCO3- in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F7E5CA-B185-47E8-B4A8-BAB10159A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106B27-195E-4EE7-B030-FCDD6DA2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9A3159-1AB6-4E06-AD3D-44B38CC34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35F07C-88BA-44D3-BD92-1304887A9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599FD0-F209-431E-B036-42409547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most waters, we can assume most of the mass in solution is water. Mass of water in 1 kg seawater ~ 1 k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12/40 ~ 10 m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42/61 ~ 2.4 meq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4*50 ~ 120 mg/kgw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ne, density will only be used when concentration is specified as per li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190C0E-3061-4BB7-817C-8EFDCA85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a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a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071720" y="7554960"/>
          <a:ext cx="5136840" cy="26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54960"/>
                    <a:ext cx="5136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A1246D-C986-473D-A47D-27BE3868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839520" y="4425480"/>
            <a:ext cx="5141880" cy="433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b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b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            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591" name="Object 5"/>
          <p:cNvGraphicFramePr/>
          <p:nvPr/>
        </p:nvGraphicFramePr>
        <p:xfrm>
          <a:off x="1147680" y="7174080"/>
          <a:ext cx="371808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174080"/>
                    <a:ext cx="371808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E0DAC9-ABE1-4EC1-8C47-6006725F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Total CO2 = (CO2) + (HCO3-) + 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Alkalinity = (HCO3-) + 2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lkalinity = (HCO3-) + 2(CO3-2) + (OH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Alkalinity = (HCO3-) + 2(CO3-2) + (OH-) – (H+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0697AA-4396-4AD4-9AD1-AFE5926F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65D958-DD34-4617-818C-EDD29467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17D52C-9DFA-4174-BD8A-7631E1DA7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7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NH4+ + 3H2O  = NO3- + 10H+ + 8e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 K = -119.1 = log[NO3-] – 10pH – 8pe – log[NH4+] -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pe = log[NO3-] – log[NH4+] + 119.1 – 10pH –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= 1/8log( [NO3-] / [NH4+] ) – 10/8pH + 14.9 – 3/8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CBEC08-F073-4DFF-ADE7-40F98B829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787CA9-F914-4485-831C-7A27D338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4A6744-CC13-4860-898D-DEB307FF4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422CA7-D2BD-4CD0-8306-5FA61F3A0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17A6A0-E631-4AC9-9AE2-79902F6A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45895D-4841-4E36-8B1A-1C5287A3E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8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F7117F-5125-46AD-B83B-FD2E43265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ous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ic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e-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/Fe(2) 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Fe(OH)3(a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.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Solutions.working\is8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Solutions.working\is8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55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2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948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162e-008  2.163e-008    -7.665    -7.6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1.764e-008  1.679e-008    -7.753    -7.77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2.073e-010  1.973e-010    -9.683    -9.70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6.181e-012  5.071e-012   -11.209   -11.295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1.191e-016  7.855e-017   -15.924   -16.105    -0.1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527e-021  6.923e-022   -20.816   -21.16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8.362e-027  2.429e-027   -26.078   -26.615    -0.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00    4.9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5.90    4.9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3.80    9.7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33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4.3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7.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8e-007  1.001e-007    -6.992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17e-007  1.000e-007    -6.993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558e-004  5.558e-004    -3.255    -3.25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389e-004  4.315e-004    -3.358    -3.36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157e-006  5.069e-006    -5.288    -5.29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396e-007  1.303e-007    -6.855    -6.885    -0.03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2.347e-012  2.018e-012   -11.630   -11.695    -0.0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6.013e-013  4.570e-013   -12.221   -12.340    -0.11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6.325e-014  4.119e-014   -13.199   -13.385    -0.1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6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9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2   18.61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4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0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2.44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4073      0.26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5e-007  1.001e-007    -6.977    -7.000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50e-007  1.000e-007    -6.979    -7.000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146e-004    -3.001    -3.089    -0.0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13e-006  2.576e-006    -5.566    -5.589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470e-004  5.473e-004    -3.262    -3.26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476e-004  4.249e-004    -3.349    -3.37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258e-006  4.991e-006    -5.279    -5.30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580e-007  1.283e-007    -6.801    -6.89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076e-012  1.987e-012   -11.512   -11.702    -0.1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019e-012  4.431e-013   -11.992   -12.353    -0.36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444e-013  3.934e-014   -12.840   -13.405    -0.5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2.168e-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1.084e-026  1.085e-026   -25.965   -25.9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40.451   -40.4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22.81  -25.9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0   18.60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37.56  -40.45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B14480-C6CF-4A5B-B5CA-E12F76FC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8280" y="4414680"/>
            <a:ext cx="588348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8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 distributed by using pe 0,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not defined, goethite SI can not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from Fe(2)/Fe(3) couple is 4.4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5EDC0A-C00C-4D8F-BDBF-14B143E1D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D519C9-BFCC-41A7-B239-E530C5E1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DFE3CE-956C-4A35-84B9-D58BC7851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20DE3B-6140-4721-93CB-B37FB1D6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B77EF0-E45C-407E-9F8D-4E1E3098E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08A45-0895-46B6-9D4C-8ACB8C18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10920" y="4425480"/>
            <a:ext cx="5654520" cy="43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.1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10 Exerci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swers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= 1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= 1.35 mmo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4E65A-F77B-48DC-8490-D299C648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4B647C-C4CF-45AC-84BE-408C98DB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3B12C0-85E5-4F68-AF12-4D458F5A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14D7BC-7EA5-4720-9EE9-70E45F251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155830-E153-45D7-AED5-F5A9D0919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4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0.3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0.04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0.14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0.0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4)      1 CO2(g)  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0.2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1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      0.23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    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        0.0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1.1e-5 mol/kg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3BDBBB-2D93-4895-8BC1-FC95CF77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DE1E55-B76D-489F-B480-F17FF1CD2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Ai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5.66, TDIC =  1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91, TDIC = 35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87, TDIC = 552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D752D4-57FB-4F3F-AACC-DAE7F085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element species        alk     gfw_formula     element_gf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Ca+2           0.0     Ca              40.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        CO3-2          2.0     HCO3            12.011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+4)    CO3-2          2.0    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-4)    CH4            0.0     CH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CO3-2        1.0     Ca0.5(CO3)0.5   5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E013F9-54DF-48F1-9DE7-1DEC25D9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A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as CaCO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Kaolin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7.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10.3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3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29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8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= 8.7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.3e-8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375435-2ECC-4146-9DE9-6C0FC0BC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8C4336-E22E-4DDF-9059-711C64D76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DF9E6F-F858-442C-B4A4-997995BF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AACD00-BA61-43B5-8E58-58CA6EAD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F1E56E-73A1-430B-82AC-83242441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945295-98DF-446B-A5A5-9FFA78C1F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27E052-E345-45AA-B6EF-1EB9ECA3E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9B38A8-A2DC-4B72-BE19-9796A4E3B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BA33A6-2FED-48F1-9F4D-389387F32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13CE2-87EA-4DF0-A0B7-20AE5D73F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A64D68-5F74-45C9-9BC1-8A2AC1AC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DA0-E04D-4E08-AFEF-B49DFDE2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C40-F64D-4DD3-95CA-E0022194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AB2-5C7C-48E8-9703-BD51E8AB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EDF-84C1-46B1-921F-ECA6C22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0BD2-9845-4940-B971-00546ACA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7EAC-D399-4ECC-9ED5-29389A8C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06B8-B836-4C96-B5B3-F0232624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2F55-B89A-467A-AC08-1A59E1F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7443-FD00-4522-ACCF-AD4D6B2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8882-32D0-420A-A4AA-B9B7635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C391-F956-423D-B040-D2338D9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F4F-A72A-4DBE-A06E-2B0E493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CA6-8608-4D44-B2A0-2FA65BD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11F1-2A0A-4E54-BA68-3A5B1CF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A71-E610-4B15-B828-5B1AACBA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CD36-5560-42DA-8192-E163E5A5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350D-B215-496A-AC7F-A55D18B8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11D-32AA-4B75-833A-2E97569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CC9-57BF-481D-907C-F76F8FD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A33-9534-4823-BB95-811F7BA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E84-86B7-4E9E-AC61-F8968AD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3FC-A250-4781-9D74-C1A9C16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088-D3B0-455A-9C3B-5996706D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9B9-5BB8-4E5A-9AD2-5358783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AE1-DD5E-4BE8-AAD4-A90A0A64D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5FF-5DD7-40F6-905C-35B77DBD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of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372-7218-4B55-850F-B8D92E7E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atab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associ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eeqc.dat—simplest (subset of Wateq4f.d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q4f.dat—more tra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dat—translated from minteq v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v4.dat—translated from minteq v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nl.dat—most complete set of elements, 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.dat—(in development) thermodynamics of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.dat—Specific interaction model (many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specific interac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.dat—Simplified specific interaction model (1 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8B0-4375-4555-A088-D67A99B78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Datab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ata blocks related to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dox states and gram formula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848-89F7-4A5C-9A19-25CD6AC3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 speciation calculation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balance—sum of the calcium species = total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action—activities of products divided by reactant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coefficients—function of ion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alities,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1C8-C16B-40E7-B224-6E24CEAD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Balance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concentration of sulfate =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N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K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A65-97B4-4EFB-A1FB-C90E29208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Action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00400" y="2925720"/>
                <a:ext cx="266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5"/>
          <p:cNvSpPr/>
          <p:nvPr/>
        </p:nvSpPr>
        <p:spPr>
          <a:xfrm>
            <a:off x="838800" y="53341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 indicate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143000" y="4381560"/>
                <a:ext cx="678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5536-A79F-4FC0-8AE3-E0416135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80880" y="838080"/>
                <a:ext cx="198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0880" y="3417840"/>
                <a:ext cx="3505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" name="Object 10"/>
          <p:cNvGraphicFramePr/>
          <p:nvPr/>
        </p:nvGraphicFramePr>
        <p:xfrm>
          <a:off x="4952880" y="1600200"/>
          <a:ext cx="39848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84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3"/>
          <p:cNvSpPr/>
          <p:nvPr/>
        </p:nvSpPr>
        <p:spPr>
          <a:xfrm>
            <a:off x="380880" y="2792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Q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380880" y="5245200"/>
                <a:ext cx="3810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16"/>
          <p:cNvSpPr/>
          <p:nvPr/>
        </p:nvSpPr>
        <p:spPr>
          <a:xfrm>
            <a:off x="380880" y="4618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es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380880" y="1736640"/>
                <a:ext cx="19814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300-437D-4B6C-B2E6-0548CB03D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harged Spe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998-12C0-4DD3-B724-DBD615324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581280" y="1981080"/>
                <a:ext cx="166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Box 6"/>
          <p:cNvSpPr/>
          <p:nvPr/>
        </p:nvSpPr>
        <p:spPr>
          <a:xfrm>
            <a:off x="1557720" y="3048120"/>
            <a:ext cx="6400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led the Setschenow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0.1 us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eeqc.dat, wateq4f.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tzer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85640" y="1860480"/>
                <a:ext cx="817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c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a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114800"/>
            <a:ext cx="7255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specifi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457200" y="4878360"/>
                <a:ext cx="1447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461520" y="5257800"/>
            <a:ext cx="81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of ionic strength, molalities of cations and 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3AE-0EDD-4CAC-80F5-F9919A8E6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T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897200" y="1919160"/>
                <a:ext cx="53434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380880" y="4114800"/>
            <a:ext cx="72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57200" y="4734000"/>
                <a:ext cx="379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7E26-1FCF-4E85-9689-EA81E7B5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9676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411480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" y="5405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.51, B = 1.5 at 25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most elements (Al,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strength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nly in Na, Cl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thermodyna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F52-8FFF-40F9-968B-C33E6D99E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Definition and Specia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8120" y="2133720"/>
            <a:ext cx="2742840" cy="2133360"/>
            <a:chOff x="3048120" y="2133720"/>
            <a:chExt cx="2742840" cy="2133360"/>
          </a:xfrm>
        </p:grpSpPr>
        <p:sp>
          <p:nvSpPr>
            <p:cNvPr id="97" name="AutoShape 4"/>
            <p:cNvSpPr/>
            <p:nvPr/>
          </p:nvSpPr>
          <p:spPr>
            <a:xfrm>
              <a:off x="3048120" y="2133720"/>
              <a:ext cx="2674440" cy="2133360"/>
            </a:xfrm>
            <a:prstGeom prst="downArrowCallout">
              <a:avLst>
                <a:gd name="adj1" fmla="val 31343"/>
                <a:gd name="adj2" fmla="val 31341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3939480" y="23468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173920" y="2204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048120" y="234684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556880" y="256032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007880" y="2915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3528000" y="305820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4556880" y="3129120"/>
              <a:ext cx="116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2"/>
          <p:cNvSpPr/>
          <p:nvPr/>
        </p:nvSpPr>
        <p:spPr>
          <a:xfrm>
            <a:off x="2971800" y="4267080"/>
            <a:ext cx="2895480" cy="14479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5943600" y="4572000"/>
            <a:ext cx="2819160" cy="914400"/>
            <a:chOff x="5943600" y="4572000"/>
            <a:chExt cx="2819160" cy="914400"/>
          </a:xfrm>
        </p:grpSpPr>
        <p:sp>
          <p:nvSpPr>
            <p:cNvPr id="107" name="Rectangle 14"/>
            <p:cNvSpPr/>
            <p:nvPr/>
          </p:nvSpPr>
          <p:spPr>
            <a:xfrm>
              <a:off x="5943600" y="457200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119640" y="47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457200" y="4267080"/>
            <a:ext cx="2438280" cy="1371600"/>
            <a:chOff x="457200" y="4267080"/>
            <a:chExt cx="2438280" cy="1371600"/>
          </a:xfrm>
        </p:grpSpPr>
        <p:sp>
          <p:nvSpPr>
            <p:cNvPr id="110" name="Rectangle 17"/>
            <p:cNvSpPr/>
            <p:nvPr/>
          </p:nvSpPr>
          <p:spPr>
            <a:xfrm>
              <a:off x="457200" y="4267080"/>
              <a:ext cx="2438280" cy="13716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09480" y="44956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uration Ind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9"/>
          <p:cNvSpPr/>
          <p:nvPr/>
        </p:nvSpPr>
        <p:spPr>
          <a:xfrm>
            <a:off x="3733920" y="4648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943600" y="3505320"/>
            <a:ext cx="2819160" cy="914400"/>
            <a:chOff x="5943600" y="3505320"/>
            <a:chExt cx="2819160" cy="914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50532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6119640" y="365760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5943600" y="5638680"/>
            <a:ext cx="2819160" cy="914400"/>
            <a:chOff x="5943600" y="5638680"/>
            <a:chExt cx="2819160" cy="914400"/>
          </a:xfrm>
        </p:grpSpPr>
        <p:sp>
          <p:nvSpPr>
            <p:cNvPr id="117" name="Rectangle 24"/>
            <p:cNvSpPr/>
            <p:nvPr/>
          </p:nvSpPr>
          <p:spPr>
            <a:xfrm>
              <a:off x="5943600" y="563868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119640" y="5790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19B6-CA48-4111-8B0F-C8AC4D317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C3D-60F0-4342-9929-DB685DF8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7436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zer specific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on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 consistency for mixtures of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f any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ad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C110-F382-45EE-916B-AF4E2BEFC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ossibility for higher ionic strength than 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ew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sults for gypsum/NaCl in my limit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81960" cy="4324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I: SOLUTION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76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2590920" y="2438280"/>
            <a:ext cx="3045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0724-41B5-4A45-8E1C-886545EB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umber, pH, pe, Temperat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58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62240" cy="4687920"/>
          </a:xfrm>
          <a:prstGeom prst="rect">
            <a:avLst/>
          </a:prstGeom>
          <a:ln w="0">
            <a:noFill/>
          </a:ln>
        </p:spPr>
      </p:pic>
      <p:sp>
        <p:nvSpPr>
          <p:cNvPr id="212" name="Oval 5"/>
          <p:cNvSpPr/>
          <p:nvPr/>
        </p:nvSpPr>
        <p:spPr>
          <a:xfrm>
            <a:off x="1981080" y="1828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635-1B8F-4085-B5D5-3AB517B5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1012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 Composi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720" y="13712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mmol/k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447920" y="152388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657600" y="586728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n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4038480" y="4343400"/>
            <a:ext cx="60984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553080" y="3962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”, speci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85800" y="2133720"/>
            <a:ext cx="5410080" cy="13716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553080" y="2514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FD6-AA00-42D7-AE5E-0A2DB2945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81600" cy="432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3282840" y="3733920"/>
            <a:ext cx="4667400" cy="255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n Speciation Calcu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53080" y="114264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895480" y="1600200"/>
            <a:ext cx="38124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477120" y="42670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477120" y="47242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486400" y="5257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934320" y="4038480"/>
            <a:ext cx="10666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5530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15A7-CABA-40BE-B42D-4F5BE6AD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on Association Model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40000" y="1371600"/>
            <a:ext cx="6476760" cy="524988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047F-C170-4157-969D-A9A6BD026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reeqc.dat to run a speciation calculation for 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tzer.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input to a new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a (selec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(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-&gt;new or ctrl-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 input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v (p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44880" y="183672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5"/>
          <p:cNvSpPr/>
          <p:nvPr/>
        </p:nvSpPr>
        <p:spPr>
          <a:xfrm>
            <a:off x="457200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22C-F1B4-40E1-9FC2-F8661AFA2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020000" cy="4757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 of 2 Speciation Calcula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676520" y="1828800"/>
            <a:ext cx="53316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7840" y="1143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2133720" y="1447920"/>
            <a:ext cx="3808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41F2-28E4-48BA-80F7-1E57B403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 2.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mass-balance equation for calcium in seawater for each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 activity and log activity coefficient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atab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aturation index of calcite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48769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D9D-FC0E-4472-BBCF-66360382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137160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55"/>
          <p:cNvSpPr/>
          <p:nvPr/>
        </p:nvSpPr>
        <p:spPr>
          <a:xfrm>
            <a:off x="12193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awater: 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3354-D43D-4A98-A624-FDD187FC6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the reaction: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question 1 in log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equilibrium constant by using the log activities from the specia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pH will activity  [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qual activity [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3CA-0B3B-4CFE-A7A8-BD36603B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2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. Ca(total)= 1.066e-2 = (Ca+2) + (CaSO4) + (CaHCO3+) + (CaCO3) + (CaOH+) + (CaHSO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b. Ca(total) = 1.066e-2 = (Ca+2) + (CaC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. 9.5/10.7 ~ 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b. 1.063/1.066 ~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 3.509e-019 / 3.711e-008 ~ 1e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 No Fe+3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. log activity CO3-2 = -5.099; log gamma CO3-2 = -0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. log activity CO3-2 = -5.091; log gamma CO3-2 = -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. SI(calcite) = 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. SI(calcite) =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F1A-AB65-428C-A4FE-9C907F095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[HCO3-][H+]/([CO2]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log([HCO3-]) + log([H+]) - log([CO2]) + log(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-2.99 + (-8.22) - (- 4.849) - (-0.009) = -6.3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H 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FC0-0868-4AC8-B57A-51E51FFA1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, Carbon, Alk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5FE-73A0-4982-8FA2-16846FCDC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is pH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848720" cy="312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the pH change when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asses during an alkalinity tit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pH change when plankton respir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pH change when calcite disso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95280" y="15238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6.3 + log[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95280" y="2209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10.3 + log[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8871-9BE5-4684-AFA2-C8AD6525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lkalinit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, the alkalinity is the number of equivalent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convert all of the inorganic carbon to        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q or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nity is independent of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tal Inorganic 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5800" y="1371600"/>
            <a:ext cx="7772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arbon of valen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BCD-960D-49EB-AD6A-8A43135A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63040" cy="2494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828800" y="2590920"/>
            <a:ext cx="4572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75248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3886200" y="3276720"/>
            <a:ext cx="457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2285640" y="1066680"/>
            <a:ext cx="762120" cy="1447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276720" y="3809520"/>
            <a:ext cx="68580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D3C3-1A3F-4F87-BDA9-5640E034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96120" cy="5200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523880" y="1600200"/>
            <a:ext cx="12193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943600" y="4876920"/>
            <a:ext cx="1219320" cy="5331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27A2-2694-4921-9FE3-147460DE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62485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32448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62485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609480" y="1549440"/>
            <a:ext cx="76212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590920" y="3352680"/>
            <a:ext cx="11430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295280" y="190512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4419720" y="4495680"/>
            <a:ext cx="9144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80E1-0E5E-479A-A6D8-2A158C850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9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15160" cy="5429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--Molalit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1905120" y="1447920"/>
            <a:ext cx="68580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304920" y="2514600"/>
            <a:ext cx="7617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352680" y="2629080"/>
            <a:ext cx="6098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248520" y="2819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0B93-691A-4D95-9714-7E7476AB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molality of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alkalinity in meq/kg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lkalinity concentration in mg/kgs as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density have on the calculated mol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 results are always moles or mol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978-AE47-4979-AD76-93C25A87D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008000"/>
          <a:ext cx="2514600" cy="33796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215"/>
          <p:cNvSpPr/>
          <p:nvPr/>
        </p:nvSpPr>
        <p:spPr>
          <a:xfrm>
            <a:off x="3429000" y="1084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02"/>
          <p:cNvSpPr/>
          <p:nvPr/>
        </p:nvSpPr>
        <p:spPr>
          <a:xfrm>
            <a:off x="0" y="45133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9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able of pH, (CO2), (HCO3-), (CO3-2) with SELECTED_OUTPUT. Plot pH vs. concentration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3469-7406-444C-A852-2EA607AE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b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9480" y="1066680"/>
          <a:ext cx="2514600" cy="23734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38"/>
          <p:cNvSpPr/>
          <p:nvPr/>
        </p:nvSpPr>
        <p:spPr>
          <a:xfrm>
            <a:off x="3429000" y="1143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eq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80880" y="373392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6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LECTED_OUTPUT to make a table of pH, (CO2), (HCO3-), (CO3-2), total C (use TOTALS tab). Plot pH vs. concentration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AEB-4988-4060-BF0E-5B4C55362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 definition of total carbon(4) (sometimes called total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DIC)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definition of alkalinity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clude (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clude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21B-9DD3-40B4-8F18-116F738D4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Total Carb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8E4F-D90D-465F-816A-9B4C0F765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652760" y="1754280"/>
            <a:ext cx="56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Alkalin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63F-34DE-42B6-B574-39E5D580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97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2 = (CO2) + (HCO3-) + 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 – (H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2F3-676A-4047-9FDD-DCEFD6FA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,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F9EB-8618-46C7-94E1-AEE048DE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pe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295280" y="1676520"/>
            <a:ext cx="70106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+2 = Fe+3 +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Fe+3]/[Fe+2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- + 4H2O = SO4-2 + 9H+ + 8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SO4-2]/[HS-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9/8pH + 4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+ 6H2O = 2NO3- + 12H+ + 10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0.1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NO3-]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[N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–1.2pH + 2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16.9Eh, Eh in volts (platinum electrode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CF3-3892-4798-AFE4-68598A6DB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n equation for pe from the equation for oxidation of NH4+ to NO3-, log K for reaction is –119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Chemical reaction has NH4+ and H2O on the left-hand-side and NO3-, H+, and e- on the right-hand-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4E1-E82B-4055-B97C-B239852A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 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4+ + 3H2O  = NO3- + 10H+ + 8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K = -119.1 = log[NO3-] – 10pH – 8pe – log[NH4+] -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pe = log[NO3-] – log[NH4+] + 119.1 – 10pH –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= 1/8log( [NO3-] / [NH4+] ) – 10/8pH + 14.9 – 3/8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7BD2-4404-45F3-887B-AC97CA1F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waters, we can assume most of the mass in solution is water. Mass of water in 1 kg seawater ~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2/40 ~ 10 mmol/kgw ~ 0.01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/61 ~ 2.3 meq/kgw ~ 0.0023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*50 ~ 116 mg/kgw as Ca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density will only be used when concentration is specified as per l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2E78-77EC-4B9C-A422-0134B09C8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electrons do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reactions are frequently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s from multiple redox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do not expect to see major inconsistencies—e.g. both D.O. and H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 a sing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78D0-7A86-4F80-BDC3-6A939013C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and pe in SOLUTION Data Block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you need pe fo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 redox element among redox states [e.g. Fe to Fe(2) and Fe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saturation indices with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issocia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anese 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redox couple Fe(2)/Fe(3) in place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, pe = 16.9Eh. (25 C and Eh in Vo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options can only be applied to speciation calculations; thermodynamic pe is used for all othe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09EE-1BC5-489C-8B7A-7357DCA10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le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914400"/>
          <a:ext cx="3733920" cy="54561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724280" y="914400"/>
          <a:ext cx="3962520" cy="5473800"/>
        </p:xfrm>
        <a:graphic>
          <a:graphicData uri="http://schemas.openxmlformats.org/drawingml/2006/table">
            <a:tbl>
              <a:tblPr/>
              <a:tblGrid>
                <a:gridCol w="1617840"/>
                <a:gridCol w="1212840"/>
                <a:gridCol w="11318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an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s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Slide Number Placeholder 1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52E-A5C2-4266-B487-01FCFA2DF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Redox Cou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o get list of redox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nalyses for chosen redox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DC5E-C0D2-4680-B04C-C0CC90288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awater Initial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 total was entered. How were Fe(3) and Fe(2) concentrations calc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962520" y="4267080"/>
                <a:ext cx="4876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3962520" y="5318280"/>
                <a:ext cx="487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609480" y="42670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“re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9BC5-5019-4FB6-BA81-0A305557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Speciation with PhreePlo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4268880" cy="4884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4610160" y="1382760"/>
            <a:ext cx="42447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11D4-253F-4586-9F55-9B74ADF0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1827360"/>
          <a:ext cx="6858000" cy="332100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90720"/>
                <a:gridCol w="990720"/>
                <a:gridCol w="160020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17"/>
          <p:cNvSpPr/>
          <p:nvPr/>
        </p:nvSpPr>
        <p:spPr>
          <a:xfrm>
            <a:off x="39625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LUTIONs and run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DE15-0291-4FC9-B093-8C8CED9AC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3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3104-46AE-4247-8634-D93B9612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 each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stribution of Fe between Fe(2) and Fe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quation is used for goethite SI:                                              FeOOH + 3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Explain why the goethite saturation index is present or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pe is calculated for solution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solution 4, given the following equation, why is the pe not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[Fe+3]/[Fe+2]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pH &gt; 5, it is a good assumption that the measured iron concentration is nearly all Fe(2) (ferrous). How can you ensure that the speciation calculation is consistent with this assum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0320-FAB9-4F95-9A8E-C6318871A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9FBB-D9BC-40AF-999F-C337DF5FA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PHREEQ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AE69-9342-48DB-9B02-0CCCFBF66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8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 distributed by using pe 0,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not defined, goethite SI can not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 from Fe(2)/Fe(3) couple is 4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A991-4D82-4A63-A985-054632267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is used to distribute total redox element concentration among redox states, but often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asurements of total concentrations of redox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always Fe(2) except at low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, always Mn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, probably U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probably V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F13A-403F-4D78-9CD4-E87BE7695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uples where avail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0)/O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(5)/N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6)/S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/Fe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(5)/As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D58-FE77-4413-86A5-6946B336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erner’s 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90392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174600" y="54021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stenson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0F7-0731-4F13-A958-64558F5FF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609480" y="600120"/>
          <a:ext cx="82296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0120"/>
                    <a:ext cx="82296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6E1A-25F3-4027-9723-7CE490CC0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52280" y="68580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hurst and other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5BEC-59A5-403F-A423-465B95390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REEQC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 For Windows (Vincent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T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8606-C15A-44FE-B3CB-13E69D11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 Ver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with Charting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reeqcI with 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reeqc: scriptable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ransport and chemistry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AST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MOD-Watershed reactive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11B-80D8-4E18-AB95-106416DB0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alance and Adjustment to Phas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4346-D34E-404F-AB7F-3AA1616F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ge Balance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just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ajor anion or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5BF-3C18-4B75-B882-639C1723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iodic_table.bm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3997-AC8A-4674-A727-86A2470F0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Charge Balan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24480" y="17524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 or majo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specify cation o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2971800" y="1905120"/>
            <a:ext cx="2514600" cy="1523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990720" y="1600200"/>
            <a:ext cx="12952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7D1F-61DA-4B57-A354-5106F8BB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380880" y="1523880"/>
            <a:ext cx="85345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. What is the pH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 and C(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 that was then titrated to pH 7 with pure HCl. How much chloride was ad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, C, and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2FB-4E4B-4745-9CC6-82E0E7E8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= 1.35 m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1C6-9484-4565-A740-E0D9357D3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justments to Phase Equilibri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don’t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oncentrations to equilibrium with atmosphere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pH to calcit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uminum concentration by equilibrium with gibbsite or kaol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7183-C39E-4B6E-ABDC-E011B158D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turation index for mineral, log partial pressure f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762120" y="1600200"/>
            <a:ext cx="129528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2209680" y="4521240"/>
            <a:ext cx="19051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F64-2A11-4B5F-BA80-EB178A34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0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5495760" cy="5400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76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I or log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895480" y="3581280"/>
            <a:ext cx="221004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743200" y="2209680"/>
            <a:ext cx="2362320" cy="12193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066680" y="1600200"/>
            <a:ext cx="685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10B-5096-44C1-A1F0-D6377A91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ITS in SOLUTION_SPREA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72200" y="2361960"/>
            <a:ext cx="274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set the un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1295280" y="205740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533520" y="2895480"/>
            <a:ext cx="114300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21BB-DE9E-4C96-921A-CAB74E62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2120" y="1600200"/>
          <a:ext cx="7391160" cy="3627360"/>
        </p:xfrm>
        <a:graphic>
          <a:graphicData uri="http://schemas.openxmlformats.org/drawingml/2006/table">
            <a:tbl>
              <a:tblPr/>
              <a:tblGrid>
                <a:gridCol w="1987560"/>
                <a:gridCol w="1428480"/>
                <a:gridCol w="2546640"/>
                <a:gridCol w="1428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182"/>
          <p:cNvSpPr/>
          <p:nvPr/>
        </p:nvSpPr>
        <p:spPr>
          <a:xfrm>
            <a:off x="2214360" y="8380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water, Concentration in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D83-2D9F-411F-A4B2-F0B5A1E2C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e-5 mol C per kilogra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110-9D05-413A-A457-898FFC4F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i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10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D5C-CEB3-4A97-8320-316238A7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fault Gram Formula Mas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600200"/>
          <a:ext cx="8153640" cy="3657600"/>
        </p:xfrm>
        <a:graphic>
          <a:graphicData uri="http://schemas.openxmlformats.org/drawingml/2006/table">
            <a:tbl>
              <a:tblPr/>
              <a:tblGrid>
                <a:gridCol w="2971800"/>
                <a:gridCol w="5181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/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“as” phreeqc.dat/wateq4f.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4"/>
          <p:cNvSpPr/>
          <p:nvPr/>
        </p:nvSpPr>
        <p:spPr>
          <a:xfrm>
            <a:off x="457200" y="549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GFW is defined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of SOLUTION_MASTER_SPECIES in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5857-6178-4950-91D9-4E26FB91F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5.66, TDIC =  1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91, TDIC = 35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87, TDIC = 552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EB3-A085-49B9-91CB-3B8E8D2F7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rmodynamic state of a mineral relative to a 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0BE-AC57-44AA-9DA7-E02CB117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2759040" y="2011320"/>
                <a:ext cx="3625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IA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6"/>
          <p:cNvSpPr/>
          <p:nvPr/>
        </p:nvSpPr>
        <p:spPr>
          <a:xfrm>
            <a:off x="609480" y="2743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on activi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ilibriu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646280" y="3948120"/>
                <a:ext cx="585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cit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19040" y="5029200"/>
                <a:ext cx="830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0, Mineral should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gt; 0, Mineral should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~ 0, Mineral reacts fast enough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770-3789-4833-A03C-C01140E4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les for Saturation Ind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 cannot dissolve if it i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lt; 0 and mineral is present—the mineral could dissolve, but not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gt; 0—the mineral could precipitate, but not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~ 0—the mineral could dissolve or precipitate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3837-E996-4897-8FE6-8F637194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Analytical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uncertainty in element concentration is .02 units in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pH unit uncertainty is 0.5 units in SI of calcite, 1.0 unit in dolo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e or pH unit uncertainty is 8 units in SI of FeS for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SO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-8pH-8pe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23B-02AC-4B40-85A5-690C2C1F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Equ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uncertainty for SI(FeS) with the following e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pH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erals with redox elements, uncertainties are much smaller if the valence states of the elements in solution ar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5FC2-52C2-40A8-8195-D425FBD66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Log 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tite from Stumm and M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H) = 5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ite from Wateq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K = -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og Ks especially uncertain for aluminosi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685800" y="2971800"/>
                <a:ext cx="8278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757080" y="3621240"/>
                <a:ext cx="3667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atit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0280-5961-46D7-AE81-5260441F1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ful Mineral Li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may react to equilibrium relatively quick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9" name="Object 58"/>
          <p:cNvGraphicFramePr/>
          <p:nvPr/>
        </p:nvGraphicFramePr>
        <p:xfrm>
          <a:off x="685800" y="221940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940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E2A-E674-40DA-BDD1-7503C84B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olution compositions in spreadsheet “solution_spread.xl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saturation indic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reeqc.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RunPhreeqc macro or copy/paste into Phreeq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infer about the hydrologic setting, mineralogy, and possible reactions for these wa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E93C-7529-4B43-B01F-EB7E496D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olution_spread.xls + is13.x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468760"/>
          </a:xfrm>
          <a:prstGeom prst="rect">
            <a:avLst/>
          </a:prstGeom>
          <a:ln w="0">
            <a:noFill/>
          </a:ln>
        </p:spPr>
      </p:pic>
      <p:sp>
        <p:nvSpPr>
          <p:cNvPr id="4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520-DECC-44C4-B3B0-3950531E5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67" descr=""/>
          <p:cNvPicPr/>
          <p:nvPr/>
        </p:nvPicPr>
        <p:blipFill>
          <a:blip r:embed="rId1"/>
          <a:stretch/>
        </p:blipFill>
        <p:spPr>
          <a:xfrm>
            <a:off x="228600" y="1352520"/>
            <a:ext cx="6477120" cy="4851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nging Datab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0" y="1676520"/>
            <a:ext cx="22860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&gt;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-&gt;Set 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6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65" descr=""/>
          <p:cNvPicPr/>
          <p:nvPr/>
        </p:nvPicPr>
        <p:blipFill>
          <a:blip r:embed="rId3"/>
          <a:stretch/>
        </p:blipFill>
        <p:spPr>
          <a:xfrm>
            <a:off x="304812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146" name="Oval 2068"/>
          <p:cNvSpPr/>
          <p:nvPr/>
        </p:nvSpPr>
        <p:spPr>
          <a:xfrm>
            <a:off x="1905120" y="1523880"/>
            <a:ext cx="5331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69"/>
          <p:cNvSpPr/>
          <p:nvPr/>
        </p:nvSpPr>
        <p:spPr>
          <a:xfrm>
            <a:off x="3200400" y="3581280"/>
            <a:ext cx="53352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134F-11D6-4013-A25F-CB206E1C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ous spec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-balance equations—Sum of species containing Ca equals total analyzed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mass-action equations—Activity  of products over reactants equal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efficient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 with individual activity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=log(IAP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2050-48E4-4F79-BA85-8ABEB9FD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86C-79DF-4187-B7F0-0E882642A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49:26Z</dcterms:modified>
  <cp:revision>536</cp:revision>
  <dc:subject/>
  <dc:title>Defining Solutions</dc:title>
</cp:coreProperties>
</file>