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4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_rels/notesSlide65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7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10.png" ContentType="image/png"/>
  <Override PartName="/ppt/media/image28.wmf" ContentType="image/x-wmf"/>
  <Override PartName="/ppt/media/image16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media/image31.wmf" ContentType="image/x-wmf"/>
  <Override PartName="/ppt/media/image6.wmf" ContentType="image/x-wmf"/>
  <Override PartName="/ppt/media/image30.jpeg" ContentType="image/jpeg"/>
  <Override PartName="/ppt/media/image35.wmf" ContentType="image/x-wmf"/>
  <Override PartName="/ppt/media/image15.png" ContentType="image/png"/>
  <Override PartName="/ppt/media/image32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33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0800" y="698400"/>
            <a:ext cx="4646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8832600"/>
            <a:ext cx="303696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973320" y="8832600"/>
            <a:ext cx="303660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974DC16-6127-4C34-9D01-B01ED46EB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" Target="../slides/slide107.xml"/><Relationship Id="rId4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" Target="../slides/slide71.xml"/><Relationship Id="rId4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" Target="../slides/slide98.xml"/><Relationship Id="rId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04EEC63-A57B-4087-B3D1-F97873348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248C66D-9034-4158-873B-904C36C84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F03EBDD-039B-4D2E-BEE1-19949D76C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7805187-32FD-4DDB-8143-9C12BC169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662595A-1322-4A97-B412-988A5C54A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R.22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ibbsite  0 Anorthite  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aolinite 0 Anorthite  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-Montmorillonite    0 Anorthite  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northit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ibbsite 0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aolinite 0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-Montmorillonite 0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42FD569-0957-41C4-8EF2-F752B72C4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body"/>
          </p:nvPr>
        </p:nvSpPr>
        <p:spPr>
          <a:xfrm>
            <a:off x="934920" y="4414680"/>
            <a:ext cx="51768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marL="190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.22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s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-1904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Gibbsite requires the least amount of Anorthite to dissolve to become saturated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-1904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, anorthite, gibbsite, kaolinite.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-1904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artz is undersaturated in all calculations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graphicFrame>
        <p:nvGraphicFramePr>
          <p:cNvPr id="776" name="Object 4"/>
          <p:cNvGraphicFramePr/>
          <p:nvPr/>
        </p:nvGraphicFramePr>
        <p:xfrm>
          <a:off x="1073160" y="7850160"/>
          <a:ext cx="4424400" cy="289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3160" y="7850160"/>
                    <a:ext cx="4424400" cy="28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7627657-368D-4AF7-9DD1-F70565A6D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7AF9034-95FE-433E-8733-9298362FC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R25. TES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ACTIO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H2O(NH3)0.1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50 mmo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5 mmol C(-4) (methane); 25 mmol C(4) (20 mmol CO2, 5 mmol HCO3-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mmonium bicarbonate water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as bubbles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7B07743-58D5-48C5-9CF4-4D31A476F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R26 Gas Pha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ACTIO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H2O(NH3)0.1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50 mmo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AS_PHA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2(g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H4(g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70% CH4, 30% CO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8 liter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D9010F3-77BC-4BB1-8EC2-258EABB2C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D63158B-842B-476D-8318-11B472157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42306DB-454F-4AB9-A5ED-C702E3E2D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E196701-946B-4160-934D-724C772E2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A597688-D8B2-4FD5-A386-60424C060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449FC33-47A6-4878-8D66-680DD86C1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C987738-C59F-4E66-9E82-3B91B03C1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R.1. 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units    mg/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Temp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O(0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C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Mg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N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K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C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S(6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C(4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N(5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N(-3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2(g) -0.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CO2(g) -3.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ainwa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2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4.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38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04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14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03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23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1.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23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20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IX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1552A52-66D7-4AB9-B92D-5A9414AE9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.2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itial solutio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action solutio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.500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.216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.000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6.373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(0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.375e-00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3.781e-00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(5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.692e-00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3.177e-00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(0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.126e-01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(-3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.485e-00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00e+00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 differences are caused entirely by redox equilibration. Initial solution is in redox disequilibrium, the reaction solution is in redox equilibrium. In the reaction solution, N(-3) has been oxidized to N(5) and N(0). O(0) has been reduced in the process of oxidizing N(-3). Oxidation tends to decrease pH. Redox is defined by O(0)/O(-2) and N(5)/N(0) redox couples, both will give the same pe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1D149BA-92BD-4606-99CB-D3CA842C1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5A94E1A-FBBA-40A0-B2E2-8E1E09AD4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862A9DB-33D3-4A3E-AFEB-370DAE107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C1457BC-ADC6-4B44-ACF5-F9D2547F0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11D2539-B164-40D8-8FE3-994895245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3EF36AE-3280-4530-BE29-15A38465C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CF7CA81-66F0-47D0-A94B-221BCCC7F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3734667-87D4-457B-966D-EC18327A7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952BA18-074B-408F-BF2F-5E4B043CC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1B6D29D-6955-404E-B908-27690AD7D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EFDB6A3-5337-4BFA-BF9F-B602AE256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R.3. 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Temp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O(0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C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Mg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N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K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C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S(6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C(4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N(5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N(-3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2(g) -0.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CO2(g) -3.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ainwa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2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4.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38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04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14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03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23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1.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23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20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IX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VE solution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solution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cite   0 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2(g)    -2 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VE solution 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solution 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AC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2    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millimol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cite   0 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VE solution 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E8B808D-2C05-4FFA-96C4-554D1E936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34920" y="4414680"/>
            <a:ext cx="517680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.4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1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1 Rainwater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2 Rainwater, redox equilibrium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3 Solution 2 + equilibrium with CO2 and Calc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4 Solution 3 + Reaction + equilibrium with Calc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2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4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2(g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3.50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3.49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2.00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1.65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2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hase               SI log IAP  log KT    Initial      Final      Delta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alcite           0.00   -8.48   -8.48 1.000e+001 9.998e+000 -1.749e-00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O2(g)           -2.00  -20.15  -18.15 1.000e+001 9.998e+000 -1.774e-00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74 mmol calcite dissolve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77 mmol CO2 dissolve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3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    Initial      Final      Delt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  0.00   -8.48   -8.48 1.000e+001 9.999e+000 -5.767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.58 millimoles of calcite dissolve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2BBD6FF-C6E8-457B-B206-84BD9CD03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place the MIX step with the following: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IX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    2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CTION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H2O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5.5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19 mole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AVE solution 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mplete file: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R.5. Exercis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Tem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pH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O(0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C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N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K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C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S(6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C(4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N(5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N(-3)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2(g) -0.7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CO2(g) -3.5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ainwat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25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4.5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0.384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0.04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0.14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0.036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0.236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1.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0.237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0.208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IX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    2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CTION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H2O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5.5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19 mole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2(g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3.5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AVE solution 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 solution 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 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lcite   0 1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2(g)    -2 1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AVE solution 3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 solution 3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C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2       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 millimole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 3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lcite   0 1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AVE solution 4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5460B20-63B3-4A54-BE92-00F6FEF79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put file: C:\NTC\07\Tuesday.working\r5.pqi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utput file: C:\NTC\07\Tuesday.working\r5.pq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atabase file: C:\Program Files\USGS\Phreeqc Interactive 2.13.2\phreeqc.da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data base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XCHANGE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XCHANGE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RFACE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RFACE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AT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1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Temp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pH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O(0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Ca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Mg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Na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K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Cl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S(6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C(4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N(5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N(-3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-0.7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CO2(g) -3.5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ainwater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25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4.5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1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0.384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0.043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0.141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0.036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0.236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1.3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1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0.237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0.20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Beginning of initial solution calculations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solution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Rainwater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Solution composition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s           Molality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4)             1.092e-005  1.092e-005  Equilibrium with CO2(g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 3.840e-004  3.84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 2.360e-004  2.36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 3.600e-005  3.600e-0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 4.300e-005  4.300e-0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-3)            2.080e-004  2.08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5)             2.370e-004  2.37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 1.410e-004  1.41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 5.109e-004  5.109e-004  Equilibrium with O2(g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       1.300e-003  1.3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escription of solution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=   4.50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=   4.00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tivity of water  =   1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onic strength  =  3.666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ss of water (kg)  =  1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alkalinity (eq/kg)  = -3.657e-0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O2 (mol/kg)  =  1.092e-0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erature (deg C)  =  25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ctrical balance (eq)  = -1.797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rcent error, 100*(Cat-|An|)/(Cat+|An|)  = -43.7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terations  =   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H  = 1.110133e+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O  = 5.551266e+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Redox couples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dox couple             pe  Eh (volts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-3)/N(5)           9.2674      0.548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-2)/O(0)          16.1219      0.953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istribution of species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       Log         Log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es                 Molality    Activity  Molality  Activity     Gamm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+                    3.359e-005  3.162e-005    -4.474    -4.500    -0.02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H-                   3.383e-010  3.166e-010    -9.471    -9.500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  5.551e+001  1.000e+000     1.744    -0.00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4)            1.092e-0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                   1.076e-005  1.077e-005    -4.968    -4.968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CO3-                 1.614e-007  1.514e-007    -6.792    -6.820    -0.02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5.332e-010  5.000e-010    -9.273    -9.301    -0.02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5.375e-011  5.034e-011   -10.270   -10.298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1.119e-011  1.120e-011   -10.951   -10.951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3-2                 2.902e-013  2.246e-013   -12.537   -12.649    -0.11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9.756e-014  9.764e-014   -13.011   -13.01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6.083e-015  6.088e-015   -14.216   -14.216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5.871e-016  5.498e-016   -15.231   -15.260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3.84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+2                  3.347e-004  2.588e-004    -3.475    -3.587    -0.11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4.931e-005  4.936e-005    -4.307    -4.307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9.764e-009  9.143e-009    -8.010    -8.039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5.332e-010  5.000e-010    -9.273    -9.301    -0.02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OH+                 1.451e-012  1.358e-012   -11.838   -11.867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9.756e-014  9.764e-014   -13.011   -13.01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2.36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-                   2.360e-004  2.209e-004    -3.627    -3.656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(0)            1.415e-02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                    7.073e-021  7.079e-021   -20.150   -20.15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3.600e-0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+                    3.576e-005  3.347e-005    -4.447    -4.475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2.400e-007  2.247e-007    -6.620    -6.648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OH                   3.666e-015  3.669e-015   -14.436   -14.435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4.300e-0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+2                  3.664e-005  2.841e-005    -4.436    -4.546    -0.11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6.360e-006  6.365e-006    -5.197    -5.196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5.375e-011  5.034e-011   -10.270   -10.298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OH+                 3.483e-012  3.262e-012   -11.458   -11.487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6.083e-015  6.088e-015   -14.216   -14.216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-3)           2.08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+                  2.055e-004  1.920e-004    -3.687    -3.717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SO4-               2.525e-006  2.364e-006    -5.598    -5.626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3                   3.458e-009  3.461e-009    -8.461    -8.461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5)            2.37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O3-                  2.370e-004  2.216e-004    -3.625    -3.654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1.41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+                   1.403e-004  1.315e-004    -3.853    -3.881    -0.02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6.725e-007  6.297e-007    -6.172    -6.201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1.119e-011  1.120e-011   -10.951   -10.951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OH                  2.745e-014  2.747e-014   -13.562   -13.561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5.871e-016  5.498e-016   -15.231   -15.260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5.109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                    2.554e-004  2.556e-004    -3.593    -3.592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      1.3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4-2                 1.238e-003  9.556e-004    -2.907    -3.020    -0.11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4.931e-005  4.936e-005    -4.307    -4.307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6.360e-006  6.365e-006    -5.197    -5.196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SO4-                 3.137e-006  2.938e-006    -5.503    -5.532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SO4-               2.525e-006  2.364e-006    -5.598    -5.626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6.725e-007  6.297e-007    -6.172    -6.201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2.400e-007  2.247e-007    -6.620    -6.648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9.764e-009  9.143e-009    -8.010    -8.039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Saturation indices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nhydrite        -2.25   -6.61   -4.36  CaSO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ragonite        -7.90  -16.24   -8.34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 -7.76  -16.24   -8.48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           -3.50   -4.97   -1.47  C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olomite        -16.34  -33.43  -17.09  CaMg(CO3)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ypsum           -2.03   -6.61   -4.58  CaSO4:2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(g)           -17.00  -20.15   -3.15  H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           -1.51   -0.00    1.51  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alite           -9.12   -7.54    1.58  NaCl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3(g)          -10.23   -8.46    1.77  NH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           -0.70   -3.59   -2.89  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simulatio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2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IX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    2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CTION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55.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19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QUILIBRIUM_PHAS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3.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AVE solution 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Beginning of batch-reaction calculations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ction step 1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ing mix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ing pure phase assemblage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ing reaction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ixture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.000e+001 Solution 1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Rainwater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ction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rreversible reaction defined in simulation 2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1.900e+001 moles of the following reaction have been added: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lativ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ctant     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55.5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lativ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      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                  111.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                   55.5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Phase assemblage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oles in assemblag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   SI log IAP  log KT      Initial       Final       Delt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              -3.50   -4.97   -1.47   1.000e+001  1.000e+001  2.077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Solution composition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s           Molality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                1.062e-005  1.065e-0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 7.663e-003  7.68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 4.710e-003  4.72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 7.184e-004  7.20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 8.581e-004  8.60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                8.880e-003  8.9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 2.814e-003  2.82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                2.594e-002  2.600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escription of solution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=   2.534      Charge balanc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=  17.496      Adjusted to redox equilibrium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tivity of water  =   0.9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onic strength  =  5.825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ss of water (kg)  =  1.002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alkalinity (eq/kg)  = -6.467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O2 (mol/kg)  =  1.062e-0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erature (deg C)  =  25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ctrical balance (eq)  = -3.595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rcent error, 100*(Cat-|An|)/(Cat+|An|)  = -52.1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terations  =  3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H  = 1.112660e+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O  = 5.575280e+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istribution of species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       Log         Log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es                 Molality    Activity  Molality  Activity     Gamm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+                    3.447e-003  2.922e-003    -2.463    -2.534    -0.07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H-                   4.272e-012  3.423e-012   -11.369   -11.466    -0.09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  5.551e+001  9.992e-001     1.744    -0.00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-4)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H4                   0.000e+000  0.000e+000  -140.824  -140.819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4)            1.062e-0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                   1.062e-005  1.077e-005    -4.974    -4.968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CO3-                 1.996e-009  1.637e-009    -8.700    -8.786    -0.08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5.008e-011  4.107e-011   -10.300   -10.386    -0.08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4.942e-012  4.016e-012   -11.306   -11.396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1.998e-012  2.025e-012   -11.699   -11.694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8.565e-017  8.680e-017   -16.067   -16.061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3-2                 5.808e-017  2.628e-017   -16.236   -16.580    -0.34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5.187e-018  5.257e-018   -17.285   -17.279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1.325e-018  1.076e-018   -17.878   -17.968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7.663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+2                  4.326e-003  1.966e-003    -2.364    -2.706    -0.34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3.267e-003  3.311e-003    -2.486    -2.480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6.974e-005  5.667e-005    -4.157    -4.247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5.008e-011  4.107e-011   -10.300   -10.386    -0.08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OH+                 1.373e-013  1.116e-013   -12.862   -12.952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8.565e-017  8.680e-017   -16.067   -16.061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4.71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-                   4.710e-003  3.781e-003    -2.327    -2.422    -0.09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(0) 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                    0.000e+000  0.000e+000   -43.216   -43.210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7.184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+                    6.786e-004  5.449e-004    -3.168    -3.264    -0.09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3.976e-005  3.231e-005    -4.401    -4.491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OH                   6.374e-016  6.460e-016   -15.196   -15.190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8.581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+2                  4.489e-004  2.096e-004    -3.348    -3.679    -0.33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4.092e-004  4.147e-004    -3.388    -3.382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4.942e-012  4.016e-012   -11.306   -11.396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OH+                 3.202e-013  2.602e-013   -12.495   -12.585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5.187e-018  5.257e-018   -17.285   -17.279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-3)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+                  0.000e+000  0.000e+000   -48.428   -48.531    -0.1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SO4-               0.000e+000  0.000e+000   -49.405   -49.495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3                   0.000e+000  0.000e+000   -55.247   -55.241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0)            2.564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2                    1.282e-003  1.299e-003    -2.892    -2.886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3)            2.044e-01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O2-                  2.044e-014  1.626e-014   -13.690   -13.789    -0.0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5)            6.316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O3-                  6.316e-003  5.025e-003    -2.200    -2.299    -0.0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2.814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+                   2.699e-003  2.199e-003    -2.569    -2.658    -0.08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1.145e-004  9.303e-005    -3.941    -4.031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1.998e-012  2.025e-012   -11.699   -11.694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OH                  4.903e-015  4.969e-015   -14.310   -14.304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1.325e-018  1.076e-018   -17.878   -17.968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2.164e-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                    1.082e-006  1.097e-006    -5.966    -5.960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-2)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S                   0.000e+000  0.000e+000  -126.797  -126.791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S-                   0.000e+000  0.000e+000  -131.102  -131.198    -0.09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-2                   0.000e+000  0.000e+000  -141.230  -141.582    -0.35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      2.594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4-2                 1.909e-002  8.440e-003    -1.719    -2.074    -0.35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3.267e-003  3.311e-003    -2.486    -2.480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SO4-                 2.951e-003  2.398e-003    -2.530    -2.620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4.092e-004  4.147e-004    -3.388    -3.382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1.145e-004  9.303e-005    -3.941    -4.031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6.974e-005  5.667e-005    -4.157    -4.247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3.976e-005  3.231e-005    -4.401    -4.491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SO4-               0.000e+000  0.000e+000   -49.405   -49.495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Saturation indices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nhydrite        -0.42   -4.78   -4.36  CaSO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ragonite       -10.95  -19.29   -8.34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-10.81  -19.29   -8.48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H4(g)         -137.96 -140.82   -2.86  CH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           -3.50   -4.97   -1.47  C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olomite        -22.46  -39.55  -17.09  CaMg(CO3)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ypsum           -0.20   -4.78   -4.58  CaSO4:2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(g)           -40.06  -43.21   -3.15  H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           -1.51   -0.00    1.51  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S(g)         -125.79 -126.79   -1.00  H2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alite           -6.66   -5.08    1.58  NaCl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2(g)             0.37   -2.89   -3.26  N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3(g)          -57.01  -55.24    1.77  NH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           -3.07   -5.96   -2.89  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lfur          -91.61  -86.73    4.88  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simulatio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3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E solution 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QUILIBRIUM_PHASES 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0 1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    -2 1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AVE solution 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Beginning of batch-reaction calculations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ction step 1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ing solution 2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after simulation 2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ing pure phase assemblage 2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Phase assemblage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oles in assemblag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   SI log IAP  log KT      Initial       Final       Delt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     0.00   -8.48   -8.48   1.000e+001  9.996e+000 -4.452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              -2.00   -3.47   -1.47   1.000e+001  1.000e+001  1.713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Solution composition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s           Molality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                2.744e-003  2.75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 1.210e-002  1.213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 4.709e-003  4.72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 7.184e-004  7.20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 8.581e-004  8.60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                8.880e-003  8.9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 2.814e-003  2.82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                2.594e-002  2.600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escription of solution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=   7.094      Charge balanc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=  12.024      Adjusted to redox equilibrium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tivity of water  =   0.9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onic strength  =  6.339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ss of water (kg)  =  1.002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alkalinity (eq/kg)  =  2.416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O2 (mol/kg)  =  2.744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erature (deg C)  =  25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ctrical balance (eq)  = -3.595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rcent error, 100*(Cat-|An|)/(Cat+|An|)  = -49.9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terations  =   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H  = 1.112660e+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O  = 5.576273e+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istribution of species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       Log         Log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es                 Molality    Activity  Molality  Activity     Gamm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H-                   1.561e-007  1.241e-007    -6.807    -6.906    -0.0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+                    9.543e-008  8.057e-008    -7.020    -7.094    -0.07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  5.551e+001  9.991e-001     1.744    -0.00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-4)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H4                   0.000e+000  0.000e+000  -132.024  -132.018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4)            2.744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CO3-                 2.303e-003  1.878e-003    -2.638    -2.726    -0.08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                   3.355e-004  3.405e-004    -3.474    -3.468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8.905e-005  7.261e-005    -4.050    -4.139    -0.08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5.523e-006  4.461e-006    -5.258    -5.351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5.484e-006  5.565e-006    -5.261    -5.255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3-2                 2.473e-006  1.093e-006    -5.607    -5.961    -0.35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2.270e-006  2.303e-006    -5.644    -5.638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2.087e-007  2.118e-007    -6.680    -6.674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5.496e-008  4.439e-008    -7.260    -7.353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1.210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+2                  6.824e-003  3.031e-003    -2.166    -2.518    -0.35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5.186e-003  5.262e-003    -2.285    -2.279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8.905e-005  7.261e-005    -4.050    -4.139    -0.08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5.484e-006  5.565e-006    -5.261    -5.255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OH+                 7.722e-009  6.237e-009    -8.112    -8.205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3.075e-009  2.484e-009    -8.512    -8.605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4.709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-                   4.709e-003  3.754e-003    -2.327    -2.426    -0.0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(0) 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                    0.000e+000  0.000e+000   -41.392   -41.385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7.184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+                    6.775e-004  5.400e-004    -3.169    -3.268    -0.0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4.088e-005  3.302e-005    -4.388    -4.481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OH                   2.288e-011  2.322e-011   -10.640   -10.634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8.581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+2                  4.441e-004  2.030e-004    -3.352    -3.692    -0.34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4.082e-004  4.142e-004    -3.389    -3.383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5.523e-006  4.461e-006    -5.258    -5.351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2.087e-007  2.118e-007    -6.680    -6.674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OH+                 1.132e-008  9.141e-009    -7.946    -8.039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-3)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+                  0.000e+000  0.000e+000   -50.246   -50.353    -0.1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SO4-               0.000e+000  0.000e+000   -51.210   -51.303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3                   0.000e+000  0.000e+000   -52.509   -52.503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0)            2.563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2                    1.282e-003  1.300e-003    -2.892    -2.886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3)            1.367e-01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O2-                  1.367e-012  1.079e-012   -11.864   -11.967    -0.1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5)            6.317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O3-                  6.317e-003  4.986e-003    -2.200    -2.302    -0.1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2.814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+                   2.694e-003  2.181e-003    -2.570    -2.661    -0.09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1.178e-004  9.513e-005    -3.929    -4.022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2.270e-006  2.303e-006    -5.644    -5.638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5.496e-008  4.439e-008    -7.260    -7.353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OH                  1.761e-010  1.787e-010    -9.754    -9.748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4.834e-01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                    2.417e-010  2.453e-010    -9.617    -9.610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-2)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S-                   0.000e+000  0.000e+000  -128.344  -128.443    -0.0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S                   0.000e+000  0.000e+000  -128.602  -128.596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-2                   0.000e+000  0.000e+000  -133.905  -134.268    -0.36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      2.594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4-2                 2.019e-002  8.702e-003    -1.695    -2.060    -0.36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5.186e-003  5.262e-003    -2.285    -2.279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4.082e-004  4.142e-004    -3.389    -3.383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1.178e-004  9.513e-005    -3.929    -4.022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4.088e-005  3.302e-005    -4.388    -4.481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SO4-                 8.440e-008  6.817e-008    -7.074    -7.166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3.075e-009  2.484e-009    -8.512    -8.605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SO4-               0.000e+000  0.000e+000   -51.210   -51.303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Saturation indices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nhydrite        -0.22   -4.58   -4.36  CaSO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ragonite        -0.14   -8.48   -8.34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  0.00   -8.48   -8.48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H4(g)         -129.16 -132.02   -2.86  CH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           -2.00   -3.47   -1.47  C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olomite         -1.04  -18.13  -17.09  CaMg(CO3)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ypsum            0.00   -4.58   -4.58  CaSO4:2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(g)           -38.24  -41.39   -3.15  H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           -1.51   -0.00    1.51  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S(g)         -127.60 -128.60   -1.00  H2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alite           -6.67   -5.09    1.58  NaCl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2(g)             0.37   -2.89   -3.26  N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3(g)          -54.27  -52.50    1.77  NH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           -6.72   -9.61   -2.89  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lfur          -95.24  -90.36    4.88  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simulatio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4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E solution 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CTION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       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 milli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QUILIBRIUM_PHASES 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0 1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AVE solution 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Beginning of batch-reaction calculations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ction step 1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ing solution 3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after simulation 3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ing pure phase assemblage 3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ing reaction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ction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rreversible reaction defined in simulation 4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.000e-003 moles of the following reaction have been added: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lativ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ctant     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                  1.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lativ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      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                    1.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                    2.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Phase assemblage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oles in assemblag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   SI log IAP  log KT      Initial       Final       Delt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     0.00   -8.48   -8.48   1.000e+001  9.999e+000 -5.728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Solution composition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s           Molality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                4.313e-003  4.323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 1.268e-002  1.270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 4.709e-003  4.72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 7.184e-004  7.20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 8.581e-004  8.60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                8.880e-003  8.9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 2.814e-003  2.82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                2.594e-002  2.600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escription of solution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=   6.906      Charge balanc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=  12.249      Adjusted to redox equilibrium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tivity of water  =   0.9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onic strength  =  6.433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ss of water (kg)  =  1.002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alkalinity (eq/kg)  =  3.559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O2 (mol/kg)  =  4.313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erature (deg C)  =  25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ctrical balance (eq)  = -3.595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rcent error, 100*(Cat-|An|)/(Cat+|An|)  = -48.8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terations  =   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H  = 1.112660e+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O  = 5.576644e+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istribution of species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       Log         Log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es                 Molality    Activity  Molality  Activity     Gamm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+                    1.472e-007  1.242e-007    -6.832    -6.906    -0.07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H-                   1.014e-007  8.052e-008    -6.994    -7.094    -0.1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  5.551e+001  9.991e-001     1.744    -0.00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-4)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H4                   0.000e+000  0.000e+000  -131.968  -131.961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4)            4.313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CO3-                 3.394e-003  2.765e-003    -2.469    -2.558    -0.08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                   7.614e-004  7.728e-004    -3.118    -3.112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1.374e-004  1.119e-004    -3.862    -3.951    -0.08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8.150e-006  6.576e-006    -5.089    -5.182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5.483e-006  5.565e-006    -5.261    -5.255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3.338e-006  3.388e-006    -5.476    -5.470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3-2                 2.372e-006  1.044e-006    -5.625    -5.981    -0.35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1.995e-007  2.025e-007    -6.700    -6.694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5.250e-008  4.236e-008    -7.280    -7.373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1.268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+2                  7.173e-003  3.173e-003    -2.144    -2.498    -0.35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5.360e-003  5.440e-003    -2.271    -2.264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1.374e-004  1.119e-004    -3.862    -3.951    -0.08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5.483e-006  5.565e-006    -5.261    -5.255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OH+                 5.250e-009  4.236e-009    -8.280    -8.373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4.906e-009  3.958e-009    -8.309    -8.402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4.709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-                   4.709e-003  3.749e-003    -2.327    -2.426    -0.0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(0) 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                    0.000e+000  0.000e+000   -41.467   -41.460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7.184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+                    6.780e-004  5.397e-004    -3.169    -3.268    -0.0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4.038e-005  3.258e-005    -4.394    -4.487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OH                   1.483e-011  1.505e-011   -10.829   -10.822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8.581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+2                  4.463e-004  2.033e-004    -3.350    -3.692    -0.34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4.034e-004  4.094e-004    -3.394    -3.388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8.150e-006  6.576e-006    -5.089    -5.182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1.995e-007  2.025e-007    -6.700    -6.694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OH+                 7.358e-009  5.937e-009    -8.133    -8.226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-3)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+                  0.000e+000  0.000e+000   -50.170   -50.277    -0.10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SO4-               0.000e+000  0.000e+000   -51.140   -51.233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3                   0.000e+000  0.000e+000   -52.622   -52.615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0)            2.563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2                    1.282e-003  1.301e-003    -2.892    -2.886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3)            1.150e-01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O2-                  1.150e-012  9.065e-013   -11.939   -12.043    -0.1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5)            6.317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O3-                  6.317e-003  4.979e-003    -2.200    -2.303    -0.1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2.814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+                   2.694e-003  2.179e-003    -2.570    -2.662    -0.09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1.163e-004  9.384e-005    -3.934    -4.028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3.338e-006  3.388e-006    -5.476    -5.470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5.250e-008  4.236e-008    -7.280    -7.373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OH                  1.141e-010  1.158e-010    -9.943    -9.936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6.825e-01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                    3.412e-010  3.463e-010    -9.467    -9.461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-2)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S-                   0.000e+000  0.000e+000  -128.461  -128.561    -0.1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S                   0.000e+000  0.000e+000  -128.531  -128.525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-2                   0.000e+000  0.000e+000  -134.208  -134.573    -0.36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      2.594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4-2                 2.002e-002  8.592e-003    -1.699    -2.066    -0.3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5.360e-003  5.440e-003    -2.271    -2.264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4.034e-004  4.094e-004    -3.394    -3.388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1.163e-004  9.384e-005    -3.934    -4.028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4.038e-005  3.258e-005    -4.394    -4.487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SO4-                 1.286e-007  1.038e-007    -6.891    -6.984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4.906e-009  3.958e-009    -8.309    -8.402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SO4-               0.000e+000  0.000e+000   -51.140   -51.233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Saturation indices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nhydrite        -0.20   -4.56   -4.36  CaSO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ragonite        -0.14   -8.48   -8.34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  0.00   -8.48   -8.48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H4(g)         -129.10 -131.96   -2.86  CH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           -1.64   -3.11   -1.47  C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olomite         -1.06  -18.15  -17.09  CaMg(CO3)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ypsum            0.02   -4.57   -4.58  CaSO4:2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(g)           -38.31  -41.46   -3.15  H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           -1.51   -0.00    1.51  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S(g)         -127.53 -128.52   -1.00  H2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alite           -6.67   -5.09    1.58  NaCl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2(g)             0.37   -2.89   -3.26  N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3(g)          -54.39  -52.62    1.77  NH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           -6.57   -9.46   -2.89  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lfur          -95.10  -90.21    4.88  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simulatio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5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ru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91D4AA0-4948-4F0D-94A8-4669F4F81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955D129-298B-4C25-A7A1-317CDD575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7863D60-F453-41C4-AFA6-0C2399D62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R.6. Exercis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1 Pure Water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lc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olom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2(g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2.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AVE solution 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 solution 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CTION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nhydrit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.050 in 5 step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nhydrite 0 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lcite   0 1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olomite  0 1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AVE solution 3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VERSE_MODELING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solutions 2 3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phases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lc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olom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nhydr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2D60C77-84F7-4B1B-B302-61219C4B2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34920" y="4414680"/>
            <a:ext cx="51768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.7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s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1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crease in SO4, increase in Ca and Mg, constant or decrease in HCO3, decrease in pH, SI’s near zero for calcite and dolomite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2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ou do not get a Mg+2 SO4-2 water composition. Ratio of Ca/Mg is approximately constant and near 1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 get to the final water composition, the net reaction is approximately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7CaSO4 + 16CaMg(CO3)2 = 32CaCO3 + 21Ca+2 + 16Mg+2 + 37SO4-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3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ystem has reached equilibrium and does not change. However, it is not quite an invariant point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DA1E140-7A41-4D03-8F15-0B9C2F300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35AE63D-47A8-4CBB-AFAE-153191671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.8. Questions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Yes, Increase in Ca, Mg, SO4; decrease in pH; not much change in alkalinity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crease in sulfate (number 4 to number 6) and H2S indicate sulfate reduction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a and Cl indicate mixing with seawat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AF6D469-99C1-4FBA-B40F-F7F4843F2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B85BF64-B684-440D-A70C-B473D4982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R.9. Extra credit 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1 Pure Wat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cit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lomit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2(g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2.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VE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emp      2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       8.2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        8.4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its     ppm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nsity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        412.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g        1291.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a        1076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         399.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kalinity 141.682 as H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        1935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(6)      271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water    1 # kg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solution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cit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lomit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 10 dissolve_only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cite   0 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lomite  0 10 dissolve_only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IX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.7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 .2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equilibrium_phases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IX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.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 .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equilibrium_phases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IX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.2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 .7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equilibrium_phases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EEA97D7-4BF1-4785-84C4-197AEEBC8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34920" y="4414680"/>
            <a:ext cx="51768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.9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s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1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lcite precipitates; dolomite does not react, but should precipitate. Seawater mixing zones have been suggested as a place where dolomitization could occur, but there is little evidence for present-day dolomitization. Apparently kinetics of dolomite formation are too slow, even though it should form according to thermodynamics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2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olomite is always supersaturated and is not allowed to form by the problem definition. Calcite dissolves at the .75 ground-water mixing fraction and precipitates at .5 and .25. Saturation indices of mixtures are non-linear. Even though the ground water is saturated and seawater is supersaturated with calcite, 0.75 g-w mixture is undersaturated with calcite. In this case, it is an activity coefficient effect; the effect of the decrease in activity coefficients of the mixture is larger than the effect of the increase in concentration, which results in a negative saturation index for calcite and dissolution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6806669-3E4B-4F32-AAA9-622B9FC35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1B80152-8F05-44FE-AC57-10AB62665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16869D9-F0AA-4087-B00E-EED91D7A2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BA75CC1-5A66-4CB2-B046-3CA84CFA0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261D3FD-51FA-4E25-880C-3790E3CC6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6FA0630-EA96-42C0-9158-38A9E6A41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olysulfides in llnl.dat make S(-2)/S(6) look wrong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E932498-B587-44E3-925F-7A8759BEA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R.11a. 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1 Pure Wat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emp      2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       8.2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        8.4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its     ppm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nsity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        412.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g        1291.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a        1076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         399.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kalinity 141.682 as H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        1935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(6)      271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water    1 # kg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IX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2(g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.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VE solution 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LECTED_OUTPU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file r11.se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reset fal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rx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totals  O(0) C(4) C(-4) Fe(3) Fe(2) S(6) S(-2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equilibrium_phase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ackinawit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solution 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(OH)3(a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ackinawite 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AC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H2O   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50 millimoles in 50 step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6CF2F8E-B534-4DD5-872F-551E244D1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body"/>
          </p:nvPr>
        </p:nvSpPr>
        <p:spPr>
          <a:xfrm>
            <a:off x="934920" y="4414680"/>
            <a:ext cx="51768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.11a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1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2, Fe(OH)3(a), SO4, CH2O (-&gt; CH4 + CO2)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2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e(3) is not important anywhere.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3. See plot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4.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ventually, the reacted carbon is split between CO2 and CH4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5.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e(OH)3 dissolves as pe decreases. Fe is no longer being sequestered in mackinawite (FeS)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6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pends on the depth of water, but certainly at atmospheric pressure a bubble will form. At the end of the reaction (50 mmol CH2O reacted) the partial pressure of methane is 10^.66 = 4.6 atmospheres. So if the ambient pressure is less than 4.6 atmospheres (&lt; ~35 m water depth), bubbles should form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7.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crease in sulfate, increase in alkalinity and pH. Usually, H2S does not accumulate in solution, but precipitates as FeS or escapes as a gas. pH changes are sensitive to Fe and S(-2) reactions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graphicFrame>
        <p:nvGraphicFramePr>
          <p:cNvPr id="718" name="Object 4"/>
          <p:cNvGraphicFramePr/>
          <p:nvPr/>
        </p:nvGraphicFramePr>
        <p:xfrm>
          <a:off x="1608120" y="9845640"/>
          <a:ext cx="4424400" cy="289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8120" y="9845640"/>
                    <a:ext cx="4424400" cy="28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9C7570F-137F-4580-9969-3BCE706A9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.11b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s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lfate decreases, alkalinity increases, pH increases, ammonium increases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(-2) is significant, Fe is negligible. pH 7.5 not 9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6AF70C7-760E-4495-B4FF-2A036214D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R.14. Exercis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ar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CTION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H2O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 mmol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E6AAD82-819C-4FDC-A192-A02903FEB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body"/>
          </p:nvPr>
        </p:nvSpPr>
        <p:spPr>
          <a:xfrm>
            <a:off x="934920" y="4414680"/>
            <a:ext cx="51768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.15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s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1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.32*137 = 43 mg/L Ba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2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.2 mmol/kgw methane was generated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3.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tion exchange is a possibility. With much larger TDIC, witherite (BaCO3) is a possibility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D74D2D1-31AC-48D1-B3E0-58E85182C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07FBE07-02B6-4F78-A16B-5F4937938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31388C5-37E7-4DD4-8F67-2461C2DB0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C7C85D5-07C4-46DC-8FED-C36B6C860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34920" y="4414680"/>
            <a:ext cx="51768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marL="1904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.16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Redox couples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dox couple             pe  Eh (volts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-2)/O(0)          12.9447      0.765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0)/N(5)           11.7378      0.694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(3)/Cr(6)          7.0462      0.416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-3)/N(5)           6.1349      0.36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/Fe(3)          4.3348      0.256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s(3)/As(5)         -0.1501     -0.008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(4)/U(6)           -1.0821     -0.064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V(3)/V(5)           -2.2557     -0.133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-3)/N(0)          -3.2032     -0.189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-2)/S(6)          -3.6279     -0.214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-4)/C(4)          -4.0436     -0.239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a) increase in iron concentration should occur first if ferric oxyhydroxides are in the system. Equal Fe(2)/Fe(3) at pe ~ 4, Equal U(4)/U(6) at pe ~ -1.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O3- in oxic water, NH4+ in methanic water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4FCB423-B3D3-49BD-A90F-26C4B839C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C4D6A82-F035-4661-BF06-A0B3EF1EF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409212A-5ADF-43C5-85C6-D15E70B1E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R.18. Exercis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C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yrit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0 mmol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2(g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0.7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C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ackinawit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0 mmol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2(g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0.7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C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phalerit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0 mmol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2(g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0.7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0BCAD99-F100-4E22-A114-2C530FB17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body"/>
          </p:nvPr>
        </p:nvSpPr>
        <p:spPr>
          <a:xfrm>
            <a:off x="934920" y="4414680"/>
            <a:ext cx="51768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.18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s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1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yrite oxidation: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eS2 + xO2 + yH2O -&gt; Fe+3 + 2SO4-2 + H+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 addition, ferric iron hydrolizes to make additional H+: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e+3 + H2O = FeOH+2 + H+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With net acid production to give pH 2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ackinawite oxidation: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eS + 2.25O2 + H+ -&gt; Fe+3 + SO4-2 + .5H2O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ut ferric iron hydrolize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e+3 + H2O = FeOH+2 + H+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With a net acid production that give pH 4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phalerite oxidation: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ZnS + 2O2 -&gt; Zn+2 + SO4-2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Zinc hydrolosis is minimal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Zn+2 + H2O = FeOH+ + H+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et result is pH 7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. HSO4-/SO4-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. Iron oxyhydroxides, goethite (and often Fe(OH)3(a)) and  jarosite. There is also a potassium jarosite and other solid solutions of jarosites. Aluminum has analogous minerals named alunite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38C567B-0E8D-49C2-8F92-93B9C1B21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R.20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xercis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C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yrit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 mmol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2(g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0.7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Goethit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.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AVE solution 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 solution 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 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2(g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0.7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Goethit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.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lc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8053829-7748-40E3-9D47-4833CE520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body"/>
          </p:nvPr>
        </p:nvSpPr>
        <p:spPr>
          <a:xfrm>
            <a:off x="934920" y="4414680"/>
            <a:ext cx="51768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.20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s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1: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FeS2 + 75O2 = 19FeOOH + .8Fe(+3) + 27HSO4- + 12SO4-2 + 50H+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2: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4 and 5.8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3: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Gypsum is supersaturated, and probably would precipitate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CO2 is 1 atmosphere. If O2 reacts to equilibrium with the atmosphere, logically, CO2 would also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graphicFrame>
        <p:nvGraphicFramePr>
          <p:cNvPr id="759" name="Object 4"/>
          <p:cNvGraphicFramePr/>
          <p:nvPr/>
        </p:nvGraphicFramePr>
        <p:xfrm>
          <a:off x="1073160" y="7850160"/>
          <a:ext cx="4424400" cy="289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3160" y="7850160"/>
                    <a:ext cx="4424400" cy="28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179E-7ABA-4746-81B0-836BBC829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9148-731A-4FBF-AF08-49185BAC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3D87-DD89-4619-B8E3-0676AD1BB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AC22-2391-46DE-B9D7-EFC528FB0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ECA2-7C70-4622-BFDA-F795B68BD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71E2-58FC-4E6A-80CD-BD56B0AF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0D12-CE29-4DE8-8A20-FAF74274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1B7A-6A93-44FC-97D5-10076AFA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A5A6-2DFA-43F5-93CC-C93A8D7D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F298-B3F7-4D97-91E6-DD66CF6C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9AEE-2BF7-44B7-B96F-12651D6F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B34E-141B-4DD4-B606-8DD29F45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1A66-B87B-4EBD-8149-ED3AD6D9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8719-BBAD-4907-9708-34AC90F0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B17B-FB9C-4B13-87D1-1766BFCC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0669-DEB0-48C7-B6A6-D301584E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47DB-AD2D-4883-8BE2-412BE1266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5BC1-DBDC-4906-97C5-B2BE9D15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83E6-9C3F-47A4-ADB9-A4EFBDBA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4B7F-BCD9-4007-8127-8ECD6801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FA5A-E04F-4D80-876E-56C19B6A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40E6-E5C7-4129-9824-D8C95BE9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732E-B0EE-46A8-809B-C6009A39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F7B1-50DF-424C-A1C9-4A149090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3BAD-34C2-4402-85F1-E91C31A69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3" descr="Image of small USGS Identifier"/>
          <p:cNvPicPr/>
          <p:nvPr/>
        </p:nvPicPr>
        <p:blipFill>
          <a:blip r:embed="rId2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3" descr="Image of small USGS Identifier"/>
          <p:cNvPicPr/>
          <p:nvPr/>
        </p:nvPicPr>
        <p:blipFill>
          <a:blip r:embed="rId2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3" descr="Image of small USGS Identifier"/>
          <p:cNvPicPr/>
          <p:nvPr/>
        </p:nvPicPr>
        <p:blipFill>
          <a:blip r:embed="rId3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3F52-5BA6-47BD-92C9-D9D6C64C6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uesda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s in PHREEQ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REEQC mecha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geochemical reactions discussion and exerc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dation of organic carb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dation of py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uminosilicate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73AA-A335-4D74-98F5-BF90D621F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SURFACE Data Block Definition</a:t>
            </a:r>
            <a:endParaRPr b="0" lang="en-US" sz="4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68680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face name—Hfo is Hydrous Ferric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surface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composition of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URFACE 2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fo_wO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01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fo_sO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.00005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fo_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01 moles, Equilibrium with solu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9023-1859-41D6-ADE9-A588DBE8F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icher Oklahoma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bandoned Pb/Zn Mine</a:t>
            </a:r>
            <a:br>
              <a:rPr sz="4400"/>
            </a:b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/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7720" y="4267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s are subox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ates are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on oxidizes in 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8" name="Object 1028"/>
          <p:cNvGraphicFramePr/>
          <p:nvPr/>
        </p:nvGraphicFramePr>
        <p:xfrm>
          <a:off x="304920" y="2533680"/>
          <a:ext cx="8610480" cy="128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9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33680"/>
                    <a:ext cx="86104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0224-4872-471F-95F7-3C25B454D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yrite Oxidatio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685440" y="182880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yrite/Marca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rrihydrite/Goethite, jarosite, alun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ypsum if calcite i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por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 side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d gene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yrite &gt; FeS &gt; Z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F3D7-46FD-413D-A413-B64625128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144792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uminosilicate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3B7E-B946-412B-BAA8-038C23590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luminosilicate 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61760" y="3352680"/>
            <a:ext cx="2971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iv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yroxene (aug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hibole (hornblen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tite 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609480" y="17524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seminated calcite important in silicate terr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6"/>
          <p:cNvSpPr/>
          <p:nvPr/>
        </p:nvSpPr>
        <p:spPr>
          <a:xfrm>
            <a:off x="685800" y="2666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wen/Goldich reaction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Group 11"/>
          <p:cNvGrpSpPr/>
          <p:nvPr/>
        </p:nvGrpSpPr>
        <p:grpSpPr>
          <a:xfrm>
            <a:off x="4035960" y="3276720"/>
            <a:ext cx="459720" cy="2514600"/>
            <a:chOff x="4035960" y="3276720"/>
            <a:chExt cx="459720" cy="2514600"/>
          </a:xfrm>
        </p:grpSpPr>
        <p:sp>
          <p:nvSpPr>
            <p:cNvPr id="532" name="Text Box 7"/>
            <p:cNvSpPr/>
            <p:nvPr/>
          </p:nvSpPr>
          <p:spPr>
            <a:xfrm rot="5400000">
              <a:off x="3160800" y="415152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re st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8"/>
            <p:cNvSpPr/>
            <p:nvPr/>
          </p:nvSpPr>
          <p:spPr>
            <a:xfrm>
              <a:off x="4267080" y="51814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Rectangle 10"/>
          <p:cNvSpPr/>
          <p:nvPr/>
        </p:nvSpPr>
        <p:spPr>
          <a:xfrm>
            <a:off x="5334120" y="327672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-Felds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giocl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-Felds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-Felds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cov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FE74-699E-430E-9781-157EC0145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luminosilicat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minerals react to form gibbsite, kaolinite, smectite, zeolites, 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modynamic data is not rel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al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st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to measure alumi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etics are sl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5802-EB3A-4FA1-B0F9-E7D7C88CE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5162400" cy="512424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Add Reactant to Phase Boundary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714640" y="1980720"/>
            <a:ext cx="3429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l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dded (or removed) until gibbsite equilibrium is re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is target SI for Gib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is amount of  KAl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5"/>
          <p:cNvSpPr/>
          <p:nvPr/>
        </p:nvSpPr>
        <p:spPr>
          <a:xfrm>
            <a:off x="2971800" y="3962520"/>
            <a:ext cx="11430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3"/>
          <p:cNvSpPr/>
          <p:nvPr/>
        </p:nvSpPr>
        <p:spPr>
          <a:xfrm>
            <a:off x="685800" y="3962520"/>
            <a:ext cx="18288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E1FE-A959-494A-9355-2D9B0E1E7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22.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Exercise 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Use phreeqc.da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 just enough Anorthite (CaA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o come to equilibrium with gibbsi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 just enough Anorthite to come to equilibrium with kaolin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 just enough Anorthite to come to equilibrium with Ca-Montmorillon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 Anorthite to equilibrium, allow gibbsite, kaolinite, and Ca-Montmorillonite to precipi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5650-10E1-45F6-9D3B-44C1CE550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22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thermodynamic data, which mineral should precipitate firs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stable phase assemblage in a water/anorthite syst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quartz need to be included in this calcu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A932-41B2-44A4-A65E-86257FEAF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22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bbsite requires the least amount of Anorthite to dissolve to become satur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, anorthite, gibbsite, kaolinite?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z is undersaturated in all calcul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9589-EC5C-4813-8193-9133E0FFB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ierra Nevada Springs</a:t>
            </a:r>
            <a:br>
              <a:rPr sz="4400"/>
            </a:b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mol/kgw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Ca, Alkalinity,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ght increase in Mg, K, Cl,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Object 4"/>
          <p:cNvGraphicFramePr/>
          <p:nvPr/>
        </p:nvGraphicFramePr>
        <p:xfrm>
          <a:off x="76320" y="2590920"/>
          <a:ext cx="8839080" cy="66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590920"/>
                    <a:ext cx="88390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E34D-957F-4FBE-B217-B828B5AB2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960" y="847800"/>
            <a:ext cx="8972280" cy="113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KINETICS—Nonequilibrium Reactions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an affect any chemical constituen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3960" y="2666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od Kin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active dec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licate hydrol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 de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al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CA83-1852-44DC-8EBF-0A2D26703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uesday Summar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LIBRIUM_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5582-A75F-4574-8EDB-591107AFD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ate minerals and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dolomit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 de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lfate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electron acceptors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eOOH, 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lfide ox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uminosilicate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50DE-8A06-4E62-8091-EF7E09615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_PHASE (opt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rse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E0CC-0103-4DD3-9941-7C76D5D7F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24. TES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soil zone, carbonate ground water, log P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-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rate the water with by addition of HCl (use RE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ot pH vs acid added, assuming equilibrium with atmospheric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ot pH vs acid added, assuming no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scapes from the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228B-54D5-4C50-A66F-360E5D132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GAS_PHA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plus head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d UZ water and g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ke sed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ll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79C9-8CC2-4804-B577-D7308B733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GAS_PHA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V = nRT Ideal ga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 K = [CO2]/P(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pressure—Volume v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volume—Pressure v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08C3-FBE3-4C24-B220-6026EAD86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7" name="Object 5"/>
          <p:cNvGraphicFramePr/>
          <p:nvPr/>
        </p:nvGraphicFramePr>
        <p:xfrm>
          <a:off x="304920" y="2819520"/>
          <a:ext cx="8610480" cy="850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819520"/>
                    <a:ext cx="861048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9" name="Rectangle 6"/>
          <p:cNvSpPr/>
          <p:nvPr/>
        </p:nvSpPr>
        <p:spPr>
          <a:xfrm>
            <a:off x="762120" y="990720"/>
            <a:ext cx="78483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lue Plains, Washington D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otomac River Sediment Por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7"/>
          <p:cNvSpPr/>
          <p:nvPr/>
        </p:nvSpPr>
        <p:spPr>
          <a:xfrm>
            <a:off x="762120" y="38862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or sulfate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e methan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6060-7002-44C5-BCCF-8B4341025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GAS_PHAS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gas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moles in the gas phase are calculated ideal gas law us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al pressures of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4" descr=""/>
          <p:cNvPicPr/>
          <p:nvPr/>
        </p:nvPicPr>
        <p:blipFill>
          <a:blip r:embed="rId1"/>
          <a:stretch/>
        </p:blipFill>
        <p:spPr>
          <a:xfrm>
            <a:off x="4343400" y="685800"/>
            <a:ext cx="4552920" cy="5429160"/>
          </a:xfrm>
          <a:prstGeom prst="rect">
            <a:avLst/>
          </a:prstGeom>
          <a:ln w="0">
            <a:noFill/>
          </a:ln>
        </p:spPr>
      </p:pic>
      <p:sp>
        <p:nvSpPr>
          <p:cNvPr id="58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6161-78EC-4AFF-9BB1-91D0A4B36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25. 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 water with 50 mmol of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0.1 in freshwater sed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the reacted carbon distributed in the s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classify the water in terms of cations and an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processes should we consi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E51F-DA03-4705-A947-23266A599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25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mmol C(-4) (methane); 25 mmol C(4) (20 mmol CO2, 5 mmol HCO3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monium bicarbonate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 bub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E5AD-C190-4374-B061-AD09EDFD2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54160"/>
            <a:ext cx="9144000" cy="113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KINETICS and RATES Data Block Definition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94920" y="1740960"/>
            <a:ext cx="7162920" cy="473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etic reaction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ichiometry of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 expression (RAT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Kinetics 2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_dec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 -1 CH2O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Rate = 0.01*TOT(“Doc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AVE rate*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F59C-067D-4868-AEFD-8DED90642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26. Gas pha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a gas phase in the last simu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partial pressure of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partial pressure of 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 pressure is 1.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composition of the gas ph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volume of the gas ph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EDDD-68D8-402E-8F20-A3F038568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26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% CH4, 30% CO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83 li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1213-2403-4434-809C-C77640E1F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394920"/>
            <a:ext cx="7924680" cy="21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OLID_SOLUTIONS—Composition of one or more solid solutions</a:t>
            </a:r>
            <a:br>
              <a:rPr sz="3600"/>
            </a:br>
            <a:br>
              <a:rPr sz="3600"/>
            </a:b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race elements and isotope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784240"/>
            <a:ext cx="82296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of solid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 of each solid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OLID_SOLUTION 2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ite solid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[13C]O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O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35FC-296D-4200-B04B-A6944FAD7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1000" y="847800"/>
            <a:ext cx="8690040" cy="113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GAS_PHASE—Finite gas phase in equilibrium with solu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3960" y="2666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 bubbles that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 bubbles that fill a finite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854C-DBA4-443D-B5E9-0712C70ED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7924680" cy="19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GAS_PHASE—Composition of the gas phase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Fixed volume or Fixed pressur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784240"/>
            <a:ext cx="82296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al pressure of each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GAS_PHASE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d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2(g)  0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4(g)  0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C7E4-B91D-48AF-BDEC-05E6A1406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HREEQC Reactan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word data blocks define reac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s—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eversible reaction—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librium minerals and gases—EQUILIBRIUM_P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hangers—EXCHA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faces—SU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etic reactions—KINETICS and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id solutions—SOLID_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 reactants on shelves by type and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FC37-494D-4216-9719-2A65585D2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352440"/>
            <a:ext cx="91440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PHREEQC—Reactions</a:t>
            </a:r>
            <a:endParaRPr b="0" lang="en-US" sz="4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388880"/>
            <a:ext cx="321156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sh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nc_u1buw[1]"/>
          <p:cNvPicPr/>
          <p:nvPr/>
        </p:nvPicPr>
        <p:blipFill>
          <a:blip r:embed="rId1"/>
          <a:stretch/>
        </p:blipFill>
        <p:spPr>
          <a:xfrm>
            <a:off x="457200" y="2133720"/>
            <a:ext cx="3211560" cy="3446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_qgd_eaj[1]"/>
          <p:cNvPicPr/>
          <p:nvPr/>
        </p:nvPicPr>
        <p:blipFill>
          <a:blip r:embed="rId2"/>
          <a:stretch/>
        </p:blipFill>
        <p:spPr>
          <a:xfrm>
            <a:off x="5410080" y="2362320"/>
            <a:ext cx="3452760" cy="34495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6"/>
          <p:cNvSpPr/>
          <p:nvPr/>
        </p:nvSpPr>
        <p:spPr>
          <a:xfrm>
            <a:off x="4229280" y="3868560"/>
            <a:ext cx="685800" cy="855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5410080" y="1389240"/>
            <a:ext cx="3211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b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091D-DF07-4457-9787-39B65B013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5943600" cy="227016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QUILIBRIUM 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160" y="3809520"/>
            <a:ext cx="79246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F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_SOLU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IBRIUM_PHASE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_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6"/>
          <p:cNvSpPr/>
          <p:nvPr/>
        </p:nvSpPr>
        <p:spPr>
          <a:xfrm>
            <a:off x="3276720" y="2286000"/>
            <a:ext cx="16002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076A-6D4E-4B80-A319-BAFD4DD0A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030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5943600" cy="227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NON-EQUILIBRIUM 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3809520"/>
            <a:ext cx="79246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_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E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5"/>
          <p:cNvSpPr/>
          <p:nvPr/>
        </p:nvSpPr>
        <p:spPr>
          <a:xfrm>
            <a:off x="3581280" y="2666880"/>
            <a:ext cx="1143000" cy="38124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6"/>
          <p:cNvSpPr/>
          <p:nvPr/>
        </p:nvSpPr>
        <p:spPr>
          <a:xfrm>
            <a:off x="5562720" y="2666880"/>
            <a:ext cx="38088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BF37-B957-45E7-8A49-0435423FE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Calcula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96" name="Group 46"/>
          <p:cNvGrpSpPr/>
          <p:nvPr/>
        </p:nvGrpSpPr>
        <p:grpSpPr>
          <a:xfrm>
            <a:off x="152280" y="1905120"/>
            <a:ext cx="1067040" cy="1066680"/>
            <a:chOff x="152280" y="1905120"/>
            <a:chExt cx="1067040" cy="1066680"/>
          </a:xfrm>
        </p:grpSpPr>
        <p:sp>
          <p:nvSpPr>
            <p:cNvPr id="97" name="AutoShape 23"/>
            <p:cNvSpPr/>
            <p:nvPr/>
          </p:nvSpPr>
          <p:spPr>
            <a:xfrm>
              <a:off x="152280" y="1905120"/>
              <a:ext cx="990720" cy="1066680"/>
            </a:xfrm>
            <a:prstGeom prst="downArrowCallout">
              <a:avLst>
                <a:gd name="adj1" fmla="val 25188"/>
                <a:gd name="adj2" fmla="val 29546"/>
                <a:gd name="adj3" fmla="val 16698"/>
                <a:gd name="adj4" fmla="val 6550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24"/>
            <p:cNvSpPr/>
            <p:nvPr/>
          </p:nvSpPr>
          <p:spPr>
            <a:xfrm>
              <a:off x="152280" y="2133360"/>
              <a:ext cx="106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L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68"/>
          <p:cNvGrpSpPr/>
          <p:nvPr/>
        </p:nvGrpSpPr>
        <p:grpSpPr>
          <a:xfrm>
            <a:off x="3657600" y="1905120"/>
            <a:ext cx="1219320" cy="1066680"/>
            <a:chOff x="3657600" y="1905120"/>
            <a:chExt cx="1219320" cy="1066680"/>
          </a:xfrm>
        </p:grpSpPr>
        <p:sp>
          <p:nvSpPr>
            <p:cNvPr id="100" name="AutoShape 48"/>
            <p:cNvSpPr/>
            <p:nvPr/>
          </p:nvSpPr>
          <p:spPr>
            <a:xfrm>
              <a:off x="3733920" y="1905120"/>
              <a:ext cx="990720" cy="1066680"/>
            </a:xfrm>
            <a:prstGeom prst="downArrowCallout">
              <a:avLst>
                <a:gd name="adj1" fmla="val 25188"/>
                <a:gd name="adj2" fmla="val 29546"/>
                <a:gd name="adj3" fmla="val 16698"/>
                <a:gd name="adj4" fmla="val 6550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49"/>
            <p:cNvSpPr/>
            <p:nvPr/>
          </p:nvSpPr>
          <p:spPr>
            <a:xfrm>
              <a:off x="3657600" y="213372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QUILIBRIUM_PHA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50"/>
          <p:cNvGrpSpPr/>
          <p:nvPr/>
        </p:nvGrpSpPr>
        <p:grpSpPr>
          <a:xfrm>
            <a:off x="4800600" y="1905120"/>
            <a:ext cx="1066680" cy="1066680"/>
            <a:chOff x="4800600" y="1905120"/>
            <a:chExt cx="1066680" cy="1066680"/>
          </a:xfrm>
        </p:grpSpPr>
        <p:sp>
          <p:nvSpPr>
            <p:cNvPr id="103" name="AutoShape 51"/>
            <p:cNvSpPr/>
            <p:nvPr/>
          </p:nvSpPr>
          <p:spPr>
            <a:xfrm>
              <a:off x="4800600" y="1905120"/>
              <a:ext cx="990360" cy="1066680"/>
            </a:xfrm>
            <a:prstGeom prst="downArrowCallout">
              <a:avLst>
                <a:gd name="adj1" fmla="val 25188"/>
                <a:gd name="adj2" fmla="val 29546"/>
                <a:gd name="adj3" fmla="val 16704"/>
                <a:gd name="adj4" fmla="val 6550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52"/>
            <p:cNvSpPr/>
            <p:nvPr/>
          </p:nvSpPr>
          <p:spPr>
            <a:xfrm>
              <a:off x="4800600" y="213336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53"/>
          <p:cNvGrpSpPr/>
          <p:nvPr/>
        </p:nvGrpSpPr>
        <p:grpSpPr>
          <a:xfrm>
            <a:off x="5867280" y="1905120"/>
            <a:ext cx="1067040" cy="1066680"/>
            <a:chOff x="5867280" y="1905120"/>
            <a:chExt cx="1067040" cy="1066680"/>
          </a:xfrm>
        </p:grpSpPr>
        <p:sp>
          <p:nvSpPr>
            <p:cNvPr id="106" name="AutoShape 54"/>
            <p:cNvSpPr/>
            <p:nvPr/>
          </p:nvSpPr>
          <p:spPr>
            <a:xfrm>
              <a:off x="5867280" y="1905120"/>
              <a:ext cx="990720" cy="1066680"/>
            </a:xfrm>
            <a:prstGeom prst="downArrowCallout">
              <a:avLst>
                <a:gd name="adj1" fmla="val 25188"/>
                <a:gd name="adj2" fmla="val 29546"/>
                <a:gd name="adj3" fmla="val 16698"/>
                <a:gd name="adj4" fmla="val 6550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55"/>
            <p:cNvSpPr/>
            <p:nvPr/>
          </p:nvSpPr>
          <p:spPr>
            <a:xfrm>
              <a:off x="5867280" y="2133360"/>
              <a:ext cx="106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RF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56"/>
          <p:cNvGrpSpPr/>
          <p:nvPr/>
        </p:nvGrpSpPr>
        <p:grpSpPr>
          <a:xfrm>
            <a:off x="6934320" y="1905120"/>
            <a:ext cx="1066680" cy="1066680"/>
            <a:chOff x="6934320" y="1905120"/>
            <a:chExt cx="1066680" cy="1066680"/>
          </a:xfrm>
        </p:grpSpPr>
        <p:sp>
          <p:nvSpPr>
            <p:cNvPr id="109" name="AutoShape 57"/>
            <p:cNvSpPr/>
            <p:nvPr/>
          </p:nvSpPr>
          <p:spPr>
            <a:xfrm>
              <a:off x="6934320" y="1905120"/>
              <a:ext cx="990360" cy="1066680"/>
            </a:xfrm>
            <a:prstGeom prst="downArrowCallout">
              <a:avLst>
                <a:gd name="adj1" fmla="val 25188"/>
                <a:gd name="adj2" fmla="val 29546"/>
                <a:gd name="adj3" fmla="val 16704"/>
                <a:gd name="adj4" fmla="val 6550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58"/>
            <p:cNvSpPr/>
            <p:nvPr/>
          </p:nvSpPr>
          <p:spPr>
            <a:xfrm>
              <a:off x="6934320" y="213336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INE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59"/>
          <p:cNvGrpSpPr/>
          <p:nvPr/>
        </p:nvGrpSpPr>
        <p:grpSpPr>
          <a:xfrm>
            <a:off x="1219320" y="1905120"/>
            <a:ext cx="1066680" cy="1066680"/>
            <a:chOff x="1219320" y="1905120"/>
            <a:chExt cx="1066680" cy="1066680"/>
          </a:xfrm>
        </p:grpSpPr>
        <p:sp>
          <p:nvSpPr>
            <p:cNvPr id="112" name="AutoShape 60"/>
            <p:cNvSpPr/>
            <p:nvPr/>
          </p:nvSpPr>
          <p:spPr>
            <a:xfrm>
              <a:off x="1219320" y="1905120"/>
              <a:ext cx="990360" cy="1066680"/>
            </a:xfrm>
            <a:prstGeom prst="downArrowCallout">
              <a:avLst>
                <a:gd name="adj1" fmla="val 25188"/>
                <a:gd name="adj2" fmla="val 29546"/>
                <a:gd name="adj3" fmla="val 16704"/>
                <a:gd name="adj4" fmla="val 6550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61"/>
            <p:cNvSpPr/>
            <p:nvPr/>
          </p:nvSpPr>
          <p:spPr>
            <a:xfrm>
              <a:off x="1219320" y="213336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5"/>
          <p:cNvGrpSpPr/>
          <p:nvPr/>
        </p:nvGrpSpPr>
        <p:grpSpPr>
          <a:xfrm>
            <a:off x="2666880" y="1905120"/>
            <a:ext cx="1067040" cy="1066680"/>
            <a:chOff x="2666880" y="1905120"/>
            <a:chExt cx="1067040" cy="1066680"/>
          </a:xfrm>
        </p:grpSpPr>
        <p:sp>
          <p:nvSpPr>
            <p:cNvPr id="115" name="AutoShape 66"/>
            <p:cNvSpPr/>
            <p:nvPr/>
          </p:nvSpPr>
          <p:spPr>
            <a:xfrm>
              <a:off x="2666880" y="1905120"/>
              <a:ext cx="990720" cy="1066680"/>
            </a:xfrm>
            <a:prstGeom prst="downArrowCallout">
              <a:avLst>
                <a:gd name="adj1" fmla="val 25188"/>
                <a:gd name="adj2" fmla="val 29546"/>
                <a:gd name="adj3" fmla="val 16698"/>
                <a:gd name="adj4" fmla="val 6550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67"/>
            <p:cNvSpPr/>
            <p:nvPr/>
          </p:nvSpPr>
          <p:spPr>
            <a:xfrm>
              <a:off x="2666880" y="2133360"/>
              <a:ext cx="106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A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 Box 70"/>
          <p:cNvSpPr/>
          <p:nvPr/>
        </p:nvSpPr>
        <p:spPr>
          <a:xfrm>
            <a:off x="457200" y="3200400"/>
            <a:ext cx="8305920" cy="1572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LIBRATION RE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2"/>
          <p:cNvSpPr/>
          <p:nvPr/>
        </p:nvSpPr>
        <p:spPr>
          <a:xfrm>
            <a:off x="2286000" y="2057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3"/>
          <p:cNvSpPr/>
          <p:nvPr/>
        </p:nvSpPr>
        <p:spPr>
          <a:xfrm>
            <a:off x="4419720" y="480060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86"/>
          <p:cNvGrpSpPr/>
          <p:nvPr/>
        </p:nvGrpSpPr>
        <p:grpSpPr>
          <a:xfrm>
            <a:off x="762120" y="5486400"/>
            <a:ext cx="1295280" cy="762120"/>
            <a:chOff x="762120" y="5486400"/>
            <a:chExt cx="1295280" cy="762120"/>
          </a:xfrm>
        </p:grpSpPr>
        <p:sp>
          <p:nvSpPr>
            <p:cNvPr id="121" name="Rectangle 78"/>
            <p:cNvSpPr/>
            <p:nvPr/>
          </p:nvSpPr>
          <p:spPr>
            <a:xfrm>
              <a:off x="762120" y="5486400"/>
              <a:ext cx="129528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74"/>
            <p:cNvSpPr/>
            <p:nvPr/>
          </p:nvSpPr>
          <p:spPr>
            <a:xfrm>
              <a:off x="914400" y="57150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L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85"/>
          <p:cNvGrpSpPr/>
          <p:nvPr/>
        </p:nvGrpSpPr>
        <p:grpSpPr>
          <a:xfrm>
            <a:off x="2343240" y="5486400"/>
            <a:ext cx="1295280" cy="762120"/>
            <a:chOff x="2343240" y="5486400"/>
            <a:chExt cx="1295280" cy="762120"/>
          </a:xfrm>
        </p:grpSpPr>
        <p:sp>
          <p:nvSpPr>
            <p:cNvPr id="124" name="Rectangle 80"/>
            <p:cNvSpPr/>
            <p:nvPr/>
          </p:nvSpPr>
          <p:spPr>
            <a:xfrm>
              <a:off x="2343240" y="5486400"/>
              <a:ext cx="129528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75"/>
            <p:cNvSpPr/>
            <p:nvPr/>
          </p:nvSpPr>
          <p:spPr>
            <a:xfrm>
              <a:off x="2343240" y="5627880"/>
              <a:ext cx="12952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QUILIBRIUM_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A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84"/>
          <p:cNvGrpSpPr/>
          <p:nvPr/>
        </p:nvGrpSpPr>
        <p:grpSpPr>
          <a:xfrm>
            <a:off x="3924360" y="5486400"/>
            <a:ext cx="1371600" cy="762120"/>
            <a:chOff x="3924360" y="5486400"/>
            <a:chExt cx="1371600" cy="762120"/>
          </a:xfrm>
        </p:grpSpPr>
        <p:sp>
          <p:nvSpPr>
            <p:cNvPr id="127" name="Rectangle 81"/>
            <p:cNvSpPr/>
            <p:nvPr/>
          </p:nvSpPr>
          <p:spPr>
            <a:xfrm>
              <a:off x="3924360" y="5486400"/>
              <a:ext cx="129528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76"/>
            <p:cNvSpPr/>
            <p:nvPr/>
          </p:nvSpPr>
          <p:spPr>
            <a:xfrm>
              <a:off x="4000320" y="571500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XCHAN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83"/>
          <p:cNvGrpSpPr/>
          <p:nvPr/>
        </p:nvGrpSpPr>
        <p:grpSpPr>
          <a:xfrm>
            <a:off x="5581800" y="5486400"/>
            <a:ext cx="1295280" cy="762120"/>
            <a:chOff x="5581800" y="5486400"/>
            <a:chExt cx="1295280" cy="762120"/>
          </a:xfrm>
        </p:grpSpPr>
        <p:sp>
          <p:nvSpPr>
            <p:cNvPr id="130" name="Rectangle 82"/>
            <p:cNvSpPr/>
            <p:nvPr/>
          </p:nvSpPr>
          <p:spPr>
            <a:xfrm>
              <a:off x="5581800" y="5486400"/>
              <a:ext cx="129528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77"/>
            <p:cNvSpPr/>
            <p:nvPr/>
          </p:nvSpPr>
          <p:spPr>
            <a:xfrm>
              <a:off x="5734080" y="57150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RF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94"/>
          <p:cNvGrpSpPr/>
          <p:nvPr/>
        </p:nvGrpSpPr>
        <p:grpSpPr>
          <a:xfrm>
            <a:off x="7924680" y="1905120"/>
            <a:ext cx="1219320" cy="1066680"/>
            <a:chOff x="7924680" y="1905120"/>
            <a:chExt cx="1219320" cy="1066680"/>
          </a:xfrm>
        </p:grpSpPr>
        <p:sp>
          <p:nvSpPr>
            <p:cNvPr id="133" name="AutoShape 88"/>
            <p:cNvSpPr/>
            <p:nvPr/>
          </p:nvSpPr>
          <p:spPr>
            <a:xfrm>
              <a:off x="8001000" y="1905120"/>
              <a:ext cx="990720" cy="1066680"/>
            </a:xfrm>
            <a:prstGeom prst="downArrowCallout">
              <a:avLst>
                <a:gd name="adj1" fmla="val 25188"/>
                <a:gd name="adj2" fmla="val 29546"/>
                <a:gd name="adj3" fmla="val 16698"/>
                <a:gd name="adj4" fmla="val 6550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89"/>
            <p:cNvSpPr/>
            <p:nvPr/>
          </p:nvSpPr>
          <p:spPr>
            <a:xfrm>
              <a:off x="7924680" y="213372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AS_P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93"/>
          <p:cNvGrpSpPr/>
          <p:nvPr/>
        </p:nvGrpSpPr>
        <p:grpSpPr>
          <a:xfrm>
            <a:off x="7162920" y="5486400"/>
            <a:ext cx="1371600" cy="762120"/>
            <a:chOff x="7162920" y="5486400"/>
            <a:chExt cx="1371600" cy="762120"/>
          </a:xfrm>
        </p:grpSpPr>
        <p:sp>
          <p:nvSpPr>
            <p:cNvPr id="136" name="Rectangle 91"/>
            <p:cNvSpPr/>
            <p:nvPr/>
          </p:nvSpPr>
          <p:spPr>
            <a:xfrm>
              <a:off x="7162920" y="5486400"/>
              <a:ext cx="129528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92"/>
            <p:cNvSpPr/>
            <p:nvPr/>
          </p:nvSpPr>
          <p:spPr>
            <a:xfrm>
              <a:off x="7162920" y="571500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AS_PH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Slide Number Placeholder 4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AD26-4A91-4D11-A1D6-75398BB87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ONCEPTUAL MODEL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—SOLUTION or M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irreversible reacta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INE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CTION_TEMP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reversible reac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ILIBRIUM_PH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ID_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_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new com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ompositions if nee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A81E-DC43-4C68-B66C-21F4A6115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oday’s Geochemical Reaction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of organic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of py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uminosilicate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649A-FDB7-4EB3-A352-A9E950140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oday’s PHREEQC Data Block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LIBRIUM_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 and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AS_PH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B1EB-D098-42BB-9385-F1F160ED7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it redox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C367-D5E5-4945-B914-A1D899B60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4429080" cy="44197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IX: One or more SOLU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09720" y="2285640"/>
            <a:ext cx="3505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solution numb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mixing f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5"/>
          <p:cNvSpPr/>
          <p:nvPr/>
        </p:nvSpPr>
        <p:spPr>
          <a:xfrm>
            <a:off x="2895480" y="2971800"/>
            <a:ext cx="1752840" cy="106668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1CBB-5F98-4B31-A205-F96F05BE5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REACTION 1. Exercise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Implicit Redox Reactions</a:t>
            </a:r>
            <a:br>
              <a:rPr sz="3600"/>
            </a:b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g/L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240" y="266652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rainwater as SOLUTION 1 with log partial pressure of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-0.7 and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-3.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MIX by using solution 1 and mixing fraction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Object 4"/>
          <p:cNvGraphicFramePr/>
          <p:nvPr/>
        </p:nvGraphicFramePr>
        <p:xfrm>
          <a:off x="114480" y="1752480"/>
          <a:ext cx="8877240" cy="52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1752480"/>
                    <a:ext cx="88772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5E74-130C-4FD9-8AF8-0124B6C93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1. 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Explain the differences between the initial solution composition and the reaction (“mixed”) solution composition, particularly pH, pe, N(5), N(0), and     N(-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07AE-A3D3-4504-9AAE-C3B3B7D65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1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solu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ction 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500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21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000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.37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(0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375e-00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781e-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(5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692e-00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177e-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(0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126e-0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(-3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485e-00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000e+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ifferences are caused entirely by redox equilibration. Initial solution is in redox disequilibrium, the reaction solution is in redox equilibrium. In the reaction solu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(-3) has been oxidized to N(5) and N(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(0) has been reduced in the process of oxidizing N(-3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xidation tends to decrease pH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ox is defined by O(0)/O(-2) and N(5)/N(0) redox couples, both will give the same 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D0F3-2865-4BF0-94AE-AA3EC176C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dox Calcula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redox disequilib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N(5), N(-3), O(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 calc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aqueous redox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redefine “elements” for dis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, N(5), N(3), N(0), N(-3), Ngas, 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0D39-CF4A-4F19-BF14-14D5957A0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tial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A46B-8BD1-4B09-B721-3AE037A13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566280"/>
            <a:ext cx="822636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OLUTION—Chemical Composition of a Wate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22000"/>
            <a:ext cx="8229600" cy="27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elements Ca, Mg, Na, K, Alkalinity, Cl, 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tr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07D1-9A14-4E40-9E74-8779B4450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5943600" cy="22701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AVE and US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520" y="37335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results of reaction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reviously defined SOLUTIONs, EQUILIBRIUM_PHASES, REACTIONs, et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reviously SAVEd SOLUTIONS, EQUILBRIUM_PHASES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5257800" y="2286000"/>
            <a:ext cx="457200" cy="380880"/>
          </a:xfrm>
          <a:prstGeom prst="rect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5105520" y="2666880"/>
            <a:ext cx="380880" cy="304920"/>
          </a:xfrm>
          <a:prstGeom prst="rect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E4E3-8586-4B98-B417-6A988EDE6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4257720" cy="37242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AVE results from a “Reaction Calculation”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54100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SOLUTION defines an “initial solution” calculation, which is automatically sav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5"/>
          <p:cNvSpPr/>
          <p:nvPr/>
        </p:nvSpPr>
        <p:spPr>
          <a:xfrm>
            <a:off x="2971800" y="2514600"/>
            <a:ext cx="99072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400800" y="1981080"/>
            <a:ext cx="23623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 numbers are used to keep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 numbers do not need to be sequ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EBEF-B2A3-41AA-A728-D86259B5E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SE: Previously defined or SAVEd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7242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ncludes KINETICS, MIX, REACTION, and REACTION_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USE previously SAVEd EQUILIBRIUM_PHASES, EXCHANGE, SOLID_SOLUTION, SOLUTION, SURFACE, or GAS_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380880" y="1952640"/>
            <a:ext cx="3981600" cy="3990960"/>
          </a:xfrm>
          <a:prstGeom prst="rect">
            <a:avLst/>
          </a:prstGeom>
          <a:ln w="0">
            <a:noFill/>
          </a:ln>
        </p:spPr>
      </p:pic>
      <p:sp>
        <p:nvSpPr>
          <p:cNvPr id="250" name="Oval 5"/>
          <p:cNvSpPr/>
          <p:nvPr/>
        </p:nvSpPr>
        <p:spPr>
          <a:xfrm>
            <a:off x="3581280" y="3657600"/>
            <a:ext cx="99072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E7F6-7932-441B-8C9F-F51B2EEA2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nitial Solution” and “Reaction” Calculation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772040" y="1981080"/>
            <a:ext cx="68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533520" y="1181160"/>
            <a:ext cx="7924680" cy="5280120"/>
          </a:xfrm>
          <a:prstGeom prst="rect">
            <a:avLst/>
          </a:prstGeom>
          <a:ln w="0">
            <a:noFill/>
          </a:ln>
        </p:spPr>
      </p:pic>
      <p:sp>
        <p:nvSpPr>
          <p:cNvPr id="25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02AD-FC4B-48F9-A6B4-C7B5C2F47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851360" cy="494352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: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ants and stoichiometr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866920" y="2438280"/>
            <a:ext cx="3048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phase or type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relative stoichi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charge balan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5"/>
          <p:cNvSpPr/>
          <p:nvPr/>
        </p:nvSpPr>
        <p:spPr>
          <a:xfrm>
            <a:off x="431640" y="1854360"/>
            <a:ext cx="99072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6"/>
          <p:cNvSpPr/>
          <p:nvPr/>
        </p:nvSpPr>
        <p:spPr>
          <a:xfrm>
            <a:off x="2895480" y="3048120"/>
            <a:ext cx="2133720" cy="76176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D61F-C1D4-480A-BEEB-2F6F0F3E5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8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5000760" cy="50958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: Reaction amoun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866920" y="1981080"/>
            <a:ext cx="312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 are a number of equal inc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 are a specified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5"/>
          <p:cNvSpPr/>
          <p:nvPr/>
        </p:nvSpPr>
        <p:spPr>
          <a:xfrm>
            <a:off x="533520" y="3048120"/>
            <a:ext cx="990360" cy="129528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6"/>
          <p:cNvSpPr/>
          <p:nvPr/>
        </p:nvSpPr>
        <p:spPr>
          <a:xfrm>
            <a:off x="1295280" y="1676520"/>
            <a:ext cx="11430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7"/>
          <p:cNvSpPr/>
          <p:nvPr/>
        </p:nvSpPr>
        <p:spPr>
          <a:xfrm>
            <a:off x="1828800" y="3429000"/>
            <a:ext cx="2819520" cy="76212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C9F0-202F-463B-B565-DAB52CBF2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QUILIBRIUM_PHAS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562720" y="1828440"/>
            <a:ext cx="3581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mbly of minerals/gases that react to equilibrium or zero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al/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saturation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s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5162400" cy="5124600"/>
          </a:xfrm>
          <a:prstGeom prst="rect">
            <a:avLst/>
          </a:prstGeom>
          <a:ln w="0">
            <a:noFill/>
          </a:ln>
        </p:spPr>
      </p:pic>
      <p:sp>
        <p:nvSpPr>
          <p:cNvPr id="27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EED5-0BD1-40CE-92AE-311A21679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nitial Solution” and “Reaction” Calculation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772040" y="1981080"/>
            <a:ext cx="68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743880" cy="5145120"/>
          </a:xfrm>
          <a:prstGeom prst="rect">
            <a:avLst/>
          </a:prstGeom>
          <a:ln w="0">
            <a:noFill/>
          </a:ln>
        </p:spPr>
      </p:pic>
      <p:sp>
        <p:nvSpPr>
          <p:cNvPr id="27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2CFA-70B8-4E2B-85DE-DAAE8A957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142920" y="1523880"/>
            <a:ext cx="4124160" cy="495324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Initial Solution” and Reaction Calculation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D statemen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343400" y="167616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—defines a “Simul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a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SOLUTION results in an initial solution calculation (unique inde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ion calculation—SOLUTION + one of each reactant type befor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ants can be keyword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ants be defined by U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speciation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reaction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ransport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5"/>
          <p:cNvSpPr/>
          <p:nvPr/>
        </p:nvSpPr>
        <p:spPr>
          <a:xfrm>
            <a:off x="1981080" y="3378240"/>
            <a:ext cx="533520" cy="2286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6"/>
          <p:cNvSpPr/>
          <p:nvPr/>
        </p:nvSpPr>
        <p:spPr>
          <a:xfrm>
            <a:off x="609480" y="3276720"/>
            <a:ext cx="838440" cy="2286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7"/>
          <p:cNvSpPr/>
          <p:nvPr/>
        </p:nvSpPr>
        <p:spPr>
          <a:xfrm>
            <a:off x="609480" y="3809880"/>
            <a:ext cx="838440" cy="2286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8"/>
          <p:cNvSpPr/>
          <p:nvPr/>
        </p:nvSpPr>
        <p:spPr>
          <a:xfrm>
            <a:off x="609480" y="4343400"/>
            <a:ext cx="838440" cy="2286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9"/>
          <p:cNvSpPr/>
          <p:nvPr/>
        </p:nvSpPr>
        <p:spPr>
          <a:xfrm>
            <a:off x="609480" y="5029200"/>
            <a:ext cx="838440" cy="2286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1981080" y="3924360"/>
            <a:ext cx="533520" cy="2286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1"/>
          <p:cNvSpPr/>
          <p:nvPr/>
        </p:nvSpPr>
        <p:spPr>
          <a:xfrm>
            <a:off x="1981080" y="4724280"/>
            <a:ext cx="533520" cy="2286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2"/>
          <p:cNvSpPr/>
          <p:nvPr/>
        </p:nvSpPr>
        <p:spPr>
          <a:xfrm>
            <a:off x="1981080" y="5791320"/>
            <a:ext cx="533520" cy="2286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1472-A852-43E2-A0C6-35EC8AC30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peciation and Reaction Calculation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igmatic END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352680" y="1523880"/>
            <a:ext cx="5562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tion calculation solut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tion calculation solut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on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TIO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ILIBRIUM_PHASES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CTION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tion calculation solu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on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TION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ILIBRIUM_PHASE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CTION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peciation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reaction calculation—No Reactant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6" descr=""/>
          <p:cNvPicPr/>
          <p:nvPr/>
        </p:nvPicPr>
        <p:blipFill>
          <a:blip r:embed="rId1"/>
          <a:stretch/>
        </p:blipFill>
        <p:spPr>
          <a:xfrm>
            <a:off x="152280" y="1409760"/>
            <a:ext cx="3029040" cy="4991040"/>
          </a:xfrm>
          <a:prstGeom prst="rect">
            <a:avLst/>
          </a:prstGeom>
          <a:ln w="0">
            <a:noFill/>
          </a:ln>
        </p:spPr>
      </p:pic>
      <p:sp>
        <p:nvSpPr>
          <p:cNvPr id="29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6877-40C8-48EE-AAB8-96BC61217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566280"/>
            <a:ext cx="822636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(Irreversible) REACTION—Add/Remove elements to wate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22360"/>
            <a:ext cx="822960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solution 1 m NaCl and 2 m K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Cl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Br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079C-B5EC-44C0-BB38-184192342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3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equential 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n unsaturated zone water. Build on previous exercise with rainwater. Add SAVE solution 2 after MIX step and before E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the END, add USE solution 2 and equilibrate (EQUILIBRIUM_PHASES) with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log partial pressure –2, and calcite (SI = 0), save solution as solution 3. 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olution 3, add 1 mmol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EACTION), equilibrate with calcite (EQUILIBRIUM_PHASES), save as solution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BC7B-FA76-43FC-8EEC-9F0295800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3. 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log p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rainwater, rainwater, in redox equilibrium (the mixture), the mixture equilibrated with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alcite, and after reaction with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alci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millimoles of calcite and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acted to make solution 3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millimoles of calcite reacted to make solution 4 from solution 3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DEEB-622E-4C89-9C82-4933AA7E8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R3.</a:t>
            </a: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Answers</a:t>
            </a:r>
            <a:endParaRPr b="0" lang="en-US" sz="4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ion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 1 Rain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 2 Rainwater, redox equilibr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 3 Solution 2 + equilibrium with CO2 and Calc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 4 Solution 3 + Reaction + equilibrium with Calc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 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 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2(g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3.5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3.49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2.0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1.6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ion 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e               SI log IAP  log KT    Initial      Final      Del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ite           0.00    -8.48     -8.48  1.000e+001 9.998e+000 -1.749e-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2(g)           -2.00  -20.15  -18.15 1.000e+001 9.998e+000 -1.774e-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74 mmol calcite dissolv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77 mmol CO2 dissolv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ion 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e               SI log IAP  log KT    Initial      Final      Del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ite           0.00   -8.48   -8.48 1.000e+001 9.999e+000 -5.767e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58 millimoles of calcite dissolv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2100-5592-4A5F-BB6A-DC1277F5F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REACTION 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5. Extra Credit Exercis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MIX and REACTION to evaporate rainwater 20 fold (at constant p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before reaction with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alcite. Hint: You  must remove water and water has 55.5 mol per k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3D64-BF13-4300-9646-EBAD483EE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5. Answer</a:t>
            </a:r>
            <a:br>
              <a:rPr sz="4000"/>
            </a:b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_SP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em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O(0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C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M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N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2(g) -0.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2(g) -3.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wa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2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4.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0.38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0.04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0.14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0.03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9 m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UM_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(g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VE solu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olu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UM_PHASES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te   0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(g)    -2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VE solu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olu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     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illim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UM_PHASES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te   0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VE solution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B318-496B-4B88-8FBA-0B4ACAC64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S in PHREEQC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-solution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 calculation includes any of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/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066680" y="2743200"/>
            <a:ext cx="3657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ION_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4267080" y="2743200"/>
            <a:ext cx="4343400" cy="15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LIBRIUM_PH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FACE SOLID_SOLUTION GAS_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6413-B373-4066-8661-F926D6CD3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dolomit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0862-E6EB-4DA2-AE8B-747CF6513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Dedolomitiza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hydrite dis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ite precip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lomite dis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3524-C65F-41CB-8BAE-139D6F158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6. 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ground water with log pCO2 = -2, equilibrium with calcite and dolom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 50 mmol of anhydrite (CaSO4) in increments of 10 mmol. Maintain equilibrium with calcite and dolomite, allow anhydrite to precipitate if it becomes satur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need to use these data blocks: SOLUTION, EQUILIBRIUM_PHASES, REACTION, USE, SAVE in two simu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6261-ED39-4138-B328-1651350D0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6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rends do you expect in water composition with anhydrite-driven dedolomitiz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the following reaction mislead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O4 + CaMg(CO3)2 = 2CaCO3 + Mg+2 + SO4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How does the water composition change from step 4 to step 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BCDD-7BEE-4C5C-BE4E-D4E4C46AD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344160"/>
            <a:ext cx="8226360" cy="18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EQUILIBRIUM_PHASES—Assemblage of Minerals and Gases that react to equilibrium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579400"/>
            <a:ext cx="8229600" cy="35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C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= [C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[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58B7-501E-40A5-83BC-765586FD7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6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26" name="Object 3"/>
          <p:cNvGraphicFramePr/>
          <p:nvPr/>
        </p:nvGraphicFramePr>
        <p:xfrm>
          <a:off x="995400" y="1981080"/>
          <a:ext cx="715176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1981080"/>
                    <a:ext cx="7151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9A85-236F-443D-B370-8A9D7D5F9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6.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Answers </a:t>
            </a:r>
            <a:br>
              <a:rPr sz="4000"/>
            </a:b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in SO4, increase in Ca and Mg, constant or decrease in HCO3, decrease in pH, SI’s near zero for calcite and dolom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o not get a Mg+2 SO4-2 water composition. Ratio of Mg/Ca is approximately constant at .3 to 1 (depending on K for dolomit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et to the final water composition, the net reaction is approxima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CaSO4 + 16CaMg(CO3)2 = 32CaCO3 + 21Ca+2 + 16Mg+2 + 37SO4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has reached equilibrium and does not change. However, it is not quite an invariant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D9E0-C3A1-437C-9F80-E73AD0C75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248000" cy="16002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"/>
          <p:cNvPicPr/>
          <p:nvPr/>
        </p:nvPicPr>
        <p:blipFill>
          <a:blip r:embed="rId2"/>
          <a:stretch/>
        </p:blipFill>
        <p:spPr>
          <a:xfrm>
            <a:off x="3657600" y="1219320"/>
            <a:ext cx="5010120" cy="542916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LECTED_OUTPU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5" name="Oval 5"/>
          <p:cNvSpPr/>
          <p:nvPr/>
        </p:nvSpPr>
        <p:spPr>
          <a:xfrm>
            <a:off x="7543800" y="4419720"/>
            <a:ext cx="914400" cy="6858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6"/>
          <p:cNvSpPr/>
          <p:nvPr/>
        </p:nvSpPr>
        <p:spPr>
          <a:xfrm>
            <a:off x="5867280" y="3429000"/>
            <a:ext cx="106704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7"/>
          <p:cNvSpPr/>
          <p:nvPr/>
        </p:nvSpPr>
        <p:spPr>
          <a:xfrm>
            <a:off x="4419720" y="1941480"/>
            <a:ext cx="76176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8"/>
          <p:cNvSpPr/>
          <p:nvPr/>
        </p:nvSpPr>
        <p:spPr>
          <a:xfrm>
            <a:off x="304920" y="4572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Reset all to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9"/>
          <p:cNvSpPr/>
          <p:nvPr/>
        </p:nvSpPr>
        <p:spPr>
          <a:xfrm>
            <a:off x="304920" y="2819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"/>
          <p:cNvSpPr/>
          <p:nvPr/>
        </p:nvSpPr>
        <p:spPr>
          <a:xfrm>
            <a:off x="304920" y="5334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et pH to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11"/>
          <p:cNvSpPr/>
          <p:nvPr/>
        </p:nvSpPr>
        <p:spPr>
          <a:xfrm>
            <a:off x="3733920" y="1650960"/>
            <a:ext cx="787320" cy="38088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2"/>
          <p:cNvSpPr/>
          <p:nvPr/>
        </p:nvSpPr>
        <p:spPr>
          <a:xfrm>
            <a:off x="304920" y="59436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Set Reaction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13"/>
          <p:cNvSpPr/>
          <p:nvPr/>
        </p:nvSpPr>
        <p:spPr>
          <a:xfrm>
            <a:off x="5638680" y="3962520"/>
            <a:ext cx="129564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4"/>
          <p:cNvSpPr/>
          <p:nvPr/>
        </p:nvSpPr>
        <p:spPr>
          <a:xfrm>
            <a:off x="3124080" y="4800600"/>
            <a:ext cx="4343400" cy="7632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5"/>
          <p:cNvSpPr/>
          <p:nvPr/>
        </p:nvSpPr>
        <p:spPr>
          <a:xfrm>
            <a:off x="304920" y="3429000"/>
            <a:ext cx="304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et file name (default selected.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16"/>
          <p:cNvSpPr/>
          <p:nvPr/>
        </p:nvSpPr>
        <p:spPr>
          <a:xfrm>
            <a:off x="2819520" y="2057400"/>
            <a:ext cx="457200" cy="38088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CB40-C638-4FFE-B6F9-24EF44744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lected Output: Total Molaliti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715000" y="198108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4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4587840" cy="4972320"/>
          </a:xfrm>
          <a:prstGeom prst="rect">
            <a:avLst/>
          </a:prstGeom>
          <a:ln w="0">
            <a:noFill/>
          </a:ln>
        </p:spPr>
      </p:pic>
      <p:sp>
        <p:nvSpPr>
          <p:cNvPr id="351" name="Oval 5"/>
          <p:cNvSpPr/>
          <p:nvPr/>
        </p:nvSpPr>
        <p:spPr>
          <a:xfrm>
            <a:off x="2666880" y="1905120"/>
            <a:ext cx="787680" cy="38088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B5DE-6D3A-4633-A54A-FE3A80ACA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lected Outpu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4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29360" cy="4983120"/>
          </a:xfrm>
          <a:prstGeom prst="rect">
            <a:avLst/>
          </a:prstGeom>
          <a:ln w="0">
            <a:noFill/>
          </a:ln>
        </p:spPr>
      </p:pic>
      <p:sp>
        <p:nvSpPr>
          <p:cNvPr id="35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C9B2-831E-47C0-B68B-26BC4FF4D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26672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lected Output Fi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52280" y="2819160"/>
            <a:ext cx="3200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with 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ipulate/plo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FW has built-in plotting cap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3429000" y="228600"/>
            <a:ext cx="5303880" cy="6400800"/>
          </a:xfrm>
          <a:prstGeom prst="rect">
            <a:avLst/>
          </a:prstGeom>
          <a:ln w="0">
            <a:noFill/>
          </a:ln>
        </p:spPr>
      </p:pic>
      <p:sp>
        <p:nvSpPr>
          <p:cNvPr id="360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9063-9C4E-4BF2-9952-A95F04A99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REACTION 8. Questions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lummer and Sprinkle, 2001</a:t>
            </a:r>
            <a:br>
              <a:rPr sz="3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ts are mg/L, S(-2) as H2S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365760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re these the trends of dedolomitiz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Anything e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Object 5"/>
          <p:cNvGraphicFramePr/>
          <p:nvPr/>
        </p:nvGraphicFramePr>
        <p:xfrm>
          <a:off x="152280" y="2362320"/>
          <a:ext cx="8809200" cy="65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362320"/>
                    <a:ext cx="880920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A7FC-4736-4828-8E36-E3ECB21E8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8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Increase in Ca, Mg, SO4; decrease in pH; not much change in alkali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 in sulfate (number 4 to number 6) and H2S indicate sulfate re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 and Cl indicate mixing with sea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41E2-987D-4E95-AC3F-E0F0E66F0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1"/>
          <a:stretch/>
        </p:blipFill>
        <p:spPr>
          <a:xfrm>
            <a:off x="304920" y="1731960"/>
            <a:ext cx="4876560" cy="48402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QUILIBRIUM_PHASE: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Dissolve Onl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638680" y="2971800"/>
            <a:ext cx="33530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mineral not to precipi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5"/>
          <p:cNvSpPr/>
          <p:nvPr/>
        </p:nvSpPr>
        <p:spPr>
          <a:xfrm>
            <a:off x="3809880" y="4267080"/>
            <a:ext cx="9144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093E-4DEB-4265-AA16-DF7947A56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9. 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ground water with log pCO2 = -2, equilibrium with calcite and dolom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ibrate seawater (major ions only) with calcite and dolomite;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ow dolomite only to dissol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 ground water with seawater in fractions of .25, 0.5, .75. Maintain equilibrium with calcite;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ow dolomite only to dissol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CB62-2E2C-4521-A322-24484BDEC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544320"/>
            <a:ext cx="914400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EQUILIBRIUM_PHASES Data Block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 or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uration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EQUILIBRIUM_PHASES 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P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2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libri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lom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libri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(OH)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libri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A9EA-9957-454A-BFF1-D07BDE654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9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reaction is calculated for seawater equilibration with calcite and dolomit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reactions are calculated for a carbonate reactions for the ground-water/seawater mixtu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5727-20CE-4918-8EE8-5D174921E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9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ite precipitates; dolomite does not react, but should precipitate. Seawater mixing zones have been suggested as a place where dolomitization could occur, but there is little evidence for present-day dolomitization. Apparently kinetics of dolomite formation are too slow, even though it should form according to thermodynam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lomite is always supersaturated and is not allowed to form by the problem definition. Calcite dissolves at the .75 ground-water mixing fraction and precipitates at .5 and .25. Saturation indices of mixtures are non-linear. Even though the ground water is saturated and seawater is supersaturated with calcite, 0.75 g-w mixture is undersaturated with calcite. In this case, it is an activity coefficient effect; the effect of the decrease in activity coefficients of the mixture is larger than the effect of the increase in concentration, which results in a negative saturation index for calcite and disso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AEC7-8D09-43EC-A617-F54FB6482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arbonate 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447920" y="144792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bonate groun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1 to -3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ite, or calcite and dolom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pply in the U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olomit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hydrite dis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ite precip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lomite dis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lfate re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lomit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water mixing can dissolve calc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75EB-AF24-4941-A91E-577B3D46E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 decompos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918D-047F-4C18-9FB2-F160A3851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Organic Decomposi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tial removal of electron acceptors, usually in the sequ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c car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F58B-CF8E-47D7-A291-B09EC75DE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dox Environmen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c—Dissolved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+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oxic—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M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e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+ 4Fe(OH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7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4F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8H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3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lfidic—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+ 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= 2H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anic—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=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6070-D601-486C-88B1-23B79FA06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dox Environmen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96" name="Object 4"/>
          <p:cNvGraphicFramePr/>
          <p:nvPr/>
        </p:nvGraphicFramePr>
        <p:xfrm>
          <a:off x="838080" y="1219320"/>
          <a:ext cx="7239240" cy="539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9320"/>
                    <a:ext cx="7239240" cy="53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29CE-37F8-442E-8A4B-092C26648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dox Sequence at pH 7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2362320" y="1066680"/>
          <a:ext cx="4267080" cy="5546880"/>
        </p:xfrm>
        <a:graphic>
          <a:graphicData uri="http://schemas.openxmlformats.org/drawingml/2006/table">
            <a:tbl>
              <a:tblPr/>
              <a:tblGrid>
                <a:gridCol w="3011400"/>
                <a:gridCol w="12556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ox cou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-2)/O(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0)/N(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(4)/Se(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(3)/Cr(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-3)/N(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(2)/Fe(3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(-2)/Se(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(4)/U(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(3)/As(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(3)/V(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-3)/N(0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(-2)/S(6)* (wateq4f.da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(-4)/C(4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1" name="Slide Number Placeholder 5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C499-59A8-4E45-B5C0-D5C6C1132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Organic decomposition REACTIO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47560" y="2209680"/>
            <a:ext cx="2819160" cy="426744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RO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2O  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4-2  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CO3- 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2S     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mm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1884600" y="1523880"/>
            <a:ext cx="537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CH2O + SO4-2  = 2HCO3- + H2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5029200" y="2209680"/>
            <a:ext cx="2819520" cy="426744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2O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mm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perhap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2O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    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mm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A5E8-083F-4374-878D-088AE4E91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Organic Decomposition in PHREEQC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 balance of C in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and O mole balances increase too, but equivalent to adding H2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re are electron acceptors, C ends up as CO3-2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 acceptor effectively gives up O and assumes the more reduce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oice of electron acceptor is thermodyna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A42E-D2FD-4AAE-861E-529DA8C52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736200"/>
            <a:ext cx="91440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EXCHANGE—Cation Exchange Compositio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hangeable cations in interlayers of c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NaX = Ca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libriu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3505320" y="4724280"/>
                <a:ext cx="380988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NaX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747F-76C0-4EA0-9CCC-B7E88A560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11a. 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lute seawater by 50 percent, equilibrate with atmospheric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 diluted seawater with 50 mmol of CH2O in 50 steps of 1 mmol. Equilibrate with .1 moles of Fe(OH)3(a) and 0.0 mol of mackinawi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moles of reaction (-rxn) and total concentrations of O(0), C(4), C(-4), Fe(2), Fe(3), S(6), S(-2) (-totals) and mackinawite (-equi) to the selected-output file (SELECTED_OUTPU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7F44-10C9-489C-97C4-C33E4080C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11a. 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equence of electron acceptors is use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is Fe(3) impor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Excel to plot the concentrations in the selected-output file (rxn is the x variable, set first line rxn from –99 to 0, omit d_mackinawit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C(4) not a straight l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Fe(2) increase after 30 mmol of CH2O is rea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a gas bubble for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rends are observed for sulfate redu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4153-E89A-4461-AB23-86887ACBC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1a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417" name="Object 15"/>
          <p:cNvGraphicFramePr/>
          <p:nvPr/>
        </p:nvGraphicFramePr>
        <p:xfrm>
          <a:off x="838080" y="1676520"/>
          <a:ext cx="7620120" cy="462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76520"/>
                    <a:ext cx="7620120" cy="46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9915-3B2B-4E4D-B358-8EAF85684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11a. Answer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2, Fe(OH)3(a), SO4, CH2O (-&gt; CH4 + CO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(3) is not important anywhe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pl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, the reacted carbon is split between CO2 and CH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(OH)3 dissolves as pe decreases. Fe is no longer being sequestered in mackinawite (F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s on the depth of water, but certainly at atmospheric pressure a bubble will form. At the end of the reaction (50 mmol CH2O reacted) the partial pressure of methane is 10^.66 = 4.6 atmospheres. So if the ambient pressure is less than 4.6 atmospheres (&lt; ~35 m water depth), bubbles should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 in sulfate, increase in alkalinity and pH. Usually, H2S does not accumulate in solution, but precipitates as FeS or escapes as a gas. pH changes are sensitive to Fe and S(-2) rea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3305-9B5C-4182-8D32-64D2114D2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1b. Questions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otomac Estuary Sedimen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these analyses similar to the sulfate reduction simulation resul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these analyses differ from the simulation resul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Object 5"/>
          <p:cNvGraphicFramePr/>
          <p:nvPr/>
        </p:nvGraphicFramePr>
        <p:xfrm>
          <a:off x="304920" y="2590920"/>
          <a:ext cx="8488080" cy="54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90920"/>
                    <a:ext cx="848808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Rectangle 4"/>
          <p:cNvSpPr/>
          <p:nvPr/>
        </p:nvSpPr>
        <p:spPr>
          <a:xfrm>
            <a:off x="3276720" y="20574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s are mmol/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6CD6-13CA-4884-B792-D633A51F8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1b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lfate decreases, alkalinity increases, pH increases, ammonium incre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(-2) is significant, Fe is negligible. pH 7.5 not 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D06D-C6A4-4241-982B-47300C992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4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hould happen if organic matter oxidizes in the presence of bari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 reaction simulation  assuming 1 mmol of organic carbon rea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0096-6DF0-4987-AEE0-3A41ABC64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4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barium concentration in mg/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re reactions other than sulfate redu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other reactions could affect barium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28F3-29C6-473E-B8CB-FC74D13E7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4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32*137 = 43 mg/L 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2 mmol/kgw methane was gener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ion exchange is a possibility. With much larger TDIC, witherite (BaCO3) is a poss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6943-C658-4CFA-8074-26F44B197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ulfate Reduction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Norman Landfill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ium concentration appears insignificant unless barium is lost to cation exchange or mineral precipi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Object 4"/>
          <p:cNvGraphicFramePr/>
          <p:nvPr/>
        </p:nvGraphicFramePr>
        <p:xfrm>
          <a:off x="533520" y="2209680"/>
          <a:ext cx="7529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09680"/>
                    <a:ext cx="7529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AF33-F295-40EB-820F-B8B4D4048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CHANGE Data Block Defini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68080"/>
            <a:ext cx="8686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exchange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composition of exch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EXCHANGE 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X2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5 moles (X is defined in databa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5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5 moles, Equilibrium with solu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56C9-F58D-4693-B0C4-F1B872BB4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ape Cod Sewage Plum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on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ulfate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8" name="Object 1029"/>
          <p:cNvGraphicFramePr/>
          <p:nvPr/>
        </p:nvGraphicFramePr>
        <p:xfrm>
          <a:off x="228600" y="762120"/>
          <a:ext cx="8717040" cy="79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9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62120"/>
                    <a:ext cx="871704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Object 1031"/>
          <p:cNvGraphicFramePr/>
          <p:nvPr/>
        </p:nvGraphicFramePr>
        <p:xfrm>
          <a:off x="304920" y="4114800"/>
          <a:ext cx="8610480" cy="851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1" name="Object 10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114800"/>
                    <a:ext cx="86104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2" name="Rectangle 1032"/>
          <p:cNvSpPr/>
          <p:nvPr/>
        </p:nvSpPr>
        <p:spPr>
          <a:xfrm>
            <a:off x="838080" y="2971800"/>
            <a:ext cx="7848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lue Plains, Washington D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otomac River Sediment Por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033"/>
          <p:cNvSpPr/>
          <p:nvPr/>
        </p:nvSpPr>
        <p:spPr>
          <a:xfrm>
            <a:off x="762120" y="51814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or sulfate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e methan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BD74-7113-4C82-9A3F-46B59B336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entral Oklahoma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6" name="Rectangle 551"/>
          <p:cNvSpPr/>
          <p:nvPr/>
        </p:nvSpPr>
        <p:spPr>
          <a:xfrm>
            <a:off x="-3492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457200" y="2057400"/>
          <a:ext cx="7885080" cy="1951200"/>
        </p:xfrm>
        <a:graphic>
          <a:graphicData uri="http://schemas.openxmlformats.org/drawingml/2006/table">
            <a:tbl>
              <a:tblPr/>
              <a:tblGrid>
                <a:gridCol w="1057320"/>
                <a:gridCol w="471600"/>
                <a:gridCol w="528480"/>
                <a:gridCol w="528480"/>
                <a:gridCol w="532080"/>
                <a:gridCol w="528480"/>
                <a:gridCol w="530280"/>
                <a:gridCol w="528480"/>
                <a:gridCol w="532080"/>
                <a:gridCol w="528480"/>
                <a:gridCol w="530280"/>
                <a:gridCol w="528480"/>
                <a:gridCol w="532080"/>
                <a:gridCol w="528480"/>
              </a:tblGrid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units mg/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(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kalin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(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(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(-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 CaCO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 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 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gridSpan="2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ty of Jones 13N-01W-34 C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8" name="Rectangle 698"/>
          <p:cNvSpPr/>
          <p:nvPr/>
        </p:nvSpPr>
        <p:spPr>
          <a:xfrm>
            <a:off x="-34920" y="466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956"/>
          <p:cNvSpPr/>
          <p:nvPr/>
        </p:nvSpPr>
        <p:spPr>
          <a:xfrm>
            <a:off x="685800" y="47242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rganic matter or reduced mine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8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42D0-CC8B-437E-B8AC-BC65638ED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Organic Decomposi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Atmosphere, DO negli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Atmosphere, ag chem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(3)—Iron oxyhydrox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Seawater, atmosphere, gyp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 carbon—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 carbon can be ab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BDC7-DA07-45D4-A2CC-CC988DBD9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dox Sequence at pH 7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2362320" y="1066680"/>
          <a:ext cx="4267080" cy="5546880"/>
        </p:xfrm>
        <a:graphic>
          <a:graphicData uri="http://schemas.openxmlformats.org/drawingml/2006/table">
            <a:tbl>
              <a:tblPr/>
              <a:tblGrid>
                <a:gridCol w="3011400"/>
                <a:gridCol w="12556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ox cou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-2)/O(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0)/N(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(4)/Se(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(3)/Cr(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-3)/N(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(2)/Fe(3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(-2)/Se(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(4)/U(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(3)/As(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(3)/V(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-3)/N(0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(-2)/S(6)* (wateq4f.da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(-4)/C(4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6" name="Slide Number Placeholder 5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F5DA-FD2A-4AC3-BB8F-EC0B2BC1C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6. 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you make the redox table of the previous sli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 is soluble as reduced ferrous iron, uranium is soluble as oxidized U(6). As organic carbon reacts, which would you observe first: (a) increase in iron, (b) decrease in uraniu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modynamically, which nitrogen species do you expect to see in an oxygenated ground water? In a methanic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37B6-74B2-4DD0-9A8F-7863075D3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6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equal amounts (1 umol/kgw) of each redox state Se(6), Se(4); As(5), As(3); etc. in SOLUTION with pH 7. Look at pe table that is pri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) increase in iron concentration should occur first if ferric oxyhydroxides are in the system. Equal Fe(2)/Fe(3) at pe ~ 4, Equal U(4)/U(6) at pe ~ -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3- in oxic water, NH4+ in methanic water. However, NO3- generally is reduced to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nitrification), not 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es nitrify to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29CB-1490-4523-AA98-D98D50810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144792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lfide ox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C31B-3EAF-435E-AE3E-001D1A58C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5" descr="stkev_minedump2"/>
          <p:cNvPicPr/>
          <p:nvPr/>
        </p:nvPicPr>
        <p:blipFill>
          <a:blip r:embed="rId1"/>
          <a:stretch/>
        </p:blipFill>
        <p:spPr>
          <a:xfrm>
            <a:off x="752400" y="933480"/>
            <a:ext cx="7639200" cy="4991040"/>
          </a:xfrm>
          <a:prstGeom prst="rect">
            <a:avLst/>
          </a:prstGeom>
          <a:ln w="0">
            <a:noFill/>
          </a:ln>
        </p:spPr>
      </p:pic>
      <p:sp>
        <p:nvSpPr>
          <p:cNvPr id="47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1280-AD7E-4C22-8928-2D85C10B5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ulfide Oxida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rite/Marcasite are most important reac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Pyrite, Oxygen, Water, and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dation of pyrite and formation of ferric hydroxide complexes and minerals generates acidic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5DC7-4DF0-4000-B7B7-2A9F51527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ron Mountain, California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lfide deposits at the top of a mou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of precip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aturated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nnels d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D1E6-F24C-4EEF-86A6-F9619056B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226360" cy="14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URFACE—Surface Composition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race elements Zn, Cd, Pb, As, P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ption onto the surfaces of minerals and organic matter, usually hydrous ferric ox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foOH + A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HfoOHA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ibriu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4"/>
              <p:cNvSpPr txBox="1"/>
              <p:nvPr/>
            </p:nvSpPr>
            <p:spPr>
              <a:xfrm>
                <a:off x="2971800" y="4842000"/>
                <a:ext cx="4572000" cy="14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foOHAsO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foOH</m:t>
                        </m:r>
                        <m:r>
                          <m:t xml:space="preserve">]</m:t>
                        </m:r>
                        <m:r>
                          <m:t xml:space="preserve">[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sO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1267-DEE1-47D5-88D9-7679E6D5C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icher, Oklahoma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t top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s 200 to 500 ft below land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urated after dewatering c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 off the supply of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C9AE-3867-4525-B753-39954749B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implified 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S2 + 15/4O2 + 4HCO3- = Fe(OH)3 + 2SO4-2 + 4CO2 + 1/2H2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S2 + 15/4O2 + 7/2H2O = Fe(OH)3 + 2SO4-2 + 4H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p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S2 + 15/4O2 + 1/2H2O = Fe+3 + SO4-2 + HSO4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F91B-9E51-4DC4-A8B7-F26468FCF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dditional 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us ferric ox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rrihyd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et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ro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uminum hydrox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un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yp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B6BD-89AF-485A-93A4-6AE85F4BD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odeling Pyrite Oxida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S2 + 15/4O2 + 7/2H2O = Fe(OH)3 + 2SO4-2 + 4H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k the irreversible reactant: O2 or Fe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xygen rich environment of a tailings p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going to react up to 50 mmol Fe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librium re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0823-2B0B-4317-9EEB-14D9930FE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8. 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 the pure water with 10 mmol of pyrite, maintaining equilibrium with atmospheric oxy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 the pure water with 10 mmol of mackinawite, maintaining equilibrium with atmospheric oxy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 the pure water with 10 mmol of sphalerite, maintaining equilibrium with atmospheric oxy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6FF8-DDF7-4D40-9632-704EE94A3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8. 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qualitative reactions that explain the pH of the 3 solu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H buffer starts to operate at pHs below 3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the input file with wateq4f.dat database. What minerals may precipitate during pyrite oxid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437C-09EF-4D69-B089-7B76B343E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8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yrite oxid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S2 + xO2 + yH2O -&gt; Fe+3 + 2SO4-2 + H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addition,  a little ferric iron hydrolizes to make additional H+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+3 + H2O = FeOH+2 + H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net acid production to give pH 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kinawite oxid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S + 2.25O2 + H+ -&gt; Fe+3 + SO4-2 + .5H2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a majority ferric iron hydroliz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+3 + xH2O = Fe(OH)x+y + H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a net acid production that give pH 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halerite oxid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nS + 2O2 -&gt; Zn+2 + SO4-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inc hydrolosis is minim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n+2 + H2O = ZnOH+ + H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result is pH 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HSO4-/SO4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Iron oxyhydroxides, goethite (and often Fe(OH)3(a)) and  jarosite. There is also a potassium jarosite and other solid solutions of jarosites. Aluminum has analogous minerals named alun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CE9B-7E58-4934-AD8A-5EA954420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20.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Extra Credit Exercis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 the pure water with 20 mmol of pyrite, maintaining equilibrium with atmospheric oxygen and goeth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id mine drainage is usually treated with limestone. Use the results of part 1 and equilibrate with O2, goethite, and calci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9E27-D72D-4806-844E-E936985DB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20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net reaction for the PHREEQC results for the low-pH sim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H values with and without calcite equilibr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ing at the results of the calcite-equilibrated simulation, what additional reactions should be conside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18C1-2499-41D0-B02A-A8937B356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20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Fe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75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9FeOOH + .8Fe(+3) + 27H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12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50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s are 1.4 and 5.8 without and with calcite equilibr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ypsum is supersaturated, and probably would precipit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1 atmosphere. If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acts to equilibrium with the atmosphere, logically,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ould al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8607-A40D-4507-9B51-D8C9FF66B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17:52:05Z</dcterms:created>
  <dc:creator>dlpark</dc:creator>
  <dc:description/>
  <dc:language>en-US</dc:language>
  <cp:lastModifiedBy>OED</cp:lastModifiedBy>
  <dcterms:modified xsi:type="dcterms:W3CDTF">2011-03-15T21:18:34Z</dcterms:modified>
  <cp:revision>69</cp:revision>
  <dc:subject/>
  <dc:title>Defining Solutions</dc:title>
</cp:coreProperties>
</file>