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8945DE3-7934-40EA-A220-E15541260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36AA5CE-2505-401B-B293-884AC4EFA34F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C561-4996-4C96-92D1-0A5F319A5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5EDC-30E8-424A-9C9B-6A77823F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4205-CDEB-48C5-9B11-93180DCFD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46C4-8CAF-4162-BBF9-04BC45314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9C86-C625-4938-B811-7196900FF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C344-4845-4D91-9381-F9780B4C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B156-7469-4522-9557-BA35C7D2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0F57-6BD9-4000-8B93-D027C8E6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E653-CFB7-4360-8673-25F6B7BB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B0BE-FBC3-4CDA-965A-A9A96949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03F2-8836-4DF8-9CBC-F05BF0F5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1732-6EC6-42C3-8BBC-546B7493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6F70-EA83-47C4-9055-D7A4EA71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5CC8-3ABE-4667-BE7D-6D552E47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96A7-E541-4148-A487-9B697105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E4EF-2AE0-4BF3-8ED0-265E04E21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8010-53FC-4C04-83CD-65F04BB67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9A8D-0319-48CF-9F14-57A2E853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B10F-0F8A-4B1D-AEB9-15E4CFAF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D111-34AA-4BFA-B218-75187F22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2D2A-AB35-4F0E-B91A-3FC435ED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36B5-DB9C-41DD-9011-DF0E8062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DC92-EBEA-4911-A044-6775A39F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1ABD-F4F1-4DE8-8682-56C1C4BE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FBA1-846E-4419-A39E-115359E0A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" name="Picture 23" descr="Image of small USGS Identifier"/>
          <p:cNvPicPr/>
          <p:nvPr/>
        </p:nvPicPr>
        <p:blipFill>
          <a:blip r:embed="rId2">
            <a:lum bright="100000"/>
          </a:blip>
          <a:stretch/>
        </p:blipFill>
        <p:spPr>
          <a:xfrm>
            <a:off x="152280" y="6361200"/>
            <a:ext cx="1143000" cy="42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9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3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pic>
        <p:nvPicPr>
          <p:cNvPr id="74" name="Picture 23" descr="Image of small USGS Identifier"/>
          <p:cNvPicPr/>
          <p:nvPr/>
        </p:nvPicPr>
        <p:blipFill>
          <a:blip r:embed="rId2">
            <a:lum bright="100000"/>
          </a:blip>
          <a:stretch/>
        </p:blipFill>
        <p:spPr>
          <a:xfrm>
            <a:off x="457200" y="6095880"/>
            <a:ext cx="1143000" cy="4208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748E-835A-457E-A85E-F7E734FF3B7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1981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cc"/>
                </a:solidFill>
                <a:latin typeface="Arial"/>
              </a:rPr>
              <a:t>The PHAST 3D Reactive-Transport Simulator</a:t>
            </a:r>
            <a:endParaRPr b="0" lang="en-US" sz="4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73200" y="34290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David Parkhurst, Ken Kipp, and Scott Charlton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0A47-434E-4991-B30E-187BB0BE11A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2971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Zon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25909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ox—Rectangular bric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edge—Right triangular wedg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is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erimet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rc shap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XYZ fi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oin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3733920" y="152280"/>
            <a:ext cx="4429080" cy="2452680"/>
          </a:xfrm>
          <a:prstGeom prst="rect">
            <a:avLst/>
          </a:prstGeom>
          <a:ln w="0">
            <a:noFill/>
          </a:ln>
        </p:spPr>
      </p:pic>
      <p:sp>
        <p:nvSpPr>
          <p:cNvPr id="169" name="Oval 7"/>
          <p:cNvSpPr/>
          <p:nvPr/>
        </p:nvSpPr>
        <p:spPr>
          <a:xfrm>
            <a:off x="5486400" y="457200"/>
            <a:ext cx="736560" cy="487440"/>
          </a:xfrm>
          <a:prstGeom prst="ellipse">
            <a:avLst/>
          </a:prstGeom>
          <a:noFill/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3505320" y="4356000"/>
            <a:ext cx="4800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op, Bottom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rc raster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rc shape + attribute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XYZ file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oints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6469-99D8-4255-80AD-B09D04D4D57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66800" y="38160"/>
            <a:ext cx="25909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erimeter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4267080" y="1219320"/>
            <a:ext cx="1600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op</a:t>
            </a:r>
            <a:endParaRPr b="1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3467160" y="2819520"/>
            <a:ext cx="2057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Bottom</a:t>
            </a:r>
            <a:endParaRPr b="1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5" name="Picture 8" descr=""/>
          <p:cNvPicPr/>
          <p:nvPr/>
        </p:nvPicPr>
        <p:blipFill>
          <a:blip r:embed="rId1"/>
          <a:stretch/>
        </p:blipFill>
        <p:spPr>
          <a:xfrm>
            <a:off x="0" y="38160"/>
            <a:ext cx="3505320" cy="2627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"/>
          <p:cNvPicPr/>
          <p:nvPr/>
        </p:nvPicPr>
        <p:blipFill>
          <a:blip r:embed="rId2"/>
          <a:stretch/>
        </p:blipFill>
        <p:spPr>
          <a:xfrm>
            <a:off x="0" y="2819520"/>
            <a:ext cx="3505320" cy="2625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"/>
          <p:cNvPicPr/>
          <p:nvPr/>
        </p:nvPicPr>
        <p:blipFill>
          <a:blip r:embed="rId3"/>
          <a:stretch/>
        </p:blipFill>
        <p:spPr>
          <a:xfrm>
            <a:off x="5638680" y="1219320"/>
            <a:ext cx="3505320" cy="2627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"/>
          <p:cNvPicPr/>
          <p:nvPr/>
        </p:nvPicPr>
        <p:blipFill>
          <a:blip r:embed="rId4"/>
          <a:stretch/>
        </p:blipFill>
        <p:spPr>
          <a:xfrm>
            <a:off x="5638680" y="4232160"/>
            <a:ext cx="3505320" cy="26258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2"/>
          <p:cNvSpPr/>
          <p:nvPr/>
        </p:nvSpPr>
        <p:spPr>
          <a:xfrm>
            <a:off x="3886200" y="4232160"/>
            <a:ext cx="2057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rism</a:t>
            </a:r>
            <a:endParaRPr b="1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Slide Number Placeholder 9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3174-C7BA-455D-A62C-F506A50105F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terpolation for Top and Botto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XYZ Data are treated as scattered poin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atural neighbor interpolation (NNI) is used if possibl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efines a continuous surface except at data poin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NI is not simply the closest neighbo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rea weights by nearest poin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ses closest neighbor interpolation (CNI) if NNI fail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ot continuou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sed outside convex hul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9626-2C74-4B33-BEBA-533513639D5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wo Coordinate System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p—State plane, UT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rid—Local coordinate syste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ot quite finishe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oday, map = gri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3A97-0DE3-43EE-9C5A-953FF83EF83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ssigning Properties to a Zon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nsta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inear in X, Y, or Z direc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oints—Values at set of X,Y,Z poin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XYZ File—Values at set of X,Y,Z poin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XYZT File—Boundary conditions onl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X,Y,Z,T,P: property at location and tim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9842-664A-4F9D-B863-F00402D305A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3D Interpolation from Poin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operties are assigned from the closest of the set of poin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oduces a volume with constant property around each poi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0FB8-1C47-44C0-BE24-6BEA1444564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patially Distributed Properties Are Overlayed in Zone Sequenc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4648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operty P defined by green followed by brown zon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operty P defined by brown followed by green zon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5334120" y="1838160"/>
            <a:ext cx="2057400" cy="121932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6553080" y="2219400"/>
            <a:ext cx="1828800" cy="457200"/>
          </a:xfrm>
          <a:prstGeom prst="rect">
            <a:avLst/>
          </a:prstGeom>
          <a:solidFill>
            <a:srgbClr val="aa8456">
              <a:alpha val="83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5486400" y="1990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P = 10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6934320" y="22575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P = 20</a:t>
            </a: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6553080" y="4867200"/>
            <a:ext cx="1905120" cy="457200"/>
          </a:xfrm>
          <a:prstGeom prst="rect">
            <a:avLst/>
          </a:prstGeom>
          <a:solidFill>
            <a:srgbClr val="aa845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5334120" y="4486320"/>
            <a:ext cx="2057400" cy="1219320"/>
          </a:xfrm>
          <a:prstGeom prst="rect">
            <a:avLst/>
          </a:prstGeom>
          <a:solidFill>
            <a:srgbClr val="339966">
              <a:alpha val="83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5867280" y="48909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P = 10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7391520" y="4876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P = 20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Slide Number Placeholder 1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7360-6B1F-4097-8E7E-41B0D90639C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257800" y="152280"/>
            <a:ext cx="2819520" cy="758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Zon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723920" y="837720"/>
            <a:ext cx="44197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edi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itial condi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oundary condi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Zone flow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1447920" y="2971800"/>
            <a:ext cx="5715000" cy="3735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4429080" cy="2452680"/>
          </a:xfrm>
          <a:prstGeom prst="rect">
            <a:avLst/>
          </a:prstGeom>
          <a:ln w="0">
            <a:noFill/>
          </a:ln>
        </p:spPr>
      </p:pic>
      <p:sp>
        <p:nvSpPr>
          <p:cNvPr id="208" name="Oval 6"/>
          <p:cNvSpPr/>
          <p:nvPr/>
        </p:nvSpPr>
        <p:spPr>
          <a:xfrm>
            <a:off x="1905120" y="457200"/>
            <a:ext cx="736560" cy="487440"/>
          </a:xfrm>
          <a:prstGeom prst="ellipse">
            <a:avLst/>
          </a:prstGeom>
          <a:noFill/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8ECE-5966-47D3-BDD9-A555C16F9A5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edia Properti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7631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ctiv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Kx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K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Kz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orosit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pecific storag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ongitudinal dispersivit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orizontal component transverse dispersivit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Vertical component transverse dispersivit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6ACA-4B24-4FA1-93B3-FED7BC45866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ead I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fine head distribution for zone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nsta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inear in X, Y, or Z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oin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XYZ file with poin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651E-CE36-45B5-950F-6F995F9F747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82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troduction to PHAS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view of geochemical react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hast4Window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low modeling exercis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active-transport modeling exercis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E98A-E99F-4106-B45F-A26A7FA9238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pecified Head B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me grid dependence because a specified head applies to entire cel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ime-dependent valu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a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olution numb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A1FC-9726-469F-8FEC-1DBBF9D2133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eaky (Head dependent) BC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pplies only over area defined by zone (partial cell face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pplies only to exterior fac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Z face—water goes to first active cell or water tabl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ramete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cknes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ydraulic conductivit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ime-dependent valu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ea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olution numb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1D2D-475C-48DA-95E1-F74CC1280A1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2743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lux B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724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pplies only to area of cell face intersected by the zon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ime-dependent valu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lux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olu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1"/>
          <a:stretch/>
        </p:blipFill>
        <p:spPr>
          <a:xfrm>
            <a:off x="5253120" y="228600"/>
            <a:ext cx="3890880" cy="3760920"/>
          </a:xfrm>
          <a:prstGeom prst="rect">
            <a:avLst/>
          </a:prstGeom>
          <a:ln w="0">
            <a:noFill/>
          </a:ln>
        </p:spPr>
      </p:pic>
      <p:sp>
        <p:nvSpPr>
          <p:cNvPr id="225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E883-6E1E-43A2-A53E-956CF7887CA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verlapping B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uplicate flux areas are remove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uplicate leaky areas are remove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eaky and flux can coexist on a cell face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either Leaky nor flux can coexist with specified hea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ast defined takes precedence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C9D0-D080-4A0D-B7D8-6F74DE5306F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ivers &amp; Drai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ries of X,Y poin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ramete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idth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ed hydraulic conductivit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ed thicknes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levation of be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ime-dependent values (Rivers only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ea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olutio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rameters and time-dependent value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ust define for first and last poin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f not defined at intermediate points, interpolation by river distan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71D7-E278-479C-87E0-CD3EC3A6392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River  and Drain User Definit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1600200" y="1227240"/>
            <a:ext cx="5638680" cy="5441760"/>
          </a:xfrm>
          <a:prstGeom prst="rect">
            <a:avLst/>
          </a:prstGeom>
          <a:ln w="0">
            <a:noFill/>
          </a:ln>
        </p:spPr>
      </p:pic>
      <p:sp>
        <p:nvSpPr>
          <p:cNvPr id="23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1DBA-43D9-4BAB-883A-920DDADF66A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iver  and Drain Process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688080" cy="5533920"/>
          </a:xfrm>
          <a:prstGeom prst="rect">
            <a:avLst/>
          </a:prstGeom>
          <a:ln w="0">
            <a:noFill/>
          </a:ln>
        </p:spPr>
      </p:pic>
      <p:sp>
        <p:nvSpPr>
          <p:cNvPr id="238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035B-BC31-49BA-89AE-70287AB1ACC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5053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ell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X, Y loca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aramete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iamet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lloca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pen interval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ime-dependent paramete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umping/injection rat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olution numb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5029200" y="228600"/>
            <a:ext cx="3957480" cy="4114800"/>
          </a:xfrm>
          <a:prstGeom prst="rect">
            <a:avLst/>
          </a:prstGeom>
          <a:ln w="0">
            <a:noFill/>
          </a:ln>
        </p:spPr>
      </p:pic>
      <p:sp>
        <p:nvSpPr>
          <p:cNvPr id="242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04B6-6034-4809-B837-BBE21742C90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HAST (PHREEQC) Chemistr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8240" y="1646280"/>
            <a:ext cx="89154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queous model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ateq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LN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itz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IT (Specific ion Interaction Theory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actan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ineral equilibriu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rface complexa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on exchang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olid solu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Kinetic reactions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61EF-5AFB-4C1E-A693-9EADA28A895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ransport and Chemistr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240" y="1646280"/>
            <a:ext cx="89154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low and transport data file (.trans.dat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hemistry data file (.chem.dat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olu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ineral equilibriu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urface complexa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on exchang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olid solu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Kinetic reaction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0711-BF35-41AC-ADB2-E79B76873DB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8" descr=""/>
          <p:cNvPicPr/>
          <p:nvPr/>
        </p:nvPicPr>
        <p:blipFill>
          <a:blip r:embed="rId1"/>
          <a:stretch/>
        </p:blipFill>
        <p:spPr>
          <a:xfrm>
            <a:off x="0" y="109440"/>
            <a:ext cx="9144000" cy="6639120"/>
          </a:xfrm>
          <a:prstGeom prst="rect">
            <a:avLst/>
          </a:prstGeom>
          <a:ln w="0">
            <a:noFill/>
          </a:ln>
        </p:spPr>
      </p:pic>
      <p:sp>
        <p:nvSpPr>
          <p:cNvPr id="132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010A-391C-4883-A73B-C5E74CFB28D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ineral Assemblage in .chem.da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solidFill>
            <a:srgbClr val="000000"/>
          </a:solidFill>
          <a:ln w="28440">
            <a:solidFill>
              <a:srgbClr val="eaeaea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EQUILIBRIUM_PHASES 11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Calcite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0 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0.3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Dolomite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1.2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228600" y="4267080"/>
            <a:ext cx="8915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dentified by an integer (11)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pply to a zone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414A-E928-4930-BFD1-53B11E641B5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hemistry-Transport Connection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D numbers for reactants in .chem.dat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OLUTION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QUILIBRIUM_PHASES—Minerals  and gases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URFACE—Surface complexation sit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XCHANGE—Ion exchanger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OLID_SOLUTIONS—Solid solution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KINETICS—Kinetic reactions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sed in .trans.dat fi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HEMISTRY_IC (all reactants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Boundary conditions (solutions only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pecified hea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Leak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lux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ive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Wel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A25C-BBCF-471D-A646-2E284BE8001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5062680" cy="61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ralleliz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2280" y="1098360"/>
            <a:ext cx="493416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Single processor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low and transpor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Multiple processors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hemistr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ata passed using MPI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0-30 processo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p to 500,000? nod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ours of CPU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5842080" y="5295960"/>
            <a:ext cx="1752480" cy="45972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Times New Roman"/>
              </a:rPr>
              <a:t>Transport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5842080" y="4419720"/>
            <a:ext cx="1752480" cy="45972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Times New Roman"/>
              </a:rPr>
              <a:t>Flow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Line 7"/>
          <p:cNvSpPr/>
          <p:nvPr/>
        </p:nvSpPr>
        <p:spPr>
          <a:xfrm>
            <a:off x="6718320" y="4897440"/>
            <a:ext cx="0" cy="38088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5842080" y="1330200"/>
            <a:ext cx="1752480" cy="45972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Times New Roman"/>
              </a:rPr>
              <a:t>Transport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5842080" y="533520"/>
            <a:ext cx="1752480" cy="45972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Times New Roman"/>
              </a:rPr>
              <a:t>Flow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Line 10"/>
          <p:cNvSpPr/>
          <p:nvPr/>
        </p:nvSpPr>
        <p:spPr>
          <a:xfrm>
            <a:off x="6718320" y="1014480"/>
            <a:ext cx="0" cy="31104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Line 11"/>
          <p:cNvSpPr/>
          <p:nvPr/>
        </p:nvSpPr>
        <p:spPr>
          <a:xfrm>
            <a:off x="6718320" y="1819440"/>
            <a:ext cx="0" cy="31104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4519440" y="2125800"/>
            <a:ext cx="4397400" cy="45972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Times New Roman"/>
              </a:rPr>
              <a:t>Chemistry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266" name="Group 13"/>
          <p:cNvGrpSpPr/>
          <p:nvPr/>
        </p:nvGrpSpPr>
        <p:grpSpPr>
          <a:xfrm>
            <a:off x="4432320" y="2603520"/>
            <a:ext cx="4572000" cy="1676160"/>
            <a:chOff x="4432320" y="2603520"/>
            <a:chExt cx="4572000" cy="1676160"/>
          </a:xfrm>
        </p:grpSpPr>
        <p:grpSp>
          <p:nvGrpSpPr>
            <p:cNvPr id="267" name="Group 14"/>
            <p:cNvGrpSpPr/>
            <p:nvPr/>
          </p:nvGrpSpPr>
          <p:grpSpPr>
            <a:xfrm>
              <a:off x="4432320" y="2908080"/>
              <a:ext cx="4572000" cy="685800"/>
              <a:chOff x="4432320" y="2908080"/>
              <a:chExt cx="4572000" cy="685800"/>
            </a:xfrm>
          </p:grpSpPr>
          <p:sp>
            <p:nvSpPr>
              <p:cNvPr id="268" name="AutoShape 15"/>
              <p:cNvSpPr/>
              <p:nvPr/>
            </p:nvSpPr>
            <p:spPr>
              <a:xfrm>
                <a:off x="4432320" y="290808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Cells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69" name="AutoShape 16"/>
              <p:cNvSpPr/>
              <p:nvPr/>
            </p:nvSpPr>
            <p:spPr>
              <a:xfrm>
                <a:off x="5403960" y="290808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Cells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70" name="AutoShape 17"/>
              <p:cNvSpPr/>
              <p:nvPr/>
            </p:nvSpPr>
            <p:spPr>
              <a:xfrm>
                <a:off x="6375600" y="290808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Cells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71" name="AutoShape 18"/>
              <p:cNvSpPr/>
              <p:nvPr/>
            </p:nvSpPr>
            <p:spPr>
              <a:xfrm>
                <a:off x="8318520" y="290808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Cells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72" name="AutoShape 19"/>
              <p:cNvSpPr/>
              <p:nvPr/>
            </p:nvSpPr>
            <p:spPr>
              <a:xfrm>
                <a:off x="7346880" y="290808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Cells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grpSp>
          <p:nvGrpSpPr>
            <p:cNvPr id="273" name="Group 20"/>
            <p:cNvGrpSpPr/>
            <p:nvPr/>
          </p:nvGrpSpPr>
          <p:grpSpPr>
            <a:xfrm>
              <a:off x="4737240" y="2603520"/>
              <a:ext cx="3962160" cy="304560"/>
              <a:chOff x="4737240" y="2603520"/>
              <a:chExt cx="3962160" cy="304560"/>
            </a:xfrm>
          </p:grpSpPr>
          <p:sp>
            <p:nvSpPr>
              <p:cNvPr id="274" name="Line 21"/>
              <p:cNvSpPr/>
              <p:nvPr/>
            </p:nvSpPr>
            <p:spPr>
              <a:xfrm>
                <a:off x="4737240" y="260352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75" name="Line 22"/>
              <p:cNvSpPr/>
              <p:nvPr/>
            </p:nvSpPr>
            <p:spPr>
              <a:xfrm>
                <a:off x="5727600" y="260352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76" name="Line 23"/>
              <p:cNvSpPr/>
              <p:nvPr/>
            </p:nvSpPr>
            <p:spPr>
              <a:xfrm>
                <a:off x="6718320" y="260352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77" name="Line 24"/>
              <p:cNvSpPr/>
              <p:nvPr/>
            </p:nvSpPr>
            <p:spPr>
              <a:xfrm>
                <a:off x="7709040" y="260352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78" name="Line 25"/>
              <p:cNvSpPr/>
              <p:nvPr/>
            </p:nvSpPr>
            <p:spPr>
              <a:xfrm>
                <a:off x="8699400" y="260352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sp>
          <p:nvSpPr>
            <p:cNvPr id="279" name="Line 26"/>
            <p:cNvSpPr/>
            <p:nvPr/>
          </p:nvSpPr>
          <p:spPr>
            <a:xfrm>
              <a:off x="4813200" y="3593880"/>
              <a:ext cx="1600200" cy="68580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80" name="Line 27"/>
            <p:cNvSpPr/>
            <p:nvPr/>
          </p:nvSpPr>
          <p:spPr>
            <a:xfrm>
              <a:off x="5765760" y="3593880"/>
              <a:ext cx="800280" cy="60984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81" name="Line 28"/>
            <p:cNvSpPr/>
            <p:nvPr/>
          </p:nvSpPr>
          <p:spPr>
            <a:xfrm flipH="1">
              <a:off x="7023240" y="3593880"/>
              <a:ext cx="1676160" cy="68580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82" name="Line 29"/>
            <p:cNvSpPr/>
            <p:nvPr/>
          </p:nvSpPr>
          <p:spPr>
            <a:xfrm flipH="1">
              <a:off x="6870240" y="3593880"/>
              <a:ext cx="800280" cy="60984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83" name="Line 30"/>
            <p:cNvSpPr/>
            <p:nvPr/>
          </p:nvSpPr>
          <p:spPr>
            <a:xfrm>
              <a:off x="6718320" y="3593880"/>
              <a:ext cx="0" cy="60984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84" name="Slide Number Placeholder 29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A0C1-E8E5-40DD-9EEF-0E4BBB13828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5062680" cy="61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ew Paralleliz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52280" y="1098360"/>
            <a:ext cx="493416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Single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ocessor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low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Multiple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ocessors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ranspor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Multiple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ocessors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hemistr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5842080" y="5981760"/>
            <a:ext cx="1752480" cy="45972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Times New Roman"/>
              </a:rPr>
              <a:t>Flow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4572000" y="1330200"/>
            <a:ext cx="4343400" cy="45972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Times New Roman"/>
              </a:rPr>
              <a:t>Transport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5842080" y="533520"/>
            <a:ext cx="1752480" cy="45972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Times New Roman"/>
              </a:rPr>
              <a:t>Flow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Line 10"/>
          <p:cNvSpPr/>
          <p:nvPr/>
        </p:nvSpPr>
        <p:spPr>
          <a:xfrm>
            <a:off x="6718320" y="1014480"/>
            <a:ext cx="0" cy="31104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1" name="Text Box 12"/>
          <p:cNvSpPr/>
          <p:nvPr/>
        </p:nvSpPr>
        <p:spPr>
          <a:xfrm>
            <a:off x="4519440" y="3687840"/>
            <a:ext cx="4397400" cy="45972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Times New Roman"/>
              </a:rPr>
              <a:t>Chemistry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292" name="Group 13"/>
          <p:cNvGrpSpPr/>
          <p:nvPr/>
        </p:nvGrpSpPr>
        <p:grpSpPr>
          <a:xfrm>
            <a:off x="4432320" y="4165560"/>
            <a:ext cx="4572000" cy="1676160"/>
            <a:chOff x="4432320" y="4165560"/>
            <a:chExt cx="4572000" cy="1676160"/>
          </a:xfrm>
        </p:grpSpPr>
        <p:grpSp>
          <p:nvGrpSpPr>
            <p:cNvPr id="293" name="Group 14"/>
            <p:cNvGrpSpPr/>
            <p:nvPr/>
          </p:nvGrpSpPr>
          <p:grpSpPr>
            <a:xfrm>
              <a:off x="4432320" y="4470120"/>
              <a:ext cx="4572000" cy="685800"/>
              <a:chOff x="4432320" y="4470120"/>
              <a:chExt cx="4572000" cy="685800"/>
            </a:xfrm>
          </p:grpSpPr>
          <p:sp>
            <p:nvSpPr>
              <p:cNvPr id="294" name="AutoShape 15"/>
              <p:cNvSpPr/>
              <p:nvPr/>
            </p:nvSpPr>
            <p:spPr>
              <a:xfrm>
                <a:off x="4432320" y="447012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Cells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95" name="AutoShape 16"/>
              <p:cNvSpPr/>
              <p:nvPr/>
            </p:nvSpPr>
            <p:spPr>
              <a:xfrm>
                <a:off x="5403960" y="447012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Cells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96" name="AutoShape 17"/>
              <p:cNvSpPr/>
              <p:nvPr/>
            </p:nvSpPr>
            <p:spPr>
              <a:xfrm>
                <a:off x="6375600" y="447012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Cells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97" name="AutoShape 18"/>
              <p:cNvSpPr/>
              <p:nvPr/>
            </p:nvSpPr>
            <p:spPr>
              <a:xfrm>
                <a:off x="8318520" y="447012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Cells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98" name="AutoShape 19"/>
              <p:cNvSpPr/>
              <p:nvPr/>
            </p:nvSpPr>
            <p:spPr>
              <a:xfrm>
                <a:off x="7346880" y="447012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Cells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grpSp>
          <p:nvGrpSpPr>
            <p:cNvPr id="299" name="Group 20"/>
            <p:cNvGrpSpPr/>
            <p:nvPr/>
          </p:nvGrpSpPr>
          <p:grpSpPr>
            <a:xfrm>
              <a:off x="4737240" y="4165560"/>
              <a:ext cx="3962160" cy="304560"/>
              <a:chOff x="4737240" y="4165560"/>
              <a:chExt cx="3962160" cy="304560"/>
            </a:xfrm>
          </p:grpSpPr>
          <p:sp>
            <p:nvSpPr>
              <p:cNvPr id="300" name="Line 21"/>
              <p:cNvSpPr/>
              <p:nvPr/>
            </p:nvSpPr>
            <p:spPr>
              <a:xfrm>
                <a:off x="4737240" y="416556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01" name="Line 22"/>
              <p:cNvSpPr/>
              <p:nvPr/>
            </p:nvSpPr>
            <p:spPr>
              <a:xfrm>
                <a:off x="5727600" y="416556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02" name="Line 23"/>
              <p:cNvSpPr/>
              <p:nvPr/>
            </p:nvSpPr>
            <p:spPr>
              <a:xfrm>
                <a:off x="6718320" y="416556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03" name="Line 24"/>
              <p:cNvSpPr/>
              <p:nvPr/>
            </p:nvSpPr>
            <p:spPr>
              <a:xfrm>
                <a:off x="7709040" y="416556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04" name="Line 25"/>
              <p:cNvSpPr/>
              <p:nvPr/>
            </p:nvSpPr>
            <p:spPr>
              <a:xfrm>
                <a:off x="8699400" y="416556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sp>
          <p:nvSpPr>
            <p:cNvPr id="305" name="Line 26"/>
            <p:cNvSpPr/>
            <p:nvPr/>
          </p:nvSpPr>
          <p:spPr>
            <a:xfrm>
              <a:off x="4813200" y="5155920"/>
              <a:ext cx="1600200" cy="68580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06" name="Line 27"/>
            <p:cNvSpPr/>
            <p:nvPr/>
          </p:nvSpPr>
          <p:spPr>
            <a:xfrm>
              <a:off x="5765760" y="5155920"/>
              <a:ext cx="800280" cy="60984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07" name="Line 28"/>
            <p:cNvSpPr/>
            <p:nvPr/>
          </p:nvSpPr>
          <p:spPr>
            <a:xfrm flipH="1">
              <a:off x="7023240" y="5155920"/>
              <a:ext cx="1676160" cy="68580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08" name="Line 29"/>
            <p:cNvSpPr/>
            <p:nvPr/>
          </p:nvSpPr>
          <p:spPr>
            <a:xfrm flipH="1">
              <a:off x="6870240" y="5155920"/>
              <a:ext cx="800280" cy="60984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09" name="Line 30"/>
            <p:cNvSpPr/>
            <p:nvPr/>
          </p:nvSpPr>
          <p:spPr>
            <a:xfrm>
              <a:off x="6718320" y="5155920"/>
              <a:ext cx="0" cy="60984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310" name="Group 47"/>
          <p:cNvGrpSpPr/>
          <p:nvPr/>
        </p:nvGrpSpPr>
        <p:grpSpPr>
          <a:xfrm>
            <a:off x="4457880" y="1828800"/>
            <a:ext cx="4572000" cy="1676520"/>
            <a:chOff x="4457880" y="1828800"/>
            <a:chExt cx="4572000" cy="1676520"/>
          </a:xfrm>
        </p:grpSpPr>
        <p:grpSp>
          <p:nvGrpSpPr>
            <p:cNvPr id="311" name="Group 14"/>
            <p:cNvGrpSpPr/>
            <p:nvPr/>
          </p:nvGrpSpPr>
          <p:grpSpPr>
            <a:xfrm>
              <a:off x="4457880" y="2133360"/>
              <a:ext cx="4572000" cy="685800"/>
              <a:chOff x="4457880" y="2133360"/>
              <a:chExt cx="4572000" cy="685800"/>
            </a:xfrm>
          </p:grpSpPr>
          <p:sp>
            <p:nvSpPr>
              <p:cNvPr id="312" name="AutoShape 15"/>
              <p:cNvSpPr/>
              <p:nvPr/>
            </p:nvSpPr>
            <p:spPr>
              <a:xfrm>
                <a:off x="4457880" y="213336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Na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13" name="AutoShape 16"/>
              <p:cNvSpPr/>
              <p:nvPr/>
            </p:nvSpPr>
            <p:spPr>
              <a:xfrm>
                <a:off x="5429520" y="213336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Cl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14" name="AutoShape 17"/>
              <p:cNvSpPr/>
              <p:nvPr/>
            </p:nvSpPr>
            <p:spPr>
              <a:xfrm>
                <a:off x="6401160" y="213336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H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15" name="AutoShape 18"/>
              <p:cNvSpPr/>
              <p:nvPr/>
            </p:nvSpPr>
            <p:spPr>
              <a:xfrm>
                <a:off x="8344080" y="213336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+/-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16" name="AutoShape 19"/>
              <p:cNvSpPr/>
              <p:nvPr/>
            </p:nvSpPr>
            <p:spPr>
              <a:xfrm>
                <a:off x="7372440" y="213336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O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grpSp>
          <p:nvGrpSpPr>
            <p:cNvPr id="317" name="Group 20"/>
            <p:cNvGrpSpPr/>
            <p:nvPr/>
          </p:nvGrpSpPr>
          <p:grpSpPr>
            <a:xfrm>
              <a:off x="4762440" y="1828800"/>
              <a:ext cx="3962160" cy="304560"/>
              <a:chOff x="4762440" y="1828800"/>
              <a:chExt cx="3962160" cy="304560"/>
            </a:xfrm>
          </p:grpSpPr>
          <p:sp>
            <p:nvSpPr>
              <p:cNvPr id="318" name="Line 21"/>
              <p:cNvSpPr/>
              <p:nvPr/>
            </p:nvSpPr>
            <p:spPr>
              <a:xfrm>
                <a:off x="4762440" y="182880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19" name="Line 22"/>
              <p:cNvSpPr/>
              <p:nvPr/>
            </p:nvSpPr>
            <p:spPr>
              <a:xfrm>
                <a:off x="5752800" y="182880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20" name="Line 23"/>
              <p:cNvSpPr/>
              <p:nvPr/>
            </p:nvSpPr>
            <p:spPr>
              <a:xfrm>
                <a:off x="6743520" y="182880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21" name="Line 24"/>
              <p:cNvSpPr/>
              <p:nvPr/>
            </p:nvSpPr>
            <p:spPr>
              <a:xfrm>
                <a:off x="7734240" y="182880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22" name="Line 25"/>
              <p:cNvSpPr/>
              <p:nvPr/>
            </p:nvSpPr>
            <p:spPr>
              <a:xfrm>
                <a:off x="8724600" y="182880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sp>
          <p:nvSpPr>
            <p:cNvPr id="323" name="Line 26"/>
            <p:cNvSpPr/>
            <p:nvPr/>
          </p:nvSpPr>
          <p:spPr>
            <a:xfrm>
              <a:off x="4838760" y="2819520"/>
              <a:ext cx="1600200" cy="68580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24" name="Line 27"/>
            <p:cNvSpPr/>
            <p:nvPr/>
          </p:nvSpPr>
          <p:spPr>
            <a:xfrm>
              <a:off x="5791320" y="2819520"/>
              <a:ext cx="799920" cy="60948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25" name="Line 28"/>
            <p:cNvSpPr/>
            <p:nvPr/>
          </p:nvSpPr>
          <p:spPr>
            <a:xfrm flipH="1">
              <a:off x="7048440" y="2819520"/>
              <a:ext cx="1676520" cy="68580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26" name="Line 29"/>
            <p:cNvSpPr/>
            <p:nvPr/>
          </p:nvSpPr>
          <p:spPr>
            <a:xfrm flipH="1">
              <a:off x="6896160" y="2819520"/>
              <a:ext cx="799920" cy="60948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27" name="Line 30"/>
            <p:cNvSpPr/>
            <p:nvPr/>
          </p:nvSpPr>
          <p:spPr>
            <a:xfrm>
              <a:off x="6743880" y="2819520"/>
              <a:ext cx="0" cy="60948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328" name="Slide Number Placeholder 4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A1E8-1C28-4A7A-80F5-597005DED0C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8760" y="485280"/>
            <a:ext cx="4326120" cy="1016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rsenic in the Central Oklahoma Aquifer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97000" y="2133720"/>
            <a:ext cx="4325760" cy="33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rsenic mostly in confined part of aquife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rsenic associated with high pH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low: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Unconfined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Confined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Unconfined</a:t>
            </a: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31" name="Picture 4" descr="as"/>
          <p:cNvPicPr/>
          <p:nvPr/>
        </p:nvPicPr>
        <p:blipFill>
          <a:blip r:embed="rId1"/>
          <a:stretch/>
        </p:blipFill>
        <p:spPr>
          <a:xfrm>
            <a:off x="4670280" y="136440"/>
            <a:ext cx="4370400" cy="6629400"/>
          </a:xfrm>
          <a:prstGeom prst="rect">
            <a:avLst/>
          </a:prstGeom>
          <a:ln w="0">
            <a:noFill/>
          </a:ln>
        </p:spPr>
      </p:pic>
      <p:sp>
        <p:nvSpPr>
          <p:cNvPr id="332" name="AutoShape 5"/>
          <p:cNvSpPr/>
          <p:nvPr/>
        </p:nvSpPr>
        <p:spPr>
          <a:xfrm>
            <a:off x="5486400" y="3048120"/>
            <a:ext cx="609480" cy="838080"/>
          </a:xfrm>
          <a:custGeom>
            <a:avLst/>
            <a:gdLst>
              <a:gd name="textAreaLeft" fmla="*/ 81360 w 609480"/>
              <a:gd name="textAreaRight" fmla="*/ 528120 w 60948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3" name="AutoShape 6"/>
          <p:cNvSpPr/>
          <p:nvPr/>
        </p:nvSpPr>
        <p:spPr>
          <a:xfrm flipV="1">
            <a:off x="5334120" y="2208960"/>
            <a:ext cx="609480" cy="838440"/>
          </a:xfrm>
          <a:custGeom>
            <a:avLst/>
            <a:gdLst>
              <a:gd name="textAreaLeft" fmla="*/ 81360 w 609480"/>
              <a:gd name="textAreaRight" fmla="*/ 528120 w 609480"/>
              <a:gd name="textAreaTop" fmla="*/ 146160 h 838440"/>
              <a:gd name="textAreaBottom" fmla="*/ 60768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4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6136-8EB5-4109-A0A4-CD9F5DE7EF4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eochemical Reactions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rine initially fills the aquif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alcite and dolomite equilibriu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ation exchange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2NaX + Ca</a:t>
            </a:r>
            <a:r>
              <a:rPr b="0" lang="en-US" sz="2800" spc="-1" strike="noStrike" baseline="30000">
                <a:solidFill>
                  <a:srgbClr val="eaeaea"/>
                </a:solidFill>
                <a:latin typeface="Verdana"/>
              </a:rPr>
              <a:t>+2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= CaX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+ 2Na</a:t>
            </a:r>
            <a:r>
              <a:rPr b="0" lang="en-US" sz="2800" spc="-1" strike="noStrike" baseline="30000">
                <a:solidFill>
                  <a:srgbClr val="eaeaea"/>
                </a:solidFill>
                <a:latin typeface="Verdana"/>
              </a:rPr>
              <a:t>+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2NaX + Mg</a:t>
            </a:r>
            <a:r>
              <a:rPr b="0" lang="en-US" sz="2800" spc="-1" strike="noStrike" baseline="30000">
                <a:solidFill>
                  <a:srgbClr val="eaeaea"/>
                </a:solidFill>
                <a:latin typeface="Verdana"/>
              </a:rPr>
              <a:t>+2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= MgX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+ 2Na</a:t>
            </a:r>
            <a:r>
              <a:rPr b="0" lang="en-US" sz="2800" spc="-1" strike="noStrike" baseline="30000">
                <a:solidFill>
                  <a:srgbClr val="eaeaea"/>
                </a:solidFill>
                <a:latin typeface="Verdana"/>
              </a:rPr>
              <a:t>+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urface complexa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fo-HAsO4</a:t>
            </a:r>
            <a:r>
              <a:rPr b="0" lang="en-US" sz="2800" spc="-1" strike="noStrike" baseline="30000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+ OH</a:t>
            </a:r>
            <a:r>
              <a:rPr b="0" lang="en-US" sz="2800" spc="-1" strike="noStrike" baseline="30000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= HfoOH + HAsO4</a:t>
            </a:r>
            <a:r>
              <a:rPr b="0" lang="en-US" sz="2800" spc="-1" strike="noStrike" baseline="30000">
                <a:solidFill>
                  <a:srgbClr val="eaeaea"/>
                </a:solidFill>
                <a:latin typeface="Verdana"/>
              </a:rPr>
              <a:t>-2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esorption at pH &gt; 8.5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1E53-8403-4414-BC4D-803D9C9E9D3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736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Arsenic Concentrations over Geologic Tim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39" name="ok.as.avi" descr=""/>
          <p:cNvPicPr/>
          <p:nvPr/>
        </p:nvPicPr>
        <p:blipFill>
          <a:blip r:embed="rId1"/>
          <a:stretch/>
        </p:blipFill>
        <p:spPr>
          <a:xfrm>
            <a:off x="457200" y="1233360"/>
            <a:ext cx="8039160" cy="5453280"/>
          </a:xfrm>
          <a:prstGeom prst="rect">
            <a:avLst/>
          </a:prstGeom>
          <a:ln w="0">
            <a:noFill/>
          </a:ln>
        </p:spPr>
      </p:pic>
      <p:sp>
        <p:nvSpPr>
          <p:cNvPr id="340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AA9D-779C-4935-9EF6-F444B47F0D3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100" fill="hold"/>
                                        <p:tgtEl>
                                          <p:spTgt spid="3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3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12760"/>
            <a:ext cx="8226360" cy="668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PHAS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52280" y="942480"/>
            <a:ext cx="9010800" cy="59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HAST is a 3D reactive-transport mod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ield-scale problems with limita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ata requirement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ield—Aquifer tests, tracer tests, logging, chemical sampl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aboratory—column experiments, extractions, mineralog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odeling result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nderstanding natural system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esigning engineered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redicting long-term effec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65B0-1295-4939-ACCE-54D865C2F53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3D Reactive-Transport Mode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29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hree simultaneous processes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Flow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Transport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hemical reaction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83DD-94E7-46C0-82EF-5A2C3BE5BFB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19120" y="633240"/>
            <a:ext cx="3952800" cy="61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HAS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6400800" cy="38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ST3D—Flow and transpor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HREEQC—Chemistr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perator splitting—Sequential Non-Iterative Approach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HT3D is a 3D reactive transport model built on MODFLOW, MT3DMS, and PHREEQC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6915240" y="457200"/>
            <a:ext cx="1752480" cy="2577960"/>
            <a:chOff x="6915240" y="457200"/>
            <a:chExt cx="1752480" cy="2577960"/>
          </a:xfrm>
        </p:grpSpPr>
        <p:sp>
          <p:nvSpPr>
            <p:cNvPr id="139" name="Text Box 5"/>
            <p:cNvSpPr/>
            <p:nvPr/>
          </p:nvSpPr>
          <p:spPr>
            <a:xfrm>
              <a:off x="6915240" y="2514600"/>
              <a:ext cx="1752480" cy="520560"/>
            </a:xfrm>
            <a:prstGeom prst="rect">
              <a:avLst/>
            </a:prstGeom>
            <a:noFill/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ec85e"/>
                  </a:solidFill>
                  <a:latin typeface="Times New Roman"/>
                </a:rPr>
                <a:t>Chemistry</a:t>
              </a:r>
              <a:endParaRPr b="1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0" name="Text Box 6"/>
            <p:cNvSpPr/>
            <p:nvPr/>
          </p:nvSpPr>
          <p:spPr>
            <a:xfrm>
              <a:off x="6915240" y="1486080"/>
              <a:ext cx="1752480" cy="520560"/>
            </a:xfrm>
            <a:prstGeom prst="rect">
              <a:avLst/>
            </a:prstGeom>
            <a:noFill/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ec85e"/>
                  </a:solidFill>
                  <a:latin typeface="Times New Roman"/>
                </a:rPr>
                <a:t>Transport</a:t>
              </a:r>
              <a:endParaRPr b="1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1" name="Text Box 7"/>
            <p:cNvSpPr/>
            <p:nvPr/>
          </p:nvSpPr>
          <p:spPr>
            <a:xfrm>
              <a:off x="6915240" y="457200"/>
              <a:ext cx="1752480" cy="520560"/>
            </a:xfrm>
            <a:prstGeom prst="rect">
              <a:avLst/>
            </a:prstGeom>
            <a:noFill/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ec85e"/>
                  </a:solidFill>
                  <a:latin typeface="Times New Roman"/>
                </a:rPr>
                <a:t>Flow</a:t>
              </a:r>
              <a:endParaRPr b="1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7791480" y="1058760"/>
              <a:ext cx="0" cy="38124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>
              <a:off x="7791480" y="2087640"/>
              <a:ext cx="0" cy="38088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144" name="Group 10"/>
          <p:cNvGrpSpPr/>
          <p:nvPr/>
        </p:nvGrpSpPr>
        <p:grpSpPr>
          <a:xfrm>
            <a:off x="6915240" y="3733920"/>
            <a:ext cx="1752480" cy="2730240"/>
            <a:chOff x="6915240" y="3733920"/>
            <a:chExt cx="1752480" cy="2730240"/>
          </a:xfrm>
        </p:grpSpPr>
        <p:sp>
          <p:nvSpPr>
            <p:cNvPr id="145" name="Text Box 11"/>
            <p:cNvSpPr/>
            <p:nvPr/>
          </p:nvSpPr>
          <p:spPr>
            <a:xfrm>
              <a:off x="6915240" y="5943600"/>
              <a:ext cx="1752480" cy="520560"/>
            </a:xfrm>
            <a:prstGeom prst="rect">
              <a:avLst/>
            </a:prstGeom>
            <a:noFill/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ec85e"/>
                  </a:solidFill>
                  <a:latin typeface="Times New Roman"/>
                </a:rPr>
                <a:t>Chemistry</a:t>
              </a:r>
              <a:endParaRPr b="1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6" name="Text Box 12"/>
            <p:cNvSpPr/>
            <p:nvPr/>
          </p:nvSpPr>
          <p:spPr>
            <a:xfrm>
              <a:off x="6915240" y="4838760"/>
              <a:ext cx="1752480" cy="520560"/>
            </a:xfrm>
            <a:prstGeom prst="rect">
              <a:avLst/>
            </a:prstGeom>
            <a:noFill/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ec85e"/>
                  </a:solidFill>
                  <a:latin typeface="Times New Roman"/>
                </a:rPr>
                <a:t>Transport</a:t>
              </a:r>
              <a:endParaRPr b="1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7" name="Text Box 13"/>
            <p:cNvSpPr/>
            <p:nvPr/>
          </p:nvSpPr>
          <p:spPr>
            <a:xfrm>
              <a:off x="6915240" y="3733920"/>
              <a:ext cx="1752480" cy="520560"/>
            </a:xfrm>
            <a:prstGeom prst="rect">
              <a:avLst/>
            </a:prstGeom>
            <a:noFill/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ec85e"/>
                  </a:solidFill>
                  <a:latin typeface="Times New Roman"/>
                </a:rPr>
                <a:t>Flow</a:t>
              </a:r>
              <a:endParaRPr b="1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8" name="Line 14"/>
            <p:cNvSpPr/>
            <p:nvPr/>
          </p:nvSpPr>
          <p:spPr>
            <a:xfrm>
              <a:off x="7791480" y="4373640"/>
              <a:ext cx="0" cy="38088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9" name="Line 15"/>
            <p:cNvSpPr/>
            <p:nvPr/>
          </p:nvSpPr>
          <p:spPr>
            <a:xfrm>
              <a:off x="7791480" y="5478480"/>
              <a:ext cx="0" cy="38088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50" name="AutoShape 16"/>
          <p:cNvSpPr/>
          <p:nvPr/>
        </p:nvSpPr>
        <p:spPr>
          <a:xfrm>
            <a:off x="7448400" y="317340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Slide Number Placeholder 1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CA55-53B3-431E-B8D1-60E7BFEFC7C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503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low and Transpor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609560"/>
            <a:ext cx="845820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nstant temperatur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nstant densit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ngle phase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aturated confined or unconfined flow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oint-distributed finite-difference gri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oundary condition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pecified, leaky, flux, rivers, drains, well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B029-A1F5-44EB-99D6-FB9B2944587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rid Eleme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104240" cy="4648320"/>
          </a:xfrm>
          <a:prstGeom prst="rect">
            <a:avLst/>
          </a:prstGeom>
          <a:ln w="0">
            <a:noFill/>
          </a:ln>
        </p:spPr>
      </p:pic>
      <p:sp>
        <p:nvSpPr>
          <p:cNvPr id="15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E0A8-249C-4C11-A789-AFCED1F2CEA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rid Cel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01000" cy="452268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57B0-79D0-4F39-8FE2-B1910A8F6F2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Full Cell Has Parts of 8 Element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ell Properties do not change abruptly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edia properties weighted by volum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nductances weighted by facial are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228600" y="3429000"/>
            <a:ext cx="8763120" cy="2841480"/>
          </a:xfrm>
          <a:prstGeom prst="rect">
            <a:avLst/>
          </a:prstGeom>
          <a:ln w="0">
            <a:noFill/>
          </a:ln>
        </p:spPr>
      </p:pic>
      <p:sp>
        <p:nvSpPr>
          <p:cNvPr id="165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C5C3-C164-40B1-ACDB-0339AAB1ED8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6T14:35:18Z</dcterms:created>
  <dc:creator>Dave Parkhurst</dc:creator>
  <dc:description/>
  <dc:language>en-US</dc:language>
  <cp:lastModifiedBy>dlpark</cp:lastModifiedBy>
  <dcterms:modified xsi:type="dcterms:W3CDTF">2011-03-04T19:55:14Z</dcterms:modified>
  <cp:revision>117</cp:revision>
  <dc:subject/>
  <dc:title>Using WPHAST to Model the Central Oklahoma Aquifer</dc:title>
</cp:coreProperties>
</file>