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2EDAB0-7158-473B-87BF-5CD57C04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A2BC31-DAB2-4126-A614-1901AF3F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3BC9AE-472A-4A29-83C7-0CC560D9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D1800A-3E88-4B1D-9AAD-DDE17A98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65B80F-4C36-4288-8B98-4EDD11B4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9D97E9-D4CE-4240-A79E-E6C30944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574-D9DF-4FE0-A9CF-0A0B51AF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AFB-E24F-498C-B483-2F3EBA63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0C9-4175-4594-928D-8C8C1B7A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B10-362F-4622-9663-8C308D4E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94D9-8691-45E6-BB96-B0786828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648A-0876-445F-BE3E-7A74BED5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C0A-3902-48F8-BCE1-FC7F50F0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EB18-C817-43A6-A675-67A1FA3F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0009-DF2C-419D-8FB5-1FF812FB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E59-F5F3-45BA-B308-09D8303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C2A-DE92-4081-B178-07980EB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F77-ED22-4021-9C47-85F8732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6D94-D933-454A-A62C-8E30E8D7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392B-C7D3-4A55-A681-8BEB542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9ADB-27E6-4DC9-B6A5-F123DD2C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ECA7-5260-4F91-8751-0824C2E5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B8E-F221-4D30-AF58-C25AC651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BC8-B6BA-46F6-B089-5E4651EF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418-6B17-42FE-9250-5A6DB343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A5E-6242-4DCE-A5D5-EFB1D66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0E6-4040-491B-A4CB-BF74B52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3AD-88CD-4802-9DC4-0EB776DF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621-4BB9-4FDE-BBA0-2C0FFCA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AD4-3FDE-4D8F-9BB1-0E4E247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8F3D-525E-4285-BB22-1B0773BFA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C47-90CC-42F5-9E46-58D49C530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4-1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AFBF-4ECB-4CA3-BE6A-81CA6C52A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aj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2019240"/>
            <a:ext cx="6111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rbonate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ganic carbon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itr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oxyhydroxi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ypsum 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yrite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eawater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ilicate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83CA-A120-4A31-AE3A-118FF7804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in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019240"/>
            <a:ext cx="611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d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rface complex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oli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A9E6-4CA1-4E67-B816-2102187FF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1371600" y="2133720"/>
            <a:ext cx="61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of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solu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32F-3F0E-451F-A3E5-C4129610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71600" y="222876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3F11-C6A6-48D6-ABEE-5A3236C37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and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796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days to learn PHREEQ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years to learn g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study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0F57-0179-40E2-89C4-A681B36E6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1066680"/>
            <a:ext cx="8381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The chemistry of solutions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Forward modeling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complexation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modeling—Pierre, Montezuma wells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 Reactive transport—David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modeling—R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reactive transport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79A-733E-4FB0-BF42-F49F3C36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4T21:49:06Z</dcterms:modified>
  <cp:revision>43</cp:revision>
  <dc:subject/>
  <dc:title>Defining Solutions</dc:title>
</cp:coreProperties>
</file>