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4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23.wmf" ContentType="image/x-wmf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F4F-1AAD-4F88-B107-B2EB228D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689-AFC6-460B-A210-6D3F44CB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3D8-F001-427E-BF99-E4EFCC1D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B86-F7CD-41A8-A0A1-11B28962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37A-EDEF-4794-988C-1ADADC2F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94A-78A7-46C0-A8C2-9DE36EC9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F17-4B7E-4622-8695-A474D52E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B1F-A199-49D3-A4C1-BBAB1BD6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4CE-860D-430E-80B4-8E60567B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7FA-500D-4BC3-BFAF-33D32F0F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00F-B6CA-4F1F-813A-CD9A14CC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CE7-50DF-4935-AE24-9FC0DDA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4D32-6F5B-4BA7-B9CC-6FD890898AA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image" Target="../media/image44.jpeg"/><Relationship Id="rId13" Type="http://schemas.openxmlformats.org/officeDocument/2006/relationships/image" Target="../media/image45.jpeg"/><Relationship Id="rId14" Type="http://schemas.openxmlformats.org/officeDocument/2006/relationships/image" Target="../media/image4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8" descr="Nepal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The Importance of Snowmelt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Runoff</a:t>
            </a:r>
            <a:r>
              <a:rPr b="0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Modeling </a:t>
            </a:r>
            <a:br>
              <a:rPr sz="4400"/>
            </a:b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宋体"/>
              </a:rPr>
              <a:t>for Sustainable Development and Disaster Preven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1039" descr="uzbekist_flag"/>
          <p:cNvPicPr/>
          <p:nvPr/>
        </p:nvPicPr>
        <p:blipFill>
          <a:blip r:embed="rId2"/>
          <a:stretch/>
        </p:blipFill>
        <p:spPr>
          <a:xfrm>
            <a:off x="152280" y="119160"/>
            <a:ext cx="1828800" cy="947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30"/>
          <p:cNvSpPr/>
          <p:nvPr/>
        </p:nvSpPr>
        <p:spPr>
          <a:xfrm>
            <a:off x="2514600" y="51814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Muzafar Malik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Space Research Cen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Academy of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Republic of Uzbeki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 of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sed on strict physical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s and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curacy is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mpirical relationship to approximate mass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quires less paramet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hysical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NTHERM - US army corps CRR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SM (land surface mode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IC (variable infiltration capacity) - U Washing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ATCLASS (Watflood/class) - Env.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HE (Systeme Hydrologique Europeen) physically based, distributed, 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treamflow and sediment simulation, Abbott et 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onceptual Index Mod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RM (Snowmelt Runoff Model) - US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MS (precipitation runoff modeling system) - US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LURP (simple lumped reservoir) - Env.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UBC Watersh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OPMODEL (hydrologic simulation model) -Bev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 Runoff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d by Marti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stimation of daily stream flow in Mountain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-day model (temperat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pplied in 25 countries for more than 80 ba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ple and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38080" y="2666880"/>
            <a:ext cx="1752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28600" y="2666880"/>
            <a:ext cx="2590920" cy="1067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Meteorologica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Remote Sen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276720" y="4191120"/>
            <a:ext cx="3124080" cy="914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276720" y="5562720"/>
            <a:ext cx="32004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melt Runoff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H="1">
            <a:off x="6324120" y="914400"/>
            <a:ext cx="1676520" cy="7621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7162920" y="152280"/>
            <a:ext cx="16761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D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19"/>
          <p:cNvSpPr/>
          <p:nvPr/>
        </p:nvSpPr>
        <p:spPr>
          <a:xfrm>
            <a:off x="3352680" y="609480"/>
            <a:ext cx="2895840" cy="1447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gion of interes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 extrapo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3505320" y="2666880"/>
            <a:ext cx="2743200" cy="99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Snow cover de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snow cover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477120" y="2590920"/>
            <a:ext cx="2514600" cy="1143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1295280" y="1219320"/>
            <a:ext cx="1981440" cy="4572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876920" y="2209680"/>
            <a:ext cx="0" cy="3812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1371600" y="3809880"/>
            <a:ext cx="182880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876920" y="37339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6"/>
          <p:cNvSpPr/>
          <p:nvPr/>
        </p:nvSpPr>
        <p:spPr>
          <a:xfrm flipH="1">
            <a:off x="6476760" y="3809880"/>
            <a:ext cx="1447560" cy="83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876920" y="5181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12384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RM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RM 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 (meteorological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ily Dis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ed area (Remote Sensing da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 (topo m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eart of th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1828800"/>
            <a:ext cx="7772400" cy="49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Q = average daily discharge [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 = runoff coefficient: losses as a ratio (runoff/precipitation), with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S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referring to snowmelt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to 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= degree-day factor [cm·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 indicating the snowmelt depth resulting from 1 degree-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number of degree-days [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 = the adjustment by temperature lapse rate [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·d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 = ratio of the snow covered area to the total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 = precipitation contributing to runoff [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. Threshold temperature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 determines whether this contribution is rainfall or snow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 = area of the basin or  zone [k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 = recession coefficient indicating the decline of discharge in a period without snowmelt or rain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-number of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1"/>
              <p:cNvSpPr txBox="1"/>
              <p:nvPr/>
            </p:nvSpPr>
            <p:spPr>
              <a:xfrm>
                <a:off x="304920" y="690480"/>
                <a:ext cx="868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838080"/>
            <a:ext cx="8077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unoff coefficient,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gree day factor, 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 of heat for a 24 hrs with a 1 ºC departure from a reference temperature. Converts number of degree-days into snowmelt dep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lapse rate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change with the he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Critical temperature, 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cr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termines whether precipitation is snow or ra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contributing area, R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Recession coefficient, 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Decline of runoff in a period without precipi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Lag, 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elapsed between the center of mass of the effective rainfall/snowmelt and the peak of direct runoff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352680" y="609480"/>
                <a:ext cx="21448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unof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cipit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25909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295280"/>
            <a:ext cx="88390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Located at Kullu District Himachal Pradesh, Ind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Geographical location: 3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3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2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N, and 76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-7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5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otal area of the basin is 1790 k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difference from 800 m. to 6600 m. asl (Tichu Glacier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: min T=1°C, max T=30°C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 rainfall approximately 1000 mm (Bhuntar 1000 m as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6" descr="parb_india_location"/>
          <p:cNvPicPr/>
          <p:nvPr/>
        </p:nvPicPr>
        <p:blipFill>
          <a:blip r:embed="rId1"/>
          <a:stretch/>
        </p:blipFill>
        <p:spPr>
          <a:xfrm>
            <a:off x="1600200" y="3817800"/>
            <a:ext cx="480060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8880" y="704880"/>
            <a:ext cx="236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ud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arbati_final.mpg" descr=""/>
          <p:cNvPicPr/>
          <p:nvPr/>
        </p:nvPicPr>
        <p:blipFill>
          <a:blip r:embed="rId1"/>
          <a:stretch/>
        </p:blipFill>
        <p:spPr>
          <a:xfrm>
            <a:off x="2057400" y="1434960"/>
            <a:ext cx="495288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Gas - Water Vap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- Rivers and Oc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olid – Ice and S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strange substance (38 anomal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ater shrinks on me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ot water freezes faster than cold (clustering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3"/>
          <p:cNvGrpSpPr/>
          <p:nvPr/>
        </p:nvGrpSpPr>
        <p:grpSpPr>
          <a:xfrm>
            <a:off x="3809880" y="838080"/>
            <a:ext cx="1828800" cy="1676520"/>
            <a:chOff x="3809880" y="838080"/>
            <a:chExt cx="1828800" cy="1676520"/>
          </a:xfrm>
        </p:grpSpPr>
        <p:sp>
          <p:nvSpPr>
            <p:cNvPr id="114" name="Rectangle 14"/>
            <p:cNvSpPr/>
            <p:nvPr/>
          </p:nvSpPr>
          <p:spPr>
            <a:xfrm>
              <a:off x="3809880" y="838080"/>
              <a:ext cx="1828800" cy="167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" name="Picture 13" descr="Dem"/>
            <p:cNvPicPr/>
            <p:nvPr/>
          </p:nvPicPr>
          <p:blipFill>
            <a:blip r:embed="rId1"/>
            <a:stretch/>
          </p:blipFill>
          <p:spPr>
            <a:xfrm>
              <a:off x="3872520" y="907920"/>
              <a:ext cx="1702800" cy="15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Method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8" descr="aaa"/>
          <p:cNvPicPr/>
          <p:nvPr/>
        </p:nvPicPr>
        <p:blipFill>
          <a:blip r:embed="rId2"/>
          <a:stretch/>
        </p:blipFill>
        <p:spPr>
          <a:xfrm>
            <a:off x="838080" y="838080"/>
            <a:ext cx="1608120" cy="16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9"/>
          <p:cNvGraphicFramePr/>
          <p:nvPr/>
        </p:nvGraphicFramePr>
        <p:xfrm>
          <a:off x="6781680" y="990720"/>
          <a:ext cx="1962360" cy="154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990720"/>
                    <a:ext cx="196236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0"/>
          <p:cNvGraphicFramePr/>
          <p:nvPr/>
        </p:nvGraphicFramePr>
        <p:xfrm>
          <a:off x="6324480" y="1371600"/>
          <a:ext cx="1962360" cy="154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1371600"/>
                    <a:ext cx="1962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1"/>
          <p:cNvSpPr/>
          <p:nvPr/>
        </p:nvSpPr>
        <p:spPr>
          <a:xfrm>
            <a:off x="838440" y="25146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220080" y="2895480"/>
            <a:ext cx="2773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teorologic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5181480" y="5410080"/>
            <a:ext cx="3659400" cy="1170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m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4192560" y="259092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3276720" y="762120"/>
            <a:ext cx="2819160" cy="2438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248520" y="685800"/>
            <a:ext cx="2590560" cy="33526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9"/>
          <p:cNvSpPr/>
          <p:nvPr/>
        </p:nvSpPr>
        <p:spPr>
          <a:xfrm>
            <a:off x="380880" y="685800"/>
            <a:ext cx="2514600" cy="2514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7543800" y="4038480"/>
            <a:ext cx="0" cy="137160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4724280" y="3200400"/>
            <a:ext cx="0" cy="5335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886200" y="6095880"/>
            <a:ext cx="137160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3581280" y="3733920"/>
            <a:ext cx="2286000" cy="838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3670560" y="3886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Group 39"/>
          <p:cNvGrpSpPr/>
          <p:nvPr/>
        </p:nvGrpSpPr>
        <p:grpSpPr>
          <a:xfrm>
            <a:off x="457200" y="3676680"/>
            <a:ext cx="2286000" cy="901800"/>
            <a:chOff x="457200" y="3676680"/>
            <a:chExt cx="2286000" cy="901800"/>
          </a:xfrm>
        </p:grpSpPr>
        <p:sp>
          <p:nvSpPr>
            <p:cNvPr id="135" name="Rectangle 37"/>
            <p:cNvSpPr/>
            <p:nvPr/>
          </p:nvSpPr>
          <p:spPr>
            <a:xfrm>
              <a:off x="457200" y="3733920"/>
              <a:ext cx="2286000" cy="8380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740160" y="3676680"/>
              <a:ext cx="16956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now Co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Rectangle 40"/>
          <p:cNvSpPr/>
          <p:nvPr/>
        </p:nvSpPr>
        <p:spPr>
          <a:xfrm>
            <a:off x="1828800" y="5715000"/>
            <a:ext cx="2057400" cy="6094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2286720" y="5791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ver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3"/>
          <p:cNvSpPr/>
          <p:nvPr/>
        </p:nvSpPr>
        <p:spPr>
          <a:xfrm>
            <a:off x="15238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4"/>
          <p:cNvSpPr/>
          <p:nvPr/>
        </p:nvSpPr>
        <p:spPr>
          <a:xfrm>
            <a:off x="4724280" y="4572000"/>
            <a:ext cx="0" cy="3808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45"/>
          <p:cNvSpPr/>
          <p:nvPr/>
        </p:nvSpPr>
        <p:spPr>
          <a:xfrm>
            <a:off x="1523880" y="4952880"/>
            <a:ext cx="3200400" cy="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971800" y="4952880"/>
            <a:ext cx="0" cy="762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47"/>
          <p:cNvSpPr/>
          <p:nvPr/>
        </p:nvSpPr>
        <p:spPr>
          <a:xfrm>
            <a:off x="1523880" y="3200400"/>
            <a:ext cx="0" cy="5335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Thematic Lay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98560" y="2000160"/>
            <a:ext cx="717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223640" y="2133720"/>
            <a:ext cx="4569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 cover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erature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el_zone copy"/>
          <p:cNvPicPr/>
          <p:nvPr/>
        </p:nvPicPr>
        <p:blipFill>
          <a:blip r:embed="rId1"/>
          <a:stretch/>
        </p:blipFill>
        <p:spPr>
          <a:xfrm>
            <a:off x="0" y="711360"/>
            <a:ext cx="8362800" cy="61038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levation Zones Map [m]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536840" y="1393920"/>
          <a:ext cx="6095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3939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4"/>
          <p:cNvSpPr/>
          <p:nvPr/>
        </p:nvSpPr>
        <p:spPr>
          <a:xfrm>
            <a:off x="2586240" y="0"/>
            <a:ext cx="43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r, Cs=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Cr_Cs"/>
          <p:cNvPicPr/>
          <p:nvPr/>
        </p:nvPicPr>
        <p:blipFill>
          <a:blip r:embed="rId3"/>
          <a:stretch/>
        </p:blipFill>
        <p:spPr>
          <a:xfrm>
            <a:off x="228600" y="604800"/>
            <a:ext cx="842976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2891160" y="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ibration of Cs, Cr-fix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Cs_Cr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Coef"/>
          <p:cNvPicPr/>
          <p:nvPr/>
        </p:nvPicPr>
        <p:blipFill>
          <a:blip r:embed="rId1"/>
          <a:stretch/>
        </p:blipFill>
        <p:spPr>
          <a:xfrm>
            <a:off x="-15228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14400" y="166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tion of Snowmelt and Rainfall Runoff coeffic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8" descr="MR20-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8380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calibration 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8860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980640" y="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2000-200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MR20-01_SA"/>
          <p:cNvPicPr/>
          <p:nvPr/>
        </p:nvPicPr>
        <p:blipFill>
          <a:blip r:embed="rId1"/>
          <a:stretch/>
        </p:blipFill>
        <p:spPr>
          <a:xfrm>
            <a:off x="1371600" y="609480"/>
            <a:ext cx="664380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MR98-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88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295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SRM (validation 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1132920" y="763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tual discharge vs simulated (1998-199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MR98-99_SA"/>
          <p:cNvPicPr/>
          <p:nvPr/>
        </p:nvPicPr>
        <p:blipFill>
          <a:blip r:embed="rId1"/>
          <a:stretch/>
        </p:blipFill>
        <p:spPr>
          <a:xfrm>
            <a:off x="1295280" y="819000"/>
            <a:ext cx="69008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ydrologic Cycl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183" descr="hydro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rtinec-Rango overestimates  discharge during snowmelt season (10%) and underestimates in winter time (38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possible to make short time forecasts (3-4 days), and approximate forecasts (1-2 mon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609480" y="152280"/>
            <a:ext cx="77724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mitations of Present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nowmelt Runoff Model was developed for small European basins, but watersheds are highly varying all over the worl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uging stations are very less (Bhunta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pse rate is a good approximation of temperature variation vs ele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discharge data is not avail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y less snow gauging stations are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polation of Snow Cover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 Scope of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asonable temporal resolution of SRM inputs would significantly increase the accuracy of the model and allow SRM working in forecasting mod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eather simulation - long-term forecas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of Notification in Emergency Situ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Graphic1"/>
          <p:cNvPicPr/>
          <p:nvPr/>
        </p:nvPicPr>
        <p:blipFill>
          <a:blip r:embed="rId1"/>
          <a:stretch/>
        </p:blipFill>
        <p:spPr>
          <a:xfrm>
            <a:off x="1143000" y="1219320"/>
            <a:ext cx="7162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cenario of Central As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3" descr="Centr_asia"/>
          <p:cNvPicPr/>
          <p:nvPr/>
        </p:nvPicPr>
        <p:blipFill>
          <a:blip r:embed="rId1"/>
          <a:stretch/>
        </p:blipFill>
        <p:spPr>
          <a:xfrm>
            <a:off x="762120" y="762120"/>
            <a:ext cx="7772400" cy="4467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276720" y="527040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lt water is the major source of 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, Irri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04920" y="5334120"/>
            <a:ext cx="2286000" cy="101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POT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eptember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is being do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collection for similar project in Uzbek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actical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igher temporary resolution of satellite ima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ility of discharg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lose cooperation with interested minis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Water and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ound 100 000 sq km are under agri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Nature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nistry of Emergency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re than 20 large water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Meteorological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29" descr="Koncovka"/>
          <p:cNvPicPr/>
          <p:nvPr/>
        </p:nvPicPr>
        <p:blipFill>
          <a:blip r:embed="rId1"/>
          <a:stretch/>
        </p:blipFill>
        <p:spPr>
          <a:xfrm>
            <a:off x="0" y="0"/>
            <a:ext cx="9296280" cy="692784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90"/>
          <p:cNvSpPr/>
          <p:nvPr/>
        </p:nvSpPr>
        <p:spPr>
          <a:xfrm>
            <a:off x="380880" y="838080"/>
            <a:ext cx="127188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320"/>
          <p:cNvSpPr/>
          <p:nvPr/>
        </p:nvSpPr>
        <p:spPr>
          <a:xfrm>
            <a:off x="533520" y="990720"/>
            <a:ext cx="1271520" cy="1352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333" descr="сам15"/>
          <p:cNvPicPr/>
          <p:nvPr/>
        </p:nvPicPr>
        <p:blipFill>
          <a:blip r:embed="rId2"/>
          <a:stretch/>
        </p:blipFill>
        <p:spPr>
          <a:xfrm>
            <a:off x="3828960" y="228600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4" descr="сам1"/>
          <p:cNvPicPr/>
          <p:nvPr/>
        </p:nvPicPr>
        <p:blipFill>
          <a:blip r:embed="rId3"/>
          <a:stretch/>
        </p:blipFill>
        <p:spPr>
          <a:xfrm>
            <a:off x="1657440" y="2590920"/>
            <a:ext cx="2114640" cy="149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35" descr="сам2"/>
          <p:cNvPicPr/>
          <p:nvPr/>
        </p:nvPicPr>
        <p:blipFill>
          <a:blip r:embed="rId4"/>
          <a:stretch/>
        </p:blipFill>
        <p:spPr>
          <a:xfrm>
            <a:off x="5514840" y="2590920"/>
            <a:ext cx="2114640" cy="147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37" descr="сам4"/>
          <p:cNvPicPr/>
          <p:nvPr/>
        </p:nvPicPr>
        <p:blipFill>
          <a:blip r:embed="rId5"/>
          <a:stretch/>
        </p:blipFill>
        <p:spPr>
          <a:xfrm>
            <a:off x="7315200" y="5334120"/>
            <a:ext cx="1962000" cy="1523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38" descr="сам5"/>
          <p:cNvPicPr/>
          <p:nvPr/>
        </p:nvPicPr>
        <p:blipFill>
          <a:blip r:embed="rId6"/>
          <a:stretch/>
        </p:blipFill>
        <p:spPr>
          <a:xfrm>
            <a:off x="2514600" y="0"/>
            <a:ext cx="1598760" cy="1981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40" descr="сам7"/>
          <p:cNvPicPr/>
          <p:nvPr/>
        </p:nvPicPr>
        <p:blipFill>
          <a:blip r:embed="rId7"/>
          <a:stretch/>
        </p:blipFill>
        <p:spPr>
          <a:xfrm>
            <a:off x="2666880" y="5315040"/>
            <a:ext cx="1962360" cy="1542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1" descr="сам8"/>
          <p:cNvPicPr/>
          <p:nvPr/>
        </p:nvPicPr>
        <p:blipFill>
          <a:blip r:embed="rId8"/>
          <a:stretch/>
        </p:blipFill>
        <p:spPr>
          <a:xfrm>
            <a:off x="5181480" y="5300640"/>
            <a:ext cx="1962360" cy="155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42" descr="сам9"/>
          <p:cNvPicPr/>
          <p:nvPr/>
        </p:nvPicPr>
        <p:blipFill>
          <a:blip r:embed="rId9"/>
          <a:stretch/>
        </p:blipFill>
        <p:spPr>
          <a:xfrm>
            <a:off x="0" y="0"/>
            <a:ext cx="1592280" cy="2057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43" descr="сам10"/>
          <p:cNvPicPr/>
          <p:nvPr/>
        </p:nvPicPr>
        <p:blipFill>
          <a:blip r:embed="rId10"/>
          <a:stretch/>
        </p:blipFill>
        <p:spPr>
          <a:xfrm>
            <a:off x="0" y="5194440"/>
            <a:ext cx="2114640" cy="16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44" descr="сам11"/>
          <p:cNvPicPr/>
          <p:nvPr/>
        </p:nvPicPr>
        <p:blipFill>
          <a:blip r:embed="rId11"/>
          <a:stretch/>
        </p:blipFill>
        <p:spPr>
          <a:xfrm>
            <a:off x="7677000" y="0"/>
            <a:ext cx="16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45" descr="сам12"/>
          <p:cNvPicPr/>
          <p:nvPr/>
        </p:nvPicPr>
        <p:blipFill>
          <a:blip r:embed="rId12"/>
          <a:stretch/>
        </p:blipFill>
        <p:spPr>
          <a:xfrm>
            <a:off x="5105520" y="0"/>
            <a:ext cx="1638360" cy="19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46" descr="сам13"/>
          <p:cNvPicPr/>
          <p:nvPr/>
        </p:nvPicPr>
        <p:blipFill>
          <a:blip r:embed="rId13"/>
          <a:stretch/>
        </p:blipFill>
        <p:spPr>
          <a:xfrm>
            <a:off x="7672320" y="2209680"/>
            <a:ext cx="1623960" cy="1981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47" descr="сам14"/>
          <p:cNvPicPr/>
          <p:nvPr/>
        </p:nvPicPr>
        <p:blipFill>
          <a:blip r:embed="rId14"/>
          <a:stretch/>
        </p:blipFill>
        <p:spPr>
          <a:xfrm>
            <a:off x="0" y="2286000"/>
            <a:ext cx="162396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331"/>
          <p:cNvSpPr txBox="1"/>
          <p:nvPr/>
        </p:nvSpPr>
        <p:spPr>
          <a:xfrm>
            <a:off x="2286000" y="4343400"/>
            <a:ext cx="4419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Thank You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Precipi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ain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iquid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es immediat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edictable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nowf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ystallin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layed run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icult to predi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Bentley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5867280" y="3886200"/>
            <a:ext cx="274032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splash-4"/>
          <p:cNvPicPr/>
          <p:nvPr/>
        </p:nvPicPr>
        <p:blipFill>
          <a:blip r:embed="rId2"/>
          <a:stretch/>
        </p:blipFill>
        <p:spPr>
          <a:xfrm>
            <a:off x="5867280" y="1492200"/>
            <a:ext cx="27432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rinking water supp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drinking_water-supply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2904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rinkging water reser"/>
          <p:cNvPicPr/>
          <p:nvPr/>
        </p:nvPicPr>
        <p:blipFill>
          <a:blip r:embed="rId2"/>
          <a:stretch/>
        </p:blipFill>
        <p:spPr>
          <a:xfrm>
            <a:off x="457200" y="35053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lood control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5" descr="flood_control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23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floods"/>
          <p:cNvPicPr/>
          <p:nvPr/>
        </p:nvPicPr>
        <p:blipFill>
          <a:blip r:embed="rId2"/>
          <a:stretch/>
        </p:blipFill>
        <p:spPr>
          <a:xfrm>
            <a:off x="457200" y="3178080"/>
            <a:ext cx="441972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rri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agri"/>
          <p:cNvPicPr/>
          <p:nvPr/>
        </p:nvPicPr>
        <p:blipFill>
          <a:blip r:embed="rId1"/>
          <a:stretch/>
        </p:blipFill>
        <p:spPr>
          <a:xfrm>
            <a:off x="4648320" y="1752480"/>
            <a:ext cx="3200400" cy="215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rrigation"/>
          <p:cNvPicPr/>
          <p:nvPr/>
        </p:nvPicPr>
        <p:blipFill>
          <a:blip r:embed="rId2"/>
          <a:stretch/>
        </p:blipFill>
        <p:spPr>
          <a:xfrm>
            <a:off x="685800" y="2743200"/>
            <a:ext cx="3581280" cy="217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pray_irrigation"/>
          <p:cNvPicPr/>
          <p:nvPr/>
        </p:nvPicPr>
        <p:blipFill>
          <a:blip r:embed="rId3"/>
          <a:stretch/>
        </p:blipFill>
        <p:spPr>
          <a:xfrm>
            <a:off x="4648320" y="41148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ydropower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Hydropower"/>
          <p:cNvPicPr/>
          <p:nvPr/>
        </p:nvPicPr>
        <p:blipFill>
          <a:blip r:embed="rId1"/>
          <a:stretch/>
        </p:blipFill>
        <p:spPr>
          <a:xfrm>
            <a:off x="5181480" y="1752480"/>
            <a:ext cx="3353040" cy="2206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oover dam"/>
          <p:cNvPicPr/>
          <p:nvPr/>
        </p:nvPicPr>
        <p:blipFill>
          <a:blip r:embed="rId2"/>
          <a:stretch/>
        </p:blipFill>
        <p:spPr>
          <a:xfrm>
            <a:off x="990720" y="3429000"/>
            <a:ext cx="39621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y snowmelt runoff model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rvoi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dam"/>
          <p:cNvPicPr/>
          <p:nvPr/>
        </p:nvPicPr>
        <p:blipFill>
          <a:blip r:embed="rId1"/>
          <a:stretch/>
        </p:blipFill>
        <p:spPr>
          <a:xfrm>
            <a:off x="914400" y="2971800"/>
            <a:ext cx="41911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2:46:36Z</dcterms:created>
  <dc:creator>Muzafar Malikov</dc:creator>
  <dc:description>To be submitted as Seminar presentation</dc:description>
  <cp:keywords>Snow runoff modelling</cp:keywords>
  <dc:language>en-US</dc:language>
  <cp:lastModifiedBy>雨林木风</cp:lastModifiedBy>
  <dcterms:modified xsi:type="dcterms:W3CDTF">2010-10-12T09:47:48Z</dcterms:modified>
  <cp:revision>102</cp:revision>
  <dc:subject>Seminar presentation</dc:subject>
  <dc:title>Snowmelt runoff modeling</dc:title>
</cp:coreProperties>
</file>