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1F2-EED4-4A92-AB6B-F6E9313C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843-39A3-4622-9E7E-33BB5E15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374-3060-4A1B-93A4-FFE1D081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9D4-18C9-468B-BA00-570D733E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4F1-44B7-47AB-8B85-A1035A5B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B14-2CE5-4939-8839-9F94E849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81B-EAE4-4E70-9E0F-266020FB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AC4-2192-4BBF-96BA-7F026D76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D6C-D9F0-4C24-B07A-D16E78B3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FC8-81FC-4FB6-A185-43A7A648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336-8D57-47CB-9CE3-0F3551D3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373-2F18-461F-AC5F-B285DB23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41BE-D78E-4312-9D54-FC788A8D83C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Nepal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The Importance of Snowmelt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Runoff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Modeling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for Sustainable Development and Disaster Pre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039" descr="uzbekist_flag"/>
          <p:cNvPicPr/>
          <p:nvPr/>
        </p:nvPicPr>
        <p:blipFill>
          <a:blip r:embed="rId2"/>
          <a:stretch/>
        </p:blipFill>
        <p:spPr>
          <a:xfrm>
            <a:off x="152280" y="119160"/>
            <a:ext cx="1828800" cy="947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0"/>
          <p:cNvSpPr/>
          <p:nvPr/>
        </p:nvSpPr>
        <p:spPr>
          <a:xfrm>
            <a:off x="2514600" y="51814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zafar Malik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pace Research C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Academy of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public of Uzbekis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strict physical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s and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curacy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mpirical relationship to approximate mass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less param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NTHERM - US army corps CR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SM (land surface mode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C (variable infiltration capacity) - U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CLASS (Watflood/class) - Env.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 (Systeme Hydrologique Europeen) physically based, distributed, 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eamflow and sediment simulation, Abbott et 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RM (Snowmelt Runoff Model) - US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MS (precipitation runoff modeling system) - US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LURP (simple lumped reservoir) - Env.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BC Watersh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PMODEL (hydrologic simulation model) -Bev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 Runoff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Mart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ion of daily stream flow in Mountain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-day model (tempera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ed in 25 countries for more than 80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and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2666880"/>
            <a:ext cx="175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8600" y="2666880"/>
            <a:ext cx="2590920" cy="1067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Meteorologic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Remote S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6720" y="4191120"/>
            <a:ext cx="3124080" cy="914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5562720"/>
            <a:ext cx="3200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6324120" y="914400"/>
            <a:ext cx="1676520" cy="7621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7162920" y="152280"/>
            <a:ext cx="16761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352680" y="609480"/>
            <a:ext cx="2895840" cy="1447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gion of intere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 extrapo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505320" y="2666880"/>
            <a:ext cx="274320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de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snow cove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477120" y="259092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1295280" y="1219320"/>
            <a:ext cx="1981440" cy="4572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876920" y="2209680"/>
            <a:ext cx="0" cy="3812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371600" y="3809880"/>
            <a:ext cx="18288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87692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6476760" y="3809880"/>
            <a:ext cx="14475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876920" y="5181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12384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RM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RM 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Dis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ed area (Remote Sensing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 (topo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eart of th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1828800"/>
            <a:ext cx="77724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 = average daily discharge [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 = runoff coefficient: losses as a ratio (runoff/precipitation), with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ferring to snowmelt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degree-day factor [cm·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 indicating the snowmelt depth resulting from 1 degree-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number of degree-days 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the adjustment by temperature lapse rate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·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 = ratio of the snow covered area to the total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 = precipitation contributing to runoff [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. Threshold temperatur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etermines whether this contribution is rainfall or snow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rea of the basin or  zone [k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 = recession coefficient indicating the decline of discharge in a period without snowmelt or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number of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304920" y="690480"/>
                <a:ext cx="868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unoff coefficient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 day factor, 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heat for a 24 hrs with a 1 ºC departure from a reference temperature. Converts number of degree-days into snowmelt dep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lapse rate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change with the heig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termines whether precipitation is snow or ra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contributing area, R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, 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cline of runoff in a period without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Lag,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elapsed between the center of mass of the effective rainfall/snowmelt and the peak of direct runoff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352680" y="609480"/>
                <a:ext cx="2144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unof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pit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5909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295280"/>
            <a:ext cx="8839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ocated at Kullu District Himachal Pradesh, In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eographical location: 3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3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nd 7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77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area of the basin is 1790 k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difference from 800 m. to 6600 m. asl (Tichu Glacier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: min T=1°C, max T=30°C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 rainfall approximately 1000 mm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parb_india_location"/>
          <p:cNvPicPr/>
          <p:nvPr/>
        </p:nvPicPr>
        <p:blipFill>
          <a:blip r:embed="rId1"/>
          <a:stretch/>
        </p:blipFill>
        <p:spPr>
          <a:xfrm>
            <a:off x="1600200" y="3817800"/>
            <a:ext cx="480060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8880" y="704880"/>
            <a:ext cx="23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ud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rbati_final.mpg" descr=""/>
          <p:cNvPicPr/>
          <p:nvPr/>
        </p:nvPicPr>
        <p:blipFill>
          <a:blip r:embed="rId1"/>
          <a:stretch/>
        </p:blipFill>
        <p:spPr>
          <a:xfrm>
            <a:off x="2057400" y="1434960"/>
            <a:ext cx="49528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s - Water Va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- Rivers and Oc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– Ice and S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strange substance (38 anomal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 shrinks on 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t water freezes faster than cold (cluster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3"/>
          <p:cNvGrpSpPr/>
          <p:nvPr/>
        </p:nvGrpSpPr>
        <p:grpSpPr>
          <a:xfrm>
            <a:off x="3809880" y="838080"/>
            <a:ext cx="1828800" cy="1676520"/>
            <a:chOff x="3809880" y="838080"/>
            <a:chExt cx="1828800" cy="1676520"/>
          </a:xfrm>
        </p:grpSpPr>
        <p:sp>
          <p:nvSpPr>
            <p:cNvPr id="114" name="Rectangle 14"/>
            <p:cNvSpPr/>
            <p:nvPr/>
          </p:nvSpPr>
          <p:spPr>
            <a:xfrm>
              <a:off x="3809880" y="838080"/>
              <a:ext cx="1828800" cy="167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13" descr="Dem"/>
            <p:cNvPicPr/>
            <p:nvPr/>
          </p:nvPicPr>
          <p:blipFill>
            <a:blip r:embed="rId1"/>
            <a:stretch/>
          </p:blipFill>
          <p:spPr>
            <a:xfrm>
              <a:off x="3872520" y="907920"/>
              <a:ext cx="1702800" cy="15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8" descr="aaa"/>
          <p:cNvPicPr/>
          <p:nvPr/>
        </p:nvPicPr>
        <p:blipFill>
          <a:blip r:embed="rId2"/>
          <a:stretch/>
        </p:blipFill>
        <p:spPr>
          <a:xfrm>
            <a:off x="838080" y="838080"/>
            <a:ext cx="16081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9"/>
          <p:cNvGraphicFramePr/>
          <p:nvPr/>
        </p:nvGraphicFramePr>
        <p:xfrm>
          <a:off x="6781680" y="990720"/>
          <a:ext cx="1962360" cy="15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990720"/>
                    <a:ext cx="196236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0"/>
          <p:cNvGraphicFramePr/>
          <p:nvPr/>
        </p:nvGraphicFramePr>
        <p:xfrm>
          <a:off x="6324480" y="1371600"/>
          <a:ext cx="1962360" cy="15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371600"/>
                    <a:ext cx="1962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1"/>
          <p:cNvSpPr/>
          <p:nvPr/>
        </p:nvSpPr>
        <p:spPr>
          <a:xfrm>
            <a:off x="838440" y="2514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220080" y="2895480"/>
            <a:ext cx="277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teorolog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181480" y="5410080"/>
            <a:ext cx="3659400" cy="1170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192560" y="25909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276720" y="762120"/>
            <a:ext cx="2819160" cy="243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248520" y="685800"/>
            <a:ext cx="2590560" cy="3352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380880" y="685800"/>
            <a:ext cx="2514600" cy="2514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7543800" y="4038480"/>
            <a:ext cx="0" cy="13716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6095880"/>
            <a:ext cx="13716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81280" y="3733920"/>
            <a:ext cx="2286000" cy="838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3670560" y="3886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9"/>
          <p:cNvGrpSpPr/>
          <p:nvPr/>
        </p:nvGrpSpPr>
        <p:grpSpPr>
          <a:xfrm>
            <a:off x="457200" y="3676680"/>
            <a:ext cx="2286000" cy="901800"/>
            <a:chOff x="457200" y="3676680"/>
            <a:chExt cx="2286000" cy="901800"/>
          </a:xfrm>
        </p:grpSpPr>
        <p:sp>
          <p:nvSpPr>
            <p:cNvPr id="135" name="Rectangle 37"/>
            <p:cNvSpPr/>
            <p:nvPr/>
          </p:nvSpPr>
          <p:spPr>
            <a:xfrm>
              <a:off x="457200" y="3733920"/>
              <a:ext cx="2286000" cy="8380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740160" y="3676680"/>
              <a:ext cx="169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now Co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40"/>
          <p:cNvSpPr/>
          <p:nvPr/>
        </p:nvSpPr>
        <p:spPr>
          <a:xfrm>
            <a:off x="1828800" y="5715000"/>
            <a:ext cx="2057400" cy="609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286720" y="5791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15238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47242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523880" y="4952880"/>
            <a:ext cx="3200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971800" y="4952880"/>
            <a:ext cx="0" cy="762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atic Lay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2000160"/>
            <a:ext cx="717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23640" y="2133720"/>
            <a:ext cx="4569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 m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l_zone copy"/>
          <p:cNvPicPr/>
          <p:nvPr/>
        </p:nvPicPr>
        <p:blipFill>
          <a:blip r:embed="rId1"/>
          <a:stretch/>
        </p:blipFill>
        <p:spPr>
          <a:xfrm>
            <a:off x="0" y="711360"/>
            <a:ext cx="8362800" cy="6103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Map [m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5368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4"/>
          <p:cNvSpPr/>
          <p:nvPr/>
        </p:nvSpPr>
        <p:spPr>
          <a:xfrm>
            <a:off x="2586240" y="0"/>
            <a:ext cx="43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r, Cs=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Cr_Cs"/>
          <p:cNvPicPr/>
          <p:nvPr/>
        </p:nvPicPr>
        <p:blipFill>
          <a:blip r:embed="rId3"/>
          <a:stretch/>
        </p:blipFill>
        <p:spPr>
          <a:xfrm>
            <a:off x="228600" y="604800"/>
            <a:ext cx="842976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2891160" y="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s, Cr-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Cs_Cr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oef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14400" y="1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 of Snowmelt and Rainfall Runoff coeffic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MR20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8380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calibration 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8860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80640" y="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MR20-01_SA"/>
          <p:cNvPicPr/>
          <p:nvPr/>
        </p:nvPicPr>
        <p:blipFill>
          <a:blip r:embed="rId1"/>
          <a:stretch/>
        </p:blipFill>
        <p:spPr>
          <a:xfrm>
            <a:off x="1371600" y="609480"/>
            <a:ext cx="6643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MR98-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95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validation 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132920" y="763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MR98-99_SA"/>
          <p:cNvPicPr/>
          <p:nvPr/>
        </p:nvPicPr>
        <p:blipFill>
          <a:blip r:embed="rId1"/>
          <a:stretch/>
        </p:blipFill>
        <p:spPr>
          <a:xfrm>
            <a:off x="1295280" y="819000"/>
            <a:ext cx="69008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ydrologic Cycl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83" descr="hydro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overestimates  discharge during snowmelt season (10%) and underestimates in winter time (3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possible to make short time forecasts (3-4 days), and approximate forecasts (1-2 mon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0948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 of Presen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nowmelt Runoff Model was developed for small European basins, but watersheds are highly varying all over the worl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uging stations are very less (Bhunta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pse rate is a good approximation of temperature variation vs ele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discharge data is not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y less snow gauging stations are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polation of Snow Cover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 Scope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onable temporal resolution of SRM inputs would significantly increase the accuracy of the model and allow SRM working in forecasting m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ather simulation - long-term fore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of Notification in Emergency Situ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Graphic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cenario of Central A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Centr_asia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467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76720" y="52704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t water is the major source of 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, 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llection for similar project in Uzbek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al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er temporary resolution of satellite ima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ility of disch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ooperation with interested minis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Water and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ound 100 000 sq km are under agri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Natur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Emergency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20 large water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eorologica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29" descr="Koncovka"/>
          <p:cNvPicPr/>
          <p:nvPr/>
        </p:nvPicPr>
        <p:blipFill>
          <a:blip r:embed="rId1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90"/>
          <p:cNvSpPr/>
          <p:nvPr/>
        </p:nvSpPr>
        <p:spPr>
          <a:xfrm>
            <a:off x="380880" y="838080"/>
            <a:ext cx="127188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320"/>
          <p:cNvSpPr/>
          <p:nvPr/>
        </p:nvSpPr>
        <p:spPr>
          <a:xfrm>
            <a:off x="533520" y="990720"/>
            <a:ext cx="127152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33" descr="сам15"/>
          <p:cNvPicPr/>
          <p:nvPr/>
        </p:nvPicPr>
        <p:blipFill>
          <a:blip r:embed="rId2"/>
          <a:stretch/>
        </p:blipFill>
        <p:spPr>
          <a:xfrm>
            <a:off x="3828960" y="22860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4" descr="сам1"/>
          <p:cNvPicPr/>
          <p:nvPr/>
        </p:nvPicPr>
        <p:blipFill>
          <a:blip r:embed="rId3"/>
          <a:stretch/>
        </p:blipFill>
        <p:spPr>
          <a:xfrm>
            <a:off x="1657440" y="2590920"/>
            <a:ext cx="2114640" cy="149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5" descr="сам2"/>
          <p:cNvPicPr/>
          <p:nvPr/>
        </p:nvPicPr>
        <p:blipFill>
          <a:blip r:embed="rId4"/>
          <a:stretch/>
        </p:blipFill>
        <p:spPr>
          <a:xfrm>
            <a:off x="5514840" y="2590920"/>
            <a:ext cx="2114640" cy="147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7" descr="сам4"/>
          <p:cNvPicPr/>
          <p:nvPr/>
        </p:nvPicPr>
        <p:blipFill>
          <a:blip r:embed="rId5"/>
          <a:stretch/>
        </p:blipFill>
        <p:spPr>
          <a:xfrm>
            <a:off x="7315200" y="533412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8" descr="сам5"/>
          <p:cNvPicPr/>
          <p:nvPr/>
        </p:nvPicPr>
        <p:blipFill>
          <a:blip r:embed="rId6"/>
          <a:stretch/>
        </p:blipFill>
        <p:spPr>
          <a:xfrm>
            <a:off x="2514600" y="0"/>
            <a:ext cx="159876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0" descr="сам7"/>
          <p:cNvPicPr/>
          <p:nvPr/>
        </p:nvPicPr>
        <p:blipFill>
          <a:blip r:embed="rId7"/>
          <a:stretch/>
        </p:blipFill>
        <p:spPr>
          <a:xfrm>
            <a:off x="2666880" y="5315040"/>
            <a:ext cx="196236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1" descr="сам8"/>
          <p:cNvPicPr/>
          <p:nvPr/>
        </p:nvPicPr>
        <p:blipFill>
          <a:blip r:embed="rId8"/>
          <a:stretch/>
        </p:blipFill>
        <p:spPr>
          <a:xfrm>
            <a:off x="5181480" y="5300640"/>
            <a:ext cx="196236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2" descr="сам9"/>
          <p:cNvPicPr/>
          <p:nvPr/>
        </p:nvPicPr>
        <p:blipFill>
          <a:blip r:embed="rId9"/>
          <a:stretch/>
        </p:blipFill>
        <p:spPr>
          <a:xfrm>
            <a:off x="0" y="0"/>
            <a:ext cx="159228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3" descr="сам10"/>
          <p:cNvPicPr/>
          <p:nvPr/>
        </p:nvPicPr>
        <p:blipFill>
          <a:blip r:embed="rId10"/>
          <a:stretch/>
        </p:blipFill>
        <p:spPr>
          <a:xfrm>
            <a:off x="0" y="5194440"/>
            <a:ext cx="2114640" cy="16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44" descr="сам11"/>
          <p:cNvPicPr/>
          <p:nvPr/>
        </p:nvPicPr>
        <p:blipFill>
          <a:blip r:embed="rId11"/>
          <a:stretch/>
        </p:blipFill>
        <p:spPr>
          <a:xfrm>
            <a:off x="7677000" y="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5" descr="сам12"/>
          <p:cNvPicPr/>
          <p:nvPr/>
        </p:nvPicPr>
        <p:blipFill>
          <a:blip r:embed="rId12"/>
          <a:stretch/>
        </p:blipFill>
        <p:spPr>
          <a:xfrm>
            <a:off x="5105520" y="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6" descr="сам13"/>
          <p:cNvPicPr/>
          <p:nvPr/>
        </p:nvPicPr>
        <p:blipFill>
          <a:blip r:embed="rId13"/>
          <a:stretch/>
        </p:blipFill>
        <p:spPr>
          <a:xfrm>
            <a:off x="7672320" y="22096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7" descr="сам14"/>
          <p:cNvPicPr/>
          <p:nvPr/>
        </p:nvPicPr>
        <p:blipFill>
          <a:blip r:embed="rId14"/>
          <a:stretch/>
        </p:blipFill>
        <p:spPr>
          <a:xfrm>
            <a:off x="0" y="2286000"/>
            <a:ext cx="162396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331"/>
          <p:cNvSpPr txBox="1"/>
          <p:nvPr/>
        </p:nvSpPr>
        <p:spPr>
          <a:xfrm>
            <a:off x="2286000" y="4343400"/>
            <a:ext cx="4419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es immediat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abl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ystallin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ed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icult to pred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Bentley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5867280" y="3886200"/>
            <a:ext cx="274032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plash-4"/>
          <p:cNvPicPr/>
          <p:nvPr/>
        </p:nvPicPr>
        <p:blipFill>
          <a:blip r:embed="rId2"/>
          <a:stretch/>
        </p:blipFill>
        <p:spPr>
          <a:xfrm>
            <a:off x="5867280" y="1492200"/>
            <a:ext cx="27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ing water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drinking_water-supply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29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rinkging water reser"/>
          <p:cNvPicPr/>
          <p:nvPr/>
        </p:nvPicPr>
        <p:blipFill>
          <a:blip r:embed="rId2"/>
          <a:stretch/>
        </p:blipFill>
        <p:spPr>
          <a:xfrm>
            <a:off x="45720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ood control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5" descr="flood_control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loods"/>
          <p:cNvPicPr/>
          <p:nvPr/>
        </p:nvPicPr>
        <p:blipFill>
          <a:blip r:embed="rId2"/>
          <a:stretch/>
        </p:blipFill>
        <p:spPr>
          <a:xfrm>
            <a:off x="457200" y="3178080"/>
            <a:ext cx="44197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agri"/>
          <p:cNvPicPr/>
          <p:nvPr/>
        </p:nvPicPr>
        <p:blipFill>
          <a:blip r:embed="rId1"/>
          <a:stretch/>
        </p:blipFill>
        <p:spPr>
          <a:xfrm>
            <a:off x="4648320" y="1752480"/>
            <a:ext cx="3200400" cy="215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rrigation"/>
          <p:cNvPicPr/>
          <p:nvPr/>
        </p:nvPicPr>
        <p:blipFill>
          <a:blip r:embed="rId2"/>
          <a:stretch/>
        </p:blipFill>
        <p:spPr>
          <a:xfrm>
            <a:off x="685800" y="2743200"/>
            <a:ext cx="3581280" cy="217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ray_irrigation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Hydropower"/>
          <p:cNvPicPr/>
          <p:nvPr/>
        </p:nvPicPr>
        <p:blipFill>
          <a:blip r:embed="rId1"/>
          <a:stretch/>
        </p:blipFill>
        <p:spPr>
          <a:xfrm>
            <a:off x="5181480" y="1752480"/>
            <a:ext cx="3353040" cy="220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oover dam"/>
          <p:cNvPicPr/>
          <p:nvPr/>
        </p:nvPicPr>
        <p:blipFill>
          <a:blip r:embed="rId2"/>
          <a:stretch/>
        </p:blipFill>
        <p:spPr>
          <a:xfrm>
            <a:off x="990720" y="3429000"/>
            <a:ext cx="3962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rvoi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dam"/>
          <p:cNvPicPr/>
          <p:nvPr/>
        </p:nvPicPr>
        <p:blipFill>
          <a:blip r:embed="rId1"/>
          <a:stretch/>
        </p:blipFill>
        <p:spPr>
          <a:xfrm>
            <a:off x="914400" y="2971800"/>
            <a:ext cx="41911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2:46:36Z</dcterms:created>
  <dc:creator>Muzafar Malikov</dc:creator>
  <dc:description>To be submitted as Seminar presentation</dc:description>
  <cp:keywords>Snow runoff modelling</cp:keywords>
  <dc:language>en-US</dc:language>
  <cp:lastModifiedBy>雨林木风</cp:lastModifiedBy>
  <dcterms:modified xsi:type="dcterms:W3CDTF">2010-10-12T09:47:48Z</dcterms:modified>
  <cp:revision>102</cp:revision>
  <dc:subject>Seminar presentation</dc:subject>
  <dc:title>Snowmelt runoff modeling</dc:title>
</cp:coreProperties>
</file>