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17.jpeg" ContentType="image/jpeg"/>
  <Override PartName="/ppt/media/image3.png" ContentType="image/png"/>
  <Override PartName="/ppt/media/image10.jpeg" ContentType="image/jpeg"/>
  <Override PartName="/ppt/media/image35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6.jpeg" ContentType="image/jpeg"/>
  <Override PartName="/ppt/media/image18.png" ContentType="image/png"/>
  <Override PartName="/ppt/media/image37.jpeg" ContentType="image/jpeg"/>
  <Override PartName="/ppt/media/image4.png" ContentType="image/png"/>
  <Override PartName="/ppt/media/image12.jpeg" ContentType="image/jpeg"/>
  <Override PartName="/ppt/media/image4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23.wmf" ContentType="image/x-wmf"/>
  <Override PartName="/ppt/media/image40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3422-9878-4281-B322-EF47186CE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B90F-38E0-4429-95CE-186E448C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EAA7-62D6-4C99-ABF9-018BB67EC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CA18-195F-45CD-BBA2-F97D3033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F1C9-D613-4192-AF71-37F287C2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B087-9E72-4E44-A995-E51444FC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A52E-0AF6-4454-A3BF-26BD525E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E5CF-9700-4DD9-A632-9EEF42DF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24B9-8FD4-4C5F-A3DB-B5374EA6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38A2-C9CD-499D-A472-0F6CF707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9B38-58C2-4C34-874A-5DF0B58E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3A56-159E-4C90-9E6A-96A8AD2A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35A5-3EBD-42EB-B46C-4F1B4AE909E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image" Target="../media/image42.jpeg"/><Relationship Id="rId11" Type="http://schemas.openxmlformats.org/officeDocument/2006/relationships/image" Target="../media/image43.jpeg"/><Relationship Id="rId12" Type="http://schemas.openxmlformats.org/officeDocument/2006/relationships/image" Target="../media/image44.jpeg"/><Relationship Id="rId13" Type="http://schemas.openxmlformats.org/officeDocument/2006/relationships/image" Target="../media/image45.jpeg"/><Relationship Id="rId14" Type="http://schemas.openxmlformats.org/officeDocument/2006/relationships/image" Target="../media/image46.jpe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28" descr="Nepal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The Importance of Snowmelt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Runoff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Modeling </a:t>
            </a:r>
            <a:br>
              <a:rPr sz="4400"/>
            </a:b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for Sustainable Development and Disaster Preven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1039" descr="uzbekist_flag"/>
          <p:cNvPicPr/>
          <p:nvPr/>
        </p:nvPicPr>
        <p:blipFill>
          <a:blip r:embed="rId2"/>
          <a:stretch/>
        </p:blipFill>
        <p:spPr>
          <a:xfrm>
            <a:off x="152280" y="119160"/>
            <a:ext cx="1828800" cy="9475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030"/>
          <p:cNvSpPr/>
          <p:nvPr/>
        </p:nvSpPr>
        <p:spPr>
          <a:xfrm>
            <a:off x="2514600" y="518148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Muzafar Malik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Space Research Cent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Academy of Sci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Republic of Uzbekis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Types of mod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hysical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sed on strict physical la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ss and energy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curacy is hi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nceptual Index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mpirical relationship to approximate mass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equires less paramet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Physical Mod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NTHERM - US army corps CRR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SM (land surface model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IC (variable infiltration capacity) - U Washing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ATCLASS (Watflood/class) - Env. C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HE (Systeme Hydrologique Europeen) physically based, distributed, 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treamflow and sediment simulation, Abbott et a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Conceptual Index Mod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RM (Snowmelt Runoff Model) - US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RMS (precipitation runoff modeling system) - US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LURP (simple lumped reservoir) - Env. Ca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UBC Watersh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OPMODEL (hydrologic simulation model) -Bev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Snowmelt Runoff Mo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veloped by Martin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stimation of daily stream flow in Mountain bas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gree-day model (temperatu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pplied in 25 countries for more than 80 bas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imple and Ef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838080" y="2666880"/>
            <a:ext cx="1752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228600" y="2666880"/>
            <a:ext cx="2590920" cy="10670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Meteorologica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temperatu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precipit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228600" y="152280"/>
            <a:ext cx="2209680" cy="990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Remote Sen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3276720" y="4191120"/>
            <a:ext cx="3124080" cy="9144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melt Runoff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3276720" y="5562720"/>
            <a:ext cx="3200400" cy="1143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melt Runof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Simul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orecas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Line 12"/>
          <p:cNvSpPr/>
          <p:nvPr/>
        </p:nvSpPr>
        <p:spPr>
          <a:xfrm flipH="1">
            <a:off x="6324120" y="914400"/>
            <a:ext cx="1676520" cy="76212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7162920" y="152280"/>
            <a:ext cx="1676160" cy="685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D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19"/>
          <p:cNvSpPr/>
          <p:nvPr/>
        </p:nvSpPr>
        <p:spPr>
          <a:xfrm>
            <a:off x="3352680" y="609480"/>
            <a:ext cx="2895840" cy="1447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 Cover 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egion of interes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loud extrapol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20"/>
          <p:cNvSpPr/>
          <p:nvPr/>
        </p:nvSpPr>
        <p:spPr>
          <a:xfrm>
            <a:off x="3505320" y="2666880"/>
            <a:ext cx="2743200" cy="990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 cover deple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snow coverag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21"/>
          <p:cNvSpPr/>
          <p:nvPr/>
        </p:nvSpPr>
        <p:spPr>
          <a:xfrm>
            <a:off x="6477120" y="2590920"/>
            <a:ext cx="2514600" cy="1143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Parame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ritical temperatu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ecession coeffici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22"/>
          <p:cNvSpPr/>
          <p:nvPr/>
        </p:nvSpPr>
        <p:spPr>
          <a:xfrm>
            <a:off x="1295280" y="1219320"/>
            <a:ext cx="1981440" cy="45720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23"/>
          <p:cNvSpPr/>
          <p:nvPr/>
        </p:nvSpPr>
        <p:spPr>
          <a:xfrm>
            <a:off x="4876920" y="2209680"/>
            <a:ext cx="0" cy="38124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Line 24"/>
          <p:cNvSpPr/>
          <p:nvPr/>
        </p:nvSpPr>
        <p:spPr>
          <a:xfrm>
            <a:off x="1371600" y="3809880"/>
            <a:ext cx="182880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25"/>
          <p:cNvSpPr/>
          <p:nvPr/>
        </p:nvSpPr>
        <p:spPr>
          <a:xfrm>
            <a:off x="4876920" y="37339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26"/>
          <p:cNvSpPr/>
          <p:nvPr/>
        </p:nvSpPr>
        <p:spPr>
          <a:xfrm flipH="1">
            <a:off x="6476760" y="3809880"/>
            <a:ext cx="144756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27"/>
          <p:cNvSpPr/>
          <p:nvPr/>
        </p:nvSpPr>
        <p:spPr>
          <a:xfrm>
            <a:off x="4876920" y="5181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5480" y="123840"/>
            <a:ext cx="3657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RM method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SRM paramet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(meteorological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recipitation (meteorological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Disch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 covered area (Remote Sensing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M (topo ma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Heart of the mo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685800" y="1828800"/>
            <a:ext cx="7772400" cy="49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Q = average daily discharge [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 = runoff coefficient: losses as a ratio (runoff/precipitation), with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S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ferring to snowmelt and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R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o r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 degree-day factor [cm·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·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 indicating the snowmelt depth resulting from 1 degree-d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 = number of degree-days [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 = the adjustment by temperature lapse rate [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·d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 = ratio of the snow covered area to the total ar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 = precipitation contributing to runoff [c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. Threshold temperature,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CR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determines whether this contribution is rainfall or snowf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= area of the basin or  zone [k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 = recession coefficient indicating the decline of discharge in a period without snowmelt or rainf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-number of da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1"/>
              <p:cNvSpPr txBox="1"/>
              <p:nvPr/>
            </p:nvSpPr>
            <p:spPr>
              <a:xfrm>
                <a:off x="304920" y="690480"/>
                <a:ext cx="86868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]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640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3"/>
              <p:cNvSpPr txBox="1"/>
              <p:nvPr/>
            </p:nvSpPr>
            <p:spPr>
              <a:xfrm>
                <a:off x="4521240" y="3333600"/>
                <a:ext cx="1015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Paramet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838080"/>
            <a:ext cx="807732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unoff coefficient,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egree day factor, a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mount of heat for a 24 hrs with a 1 ºC departure from a reference temperature. Converts number of degree-days into snowmelt dept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lapse rate,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change with the heigh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ritical temperature, 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cri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etermines whether precipitation is snow or rai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ainfall contributing area, RC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ecession coefficient, k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ecline of runoff in a period without precipit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ime Lag, 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ime elapsed between the center of mass of the effective rainfall/snowmelt and the peak of direct runoff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3352680" y="609480"/>
                <a:ext cx="214488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unof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ecipitatio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259092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04920" y="1295280"/>
            <a:ext cx="88390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Located at Kullu District Himachal Pradesh, Ind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Geographical location: 3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20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-32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2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N, and 76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5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-77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5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E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otal area of the basin is 1790 k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difference from 800 m. to 6600 m. asl (Tichu Glacier)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: min T=1°C, max T=30°C (Bhuntar 1000 m as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nnual rainfall approximately 1000 mm (Bhuntar 1000 m as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6" descr="parb_india_location"/>
          <p:cNvPicPr/>
          <p:nvPr/>
        </p:nvPicPr>
        <p:blipFill>
          <a:blip r:embed="rId1"/>
          <a:stretch/>
        </p:blipFill>
        <p:spPr>
          <a:xfrm>
            <a:off x="1600200" y="3817800"/>
            <a:ext cx="4800600" cy="28195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668880" y="704880"/>
            <a:ext cx="236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tudy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arbati_final.mpg" descr=""/>
          <p:cNvPicPr/>
          <p:nvPr/>
        </p:nvPicPr>
        <p:blipFill>
          <a:blip r:embed="rId1"/>
          <a:stretch/>
        </p:blipFill>
        <p:spPr>
          <a:xfrm>
            <a:off x="2057400" y="1434960"/>
            <a:ext cx="495288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at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as - Water Vap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iquid - Rivers and Oce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olid – Ice and S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ery strange substance (38 anomal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ater shrinks on mel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ot water freezes faster than cold (clusterin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3"/>
          <p:cNvGrpSpPr/>
          <p:nvPr/>
        </p:nvGrpSpPr>
        <p:grpSpPr>
          <a:xfrm>
            <a:off x="3809880" y="838080"/>
            <a:ext cx="1828800" cy="1676520"/>
            <a:chOff x="3809880" y="838080"/>
            <a:chExt cx="1828800" cy="1676520"/>
          </a:xfrm>
        </p:grpSpPr>
        <p:sp>
          <p:nvSpPr>
            <p:cNvPr id="114" name="Rectangle 14"/>
            <p:cNvSpPr/>
            <p:nvPr/>
          </p:nvSpPr>
          <p:spPr>
            <a:xfrm>
              <a:off x="3809880" y="838080"/>
              <a:ext cx="1828800" cy="1676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5" name="Picture 13" descr="Dem"/>
            <p:cNvPicPr/>
            <p:nvPr/>
          </p:nvPicPr>
          <p:blipFill>
            <a:blip r:embed="rId1"/>
            <a:stretch/>
          </p:blipFill>
          <p:spPr>
            <a:xfrm>
              <a:off x="3872520" y="907920"/>
              <a:ext cx="1702800" cy="15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Methodolog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18" descr="aaa"/>
          <p:cNvPicPr/>
          <p:nvPr/>
        </p:nvPicPr>
        <p:blipFill>
          <a:blip r:embed="rId2"/>
          <a:stretch/>
        </p:blipFill>
        <p:spPr>
          <a:xfrm>
            <a:off x="838080" y="838080"/>
            <a:ext cx="160812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Object 19"/>
          <p:cNvGraphicFramePr/>
          <p:nvPr/>
        </p:nvGraphicFramePr>
        <p:xfrm>
          <a:off x="6781680" y="990720"/>
          <a:ext cx="1962360" cy="154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990720"/>
                    <a:ext cx="1962360" cy="15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20"/>
          <p:cNvGraphicFramePr/>
          <p:nvPr/>
        </p:nvGraphicFramePr>
        <p:xfrm>
          <a:off x="6324480" y="1371600"/>
          <a:ext cx="1962360" cy="154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1371600"/>
                    <a:ext cx="196236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21"/>
          <p:cNvSpPr/>
          <p:nvPr/>
        </p:nvSpPr>
        <p:spPr>
          <a:xfrm>
            <a:off x="838440" y="2514600"/>
            <a:ext cx="14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6220080" y="2895480"/>
            <a:ext cx="27730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eteorologic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5181480" y="5410080"/>
            <a:ext cx="3659400" cy="11703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me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im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4192560" y="2590920"/>
            <a:ext cx="10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6"/>
          <p:cNvSpPr/>
          <p:nvPr/>
        </p:nvSpPr>
        <p:spPr>
          <a:xfrm>
            <a:off x="3276720" y="762120"/>
            <a:ext cx="2819160" cy="24382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8"/>
          <p:cNvSpPr/>
          <p:nvPr/>
        </p:nvSpPr>
        <p:spPr>
          <a:xfrm>
            <a:off x="6248520" y="685800"/>
            <a:ext cx="2590560" cy="33526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9"/>
          <p:cNvSpPr/>
          <p:nvPr/>
        </p:nvSpPr>
        <p:spPr>
          <a:xfrm>
            <a:off x="380880" y="685800"/>
            <a:ext cx="2514600" cy="2514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30"/>
          <p:cNvSpPr/>
          <p:nvPr/>
        </p:nvSpPr>
        <p:spPr>
          <a:xfrm>
            <a:off x="7543800" y="4038480"/>
            <a:ext cx="0" cy="137160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4724280" y="3200400"/>
            <a:ext cx="0" cy="53352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3886200" y="6095880"/>
            <a:ext cx="1371600" cy="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5"/>
          <p:cNvSpPr/>
          <p:nvPr/>
        </p:nvSpPr>
        <p:spPr>
          <a:xfrm>
            <a:off x="3581280" y="3733920"/>
            <a:ext cx="2286000" cy="8380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36"/>
          <p:cNvSpPr/>
          <p:nvPr/>
        </p:nvSpPr>
        <p:spPr>
          <a:xfrm>
            <a:off x="3670560" y="38862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Group 39"/>
          <p:cNvGrpSpPr/>
          <p:nvPr/>
        </p:nvGrpSpPr>
        <p:grpSpPr>
          <a:xfrm>
            <a:off x="457200" y="3676680"/>
            <a:ext cx="2286000" cy="901800"/>
            <a:chOff x="457200" y="3676680"/>
            <a:chExt cx="2286000" cy="901800"/>
          </a:xfrm>
        </p:grpSpPr>
        <p:sp>
          <p:nvSpPr>
            <p:cNvPr id="135" name="Rectangle 37"/>
            <p:cNvSpPr/>
            <p:nvPr/>
          </p:nvSpPr>
          <p:spPr>
            <a:xfrm>
              <a:off x="457200" y="3733920"/>
              <a:ext cx="2286000" cy="8380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Text Box 38"/>
            <p:cNvSpPr/>
            <p:nvPr/>
          </p:nvSpPr>
          <p:spPr>
            <a:xfrm>
              <a:off x="740160" y="3676680"/>
              <a:ext cx="16956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now Co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Rectangle 40"/>
          <p:cNvSpPr/>
          <p:nvPr/>
        </p:nvSpPr>
        <p:spPr>
          <a:xfrm>
            <a:off x="1828800" y="5715000"/>
            <a:ext cx="2057400" cy="6094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41"/>
          <p:cNvSpPr/>
          <p:nvPr/>
        </p:nvSpPr>
        <p:spPr>
          <a:xfrm>
            <a:off x="2286720" y="57913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er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43"/>
          <p:cNvSpPr/>
          <p:nvPr/>
        </p:nvSpPr>
        <p:spPr>
          <a:xfrm>
            <a:off x="1523880" y="4572000"/>
            <a:ext cx="0" cy="38088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44"/>
          <p:cNvSpPr/>
          <p:nvPr/>
        </p:nvSpPr>
        <p:spPr>
          <a:xfrm>
            <a:off x="4724280" y="4572000"/>
            <a:ext cx="0" cy="38088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45"/>
          <p:cNvSpPr/>
          <p:nvPr/>
        </p:nvSpPr>
        <p:spPr>
          <a:xfrm>
            <a:off x="1523880" y="4952880"/>
            <a:ext cx="320040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46"/>
          <p:cNvSpPr/>
          <p:nvPr/>
        </p:nvSpPr>
        <p:spPr>
          <a:xfrm>
            <a:off x="2971800" y="4952880"/>
            <a:ext cx="0" cy="7621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47"/>
          <p:cNvSpPr/>
          <p:nvPr/>
        </p:nvSpPr>
        <p:spPr>
          <a:xfrm>
            <a:off x="1523880" y="3200400"/>
            <a:ext cx="0" cy="5335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Thematic Lay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898560" y="2000160"/>
            <a:ext cx="717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223640" y="2133720"/>
            <a:ext cx="456948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 cover ma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distrib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ainfall distrib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el_zone copy"/>
          <p:cNvPicPr/>
          <p:nvPr/>
        </p:nvPicPr>
        <p:blipFill>
          <a:blip r:embed="rId1"/>
          <a:stretch/>
        </p:blipFill>
        <p:spPr>
          <a:xfrm>
            <a:off x="0" y="711360"/>
            <a:ext cx="8362800" cy="61038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 Map [m]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536840" y="1393920"/>
          <a:ext cx="609588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393920"/>
                    <a:ext cx="60958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Text Box 4"/>
          <p:cNvSpPr/>
          <p:nvPr/>
        </p:nvSpPr>
        <p:spPr>
          <a:xfrm>
            <a:off x="2586240" y="0"/>
            <a:ext cx="43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libration of Cr, Cs=0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11" descr="Cr_Cs"/>
          <p:cNvPicPr/>
          <p:nvPr/>
        </p:nvPicPr>
        <p:blipFill>
          <a:blip r:embed="rId3"/>
          <a:stretch/>
        </p:blipFill>
        <p:spPr>
          <a:xfrm>
            <a:off x="228600" y="604800"/>
            <a:ext cx="842976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2891160" y="0"/>
            <a:ext cx="45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libration of Cs, Cr-fix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6" descr="Cs_Cr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Coef"/>
          <p:cNvPicPr/>
          <p:nvPr/>
        </p:nvPicPr>
        <p:blipFill>
          <a:blip r:embed="rId1"/>
          <a:stretch/>
        </p:blipFill>
        <p:spPr>
          <a:xfrm>
            <a:off x="-152280" y="-15228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914400" y="1666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tion of Snowmelt and Rainfall Runoff coeffici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8" descr="MR20-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838080" y="0"/>
            <a:ext cx="815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artinec-Rango SRM (calibration 2000-200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88604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980640" y="0"/>
            <a:ext cx="72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tual discharge vs simulated (2000-200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5" descr="MR20-01_SA"/>
          <p:cNvPicPr/>
          <p:nvPr/>
        </p:nvPicPr>
        <p:blipFill>
          <a:blip r:embed="rId1"/>
          <a:stretch/>
        </p:blipFill>
        <p:spPr>
          <a:xfrm>
            <a:off x="1371600" y="609480"/>
            <a:ext cx="664380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MR98-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182880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82880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129528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artinec-Rango SRM (validation 1998-199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1132920" y="76320"/>
            <a:ext cx="72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tual discharge vs simulated (1998-199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6" descr="MR98-99_SA"/>
          <p:cNvPicPr/>
          <p:nvPr/>
        </p:nvPicPr>
        <p:blipFill>
          <a:blip r:embed="rId1"/>
          <a:stretch/>
        </p:blipFill>
        <p:spPr>
          <a:xfrm>
            <a:off x="1295280" y="819000"/>
            <a:ext cx="6900840" cy="59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Hydrologic Cycl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Picture 183" descr="hydrocyc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68580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rtinec-Rango overestimates  discharge during snowmelt season (10%) and underestimates in winter time (38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t is possible to make short time forecasts (3-4 days), and approximate forecasts (1-2 mont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609480" y="152280"/>
            <a:ext cx="77724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imitations of Present Stu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nowmelt Runoff Model was developed for small European basins, but watersheds are highly varying all over the worl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auging stations are very less (Bhuntar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apse rate is a good approximation of temperature variation vs elev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ften discharge data is not availab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ery less snow gauging stations are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terpolation of Snow Cover 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uture Scope of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asonable temporal resolution of SRM inputs would significantly increase the accuracy of the model and allow SRM working in forecasting mod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eather simulation - long-term forecas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st 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System of Notification in Emergency Situ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4" descr="Graphic1"/>
          <p:cNvPicPr/>
          <p:nvPr/>
        </p:nvPicPr>
        <p:blipFill>
          <a:blip r:embed="rId1"/>
          <a:stretch/>
        </p:blipFill>
        <p:spPr>
          <a:xfrm>
            <a:off x="1143000" y="1219320"/>
            <a:ext cx="71629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Scenario of Central As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3" descr="Centr_asia"/>
          <p:cNvPicPr/>
          <p:nvPr/>
        </p:nvPicPr>
        <p:blipFill>
          <a:blip r:embed="rId1"/>
          <a:stretch/>
        </p:blipFill>
        <p:spPr>
          <a:xfrm>
            <a:off x="762120" y="762120"/>
            <a:ext cx="7772400" cy="44672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304920" y="5334120"/>
            <a:ext cx="228600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OT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ptember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3276720" y="527040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lt water is the major source of 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ydropower, Irr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304920" y="5334120"/>
            <a:ext cx="2286000" cy="1015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OT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ptember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is being don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collection for similar project in Uzbekis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actical 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igher temporary resolution of satellite imag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vailability of discharg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lose cooperation with interested minis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nistry of Water and Agricul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ound 100 000 sq km are under agricul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nistry of Nature Prot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nistry of Emergency Situ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re than 20 large water bo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Meteorological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29" descr="Koncovka"/>
          <p:cNvPicPr/>
          <p:nvPr/>
        </p:nvPicPr>
        <p:blipFill>
          <a:blip r:embed="rId1"/>
          <a:stretch/>
        </p:blipFill>
        <p:spPr>
          <a:xfrm>
            <a:off x="0" y="0"/>
            <a:ext cx="9296280" cy="6927840"/>
          </a:xfrm>
          <a:prstGeom prst="rect">
            <a:avLst/>
          </a:prstGeom>
          <a:ln w="0">
            <a:noFill/>
          </a:ln>
        </p:spPr>
      </p:pic>
      <p:sp>
        <p:nvSpPr>
          <p:cNvPr id="182" name="Freeform 90"/>
          <p:cNvSpPr/>
          <p:nvPr/>
        </p:nvSpPr>
        <p:spPr>
          <a:xfrm>
            <a:off x="380880" y="838080"/>
            <a:ext cx="1271880" cy="1352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Freeform 320"/>
          <p:cNvSpPr/>
          <p:nvPr/>
        </p:nvSpPr>
        <p:spPr>
          <a:xfrm>
            <a:off x="533520" y="990720"/>
            <a:ext cx="1271520" cy="1352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333" descr="сам15"/>
          <p:cNvPicPr/>
          <p:nvPr/>
        </p:nvPicPr>
        <p:blipFill>
          <a:blip r:embed="rId2"/>
          <a:stretch/>
        </p:blipFill>
        <p:spPr>
          <a:xfrm>
            <a:off x="3828960" y="2286000"/>
            <a:ext cx="1638360" cy="1981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34" descr="сам1"/>
          <p:cNvPicPr/>
          <p:nvPr/>
        </p:nvPicPr>
        <p:blipFill>
          <a:blip r:embed="rId3"/>
          <a:stretch/>
        </p:blipFill>
        <p:spPr>
          <a:xfrm>
            <a:off x="1657440" y="2590920"/>
            <a:ext cx="2114640" cy="149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35" descr="сам2"/>
          <p:cNvPicPr/>
          <p:nvPr/>
        </p:nvPicPr>
        <p:blipFill>
          <a:blip r:embed="rId4"/>
          <a:stretch/>
        </p:blipFill>
        <p:spPr>
          <a:xfrm>
            <a:off x="5514840" y="2590920"/>
            <a:ext cx="2114640" cy="1479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37" descr="сам4"/>
          <p:cNvPicPr/>
          <p:nvPr/>
        </p:nvPicPr>
        <p:blipFill>
          <a:blip r:embed="rId5"/>
          <a:stretch/>
        </p:blipFill>
        <p:spPr>
          <a:xfrm>
            <a:off x="7315200" y="5334120"/>
            <a:ext cx="1962000" cy="1523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38" descr="сам5"/>
          <p:cNvPicPr/>
          <p:nvPr/>
        </p:nvPicPr>
        <p:blipFill>
          <a:blip r:embed="rId6"/>
          <a:stretch/>
        </p:blipFill>
        <p:spPr>
          <a:xfrm>
            <a:off x="2514600" y="0"/>
            <a:ext cx="1598760" cy="1981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40" descr="сам7"/>
          <p:cNvPicPr/>
          <p:nvPr/>
        </p:nvPicPr>
        <p:blipFill>
          <a:blip r:embed="rId7"/>
          <a:stretch/>
        </p:blipFill>
        <p:spPr>
          <a:xfrm>
            <a:off x="2666880" y="5315040"/>
            <a:ext cx="1962360" cy="1542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41" descr="сам8"/>
          <p:cNvPicPr/>
          <p:nvPr/>
        </p:nvPicPr>
        <p:blipFill>
          <a:blip r:embed="rId8"/>
          <a:stretch/>
        </p:blipFill>
        <p:spPr>
          <a:xfrm>
            <a:off x="5181480" y="5300640"/>
            <a:ext cx="1962360" cy="1557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42" descr="сам9"/>
          <p:cNvPicPr/>
          <p:nvPr/>
        </p:nvPicPr>
        <p:blipFill>
          <a:blip r:embed="rId9"/>
          <a:stretch/>
        </p:blipFill>
        <p:spPr>
          <a:xfrm>
            <a:off x="0" y="0"/>
            <a:ext cx="1592280" cy="2057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43" descr="сам10"/>
          <p:cNvPicPr/>
          <p:nvPr/>
        </p:nvPicPr>
        <p:blipFill>
          <a:blip r:embed="rId10"/>
          <a:stretch/>
        </p:blipFill>
        <p:spPr>
          <a:xfrm>
            <a:off x="0" y="5194440"/>
            <a:ext cx="2114640" cy="1663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44" descr="сам11"/>
          <p:cNvPicPr/>
          <p:nvPr/>
        </p:nvPicPr>
        <p:blipFill>
          <a:blip r:embed="rId11"/>
          <a:stretch/>
        </p:blipFill>
        <p:spPr>
          <a:xfrm>
            <a:off x="7677000" y="0"/>
            <a:ext cx="1619280" cy="1981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45" descr="сам12"/>
          <p:cNvPicPr/>
          <p:nvPr/>
        </p:nvPicPr>
        <p:blipFill>
          <a:blip r:embed="rId12"/>
          <a:stretch/>
        </p:blipFill>
        <p:spPr>
          <a:xfrm>
            <a:off x="5105520" y="0"/>
            <a:ext cx="1638360" cy="1981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46" descr="сам13"/>
          <p:cNvPicPr/>
          <p:nvPr/>
        </p:nvPicPr>
        <p:blipFill>
          <a:blip r:embed="rId13"/>
          <a:stretch/>
        </p:blipFill>
        <p:spPr>
          <a:xfrm>
            <a:off x="7672320" y="2209680"/>
            <a:ext cx="1623960" cy="1981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47" descr="сам14"/>
          <p:cNvPicPr/>
          <p:nvPr/>
        </p:nvPicPr>
        <p:blipFill>
          <a:blip r:embed="rId14"/>
          <a:stretch/>
        </p:blipFill>
        <p:spPr>
          <a:xfrm>
            <a:off x="0" y="2286000"/>
            <a:ext cx="1623960" cy="1981080"/>
          </a:xfrm>
          <a:prstGeom prst="rect">
            <a:avLst/>
          </a:prstGeom>
          <a:ln w="0">
            <a:noFill/>
          </a:ln>
        </p:spPr>
      </p:pic>
      <p:sp>
        <p:nvSpPr>
          <p:cNvPr id="197" name="WordArt 331"/>
          <p:cNvSpPr txBox="1"/>
          <p:nvPr/>
        </p:nvSpPr>
        <p:spPr>
          <a:xfrm>
            <a:off x="2286000" y="4343400"/>
            <a:ext cx="44197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Thank You</a:t>
            </a:r>
            <a:endParaRPr b="0" lang="en-US" sz="32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Precipi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ainf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iquid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oduces immediate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edictable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f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rystalline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elayed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fficult to predi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4" descr="Bentley"/>
          <p:cNvPicPr/>
          <p:nvPr/>
        </p:nvPicPr>
        <p:blipFill>
          <a:blip r:embed="rId1">
            <a:lum contrast="72000"/>
          </a:blip>
          <a:stretch/>
        </p:blipFill>
        <p:spPr>
          <a:xfrm>
            <a:off x="5867280" y="3886200"/>
            <a:ext cx="2740320" cy="254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splash-4"/>
          <p:cNvPicPr/>
          <p:nvPr/>
        </p:nvPicPr>
        <p:blipFill>
          <a:blip r:embed="rId2"/>
          <a:stretch/>
        </p:blipFill>
        <p:spPr>
          <a:xfrm>
            <a:off x="5867280" y="1492200"/>
            <a:ext cx="27432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rinking water supp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8" descr="drinking_water-supply"/>
          <p:cNvPicPr/>
          <p:nvPr/>
        </p:nvPicPr>
        <p:blipFill>
          <a:blip r:embed="rId1"/>
          <a:stretch/>
        </p:blipFill>
        <p:spPr>
          <a:xfrm>
            <a:off x="4876920" y="1447920"/>
            <a:ext cx="3809880" cy="2904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drinkging water reser"/>
          <p:cNvPicPr/>
          <p:nvPr/>
        </p:nvPicPr>
        <p:blipFill>
          <a:blip r:embed="rId2"/>
          <a:stretch/>
        </p:blipFill>
        <p:spPr>
          <a:xfrm>
            <a:off x="457200" y="350532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Flood control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Picture 5" descr="flood_control"/>
          <p:cNvPicPr/>
          <p:nvPr/>
        </p:nvPicPr>
        <p:blipFill>
          <a:blip r:embed="rId1"/>
          <a:stretch/>
        </p:blipFill>
        <p:spPr>
          <a:xfrm>
            <a:off x="5257800" y="1752480"/>
            <a:ext cx="3657600" cy="237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floods"/>
          <p:cNvPicPr/>
          <p:nvPr/>
        </p:nvPicPr>
        <p:blipFill>
          <a:blip r:embed="rId2"/>
          <a:stretch/>
        </p:blipFill>
        <p:spPr>
          <a:xfrm>
            <a:off x="457200" y="3178080"/>
            <a:ext cx="441972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rrig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4" descr="agri"/>
          <p:cNvPicPr/>
          <p:nvPr/>
        </p:nvPicPr>
        <p:blipFill>
          <a:blip r:embed="rId1"/>
          <a:stretch/>
        </p:blipFill>
        <p:spPr>
          <a:xfrm>
            <a:off x="4648320" y="1752480"/>
            <a:ext cx="3200400" cy="2154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irrigation"/>
          <p:cNvPicPr/>
          <p:nvPr/>
        </p:nvPicPr>
        <p:blipFill>
          <a:blip r:embed="rId2"/>
          <a:stretch/>
        </p:blipFill>
        <p:spPr>
          <a:xfrm>
            <a:off x="685800" y="2743200"/>
            <a:ext cx="3581280" cy="217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pray_irrigation"/>
          <p:cNvPicPr/>
          <p:nvPr/>
        </p:nvPicPr>
        <p:blipFill>
          <a:blip r:embed="rId3"/>
          <a:stretch/>
        </p:blipFill>
        <p:spPr>
          <a:xfrm>
            <a:off x="4648320" y="411480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ydropower gen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Picture 4" descr="Hydropower"/>
          <p:cNvPicPr/>
          <p:nvPr/>
        </p:nvPicPr>
        <p:blipFill>
          <a:blip r:embed="rId1"/>
          <a:stretch/>
        </p:blipFill>
        <p:spPr>
          <a:xfrm>
            <a:off x="5181480" y="1752480"/>
            <a:ext cx="3353040" cy="2206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Hoover dam"/>
          <p:cNvPicPr/>
          <p:nvPr/>
        </p:nvPicPr>
        <p:blipFill>
          <a:blip r:embed="rId2"/>
          <a:stretch/>
        </p:blipFill>
        <p:spPr>
          <a:xfrm>
            <a:off x="990720" y="3429000"/>
            <a:ext cx="396216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eservoir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Picture 4" descr="dam"/>
          <p:cNvPicPr/>
          <p:nvPr/>
        </p:nvPicPr>
        <p:blipFill>
          <a:blip r:embed="rId1"/>
          <a:stretch/>
        </p:blipFill>
        <p:spPr>
          <a:xfrm>
            <a:off x="914400" y="2971800"/>
            <a:ext cx="419112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2T12:46:36Z</dcterms:created>
  <dc:creator>Muzafar Malikov</dc:creator>
  <dc:description>To be submitted as Seminar presentation</dc:description>
  <cp:keywords>Snow runoff modelling</cp:keywords>
  <dc:language>en-US</dc:language>
  <cp:lastModifiedBy>雨林木风</cp:lastModifiedBy>
  <dcterms:modified xsi:type="dcterms:W3CDTF">2010-10-12T09:47:48Z</dcterms:modified>
  <cp:revision>102</cp:revision>
  <dc:subject>Seminar presentation</dc:subject>
  <dc:title>Snowmelt runoff modeling</dc:title>
</cp:coreProperties>
</file>